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2514600"/>
            <a:ext cx="266724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76364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6392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66680"/>
            <a:ext cx="7162920" cy="2505240"/>
          </a:xfrm>
          <a:prstGeom prst="vertic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6720" y="1523880"/>
            <a:ext cx="5819400" cy="161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dam before The Fa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original plan and purp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detailed design of 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original home and instructions for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’s testing of man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71600" y="3800520"/>
            <a:ext cx="2819160" cy="2133720"/>
            <a:chOff x="1371600" y="3800520"/>
            <a:chExt cx="2819160" cy="2133720"/>
          </a:xfrm>
        </p:grpSpPr>
        <p:sp>
          <p:nvSpPr>
            <p:cNvPr id="49" name=""/>
            <p:cNvSpPr/>
            <p:nvPr/>
          </p:nvSpPr>
          <p:spPr>
            <a:xfrm>
              <a:off x="1371600" y="380052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0080" y="4384800"/>
              <a:ext cx="1730520" cy="131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dam, 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nd Sat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fter The 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952880" y="3800520"/>
            <a:ext cx="2819160" cy="2133720"/>
            <a:chOff x="4952880" y="3800520"/>
            <a:chExt cx="2819160" cy="2133720"/>
          </a:xfrm>
        </p:grpSpPr>
        <p:sp>
          <p:nvSpPr>
            <p:cNvPr id="53" name=""/>
            <p:cNvSpPr/>
            <p:nvPr/>
          </p:nvSpPr>
          <p:spPr>
            <a:xfrm>
              <a:off x="4952880" y="380052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21520" y="4384800"/>
              <a:ext cx="2053800" cy="131364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effect up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race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dam’s 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5562720" y="1600200"/>
            <a:ext cx="609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Narrow"/>
              </a:rPr>
              <a:t>Last Time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Narrow"/>
              <a:ea typeface="Arial Narro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1480" y="198108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Narrow"/>
              </a:rPr>
              <a:t>Last Time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Narrow"/>
              <a:ea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6392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391520" y="228600"/>
            <a:ext cx="1752480" cy="1601640"/>
            <a:chOff x="7391520" y="228600"/>
            <a:chExt cx="1752480" cy="1601640"/>
          </a:xfrm>
        </p:grpSpPr>
        <p:sp>
          <p:nvSpPr>
            <p:cNvPr id="61" name=""/>
            <p:cNvSpPr/>
            <p:nvPr/>
          </p:nvSpPr>
          <p:spPr>
            <a:xfrm>
              <a:off x="7391520" y="228600"/>
              <a:ext cx="1752480" cy="160164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7880" y="743400"/>
              <a:ext cx="106308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d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F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52400" y="990720"/>
            <a:ext cx="83235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God’s original plan and purpos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en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26 - let us make man in Ou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according to Ou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lik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rule over … fish, birds, cattl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27 - God created man in His ow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i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image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f God He created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be fruitful and 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30 - God saw all that He made &amp; behold it was very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happened to man’s image and likeness when Adam fell?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n. 5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God’s detailed design of ma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Gen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7 -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formed man of dust from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part of 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and breathed into his nostrils the breath of life [plural - liv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man becam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living soul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immateria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part of 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man is said to have a body, soul and spirit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1 Thess. 5:23, Heb. 4: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3240" y="6019920"/>
            <a:ext cx="20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living being in NA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6400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620120" y="152280"/>
            <a:ext cx="1523880" cy="1602000"/>
            <a:chOff x="7620120" y="152280"/>
            <a:chExt cx="1523880" cy="1602000"/>
          </a:xfrm>
        </p:grpSpPr>
        <p:sp>
          <p:nvSpPr>
            <p:cNvPr id="69" name=""/>
            <p:cNvSpPr/>
            <p:nvPr/>
          </p:nvSpPr>
          <p:spPr>
            <a:xfrm>
              <a:off x="7620120" y="152280"/>
              <a:ext cx="1523880" cy="160200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17400" y="667080"/>
              <a:ext cx="106308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d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F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2440" y="1600200"/>
            <a:ext cx="821772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God’s original home and instructions for ma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Gen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9   -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God caused to gr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ree that is pl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the sight and good for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the tree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the tree of the knowledge of good and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16 -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God ~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ree of the garden you may eat fre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17 - from the tree of the knowledge of good and ev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shall not 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for in the day that you eat from it you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surely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[dying you will surely di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63928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520" y="4267080"/>
            <a:ext cx="50997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God’s judgment upon Sata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Gen. 3:14 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pecial judgment upon Ev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Gen. 3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Special curse fell on Ada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Gen. 3:17-19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934320" y="4114800"/>
            <a:ext cx="2209680" cy="1844640"/>
            <a:chOff x="6934320" y="4114800"/>
            <a:chExt cx="2209680" cy="1844640"/>
          </a:xfrm>
        </p:grpSpPr>
        <p:sp>
          <p:nvSpPr>
            <p:cNvPr id="77" name=""/>
            <p:cNvSpPr/>
            <p:nvPr/>
          </p:nvSpPr>
          <p:spPr>
            <a:xfrm>
              <a:off x="6934320" y="4114800"/>
              <a:ext cx="2209680" cy="184464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62560" y="4618440"/>
              <a:ext cx="1730520" cy="131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dam, 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nd Sat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fter The F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0120" y="152280"/>
            <a:ext cx="1523880" cy="1602000"/>
            <a:chOff x="7620120" y="152280"/>
            <a:chExt cx="1523880" cy="1602000"/>
          </a:xfrm>
        </p:grpSpPr>
        <p:sp>
          <p:nvSpPr>
            <p:cNvPr id="81" name=""/>
            <p:cNvSpPr/>
            <p:nvPr/>
          </p:nvSpPr>
          <p:spPr>
            <a:xfrm>
              <a:off x="7620120" y="152280"/>
              <a:ext cx="1523880" cy="160200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17400" y="667080"/>
              <a:ext cx="106308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d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F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83840" y="1295280"/>
            <a:ext cx="84178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God’s testing of man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Gen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1  -The serpent was more crafty than any beast of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He said ~ Indeed, has God said, you shall not eat from any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garde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4 - The serpent said ~ You surely shall not die 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se 5 - For God knows that in the day you eat from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r eyes will be opened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will be like God, knowing good and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63928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56080" y="380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34320" y="152280"/>
            <a:ext cx="2209680" cy="1595520"/>
            <a:chOff x="6934320" y="152280"/>
            <a:chExt cx="2209680" cy="1595520"/>
          </a:xfrm>
        </p:grpSpPr>
        <p:sp>
          <p:nvSpPr>
            <p:cNvPr id="87" name=""/>
            <p:cNvSpPr/>
            <p:nvPr/>
          </p:nvSpPr>
          <p:spPr>
            <a:xfrm>
              <a:off x="6934320" y="152280"/>
              <a:ext cx="2209680" cy="1595520"/>
            </a:xfrm>
            <a:prstGeom prst="verticalScroll">
              <a:avLst>
                <a:gd name="adj" fmla="val 1250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43840" y="632880"/>
              <a:ext cx="1765800" cy="106740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The effect up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the race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Adam’s F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-38160" y="1752480"/>
            <a:ext cx="9187200" cy="33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Doctrine of imputatio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in of Adam is imputed to his posterity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. 5:12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in of man is imputed to Christ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1 Pet 2:24, 2 Cor.5:2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righteousness of God is imputed to those who believe -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Rom.4:3, 2 Cor.5:2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oly judgments of God rest upon all men outside of Christ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3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The penalties resting on the “old creation”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Eph. 2:1 &amp; 4:17-19, Rev. 21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8680" y="600408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to attribute to an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Page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6392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5 JAN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1-05T02:56:02Z</cp:lastPrinted>
  <dcterms:modified xsi:type="dcterms:W3CDTF">2003-11-15T23:10:43Z</dcterms:modified>
  <cp:revision>68</cp:revision>
  <dc:subject/>
  <dc:title>No Slide Title</dc:title>
</cp:coreProperties>
</file>