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72D0-910C-427D-8CD7-820A0BD78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3BD3-08D8-4B43-9687-973F4951C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378E-D746-4CD6-8E4E-BFA6A5DF6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5BFE-EEC7-45BD-BD0A-7B9FE4717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AA2A-71A3-4AE9-960C-CF03A345B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8DBE-72FC-43AE-9BB2-0A0E2F058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168C-BF17-49A4-BEAC-197A78D8D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77A2-211E-4C19-BED2-A905DFF3A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EAB0-D766-4294-8946-DFE8C7834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A5C0-58B7-45B3-81B8-B36993251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0602-1A94-4051-926A-C07601CCC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D3B4-E70A-49A6-A940-8F37E659E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53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798F-4926-4B63-BA57-07E01EFEF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90720" y="91908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5488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1905120"/>
            <a:ext cx="4191120" cy="304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ee2f0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440" y="33012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14300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6324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4 AUG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1752480"/>
            <a:ext cx="2895480" cy="83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ANSWER QUESTIONS: 3, 12, 15, 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65451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5720" y="457200"/>
            <a:ext cx="530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BIBLE:     AS  A  DIVINE 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5867280"/>
            <a:ext cx="2895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494320"/>
            <a:ext cx="365760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97320"/>
            <a:ext cx="24382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876920"/>
            <a:ext cx="2971800" cy="32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653000"/>
            <a:ext cx="205740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429080"/>
            <a:ext cx="274320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886200"/>
            <a:ext cx="335268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2209680"/>
            <a:ext cx="3581280" cy="1712880"/>
            <a:chOff x="533520" y="2209680"/>
            <a:chExt cx="3581280" cy="1712880"/>
          </a:xfrm>
        </p:grpSpPr>
        <p:sp>
          <p:nvSpPr>
            <p:cNvPr id="98" name=""/>
            <p:cNvSpPr/>
            <p:nvPr/>
          </p:nvSpPr>
          <p:spPr>
            <a:xfrm>
              <a:off x="838080" y="2657520"/>
              <a:ext cx="3048120" cy="12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520" y="2209680"/>
              <a:ext cx="3581280" cy="44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410080" y="5867280"/>
            <a:ext cx="2895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5486400"/>
            <a:ext cx="3657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5181480"/>
            <a:ext cx="2438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876920"/>
            <a:ext cx="29718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048120"/>
            <a:ext cx="2514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4419720"/>
            <a:ext cx="2743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962520"/>
            <a:ext cx="3352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952880" y="2209680"/>
            <a:ext cx="3581640" cy="1752480"/>
            <a:chOff x="4952880" y="2209680"/>
            <a:chExt cx="3581640" cy="1752480"/>
          </a:xfrm>
        </p:grpSpPr>
        <p:sp>
          <p:nvSpPr>
            <p:cNvPr id="108" name=""/>
            <p:cNvSpPr/>
            <p:nvPr/>
          </p:nvSpPr>
          <p:spPr>
            <a:xfrm>
              <a:off x="5257800" y="2666880"/>
              <a:ext cx="304812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209680"/>
              <a:ext cx="3581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066680" y="5791320"/>
            <a:ext cx="27432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-  IT’S  HUMAN              REASONING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-  IT’S  SUBJECTIVE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-  IT’S  ERR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55627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AN’S  VIEWS  ON  INSPIRATION  OF  B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2419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EV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LOCAL   FLO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6483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HOMOSEXUALITY  IS 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4197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JONAH / GREAT FISH  =  A  MY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96252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HRIST’S  COMING (ONCE)                                       ‘’GRACE  &amp;  VENGENCE ‘’ -  ISA 51: 1,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743200"/>
            <a:ext cx="2895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MODERN  SCHOLARSHIP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: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-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QUESTIONS  THE  EXISTANCE  OF  SOME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.T.  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-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QUESTIONS  THE  AUTHORSHIP  OF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ANY  AUTH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209680"/>
            <a:ext cx="34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ANY  JEWS  TODAY  SAY :                  “ONLY  5  BOOKS  OF  MOSES  IS  GOD’S  WOR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144792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5867280"/>
            <a:ext cx="2590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- IT’S  DIVINE                                   REVELATION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- IT’S  OBJECTIVE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- IT’S  TR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548640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THE  BIBLE  IS  THE  INSPIRED  WORD  OF  GOD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T 4:4 / DEUT 8: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52419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REATION                 - MT 19: 3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487692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WORLD  WIDE  FLOOD             - MT24: 36-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4648320"/>
            <a:ext cx="2819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464832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HOMOSEXUALITY  IS  SIN      - LU 17: 28,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419720"/>
            <a:ext cx="28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JONAH / GREAT  FISH = FACT - MT 12:40,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3946680"/>
            <a:ext cx="32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HRIST’S  COMING (TWICE)                                            GRACE ( 1 ST )      - LU 4: 16-21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VENGENCE ( 2 ND )     - REV 19: 11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2666880"/>
            <a:ext cx="3048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CHRIST  TESTIFIED  TO :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BEL  - MT 23: 35;  ABRAHAM,  ISAAIC, &amp;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JACOB   - MT 8: 11; JN 8: 37-40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MOSES  - JN 8: 45-47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VID  - MT 22: 41-46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ELIJAH  - MT 17: 10-13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DANIEL  - MT 24:15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ZECHARIAH  - MT 23: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2201760"/>
            <a:ext cx="37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LAW &amp; PROPHETS ( O.T.)  IS  GOD’S  INSPIRED  WORD  &amp;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WILL  BE  FULFILLED  TO  THE  JEWS  - MT 5:17,1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6400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4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666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MAN  VS  CHRIST’S   TESTIMONY   OF   SCRIPTURE   ( GOD’S  REVELATIO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676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16765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 Rounded MT Bold"/>
              </a:rPr>
              <a:t>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BIBLE:     AS  A  DIVINE  REVELATIO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363680"/>
            <a:ext cx="77724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PREM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“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IF  GOD  CREATED  THE  UNIVERSE  &amp;  MAN  FOR A  PURPO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IT  IS  REASONABLE  TO  ASSUME  THAT  GOD  WOULD  REV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HIS  PURPOSE  AND  WILL  TO  MAN 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QUESTION:  IS  THIS  A  REASONABLE  PREMIS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64008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4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45720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4572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BIBLE:     AS  A  DIVINE 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752480"/>
            <a:ext cx="70106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3  CRITICAL 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1.  WHAT  HAS  GOD  REVEALE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2.  HOW  HAS  GOD  REVEALED  I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3.  HOW  CAN  WE  KNOW  HIS  REVELATION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63244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4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646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BIBLE:     AS  A  DIVINE 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620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1.  WHAT  HAS  GOD  REVEALE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HE  KNOWLEDGE  OF 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GOD’S  ETERNAL  PUR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2. HOW  HAS  GOD  REVEALED  I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GENERAL  REV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PECIAL  REV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QUESTION: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AN AN UNBELI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1.  HAVE THE KNOWLEDGE OF GO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2. KNOW GOD’S ETERNAL PURPO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6324480"/>
            <a:ext cx="1143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63244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4 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BIBLE:     AS  A  DIVINE 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6720" y="1371600"/>
            <a:ext cx="53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600200"/>
            <a:ext cx="91440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THE  KNOWLEDGE  OF 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316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  <a:tab algn="l" pos="380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IA  GENERAL  REV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1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  <a:tab algn="l" pos="3807000"/>
                <a:tab algn="l" pos="3979800"/>
                <a:tab algn="l" pos="4152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CREATION  DECLARES  GOD’S  GLORY (HIS DEITY &amp; POWER)           - PS 19:1-6; ROM 1: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1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  <a:tab algn="l" pos="3807000"/>
                <a:tab algn="l" pos="3979800"/>
                <a:tab algn="l" pos="4152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THE  KNOWLEDGE  OF  GOD  IS  MANIFEST  IN  EVERY  PERSON       - ROM 1: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1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  <a:tab algn="l" pos="3807000"/>
                <a:tab algn="l" pos="3979800"/>
                <a:tab algn="l" pos="4152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  <a:tab algn="l" pos="380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  <a:tab algn="l" pos="380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IA  SPECIAL  REVELATION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1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  <a:tab algn="l" pos="3807000"/>
                <a:tab algn="l" pos="3979800"/>
                <a:tab algn="l" pos="4152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THE  WRITTEN  WORD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- PS 19: 7-14; 2 TIM 3: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1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  <a:tab algn="l" pos="3807000"/>
                <a:tab algn="l" pos="3979800"/>
                <a:tab algn="l" pos="4152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THE  LIVING  WORD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                       - JN 8: 12; 15: 15; 1 JN 5: 20 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741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  <a:tab algn="l" pos="3807000"/>
                <a:tab algn="l" pos="3979800"/>
                <a:tab algn="l" pos="4152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64008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4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646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31680" y="533520"/>
            <a:ext cx="530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BIBLE:     AS  A  DIVINE 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verview" descr=""/>
          <p:cNvPicPr/>
          <p:nvPr/>
        </p:nvPicPr>
        <p:blipFill>
          <a:blip r:embed="rId1"/>
          <a:stretch/>
        </p:blipFill>
        <p:spPr>
          <a:xfrm>
            <a:off x="838080" y="1009800"/>
            <a:ext cx="7391520" cy="544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162920" y="64008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4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AUGUST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6469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31680" y="533520"/>
            <a:ext cx="530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BIBLE:     AS  A  DIVINE 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64008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4 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AUGUST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6469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057400"/>
            <a:ext cx="82296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. DECLARE HIS GLORY: PS 19:1; ROM 1: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. SHARE HIS GLORY: GEN 1: 26,27; JN 17: 22; 2 COR 3: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. REVEAL HIS GLOR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IA WRITTEN WORD:  O.T &amp; N.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IA LIVING WORD: JN 1:1-4, 14; 17:1-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L 1:15-19; 2: 9; HEB 1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IA HIS CHILDREN: 2 COR 3:3,18; 4: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. GOD GLORIFIED: JN 17:1; ROM 11: 33-36; 15:6; 1 COR 6:19,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(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”:  ROM 1: 21-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14479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GOD’S  ETERNAL 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55720" y="533520"/>
            <a:ext cx="530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BIBLE:     AS  A  DIVINE 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2193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3880"/>
            <a:ext cx="876312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3.  HOW  CAN  WE  KNOW  HIS  REVELA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( “BY  STUDYING  ‘DILIGENTLY’   THE  WORD  OF  TRUTH”  -  2 TIM 2:15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 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HOW  TO  STUDY  THE  BIBLE  -  4  MAJOR  STEPS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( THE  HOLY  SPIRIT  BEING  OUR  GUID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OBSERVATION :    WHAT  DOES  IT  SAY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INTERPRETATION :   WHAT  DOES  IT  MEA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3.       CORRELATION :   DOES  THE  INTERPRETATION  AGREE  WITH  REST  OF  SCRIPTUR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APPROPRIATION :   APPROPRIATING  THE  REVEALED  TRUTHS   BY  FA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64008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4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65451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5720" y="533520"/>
            <a:ext cx="530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THE  BIBLE:     AS  A  DIVINE 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295280"/>
            <a:ext cx="72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</a:rPr>
              <a:t>HOW  TO  STUDY  THE  BIBLE :   A  FEW 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5740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676520"/>
            <a:ext cx="83059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4618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OBSERVAT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7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OBSERVE  GRAMMAR,  SYNTAX,  DEFINITION  OF  WORDS, CULTURE,  ETC.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7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ASK  LOTS  OF  QUESTIONS:    ( EXAMPLES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S  IT  WRITTEN  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TO  ME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OR  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FOR  ME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?   ( 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TO   THE  CHURCH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-  FOR  APPROPRIATION )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( </a:t>
            </a:r>
            <a:r>
              <a:rPr b="1" lang="en-US" sz="1000" spc="-1" strike="noStrike">
                <a:solidFill>
                  <a:srgbClr val="3333cc"/>
                </a:solidFill>
                <a:latin typeface="Arial Rounded MT Bold"/>
              </a:rPr>
              <a:t>FOR  ME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-  INFORMATION  ABOUT  GENTILES  OR  ISRAEL )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F  IT’S  TO  ME  -  THEN  WHAT  IS  THE  TIMING  &amp;  APPLICABILITY  OF  THE  TRUTH ?   ( I.E.  PAST, PRESENT  OR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FUTURE ?  )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S  THE  TRUTH  POSITIONAL ( WHO  I  AM )  OR  CONDITIONAL ( HOW  I  AM  TO  WALK )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Rounded MT Bold"/>
              <a:buAutoNum type="arabicPeriod" startAt="2"/>
              <a:tabLst>
                <a:tab algn="l" pos="4618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NTERPRETATIO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WHAT  DOES  THE  PASSAGE  ITSELF  MEAN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ONSIDER  THE  IMMEDIATE  CONTEXT (SURROUNDING  PASSAGES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ONSIDER  THE  REMOTE  CONTEXT ( THE  PARAGRAPH,  THE  CHAPTER, THE  BOOK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ONSIDER  THE  HIS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ONSIDER  THE  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ONSIDER   THE  LANGU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LET  SCRIPTURE  INTERPRET  SCRIPTURE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ENSURE  EXEGESIS ( READING  OUT  OUT  OF  SCRIPTURE )   VS  EISEGESIS ( READING  INTO  SCRIPTURE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ENSURE  A  DISPENSATIONAL  THE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173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46188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CONSIDER  PROGRESSIVE  REVELATION  &amp;  TRANSITIONS ( E.G.  IN  THE  EARLY  CHURCH  DISPENSATION )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6400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4 AUGUS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65451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2:22:49Z</dcterms:modified>
  <cp:revision>30</cp:revision>
  <dc:subject/>
  <dc:title>PowerPoint Presentation</dc:title>
</cp:coreProperties>
</file>