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828800" y="5410080"/>
            <a:ext cx="586728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3996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5311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96080" y="65451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93320" y="2682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0080" y="961920"/>
            <a:ext cx="8727480" cy="51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to God must come from God. There can be no pray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n the full assurance of faith apart from the known will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n the matter.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. Stan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 do not think that a petition that misses the mind of God wi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ver be answered (1 John 5:14). Personally, I feel the need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rusting Him to lead me in prayer as well as in other matters.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J. Fr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prayer life is the expression of the Spirit of Christ throug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believer to the Father in Heaven. As there is growth in Chris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re will increasingly be prayer in the Spirit (Rom. 8:26).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M. Stan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We are not praying down here on earth to One who is a long w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f in Heaven. We are one with Him there and He is one with us here.       T.L.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n order for us to pray according to His will, we must first k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is will; not only that, but His blessed will must become our will.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M. Stan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is the fellowship of an intimate, living union; as with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 the Christian life, it must be carried on in dependence up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Holy Spirit.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M. Stanfor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6545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1920" y="939960"/>
            <a:ext cx="265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440000"/>
            <a:ext cx="3581640" cy="496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 Rounded MT Bold"/>
              </a:rPr>
              <a:t>Old Test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rayer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pleading with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observe and do what 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as promised He would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Thanksg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fering of a sacrif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God in thanksgiv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He has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ppreciation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erson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440000"/>
            <a:ext cx="4419360" cy="4960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 Rounded MT Bold"/>
              </a:rPr>
              <a:t>New Test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now in Christ’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volves the Father, 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Holy Spi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believer abides in Chris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word abides in the beli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believer is to ask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will perform the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believer appointed to pr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Thanksg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gave thanks to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ndered to God for His 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less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fered to God continuall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all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3640" y="914400"/>
            <a:ext cx="830340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Based on the divine covenants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Based on the character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xample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Solomon’s prayer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Kings 8:22-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 Lord, the God of Israel, there is no God like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keeping covenant and showing lovingkindness to Your serva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 God of Israel, let Your word, I pray, be confirm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ich You have spoken to Your servant, my father 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xample of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Moses’ prayer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xodus 32:11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member Abraham, Isaac, and Isra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servants to whom You swore by Yourself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will multiply your descendants as the stars of the heav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this land of which I have spoken I will give to your descend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y shall inherit it for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762120"/>
            <a:ext cx="1904760" cy="160020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i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st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6545160"/>
            <a:ext cx="110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63640" y="1371600"/>
            <a:ext cx="717228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rayer under grace -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ew ground of prayer after the death, resurrec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ascension of Christ and giving of the Holy Spi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ew relations between the Godhead and the beli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ined to the Lord as members of His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believers are in a favored position in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one of the blessings of the believer’s life under g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rayer under grace will be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“in Christ’s name”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6:24 &amp; 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ntil now you have asked for nothing in My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k and you will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that day you will ask in My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762120"/>
            <a:ext cx="1904760" cy="160020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i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st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6545160"/>
            <a:ext cx="105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38880" y="838080"/>
            <a:ext cx="1905120" cy="160020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i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st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9320" y="1335240"/>
            <a:ext cx="69624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rayer under grace involves the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Father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,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Son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and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Holy Spi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fered to the Father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6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the name of the Son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6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the power of the Holy Spirit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ude 1: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Order in prayer is not arbitrary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ayer is to be “through Him” not “to Hi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ayer is to be “in My name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4:13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ayer is to be “by Him” not “to Hi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y means of the Holy spiri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ude 1: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5214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838080"/>
            <a:ext cx="1905120" cy="160020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i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st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160" y="914400"/>
            <a:ext cx="703116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rayer under grace -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conditional aspect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John 15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f you </a:t>
            </a:r>
            <a:r>
              <a:rPr b="0" lang="en-US" sz="1800" spc="-1" strike="noStrike">
                <a:solidFill>
                  <a:srgbClr val="d60093"/>
                </a:solidFill>
                <a:latin typeface="Arial Rounded MT Bold"/>
              </a:rPr>
              <a:t>abid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My words </a:t>
            </a:r>
            <a:r>
              <a:rPr b="0" lang="en-US" sz="1800" spc="-1" strike="noStrike">
                <a:solidFill>
                  <a:srgbClr val="d60093"/>
                </a:solidFill>
                <a:latin typeface="Arial Rounded MT Bold"/>
              </a:rPr>
              <a:t>abid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k whatever you wish, and it will be done for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rayer under grace -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divine arrangement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John 14:12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works that I do, he (believer) will do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reater works than these he (believer) will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I go to the Fa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ever you ask in My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will I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the Father may be glorified in the 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f you ask Me anything in My name, I will d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65530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380960"/>
            <a:ext cx="619884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rayer under grace -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appointed of God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John 15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did not choose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I chose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ppointed you that you would go and bear fr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that your fruit would 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that whatever you ask of the Father in My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may give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838080"/>
            <a:ext cx="1905120" cy="160020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i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st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9160" y="1395360"/>
            <a:ext cx="869688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Prayer of Thanksgiving -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giving is the voluntary expression of heartfelt gratitu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benefit 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giving is in no way a payment for benefits 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giving is the gracious acknowledgment of the fact that the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o had received the benefit is indebted to the g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Prayer of Thanksgiving -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Old Test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crifice of thanksgiv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ev. 7:12-15, PS 107:22, PS 116: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ppreciation of the person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and give thanks to His holy name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30:4, PS 97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et us come before His presence with thanksgiving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95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nter His gates with thanksgiving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100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t midnight I shall rise to give thanks to You because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119: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Your righteous ordi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23760" y="304920"/>
            <a:ext cx="82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Church: Her Worship in Prayer and Thanksg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520" y="1371600"/>
            <a:ext cx="89589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Prayers of Thanksgiving - </a:t>
            </a:r>
            <a:r>
              <a:rPr b="0" lang="en-US" sz="2000" spc="-1" strike="noStrike">
                <a:solidFill>
                  <a:srgbClr val="cc0000"/>
                </a:solidFill>
                <a:latin typeface="Arial Rounded MT Bold"/>
              </a:rPr>
              <a:t>New Test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’s practice of giving thanks for food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att. 15:36,Mark 8:6, John 6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postle Paul also practiced giving thanks for food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ts 27:35, Rom.14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giving rendered to God in the New Test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 be to God for His indescribable gift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. 9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 be to God, who gives us the victory through our Lord Jesus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. 15: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 be to God, who always leads us in triumph in Christ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. 8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give thanks to God always for all of you,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Thess 1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king mention of you in our pr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thank my God in all my remembrance of you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hil 1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Two important features of thanksg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giving should be offered to God continually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b. 13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nksgiving should be offered for all things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. 5:20,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Thess. 5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6515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65610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0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3-29T23:09:48Z</cp:lastPrinted>
  <dcterms:modified xsi:type="dcterms:W3CDTF">2003-11-15T23:27:02Z</dcterms:modified>
  <cp:revision>255</cp:revision>
  <dc:subject/>
  <dc:title>Prayer and Thanksgiving</dc:title>
</cp:coreProperties>
</file>