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71600" y="2514600"/>
            <a:ext cx="32004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496160" y="12193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89548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7760" y="380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4771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6553080"/>
            <a:ext cx="1218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10680" y="2286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685800"/>
            <a:ext cx="678168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906480"/>
            <a:ext cx="5790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762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6.   WHAT  IS  THE  MAKE- UP  OF  MA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600200"/>
            <a:ext cx="70866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HE  OUTWARD  MAN ( BODY)   -  GEN 2: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  FORMED  MAN ( YATSAR - HEB   =  “SCULPTED”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RMED  HIM  FROM  MATERIAL ( DUS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BODE  OF  THE  SOUL &amp; SPI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AS  EVERYTHING  EXCEPT 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ECAYS  UPON  DE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THE  INWARD  MAN ( SOUL &amp; SPIRIT )   -  GEN 2: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  BREATHED  THE  BREATH   OF  “LIV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OUL ( SOULISH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EMOTIONS               - WILL                  -  S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INTELLECT               - REASON          - CONSCI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PIRIT ( SPIRITUAL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LLOWS  MAN  TO  RELATE  TO 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IVES  FOREV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6469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6553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87000" y="2286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685800"/>
            <a:ext cx="327636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806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 U T L I 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752480"/>
            <a:ext cx="6629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.   WHAT  ARE  MAN’S  BASIC  QUESTIO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.   WHAT  ARE  THE  ANSWERS  TO  HIS  QUESTIO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.   HOW  WAS  MAN  CREATED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.   HOW  CAN  WE  KNOW  GOD’S  IMAG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.   HOW  DOES  MAN’S  IMAGE  DIFFER  FROM  GOD’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6.   WHAT  IS  THE MAKE- UP  OF  MA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64692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646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646920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65530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10680" y="30492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685800"/>
            <a:ext cx="617220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914400"/>
            <a:ext cx="4114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7621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.   WHAT  ARE  MAN’S  BASIC  QUESTIO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828800"/>
            <a:ext cx="48765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AN  HAS  FOUR  QUES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.  WHO  AM  I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.  WHERE  DID  I  COME  FROM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.  WHY  AM  I  HER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.  WHERE  AM  I  GOING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64692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64771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10680" y="2286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685800"/>
            <a:ext cx="678168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7621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2.   WHAT  ARE  THE  ANSWERS  TO  HIS  QUESTIO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600200"/>
            <a:ext cx="9144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16002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16002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76520"/>
            <a:ext cx="8991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QUESTION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    HUMANISM / EVOLUTION       BIBLICAL CREATIO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O AM I ?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HIGHEST FORM OF ANIMAL          CREATION IN GOD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MAGE &amp; LIK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ERE DID I COME FROM?     EVOLVED FROM   _______???         CREATED BY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Y AM I HERE?                          WISH I KNEW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TO GLORIFY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ERE AM I GOING?                  LIGHTS OUT !!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HEAVENLY HOM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6392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6477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87000" y="3808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God-1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42400" cy="5353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43800" y="6400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9400" y="6400800"/>
            <a:ext cx="43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6400800"/>
            <a:ext cx="106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39280" y="3808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6400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an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525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19720" y="6400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6400800"/>
            <a:ext cx="1067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10680" y="2286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685800"/>
            <a:ext cx="678168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4.   HOW  CAN  WE  KNOW  GOD’S  IMAG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1371600"/>
          <a:ext cx="8089920" cy="56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08992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48320" y="6583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67480" y="65530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10320" y="30492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880" y="1173240"/>
          <a:ext cx="8229600" cy="53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73240"/>
                    <a:ext cx="822960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1219320" y="685800"/>
            <a:ext cx="6781680" cy="533520"/>
            <a:chOff x="1219320" y="685800"/>
            <a:chExt cx="6781680" cy="533520"/>
          </a:xfrm>
        </p:grpSpPr>
        <p:sp>
          <p:nvSpPr>
            <p:cNvPr id="93" name=""/>
            <p:cNvSpPr/>
            <p:nvPr/>
          </p:nvSpPr>
          <p:spPr>
            <a:xfrm>
              <a:off x="1219320" y="685800"/>
              <a:ext cx="6781680" cy="5335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66ff"/>
                </a:gs>
                <a:gs pos="50000">
                  <a:srgbClr val="ffffff"/>
                </a:gs>
                <a:gs pos="100000">
                  <a:srgbClr val="99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776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4.   HOW  CAN  WE  KNOW  GOD’S  IMAGE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267080" y="65214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65530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34000" y="2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Man: Hi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685800"/>
            <a:ext cx="678168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7621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5.   HOW  DOES  MAN’S  IMAGE  DIFFER  FROM  GOD’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1282680"/>
          <a:ext cx="684540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82680"/>
                    <a:ext cx="684540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197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6553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cp:lastPrinted>2002-11-01T02:40:37Z</cp:lastPrinted>
  <dcterms:modified xsi:type="dcterms:W3CDTF">2003-11-15T23:05:17Z</dcterms:modified>
  <cp:revision>52</cp:revision>
  <dc:subject/>
  <dc:title>PowerPoint Presentation</dc:title>
</cp:coreProperties>
</file>