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43000" y="5791320"/>
            <a:ext cx="541008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19320" y="106668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59056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572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5674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65451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143000" y="1066680"/>
            <a:ext cx="7696080" cy="762120"/>
            <a:chOff x="1143000" y="1066680"/>
            <a:chExt cx="7696080" cy="762120"/>
          </a:xfrm>
        </p:grpSpPr>
        <p:grpSp>
          <p:nvGrpSpPr>
            <p:cNvPr id="215" name=""/>
            <p:cNvGrpSpPr/>
            <p:nvPr/>
          </p:nvGrpSpPr>
          <p:grpSpPr>
            <a:xfrm>
              <a:off x="1143000" y="1066680"/>
              <a:ext cx="7696080" cy="762120"/>
              <a:chOff x="1143000" y="1066680"/>
              <a:chExt cx="7696080" cy="762120"/>
            </a:xfrm>
          </p:grpSpPr>
          <p:sp>
            <p:nvSpPr>
              <p:cNvPr id="216" name=""/>
              <p:cNvSpPr/>
              <p:nvPr/>
            </p:nvSpPr>
            <p:spPr>
              <a:xfrm>
                <a:off x="1143000" y="1066680"/>
                <a:ext cx="7696080" cy="7621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6600"/>
                  </a:gs>
                  <a:gs pos="50000">
                    <a:srgbClr val="ffff99"/>
                  </a:gs>
                  <a:gs pos="100000">
                    <a:srgbClr val="cc6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5280" y="1295280"/>
                <a:ext cx="746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LORD  JESUS  CHRIST         COVENANT (BINDER)             BELIEV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809880" y="1143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1143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72000" y="1828800"/>
            <a:ext cx="1447560" cy="1676520"/>
            <a:chOff x="4572000" y="1828800"/>
            <a:chExt cx="1447560" cy="1676520"/>
          </a:xfrm>
        </p:grpSpPr>
        <p:sp>
          <p:nvSpPr>
            <p:cNvPr id="221" name=""/>
            <p:cNvSpPr/>
            <p:nvPr/>
          </p:nvSpPr>
          <p:spPr>
            <a:xfrm>
              <a:off x="4572000" y="2057400"/>
              <a:ext cx="1447560" cy="152640"/>
            </a:xfrm>
            <a:custGeom>
              <a:avLst/>
              <a:gdLst>
                <a:gd name="textAreaLeft" fmla="*/ 318240 w 1447560"/>
                <a:gd name="textAreaRight" fmla="*/ 1129320 w 144756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024520" y="1828800"/>
              <a:ext cx="641880" cy="1676520"/>
              <a:chOff x="5024520" y="1828800"/>
              <a:chExt cx="641880" cy="1676520"/>
            </a:xfrm>
          </p:grpSpPr>
          <p:sp>
            <p:nvSpPr>
              <p:cNvPr id="223" name=""/>
              <p:cNvSpPr/>
              <p:nvPr/>
            </p:nvSpPr>
            <p:spPr>
              <a:xfrm>
                <a:off x="5205240" y="1828800"/>
                <a:ext cx="271080" cy="1676520"/>
              </a:xfrm>
              <a:custGeom>
                <a:avLst/>
                <a:gdLst>
                  <a:gd name="textAreaLeft" fmla="*/ 59400 w 271080"/>
                  <a:gd name="textAreaRight" fmla="*/ 211680 w 271080"/>
                  <a:gd name="textAreaTop" fmla="*/ 368640 h 1676520"/>
                  <a:gd name="textAreaBottom" fmla="*/ 130788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ff"/>
                  </a:gs>
                  <a:gs pos="50000">
                    <a:srgbClr val="ffffff"/>
                  </a:gs>
                  <a:gs pos="100000">
                    <a:srgbClr val="ff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4" name="FD00435_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4520" y="2286000"/>
                <a:ext cx="641880" cy="106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5" name=""/>
          <p:cNvGrpSpPr/>
          <p:nvPr/>
        </p:nvGrpSpPr>
        <p:grpSpPr>
          <a:xfrm>
            <a:off x="3200400" y="1828800"/>
            <a:ext cx="5714640" cy="550800"/>
            <a:chOff x="3200400" y="1828800"/>
            <a:chExt cx="5714640" cy="550800"/>
          </a:xfrm>
        </p:grpSpPr>
        <p:sp>
          <p:nvSpPr>
            <p:cNvPr id="226" name=""/>
            <p:cNvSpPr/>
            <p:nvPr/>
          </p:nvSpPr>
          <p:spPr>
            <a:xfrm>
              <a:off x="3200400" y="1828800"/>
              <a:ext cx="359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8600" y="1828800"/>
              <a:ext cx="2296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11:23-26; MT 26:26-29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MK 14:22-25; LK 22:14-20; 2 COR 3: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62120" y="3505320"/>
            <a:ext cx="83818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“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THIS  CUP  IS  THE  NEW  COVENANT “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-   1 COR 11:2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CUP REPRESENTS CHRIST’S BLOOD / DEATH ON THE CR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F THE ETERNAL COVENANT   (HEB 13: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NEW COVENANT IS THE APPROPRIATION OF THE CUP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TERNAL COVENANT TO EVERY BELIEVER BY GO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CUP ( CHRIST’S BLOOD / DEATH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INDS YOU ( POSITIONALLY) TO CHRIST’S DEA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GROW (CONDITIONALLY) IN CONFORMITY TO HIS DEATH                       -  PHIL 3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DEATH TO SEL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INDS YOU TO CHRIST’S RESURRECTION LIFE &amp; FELLOWSHIP                     -  PHIL 3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’S BLOOD / DEATH IS MADE EFFICATIOUS BY HIS RESURRECTION -1 COR 15:14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674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52480" y="457200"/>
            <a:ext cx="5715000" cy="533520"/>
            <a:chOff x="1752480" y="457200"/>
            <a:chExt cx="5715000" cy="533520"/>
          </a:xfrm>
        </p:grpSpPr>
        <p:sp>
          <p:nvSpPr>
            <p:cNvPr id="231" name=""/>
            <p:cNvSpPr/>
            <p:nvPr/>
          </p:nvSpPr>
          <p:spPr>
            <a:xfrm>
              <a:off x="1752480" y="457200"/>
              <a:ext cx="571500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5778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4197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THE   CHURCH’S   NEW   COV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7761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LORD’S  S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315200" y="762120"/>
            <a:ext cx="1752480" cy="641520"/>
            <a:chOff x="7315200" y="762120"/>
            <a:chExt cx="1752480" cy="641520"/>
          </a:xfrm>
        </p:grpSpPr>
        <p:sp>
          <p:nvSpPr>
            <p:cNvPr id="241" name=""/>
            <p:cNvSpPr/>
            <p:nvPr/>
          </p:nvSpPr>
          <p:spPr>
            <a:xfrm>
              <a:off x="7315200" y="762120"/>
              <a:ext cx="1752480" cy="609480"/>
            </a:xfrm>
            <a:prstGeom prst="wedgeRoundRectCallout">
              <a:avLst>
                <a:gd name="adj1" fmla="val -66574"/>
                <a:gd name="adj2" fmla="val 54166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91160" y="762120"/>
              <a:ext cx="167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HAT  ARE  THE  ORDINA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F  THE  CHURCH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1668600"/>
            <a:ext cx="91440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WHAT  IT  I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IS NOT A “MEMORIAL” (SOMETHING DONE “IN MEMORY OF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AT’S FOR DEAD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RIST IS ALIVE IN HIS GLORIFIED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IS NOT A PARTAKING OF THE LITERAL BODY &amp; BLOOD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6336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“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RANSUBSTANTIATION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6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S BREAD &amp; WINE IS CONVERTED INTO CHRIST’S BODY &amp; BL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6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6336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“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ONSUBSTANTIA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6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S BREAD REMAINS BREAD - WINE REMAINS W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6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THE PRESENCE OF THE BODY &amp; BLOOD OF CHRIST ARE I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6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6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LORD’S SUPPER IS NOT A REQUIREMENT FOR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51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LORD’S SUPPER DOES NOT IMPART SOME SPIRITUAL BLESSING OR GR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762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WO  MAJOR 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657600"/>
            <a:ext cx="4190760" cy="2209680"/>
          </a:xfrm>
          <a:prstGeom prst="wedgeRoundRectCallout">
            <a:avLst>
              <a:gd name="adj1" fmla="val -102384"/>
              <a:gd name="adj2" fmla="val 33333"/>
              <a:gd name="adj3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33720" y="1523880"/>
            <a:ext cx="3809880" cy="1447920"/>
            <a:chOff x="2133720" y="1523880"/>
            <a:chExt cx="3809880" cy="1447920"/>
          </a:xfrm>
        </p:grpSpPr>
        <p:sp>
          <p:nvSpPr>
            <p:cNvPr id="52" name=""/>
            <p:cNvSpPr/>
            <p:nvPr/>
          </p:nvSpPr>
          <p:spPr>
            <a:xfrm>
              <a:off x="2133720" y="1523880"/>
              <a:ext cx="3809880" cy="1447920"/>
            </a:xfrm>
            <a:prstGeom prst="wedgeRoundRectCallout">
              <a:avLst>
                <a:gd name="adj1" fmla="val -83625"/>
                <a:gd name="adj2" fmla="val 83333"/>
                <a:gd name="adj3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0f9fe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0" y="190512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IS  THE  CHU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165240"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AN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ORGANIZA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 indent="165240"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AN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ORGANI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876920" y="39625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ARE  THE  ORD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 THE  CHURCH ? - ARE 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FANT  BAPTISM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IRST  COMMUN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FIRM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OT  WASHING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685800"/>
            <a:ext cx="49528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38880" y="533520"/>
            <a:ext cx="1905120" cy="761760"/>
            <a:chOff x="7238880" y="533520"/>
            <a:chExt cx="1905120" cy="761760"/>
          </a:xfrm>
        </p:grpSpPr>
        <p:sp>
          <p:nvSpPr>
            <p:cNvPr id="61" name=""/>
            <p:cNvSpPr/>
            <p:nvPr/>
          </p:nvSpPr>
          <p:spPr>
            <a:xfrm>
              <a:off x="7238880" y="533520"/>
              <a:ext cx="1752840" cy="761760"/>
            </a:xfrm>
            <a:prstGeom prst="wedgeRoundRectCallout">
              <a:avLst>
                <a:gd name="adj1" fmla="val -191939"/>
                <a:gd name="adj2" fmla="val 72291"/>
                <a:gd name="adj3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0f9fe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609480"/>
              <a:ext cx="190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IS  THE  CHU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AN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ORGANIZATION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AN 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ORGANISM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286000" y="838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YPICAL  CHURCH 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828800"/>
          <a:ext cx="4114800" cy="19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411480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498920" y="1830240"/>
          <a:ext cx="4481640" cy="19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1830240"/>
                    <a:ext cx="448164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280" y="4335480"/>
          <a:ext cx="4800600" cy="22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335480"/>
                    <a:ext cx="480060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257800" y="4341960"/>
          <a:ext cx="3726000" cy="183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341960"/>
                    <a:ext cx="37260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04920" y="1447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ISCOPALIA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4479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AN  CATHOL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0384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PRESENTATIVE  FORM (e.g Presbyterian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4038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ONGREGATIONAL 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62485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 e.g  Baptists, Church  Of  Christ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6553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65451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129528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BIBLICAL  MODEL  VIEWS  THE  CHURCH  AS  AN  ORG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church(“called out ones”) is the body of Christ  - Rom 12:5; Eph 2: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very believer is a member of Christ’s body                       - 1 Cor 12: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esus Christ is the head of the body                                 - Eph 1:22; 5: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ach local church is a microcosm of the body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609480"/>
            <a:ext cx="518148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80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776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 AS  AN  ORG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27960" y="5748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7879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0496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971800"/>
            <a:ext cx="8763120" cy="3733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43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JESUS 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648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4952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Chief  Shephe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505320"/>
            <a:ext cx="2209680" cy="1218960"/>
            <a:chOff x="838080" y="3505320"/>
            <a:chExt cx="2209680" cy="1218960"/>
          </a:xfrm>
        </p:grpSpPr>
        <p:grpSp>
          <p:nvGrpSpPr>
            <p:cNvPr id="93" name=""/>
            <p:cNvGrpSpPr/>
            <p:nvPr/>
          </p:nvGrpSpPr>
          <p:grpSpPr>
            <a:xfrm>
              <a:off x="838080" y="3505320"/>
              <a:ext cx="2209680" cy="1218960"/>
              <a:chOff x="838080" y="3505320"/>
              <a:chExt cx="2209680" cy="1218960"/>
            </a:xfrm>
          </p:grpSpPr>
          <p:sp>
            <p:nvSpPr>
              <p:cNvPr id="94" name=""/>
              <p:cNvSpPr/>
              <p:nvPr/>
            </p:nvSpPr>
            <p:spPr>
              <a:xfrm>
                <a:off x="838080" y="3505320"/>
                <a:ext cx="220968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43000" y="359244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Local  Church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66680" y="4190760"/>
                <a:ext cx="176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 Elders =  Und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Shepherds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371240" y="38862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Rounded MT Bold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43000" y="5029200"/>
            <a:ext cx="2209680" cy="1218960"/>
            <a:chOff x="1143000" y="5029200"/>
            <a:chExt cx="2209680" cy="1218960"/>
          </a:xfrm>
        </p:grpSpPr>
        <p:grpSp>
          <p:nvGrpSpPr>
            <p:cNvPr id="99" name=""/>
            <p:cNvGrpSpPr/>
            <p:nvPr/>
          </p:nvGrpSpPr>
          <p:grpSpPr>
            <a:xfrm>
              <a:off x="1143000" y="5029200"/>
              <a:ext cx="2209680" cy="1218960"/>
              <a:chOff x="1143000" y="5029200"/>
              <a:chExt cx="2209680" cy="1218960"/>
            </a:xfrm>
          </p:grpSpPr>
          <p:sp>
            <p:nvSpPr>
              <p:cNvPr id="100" name=""/>
              <p:cNvSpPr/>
              <p:nvPr/>
            </p:nvSpPr>
            <p:spPr>
              <a:xfrm>
                <a:off x="1143000" y="5029200"/>
                <a:ext cx="220968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47920" y="51163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Local  Church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5714640"/>
                <a:ext cx="176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 Elders =  Und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Shepherds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676160" y="54100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Rounded MT Bold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33920" y="5410080"/>
            <a:ext cx="2209680" cy="1218960"/>
            <a:chOff x="3733920" y="5410080"/>
            <a:chExt cx="2209680" cy="1218960"/>
          </a:xfrm>
        </p:grpSpPr>
        <p:grpSp>
          <p:nvGrpSpPr>
            <p:cNvPr id="105" name=""/>
            <p:cNvGrpSpPr/>
            <p:nvPr/>
          </p:nvGrpSpPr>
          <p:grpSpPr>
            <a:xfrm>
              <a:off x="3733920" y="5410080"/>
              <a:ext cx="2209680" cy="1218960"/>
              <a:chOff x="3733920" y="5410080"/>
              <a:chExt cx="2209680" cy="1218960"/>
            </a:xfrm>
          </p:grpSpPr>
          <p:sp>
            <p:nvSpPr>
              <p:cNvPr id="106" name=""/>
              <p:cNvSpPr/>
              <p:nvPr/>
            </p:nvSpPr>
            <p:spPr>
              <a:xfrm>
                <a:off x="3733920" y="5410080"/>
                <a:ext cx="220968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8840" y="54972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Local  Church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62520" y="6095520"/>
                <a:ext cx="176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 Elders =  Und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Shepherds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267080" y="5790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Rounded MT Bold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505320" y="3048120"/>
            <a:ext cx="2209680" cy="1218960"/>
            <a:chOff x="3505320" y="3048120"/>
            <a:chExt cx="2209680" cy="1218960"/>
          </a:xfrm>
        </p:grpSpPr>
        <p:grpSp>
          <p:nvGrpSpPr>
            <p:cNvPr id="111" name=""/>
            <p:cNvGrpSpPr/>
            <p:nvPr/>
          </p:nvGrpSpPr>
          <p:grpSpPr>
            <a:xfrm>
              <a:off x="3505320" y="3048120"/>
              <a:ext cx="2209680" cy="1218960"/>
              <a:chOff x="3505320" y="3048120"/>
              <a:chExt cx="2209680" cy="1218960"/>
            </a:xfrm>
          </p:grpSpPr>
          <p:sp>
            <p:nvSpPr>
              <p:cNvPr id="112" name=""/>
              <p:cNvSpPr/>
              <p:nvPr/>
            </p:nvSpPr>
            <p:spPr>
              <a:xfrm>
                <a:off x="3505320" y="3048120"/>
                <a:ext cx="220968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10240" y="313524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Local  Church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33920" y="3733560"/>
                <a:ext cx="176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 Elders =  Und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Shepherds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038480" y="34290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Rounded MT Bold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867280" y="3505320"/>
            <a:ext cx="2209680" cy="1218960"/>
            <a:chOff x="5867280" y="3505320"/>
            <a:chExt cx="2209680" cy="1218960"/>
          </a:xfrm>
        </p:grpSpPr>
        <p:grpSp>
          <p:nvGrpSpPr>
            <p:cNvPr id="117" name=""/>
            <p:cNvGrpSpPr/>
            <p:nvPr/>
          </p:nvGrpSpPr>
          <p:grpSpPr>
            <a:xfrm>
              <a:off x="5867280" y="3505320"/>
              <a:ext cx="2209680" cy="1218960"/>
              <a:chOff x="5867280" y="3505320"/>
              <a:chExt cx="2209680" cy="1218960"/>
            </a:xfrm>
          </p:grpSpPr>
          <p:sp>
            <p:nvSpPr>
              <p:cNvPr id="118" name=""/>
              <p:cNvSpPr/>
              <p:nvPr/>
            </p:nvSpPr>
            <p:spPr>
              <a:xfrm>
                <a:off x="5867280" y="3505320"/>
                <a:ext cx="220968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72200" y="359244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Local  Church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95880" y="4190760"/>
                <a:ext cx="176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 Elders =  Und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Shepherds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400440" y="38862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Rounded MT Bold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95880" y="4876920"/>
            <a:ext cx="2209680" cy="1218960"/>
            <a:chOff x="6095880" y="4876920"/>
            <a:chExt cx="2209680" cy="1218960"/>
          </a:xfrm>
        </p:grpSpPr>
        <p:grpSp>
          <p:nvGrpSpPr>
            <p:cNvPr id="123" name=""/>
            <p:cNvGrpSpPr/>
            <p:nvPr/>
          </p:nvGrpSpPr>
          <p:grpSpPr>
            <a:xfrm>
              <a:off x="6095880" y="4876920"/>
              <a:ext cx="2209680" cy="1218960"/>
              <a:chOff x="6095880" y="4876920"/>
              <a:chExt cx="2209680" cy="12189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5880" y="4876920"/>
                <a:ext cx="220968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00800" y="496404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Local  Church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24480" y="5562360"/>
                <a:ext cx="176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( Elders =  Under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Shepherds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629040" y="5257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Rounded MT Bold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04920" y="311616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048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BODY  OF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6567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33520"/>
            <a:ext cx="1752840" cy="761760"/>
          </a:xfrm>
          <a:prstGeom prst="wedgeRoundRectCallout">
            <a:avLst>
              <a:gd name="adj1" fmla="val -188314"/>
              <a:gd name="adj2" fmla="val 50625"/>
              <a:gd name="adj3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f0f9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01560"/>
            <a:ext cx="18288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S  THE  CHU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ORGANIZATION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ORGANISM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8800" y="685800"/>
            <a:ext cx="4952880" cy="609480"/>
            <a:chOff x="1828800" y="685800"/>
            <a:chExt cx="4952880" cy="609480"/>
          </a:xfrm>
        </p:grpSpPr>
        <p:sp>
          <p:nvSpPr>
            <p:cNvPr id="137" name=""/>
            <p:cNvSpPr/>
            <p:nvPr/>
          </p:nvSpPr>
          <p:spPr>
            <a:xfrm>
              <a:off x="1828800" y="685800"/>
              <a:ext cx="49528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8380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THE  CHURCH  AS  AN  ORG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086600" y="380880"/>
            <a:ext cx="2209320" cy="838080"/>
            <a:chOff x="7086600" y="380880"/>
            <a:chExt cx="2209320" cy="838080"/>
          </a:xfrm>
        </p:grpSpPr>
        <p:sp>
          <p:nvSpPr>
            <p:cNvPr id="140" name=""/>
            <p:cNvSpPr/>
            <p:nvPr/>
          </p:nvSpPr>
          <p:spPr>
            <a:xfrm>
              <a:off x="7244640" y="456840"/>
              <a:ext cx="1735560" cy="762120"/>
            </a:xfrm>
            <a:prstGeom prst="wedgeRoundRectCallout">
              <a:avLst>
                <a:gd name="adj1" fmla="val -51893"/>
                <a:gd name="adj2" fmla="val 65625"/>
                <a:gd name="adj3" fmla="val 16667"/>
              </a:avLst>
            </a:prstGeom>
            <a:gradFill rotWithShape="0">
              <a:gsLst>
                <a:gs pos="0">
                  <a:srgbClr val="66ccff"/>
                </a:gs>
                <a:gs pos="50000">
                  <a:srgbClr val="f0f9fe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600" y="380880"/>
              <a:ext cx="22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14600" y="1800360"/>
            <a:ext cx="6629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any members but they function as on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hysically: Born with a body and its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piritually: Born by the Holy Spirit into Christ’s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 a membe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-1Cor 1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mbers of the body differ              - 1 Cor 12:15-18; Rom 12:4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ir function &amp; gifts are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designed it tha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ust as each member of the human body is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ith its function - so should we be                         - 1 Cor 12:14-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tal dependence between members-1 Cor 12:21,22; Rom 12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 exaltation of one member over another          - 1 Cor 12:22-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cause of their function or gif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wise divisions occ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in His grace has gifted every member      - 1Cor 12:7; 28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wonderful goal for the members                            - Eph 4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function in the body as they are gif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sults in the edification of the body in lo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local chur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eds to encourage the exercise of spiritual gif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dynamic is not the elders - but the Holy Spir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keleton" descr=""/>
          <p:cNvPicPr/>
          <p:nvPr/>
        </p:nvPicPr>
        <p:blipFill>
          <a:blip r:embed="rId1"/>
          <a:srcRect l="1447" t="1450" r="0" b="0"/>
          <a:stretch/>
        </p:blipFill>
        <p:spPr>
          <a:xfrm>
            <a:off x="152280" y="1371600"/>
            <a:ext cx="247968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1295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Analogy of Human Body &amp; Christ’s Body (The Chu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12:12-31; Rom 12:3-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8200" y="6545160"/>
            <a:ext cx="30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60156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S  THE  CHU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ORGANIZATION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N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ORGANISM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685800"/>
            <a:ext cx="518184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8524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5053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934320" y="838080"/>
            <a:ext cx="1752480" cy="641520"/>
            <a:chOff x="6934320" y="838080"/>
            <a:chExt cx="1752480" cy="641520"/>
          </a:xfrm>
        </p:grpSpPr>
        <p:sp>
          <p:nvSpPr>
            <p:cNvPr id="154" name=""/>
            <p:cNvSpPr/>
            <p:nvPr/>
          </p:nvSpPr>
          <p:spPr>
            <a:xfrm>
              <a:off x="6934320" y="838080"/>
              <a:ext cx="1752480" cy="609480"/>
            </a:xfrm>
            <a:prstGeom prst="wedgeRoundRectCallout">
              <a:avLst>
                <a:gd name="adj1" fmla="val -66574"/>
                <a:gd name="adj2" fmla="val 54166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838080"/>
              <a:ext cx="167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HAT  ARE  THE  ORDINA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F  THE  CHURCH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2280" y="1752480"/>
            <a:ext cx="899172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ONLY TWO ORDINANCES ARE RECOGNIZED IN SCRIPTU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ATER  BAPTISM   - ACTS 2:41; 16:30-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RD’S  SUPPER  -  1 COR 11:23-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COMMON  QUESTIONS  ON  ORDINANC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OES WATER BAPTISM OR THE LORD’S TABLE IMPART A SPIRITUAL BENEFI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RE THESE ORDINANCES MERELY RITUALS OR RIT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AT IS THE PROPER MODE OF WATER BAPTISM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PRINKLING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OURING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MMERSION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EN SHOULD A PERSON BE BAPTIZ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M I REALLY PARTAKING OF THE ACTUAL BODY &amp; BLOOD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THE LORD’S SUPPER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838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IBLICAL   ORD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4692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15200" y="762120"/>
            <a:ext cx="1752480" cy="641520"/>
            <a:chOff x="7315200" y="762120"/>
            <a:chExt cx="1752480" cy="641520"/>
          </a:xfrm>
        </p:grpSpPr>
        <p:sp>
          <p:nvSpPr>
            <p:cNvPr id="165" name=""/>
            <p:cNvSpPr/>
            <p:nvPr/>
          </p:nvSpPr>
          <p:spPr>
            <a:xfrm>
              <a:off x="7315200" y="762120"/>
              <a:ext cx="1752480" cy="609480"/>
            </a:xfrm>
            <a:prstGeom prst="wedgeRoundRectCallout">
              <a:avLst>
                <a:gd name="adj1" fmla="val -66574"/>
                <a:gd name="adj2" fmla="val 54166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91160" y="762120"/>
              <a:ext cx="167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HAT  ARE  THE  ORDINA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F  THE  CHURCH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838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ATER  BAPT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95280"/>
            <a:ext cx="91440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WHAT  IT  IS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6:3,4; COL 2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IS THE OUTWARD PHYSICAL EXPRESSION OF AN INWARD SPIRITUAL TR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INWARD SPIRITUAL TRUTH IS THE BELIEVER’S PERSONAL IDENTIF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 IMMERSION SPIRITUALLY INTO CHRIST’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DEAT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          (IMMERSION INTO WATER PROCLAIMS YOU DIED WITH CHR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BURIAL-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(HELD UNDER WATER PROCLAIMS YOU WERE BURIED WITH H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SURREC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         (RAISED UP FROM THE WATER PROCLAIMS YOU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SURRECTED WITH CHRIS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IS PERFORMED AFTER A PERSON BELIEVES IN CHRIST        - ACTS 8:12,13; 36-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6012000"/>
            <a:ext cx="358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4920" y="4502520"/>
            <a:ext cx="8838720" cy="2050560"/>
            <a:chOff x="304920" y="4502520"/>
            <a:chExt cx="8838720" cy="2050560"/>
          </a:xfrm>
        </p:grpSpPr>
        <p:grpSp>
          <p:nvGrpSpPr>
            <p:cNvPr id="171" name=""/>
            <p:cNvGrpSpPr/>
            <p:nvPr/>
          </p:nvGrpSpPr>
          <p:grpSpPr>
            <a:xfrm>
              <a:off x="1676520" y="4502520"/>
              <a:ext cx="4952880" cy="1694520"/>
              <a:chOff x="1676520" y="4502520"/>
              <a:chExt cx="4952880" cy="1694520"/>
            </a:xfrm>
          </p:grpSpPr>
          <p:sp>
            <p:nvSpPr>
              <p:cNvPr id="172" name=""/>
              <p:cNvSpPr/>
              <p:nvPr/>
            </p:nvSpPr>
            <p:spPr>
              <a:xfrm>
                <a:off x="1676520" y="5028840"/>
                <a:ext cx="4952880" cy="1168200"/>
              </a:xfrm>
              <a:custGeom>
                <a:avLst/>
                <a:gdLst/>
                <a:ahLst/>
                <a:rect l="l" t="t" r="r" b="b"/>
                <a:pathLst>
                  <a:path w="1373" h="736">
                    <a:moveTo>
                      <a:pt x="91" y="32"/>
                    </a:moveTo>
                    <a:cubicBezTo>
                      <a:pt x="123" y="33"/>
                      <a:pt x="154" y="37"/>
                      <a:pt x="186" y="38"/>
                    </a:cubicBezTo>
                    <a:cubicBezTo>
                      <a:pt x="207" y="43"/>
                      <a:pt x="231" y="43"/>
                      <a:pt x="253" y="44"/>
                    </a:cubicBezTo>
                    <a:cubicBezTo>
                      <a:pt x="262" y="47"/>
                      <a:pt x="272" y="48"/>
                      <a:pt x="282" y="49"/>
                    </a:cubicBezTo>
                    <a:cubicBezTo>
                      <a:pt x="320" y="46"/>
                      <a:pt x="356" y="34"/>
                      <a:pt x="393" y="32"/>
                    </a:cubicBezTo>
                    <a:cubicBezTo>
                      <a:pt x="466" y="28"/>
                      <a:pt x="540" y="30"/>
                      <a:pt x="613" y="28"/>
                    </a:cubicBezTo>
                    <a:cubicBezTo>
                      <a:pt x="655" y="29"/>
                      <a:pt x="674" y="26"/>
                      <a:pt x="708" y="34"/>
                    </a:cubicBezTo>
                    <a:cubicBezTo>
                      <a:pt x="815" y="30"/>
                      <a:pt x="931" y="52"/>
                      <a:pt x="1033" y="29"/>
                    </a:cubicBezTo>
                    <a:cubicBezTo>
                      <a:pt x="1084" y="30"/>
                      <a:pt x="1133" y="32"/>
                      <a:pt x="1183" y="35"/>
                    </a:cubicBezTo>
                    <a:cubicBezTo>
                      <a:pt x="1274" y="34"/>
                      <a:pt x="1289" y="57"/>
                      <a:pt x="1335" y="29"/>
                    </a:cubicBezTo>
                    <a:cubicBezTo>
                      <a:pt x="1348" y="33"/>
                      <a:pt x="1341" y="51"/>
                      <a:pt x="1347" y="62"/>
                    </a:cubicBezTo>
                    <a:cubicBezTo>
                      <a:pt x="1351" y="82"/>
                      <a:pt x="1350" y="71"/>
                      <a:pt x="1351" y="94"/>
                    </a:cubicBezTo>
                    <a:cubicBezTo>
                      <a:pt x="1350" y="227"/>
                      <a:pt x="1373" y="453"/>
                      <a:pt x="1348" y="578"/>
                    </a:cubicBezTo>
                    <a:cubicBezTo>
                      <a:pt x="1347" y="602"/>
                      <a:pt x="1339" y="636"/>
                      <a:pt x="1350" y="659"/>
                    </a:cubicBezTo>
                    <a:cubicBezTo>
                      <a:pt x="1352" y="668"/>
                      <a:pt x="1346" y="667"/>
                      <a:pt x="1338" y="668"/>
                    </a:cubicBezTo>
                    <a:cubicBezTo>
                      <a:pt x="1317" y="676"/>
                      <a:pt x="1275" y="674"/>
                      <a:pt x="1260" y="674"/>
                    </a:cubicBezTo>
                    <a:cubicBezTo>
                      <a:pt x="920" y="674"/>
                      <a:pt x="611" y="671"/>
                      <a:pt x="279" y="668"/>
                    </a:cubicBezTo>
                    <a:cubicBezTo>
                      <a:pt x="0" y="671"/>
                      <a:pt x="64" y="736"/>
                      <a:pt x="63" y="467"/>
                    </a:cubicBezTo>
                    <a:cubicBezTo>
                      <a:pt x="64" y="306"/>
                      <a:pt x="61" y="310"/>
                      <a:pt x="67" y="221"/>
                    </a:cubicBezTo>
                    <a:cubicBezTo>
                      <a:pt x="67" y="184"/>
                      <a:pt x="69" y="151"/>
                      <a:pt x="63" y="116"/>
                    </a:cubicBezTo>
                    <a:cubicBezTo>
                      <a:pt x="64" y="0"/>
                      <a:pt x="40" y="40"/>
                      <a:pt x="91" y="32"/>
                    </a:cubicBez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3809880" y="4502520"/>
                <a:ext cx="1234440" cy="1600920"/>
                <a:chOff x="3809880" y="4502520"/>
                <a:chExt cx="1234440" cy="1600920"/>
              </a:xfrm>
            </p:grpSpPr>
            <p:sp>
              <p:nvSpPr>
                <p:cNvPr id="174" name=""/>
                <p:cNvSpPr/>
                <p:nvPr/>
              </p:nvSpPr>
              <p:spPr>
                <a:xfrm rot="20050200">
                  <a:off x="4159080" y="5863680"/>
                  <a:ext cx="44640" cy="171000"/>
                </a:xfrm>
                <a:custGeom>
                  <a:avLst/>
                  <a:gdLst>
                    <a:gd name="textAreaLeft" fmla="*/ 9720 w 44640"/>
                    <a:gd name="textAreaRight" fmla="*/ 34920 w 44640"/>
                    <a:gd name="textAreaTop" fmla="*/ 37440 h 171000"/>
                    <a:gd name="textAreaBottom" fmla="*/ 133560 h 17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809880" y="4502520"/>
                  <a:ext cx="1234440" cy="1600920"/>
                  <a:chOff x="3809880" y="4502520"/>
                  <a:chExt cx="1234440" cy="16009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100400" y="4669920"/>
                    <a:ext cx="85680" cy="1201320"/>
                  </a:xfrm>
                  <a:custGeom>
                    <a:avLst/>
                    <a:gdLst>
                      <a:gd name="textAreaLeft" fmla="*/ 18720 w 85680"/>
                      <a:gd name="textAreaRight" fmla="*/ 66960 w 85680"/>
                      <a:gd name="textAreaTop" fmla="*/ 264240 h 1201320"/>
                      <a:gd name="textAreaBottom" fmla="*/ 937080 h 1201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809880" y="4887360"/>
                    <a:ext cx="636480" cy="74160"/>
                  </a:xfrm>
                  <a:custGeom>
                    <a:avLst/>
                    <a:gdLst>
                      <a:gd name="textAreaLeft" fmla="*/ 140040 w 636480"/>
                      <a:gd name="textAreaRight" fmla="*/ 496440 w 636480"/>
                      <a:gd name="textAreaTop" fmla="*/ 16200 h 74160"/>
                      <a:gd name="textAreaBottom" fmla="*/ 57960 h 74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2394200">
                    <a:off x="4571280" y="4571280"/>
                    <a:ext cx="74520" cy="1599840"/>
                  </a:xfrm>
                  <a:custGeom>
                    <a:avLst/>
                    <a:gdLst>
                      <a:gd name="textAreaLeft" fmla="*/ 15840 w 74520"/>
                      <a:gd name="textAreaRight" fmla="*/ 58680 w 74520"/>
                      <a:gd name="textAreaTop" fmla="*/ 343800 h 1599840"/>
                      <a:gd name="textAreaBottom" fmla="*/ 1256040 h 159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393" y="21600"/>
                        </a:lnTo>
                        <a:lnTo>
                          <a:pt x="5207" y="2160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>
                    <a:off x="4935240" y="4502520"/>
                    <a:ext cx="109080" cy="215640"/>
                  </a:xfrm>
                  <a:prstGeom prst="line">
                    <a:avLst/>
                  </a:prstGeom>
                  <a:ln w="76320">
                    <a:solidFill>
                      <a:srgbClr val="ff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4800240"/>
                <a:ext cx="615960" cy="12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38280" y="5257440"/>
                <a:ext cx="1219320" cy="61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1905120" y="4876560"/>
                <a:ext cx="0" cy="121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53080" y="4876560"/>
                <a:ext cx="0" cy="121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05120" y="6095520"/>
                <a:ext cx="4647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04920" y="6171840"/>
              <a:ext cx="8838720" cy="381240"/>
              <a:chOff x="304920" y="6171840"/>
              <a:chExt cx="8838720" cy="381240"/>
            </a:xfrm>
          </p:grpSpPr>
          <p:sp>
            <p:nvSpPr>
              <p:cNvPr id="186" name=""/>
              <p:cNvSpPr/>
              <p:nvPr/>
            </p:nvSpPr>
            <p:spPr>
              <a:xfrm>
                <a:off x="304920" y="6171840"/>
                <a:ext cx="3928320" cy="3812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8160" y="6248160"/>
                <a:ext cx="332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YOUR  IDENTITY  IN  ADAM  TERMIN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33240" y="6171840"/>
                <a:ext cx="4910400" cy="3812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08480" y="6248160"/>
                <a:ext cx="4835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YOU  ARE  A  NEW  CREATION  IN  CHRIST - HE’S  YOUR  LIF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1828800" y="654516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315200" y="762120"/>
            <a:ext cx="1752480" cy="641520"/>
            <a:chOff x="7315200" y="762120"/>
            <a:chExt cx="1752480" cy="641520"/>
          </a:xfrm>
        </p:grpSpPr>
        <p:sp>
          <p:nvSpPr>
            <p:cNvPr id="195" name=""/>
            <p:cNvSpPr/>
            <p:nvPr/>
          </p:nvSpPr>
          <p:spPr>
            <a:xfrm>
              <a:off x="7315200" y="762120"/>
              <a:ext cx="1752480" cy="609480"/>
            </a:xfrm>
            <a:prstGeom prst="wedgeRoundRectCallout">
              <a:avLst>
                <a:gd name="adj1" fmla="val -66574"/>
                <a:gd name="adj2" fmla="val 54166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160" y="762120"/>
              <a:ext cx="167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HAT  ARE  THE  ORDINA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F  THE  CHURCH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685800"/>
            <a:ext cx="5181480" cy="609480"/>
            <a:chOff x="1676520" y="685800"/>
            <a:chExt cx="5181480" cy="609480"/>
          </a:xfrm>
        </p:grpSpPr>
        <p:sp>
          <p:nvSpPr>
            <p:cNvPr id="198" name=""/>
            <p:cNvSpPr/>
            <p:nvPr/>
          </p:nvSpPr>
          <p:spPr>
            <a:xfrm>
              <a:off x="1676520" y="685800"/>
              <a:ext cx="51814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4080" y="8380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WATER  BAPT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52280" y="1820880"/>
            <a:ext cx="8991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WHAT  IT  I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DOESN’T IMPART ANY SPIRITUAL BLESSING OR GRACE UPON TH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ATER BAPTISM DOES NOT REGENERATE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NLY FAITH IN CHRIST REGENERATES A PERSON                  -1 JN 5:1,4; 1PET 1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RE IS NO SCRIPTURAL BASIS FOR INFANT BAPTISM - IT’S NOT IN SCRI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ATER BAPTISM IS NOT A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REQUIREMEN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FOR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ATER BAPTISM IS A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OF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CHURCH:  HER  ORGANIZATION  &amp;  ORDI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315200" y="762120"/>
            <a:ext cx="1752480" cy="641520"/>
            <a:chOff x="7315200" y="762120"/>
            <a:chExt cx="1752480" cy="641520"/>
          </a:xfrm>
        </p:grpSpPr>
        <p:sp>
          <p:nvSpPr>
            <p:cNvPr id="206" name=""/>
            <p:cNvSpPr/>
            <p:nvPr/>
          </p:nvSpPr>
          <p:spPr>
            <a:xfrm>
              <a:off x="7315200" y="762120"/>
              <a:ext cx="1752480" cy="609480"/>
            </a:xfrm>
            <a:prstGeom prst="wedgeRoundRectCallout">
              <a:avLst>
                <a:gd name="adj1" fmla="val -66574"/>
                <a:gd name="adj2" fmla="val 54166"/>
                <a:gd name="adj3" fmla="val 16667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91160" y="762120"/>
              <a:ext cx="1676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HAT  ARE  THE  ORDINA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F  THE  CHURCH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905120" y="685800"/>
            <a:ext cx="5181480" cy="609480"/>
            <a:chOff x="1905120" y="685800"/>
            <a:chExt cx="5181480" cy="609480"/>
          </a:xfrm>
        </p:grpSpPr>
        <p:sp>
          <p:nvSpPr>
            <p:cNvPr id="209" name=""/>
            <p:cNvSpPr/>
            <p:nvPr/>
          </p:nvSpPr>
          <p:spPr>
            <a:xfrm>
              <a:off x="1905120" y="685800"/>
              <a:ext cx="51814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8120" y="83808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THE  LORD’S  S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1752480"/>
            <a:ext cx="91440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WHAT  IT  IS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                                                                                    -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COR 11:23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LORD’S SUPPER IS A “REMEMBRANCE” (LIT: “TO BE MINDFUL AGAIN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IS AN AFFECTIONATE CALLING TO MIND O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ERSON &amp; WORK OF CHRIST FOR YOU PERSO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DIED FOR YOUR SINS (AS YOUR SUBSTITUTE)                                           - 1 JN 2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ALSO DIED UNTO THE SOURCE OF YOUR SINS (YOUR SIN NATURE)- ROM 8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RIST’S DEATH HAS VALUE ONLY DUE TO HIS RESURRECTION     -1COR 15:14-1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NO LONGER A SLAVE TO SIN BUT TO RIGHTEOUSNESS - ROM 6:11-14;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BREAD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PRESENT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BODY WHICH WAS GIVEN FOR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UP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PRESENT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BLOOD (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UP IS “THE NEW COVENANT” FOR THE CHURCH (SEE CHAPTER 2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/  6 APRIL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7:30Z</dcterms:modified>
  <cp:revision>47</cp:revision>
  <dc:subject/>
  <dc:title>PowerPoint Presentation</dc:title>
</cp:coreProperties>
</file>