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3124080"/>
            <a:ext cx="44197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12952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808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537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5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5335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371600"/>
            <a:ext cx="3809880" cy="198108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66ccff"/>
              </a:gs>
              <a:gs pos="50000">
                <a:srgbClr val="ebf7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962520"/>
            <a:ext cx="3809880" cy="1981080"/>
          </a:xfrm>
          <a:prstGeom prst="cloudCallout">
            <a:avLst>
              <a:gd name="adj1" fmla="val -137750"/>
              <a:gd name="adj2" fmla="val -53046"/>
            </a:avLst>
          </a:prstGeom>
          <a:gradFill rotWithShape="0">
            <a:gsLst>
              <a:gs pos="0">
                <a:srgbClr val="ff99ff"/>
              </a:gs>
              <a:gs pos="50000">
                <a:srgbClr val="fee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81080"/>
            <a:ext cx="312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RE  THERE  DISTI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 CHRIST’S  COMING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44956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F  SO  -  WHAT  ARE 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TINCTION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5451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5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646920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545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04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71600" y="609480"/>
            <a:ext cx="6095880" cy="609480"/>
            <a:chOff x="1371600" y="609480"/>
            <a:chExt cx="6095880" cy="609480"/>
          </a:xfrm>
        </p:grpSpPr>
        <p:sp>
          <p:nvSpPr>
            <p:cNvPr id="58" name=""/>
            <p:cNvSpPr/>
            <p:nvPr/>
          </p:nvSpPr>
          <p:spPr>
            <a:xfrm>
              <a:off x="1371600" y="609480"/>
              <a:ext cx="60958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160" y="761760"/>
              <a:ext cx="57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CHRIST'S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 Rounded MT Bold"/>
                  <a:ea typeface="Times New Roman"/>
                </a:rPr>
                <a:t>N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COMING ( TWO DISTINCT &amp; SEPARATE EVENTS )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04920" y="2766600"/>
            <a:ext cx="8648640" cy="3635640"/>
            <a:chOff x="304920" y="2766600"/>
            <a:chExt cx="8648640" cy="3635640"/>
          </a:xfrm>
        </p:grpSpPr>
        <p:grpSp>
          <p:nvGrpSpPr>
            <p:cNvPr id="61" name=""/>
            <p:cNvGrpSpPr/>
            <p:nvPr/>
          </p:nvGrpSpPr>
          <p:grpSpPr>
            <a:xfrm>
              <a:off x="304920" y="2766600"/>
              <a:ext cx="8648640" cy="3635640"/>
              <a:chOff x="304920" y="2766600"/>
              <a:chExt cx="8648640" cy="36356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304920" y="2766600"/>
                <a:ext cx="8648640" cy="3635640"/>
                <a:chOff x="304920" y="2766600"/>
                <a:chExt cx="8648640" cy="3635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914400" y="4724280"/>
                  <a:ext cx="7010280" cy="8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50000">
                      <a:srgbClr val="fefef4"/>
                    </a:gs>
                    <a:gs pos="100000">
                      <a:srgbClr val="ff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809880" y="5823000"/>
                  <a:ext cx="137160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 Rounded MT Bold"/>
                    </a:rPr>
                    <a:t>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 Rounded MT Bold"/>
                    </a:rPr>
                    <a:t>ABOMINATION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 Rounded MT Bold"/>
                    </a:rPr>
                    <a:t>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 Rounded MT Bold"/>
                    </a:rPr>
                    <a:t>OF DESOLA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 Rounded MT Bold"/>
                    </a:rPr>
                    <a:t>DAN 9:27; MT 24: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715000" y="3962160"/>
                  <a:ext cx="1143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TRUMP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JUDGEME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6176000">
                  <a:off x="6057720" y="3847680"/>
                  <a:ext cx="228600" cy="1218960"/>
                </a:xfrm>
                <a:custGeom>
                  <a:avLst/>
                  <a:gdLst>
                    <a:gd name="textAreaLeft" fmla="*/ 0 w 228600"/>
                    <a:gd name="textAreaRight" fmla="*/ 82440 w 22860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6176000">
                  <a:off x="7275240" y="3921840"/>
                  <a:ext cx="228600" cy="1066680"/>
                </a:xfrm>
                <a:custGeom>
                  <a:avLst/>
                  <a:gdLst>
                    <a:gd name="textAreaLeft" fmla="*/ 0 w 228600"/>
                    <a:gd name="textAreaRight" fmla="*/ 82440 w 228600"/>
                    <a:gd name="textAreaTop" fmla="*/ 27720 h 1066680"/>
                    <a:gd name="textAreaBottom" fmla="*/ 103896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105520" y="5851440"/>
                  <a:ext cx="2819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SATAN  CAST TO  EARTH  - REV 12:1-1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ANTICHRIST     REIGNS      - REV 13: 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ISRAEL   PERSECUTED      - REV 12:1-1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5867280"/>
                  <a:ext cx="1218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2  WITNESS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971800" y="411480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SEAL   JUDGEME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5403000">
                  <a:off x="3390840" y="2628720"/>
                  <a:ext cx="228600" cy="3657600"/>
                </a:xfrm>
                <a:custGeom>
                  <a:avLst/>
                  <a:gdLst>
                    <a:gd name="textAreaLeft" fmla="*/ 146160 w 228600"/>
                    <a:gd name="textAreaRight" fmla="*/ 228960 w 228600"/>
                    <a:gd name="textAreaTop" fmla="*/ 95040 h 3657600"/>
                    <a:gd name="textAreaBottom" fmla="*/ 3562560 h 365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676520" y="4708440"/>
                  <a:ext cx="61722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1                2                  3                       4                          5    6     7         1     2    3    4    5   6  7 -  1  2  3  4  5 6 7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514600" y="4876560"/>
                  <a:ext cx="472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TRIBULATION   PERIOD     ( 7  YEARS )  -  DAN’S  70th  WEEK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15200" y="5029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914040" y="502920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209680" y="5181480"/>
                  <a:ext cx="1143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MT 24: 3-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914400" y="533376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791320" y="5181480"/>
                  <a:ext cx="9903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MT 24: 9-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        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15-3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705720" y="5333760"/>
                  <a:ext cx="121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124080" y="533376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4495320" y="533376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114800" y="533376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MID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TRI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5404800">
                  <a:off x="2552400" y="3924000"/>
                  <a:ext cx="303480" cy="3579840"/>
                </a:xfrm>
                <a:custGeom>
                  <a:avLst/>
                  <a:gdLst>
                    <a:gd name="textAreaLeft" fmla="*/ 0 w 303480"/>
                    <a:gd name="textAreaRight" fmla="*/ 109440 w 303480"/>
                    <a:gd name="textAreaTop" fmla="*/ 93240 h 3579840"/>
                    <a:gd name="textAreaBottom" fmla="*/ 3486600 h 357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5404800">
                  <a:off x="6056640" y="3999600"/>
                  <a:ext cx="303480" cy="3429000"/>
                </a:xfrm>
                <a:custGeom>
                  <a:avLst/>
                  <a:gdLst>
                    <a:gd name="textAreaLeft" fmla="*/ 0 w 303480"/>
                    <a:gd name="textAreaRight" fmla="*/ 109440 w 303480"/>
                    <a:gd name="textAreaTop" fmla="*/ 89280 h 3429000"/>
                    <a:gd name="textAreaBottom" fmla="*/ 3339720 h 3429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495680" y="55623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4920" y="3276360"/>
                  <a:ext cx="1447560" cy="685800"/>
                </a:xfrm>
                <a:prstGeom prst="cloudCallout">
                  <a:avLst>
                    <a:gd name="adj1" fmla="val -1787"/>
                    <a:gd name="adj2" fmla="val 128009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efefe"/>
                    </a:gs>
                    <a:gs pos="100000">
                      <a:srgbClr val="cccc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2220000">
                  <a:off x="7314840" y="2971800"/>
                  <a:ext cx="1104840" cy="1263600"/>
                </a:xfrm>
                <a:prstGeom prst="lightningBol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153280" y="3124080"/>
                  <a:ext cx="8002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hrist Com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With His Sai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58000" y="3962160"/>
                  <a:ext cx="11430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   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BOW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Rounded MT Bold"/>
                    </a:rPr>
                    <a:t>JUDGEME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457200" y="335268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rist Com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For His Sai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V="1">
              <a:off x="4495680" y="47239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28600" y="1981080"/>
            <a:ext cx="25146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 Rounded MT Bold"/>
              </a:rPr>
              <a:t>HIS  COMING  FORT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T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NOT IN OT ( IT WAS A MYSTE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NT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Y CHRIST - JN 14: 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Y PAUL - 1 THES 4:13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905120"/>
            <a:ext cx="21337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 Rounded MT Bold"/>
              </a:rPr>
              <a:t>HIS  COMING  FORT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T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ZECH 14: 4,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NT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Y CHRIST - MT 24: 27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Y JOHN - REV 1: 7,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65530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5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6545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609480"/>
            <a:ext cx="6095880" cy="609480"/>
            <a:chOff x="1371600" y="609480"/>
            <a:chExt cx="6095880" cy="609480"/>
          </a:xfrm>
        </p:grpSpPr>
        <p:sp>
          <p:nvSpPr>
            <p:cNvPr id="99" name=""/>
            <p:cNvSpPr/>
            <p:nvPr/>
          </p:nvSpPr>
          <p:spPr>
            <a:xfrm>
              <a:off x="1371600" y="609480"/>
              <a:ext cx="60958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160" y="761760"/>
              <a:ext cx="57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CHRIST'S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 Rounded MT Bold"/>
                  <a:ea typeface="Times New Roman"/>
                </a:rPr>
                <a:t>N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COMING ( TWO DISTINCT &amp; SEPARATE EVENTS )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523880" y="1523880"/>
            <a:ext cx="4419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phe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lace of His 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isibility of His 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Journey of the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lated Resur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rans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oly Spi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nditions on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ations of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iming of His 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654516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6400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04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60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47920" y="609480"/>
            <a:ext cx="6095880" cy="609480"/>
            <a:chOff x="1447920" y="609480"/>
            <a:chExt cx="6095880" cy="609480"/>
          </a:xfrm>
        </p:grpSpPr>
        <p:sp>
          <p:nvSpPr>
            <p:cNvPr id="108" name=""/>
            <p:cNvSpPr/>
            <p:nvPr/>
          </p:nvSpPr>
          <p:spPr>
            <a:xfrm>
              <a:off x="1447920" y="609480"/>
              <a:ext cx="60958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52480" y="761760"/>
              <a:ext cx="57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CHRIST'S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 Rounded MT Bold"/>
                  <a:ea typeface="Times New Roman"/>
                </a:rPr>
                <a:t>N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COMING ( TWO DISTINCT &amp; SEPARATE EVENTS )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240" y="-1185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143000"/>
          <a:ext cx="804888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048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458200" y="12952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65451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5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6507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04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479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6368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1596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295280"/>
          <a:ext cx="7048800" cy="51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0488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92468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3880" y="609480"/>
            <a:ext cx="6096240" cy="609480"/>
            <a:chOff x="1523880" y="609480"/>
            <a:chExt cx="6096240" cy="609480"/>
          </a:xfrm>
        </p:grpSpPr>
        <p:sp>
          <p:nvSpPr>
            <p:cNvPr id="125" name=""/>
            <p:cNvSpPr/>
            <p:nvPr/>
          </p:nvSpPr>
          <p:spPr>
            <a:xfrm>
              <a:off x="1523880" y="609480"/>
              <a:ext cx="609624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28800" y="761760"/>
              <a:ext cx="571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CHRIST'S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 Rounded MT Bold"/>
                  <a:ea typeface="Times New Roman"/>
                </a:rPr>
                <a:t>N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COMING ( TWO DISTINCT &amp; SEPARATE EVENTS )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14400" y="64771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655308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5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6545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280" y="1295280"/>
          <a:ext cx="89154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54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14600" y="304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ECOND  COMING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71600" y="609480"/>
            <a:ext cx="6095880" cy="609480"/>
            <a:chOff x="1371600" y="609480"/>
            <a:chExt cx="6095880" cy="609480"/>
          </a:xfrm>
        </p:grpSpPr>
        <p:sp>
          <p:nvSpPr>
            <p:cNvPr id="134" name=""/>
            <p:cNvSpPr/>
            <p:nvPr/>
          </p:nvSpPr>
          <p:spPr>
            <a:xfrm>
              <a:off x="1371600" y="609480"/>
              <a:ext cx="60958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160" y="761760"/>
              <a:ext cx="57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CHRIST'S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 Rounded MT Bold"/>
                  <a:ea typeface="Times New Roman"/>
                </a:rPr>
                <a:t>N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 COMING ( TWO DISTINCT &amp; SEPARATE EVENTS )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676520" y="655308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5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654516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32:39Z</dcterms:modified>
  <cp:revision>40</cp:revision>
  <dc:subject/>
  <dc:title>PowerPoint Presentation</dc:title>
</cp:coreProperties>
</file>