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990720" y="919080"/>
            <a:ext cx="7199280" cy="60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266760" y="6567480"/>
            <a:ext cx="155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R. HENDERSON / H. MOLLO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4680"/>
            <a:ext cx="1206360" cy="1584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2280" y="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MAJOR BIBLE THE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1219320" y="1981080"/>
            <a:ext cx="4038480" cy="30492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efefe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306440" y="990720"/>
            <a:ext cx="637884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0  The Dispensations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1  The Covenants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2  The Angels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3  Satan: His Personality and Power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4  Satan: His Work and Destiny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5  Man: His Creation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6  Man: His Fal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7  Sin: Its Character and Universality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8  Salvation From the Penalty of Sin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9  Salvation From the Power of Sin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0  Four Aspects of Righteousness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1  Sanctification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2  Assurance of Salvation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3  Security of Salvation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4  Divine Election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5  The Church: Her Members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6  The Church: Her Purpose and Commiss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7  The Church: Her Service and Stewardship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8  The Church: Her Worship in Prayer and Thanksgiv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9  The Church: Her Organization and Ordinances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40  The Church: The Body and Bride of Christ and Her Rewar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19920" y="1752480"/>
            <a:ext cx="2743200" cy="2764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 Rounded MT Bold"/>
              </a:rPr>
              <a:t>HOMEWORK: READ CHAPTER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590920" y="3808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SATAN :  HIS  WORK  &amp;  DESTI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010280" y="6553080"/>
            <a:ext cx="144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22 DEC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54516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1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743200" y="380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19320" y="3808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SATAN :  HIS  WORK  &amp;  DESTI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867280" y="76320"/>
            <a:ext cx="3276720" cy="1676160"/>
            <a:chOff x="5867280" y="76320"/>
            <a:chExt cx="3276720" cy="1676160"/>
          </a:xfrm>
        </p:grpSpPr>
        <p:sp>
          <p:nvSpPr>
            <p:cNvPr id="49" name="Form"/>
            <p:cNvSpPr/>
            <p:nvPr/>
          </p:nvSpPr>
          <p:spPr>
            <a:xfrm>
              <a:off x="5867280" y="76320"/>
              <a:ext cx="3124440" cy="167616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553080" y="236520"/>
              <a:ext cx="25909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Rounded MT Bold"/>
                </a:rPr>
                <a:t>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 Rounded MT Bold"/>
                </a:rPr>
                <a:t>THE TOP 10 LI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“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FALSE CONCEPT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ABOUT SATAN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152280" y="220968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182880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05320" y="182880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973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82880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1" lang="en-US" sz="1600" spc="-1" strike="noStrike">
                <a:solidFill>
                  <a:srgbClr val="3333cc"/>
                </a:solidFill>
                <a:latin typeface="Arial Rounded MT Bold"/>
              </a:rPr>
              <a:t>NO.</a:t>
            </a:r>
            <a:r>
              <a:rPr b="1" lang="en-US" sz="1600" spc="-1" strike="noStrike">
                <a:solidFill>
                  <a:srgbClr val="3333cc"/>
                </a:solidFill>
                <a:latin typeface="Arial Rounded MT Bold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Arial Rounded MT Bold"/>
              </a:rPr>
              <a:t>      FALSE  CONCEPT  </a:t>
            </a:r>
            <a:r>
              <a:rPr b="1" lang="en-US" sz="1600" spc="-1" strike="noStrike">
                <a:solidFill>
                  <a:srgbClr val="3333cc"/>
                </a:solidFill>
                <a:latin typeface="Arial Rounded MT Bold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Arial Rounded MT Bold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Arial Rounded MT Bold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Arial Rounded MT Bold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Arial Rounded MT Bold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Arial Rounded MT Bold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Arial Rounded MT Bold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Arial Rounded MT Bold"/>
              </a:rPr>
              <a:t>BIBLICAL  TRU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2514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05320" y="2209680"/>
            <a:ext cx="56386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Satan  Exists Just  as Hell Exists-Ezek 28:11-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Christ  Created  Both           - Col 1:16;  Mt 25: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Satan  Is  Perfect  In  Beauty             -Ezek 28: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ransformed Into An Angel Of Light-1 Cor 11: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“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Red Dragon/Tail” = His Character  - Rev 12:3,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All the Angels (Host) Were Created In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First  6 Days                            - Gen 2:1,2; Neh 9: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Only God possesses this ess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No created being has this essence - otherw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hey would be G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However God gives Satan limited pow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- Lu 4:6; Job 2:7; Isa 14:12,16,17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2209680"/>
            <a:ext cx="35053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10     Satan  Doesn’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Really  Ex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9      Satan  Is  Red, Has 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Long  Tail &amp;  Pitchf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8      Satan Existed Prior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he 6 Days of Creation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7      Satan is Omnipresent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Omniscient,Omnipot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280" y="624852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* Dr  L. S. Chafer believes this: p156(bot.) &amp; p157(top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495680" y="652140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2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0120" y="656748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22 DEC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743200" y="380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3808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SATAN :  HIS  WORK  &amp;  DESTI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Form"/>
          <p:cNvSpPr/>
          <p:nvPr/>
        </p:nvSpPr>
        <p:spPr>
          <a:xfrm>
            <a:off x="5867280" y="76320"/>
            <a:ext cx="3124440" cy="144756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477120" y="228600"/>
            <a:ext cx="24382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Rounded MT Bold"/>
              </a:rPr>
              <a:t>THE TOP 10 L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FALSE CONCEP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ABOUT SATA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98108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1600200"/>
            <a:ext cx="0" cy="495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05320" y="1600200"/>
            <a:ext cx="0" cy="495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973160"/>
            <a:ext cx="3581280" cy="34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6       Satan Can Indwe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Believ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5      Satan Is the Dir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Cause of Sin in Believ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4      Satan Is to be Slande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( Spoken Against or To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60020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1" lang="en-US" sz="1600" spc="-1" strike="noStrike">
                <a:solidFill>
                  <a:srgbClr val="3333cc"/>
                </a:solidFill>
                <a:latin typeface="Arial Rounded MT Bold"/>
              </a:rPr>
              <a:t>NO.</a:t>
            </a:r>
            <a:r>
              <a:rPr b="1" lang="en-US" sz="1600" spc="-1" strike="noStrike">
                <a:solidFill>
                  <a:srgbClr val="3333cc"/>
                </a:solidFill>
                <a:latin typeface="Arial Rounded MT Bold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Arial Rounded MT Bold"/>
              </a:rPr>
              <a:t>      FALSE  CONCEPT  </a:t>
            </a:r>
            <a:r>
              <a:rPr b="1" lang="en-US" sz="1600" spc="-1" strike="noStrike">
                <a:solidFill>
                  <a:srgbClr val="3333cc"/>
                </a:solidFill>
                <a:latin typeface="Arial Rounded MT Bold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Arial Rounded MT Bold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Arial Rounded MT Bold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Arial Rounded MT Bold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Arial Rounded MT Bold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Arial Rounded MT Bold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Arial Rounded MT Bold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Arial Rounded MT Bold"/>
              </a:rPr>
              <a:t>BIBLICAL  TRU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2514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251460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98108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505320" y="1973160"/>
            <a:ext cx="5638680" cy="36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Believers Only Indwelt by the Holy Spirit  - 1 Cor 2: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1 Cor 6:19,20; 1 Jn 3;24; 4: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Satan Cannot “Touch” (“Harm”, “Cling to”- Indwel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Believers                                                               - 1 Jn 5: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Satan Couldn’t Cause Christ to Sin              - Mt 4:1-1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refore Satan Can’t Cause Those “In Christ” to S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Our Sin Nature is the Source of  Sin      -  Rom 6:12,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Satan Can Only Tempt (Solicit One to Sin) 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e.g.  Christ ( Mt 4: 3) - Believers (1 Cor 7:5; 1 Thes 3: 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Believers Are Warned Not to Speak Against Sat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or His Demons                               -  2 Pet 2:10; Jude 1: 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24280" y="646920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96080" y="6553080"/>
            <a:ext cx="99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22 DEC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743200" y="380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600200" y="3808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SATAN :  HIS  WORK  &amp;  DESTI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orm"/>
          <p:cNvSpPr/>
          <p:nvPr/>
        </p:nvSpPr>
        <p:spPr>
          <a:xfrm>
            <a:off x="5867280" y="76320"/>
            <a:ext cx="3124440" cy="160020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553080" y="228600"/>
            <a:ext cx="25909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Rounded MT Bold"/>
              </a:rPr>
              <a:t>THE TOP 10 L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FALSE CONCEP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ABOUT SATA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2280" y="198108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1676520"/>
            <a:ext cx="0" cy="48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429000" y="1676520"/>
            <a:ext cx="0" cy="48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973160"/>
            <a:ext cx="35053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3.     Satan Is to Be Rebuk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and Bound by Believ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2      Satan No Longer H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Access to Heav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1      Satan Is Not the Fa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of all unbelieve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67652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1" lang="en-US" sz="1600" spc="-1" strike="noStrike">
                <a:solidFill>
                  <a:srgbClr val="3333cc"/>
                </a:solidFill>
                <a:latin typeface="Arial Rounded MT Bold"/>
              </a:rPr>
              <a:t>NO.</a:t>
            </a:r>
            <a:r>
              <a:rPr b="1" lang="en-US" sz="1600" spc="-1" strike="noStrike">
                <a:solidFill>
                  <a:srgbClr val="3333cc"/>
                </a:solidFill>
                <a:latin typeface="Arial Rounded MT Bold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Arial Rounded MT Bold"/>
              </a:rPr>
              <a:t>      FALSE  CONCEPT  </a:t>
            </a:r>
            <a:r>
              <a:rPr b="1" lang="en-US" sz="1600" spc="-1" strike="noStrike">
                <a:solidFill>
                  <a:srgbClr val="3333cc"/>
                </a:solidFill>
                <a:latin typeface="Arial Rounded MT Bold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Arial Rounded MT Bold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Arial Rounded MT Bold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Arial Rounded MT Bold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Arial Rounded MT Bold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Arial Rounded MT Bold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Arial Rounded MT Bold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Arial Rounded MT Bold"/>
              </a:rPr>
              <a:t>BIBLICAL  TRU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514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251460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981080"/>
            <a:ext cx="3352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05320" y="1973160"/>
            <a:ext cx="5638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05320" y="1973160"/>
            <a:ext cx="563868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Believers Are Never Commanded to Do Ei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Misinterpretation of Following Passag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28600" indent="-11412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itus 2:15, “Rebuke”- Not Satan, but anything n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28600" indent="-114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of Chris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28600" indent="-11412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Mt 18: 18, “Bind”- Not Satan, but Church Discip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28600" indent="-114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8600" indent="-114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8600" indent="-114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Satan Has Been Judged at the Cro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But His sentence Has Not Been Fully Execu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e Still Has Access to  3rd Heaven-Job1:6; Rev 12: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e Will Lose His Access In Middle of Trib.- Rev 12:7-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Satan Is Categorically the Spiritual Father of Eve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Person Not Trusting Christ              - Jn 8: 44; 1 Jn 3: 8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is Doom Is Their Doom - Mt 25: 41; Rev 20:10, 11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-1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95680" y="654516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543800" y="655308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22 DEC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1676520" y="1219320"/>
          <a:ext cx="5790960" cy="533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219320"/>
                    <a:ext cx="5790960" cy="53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1981080" y="533520"/>
            <a:ext cx="5410440" cy="6858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3399"/>
              </a:gs>
              <a:gs pos="50000">
                <a:srgbClr val="ffffff"/>
              </a:gs>
              <a:gs pos="100000">
                <a:srgbClr val="ff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438280" y="685800"/>
            <a:ext cx="49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DOES  SATAN  LOOK  LIKE  THIS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19720" y="65214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543800" y="654516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22 DEC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1295280" y="990720"/>
          <a:ext cx="3980160" cy="556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990720"/>
                    <a:ext cx="3980160" cy="55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1981080" y="533520"/>
            <a:ext cx="5410440" cy="6858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3399"/>
              </a:gs>
              <a:gs pos="50000">
                <a:srgbClr val="ffffff"/>
              </a:gs>
              <a:gs pos="100000">
                <a:srgbClr val="ff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OR  DOES   SATAN  LOOKS  LIKE  THIS 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43400" y="1371600"/>
            <a:ext cx="4800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Question:  Does  He  Look  Like  The  M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Beautiful  Angel  Ever  Created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0" y="5486400"/>
            <a:ext cx="4572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Note: Rev 12: 3 “..sign in heaven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“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sign” = That which distinguishes a per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“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red” =  pictures his bloodthirsty charac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“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dragon” =  pictures his intense cruel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652140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772400" y="6545160"/>
            <a:ext cx="1219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22 DEC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0T19:41:24Z</dcterms:created>
  <dc:creator>Hal Molloy</dc:creator>
  <dc:description/>
  <dc:language>en-US</dc:language>
  <cp:lastModifiedBy>Hal Molloy</cp:lastModifiedBy>
  <dcterms:modified xsi:type="dcterms:W3CDTF">2003-11-15T23:04:51Z</dcterms:modified>
  <cp:revision>34</cp:revision>
  <dc:subject/>
  <dc:title>PowerPoint Presentation</dc:title>
</cp:coreProperties>
</file>