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54880" y="6405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066680" y="5486400"/>
            <a:ext cx="495324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43000" y="1295280"/>
            <a:ext cx="6780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514600" cy="554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 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38088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 Church:  Her  Service  and  Stewar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64008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3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6545160"/>
            <a:ext cx="609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45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90720" y="685800"/>
            <a:ext cx="7238880" cy="609480"/>
            <a:chOff x="990720" y="685800"/>
            <a:chExt cx="7238880" cy="609480"/>
          </a:xfrm>
        </p:grpSpPr>
        <p:sp>
          <p:nvSpPr>
            <p:cNvPr id="49" name=""/>
            <p:cNvSpPr/>
            <p:nvPr/>
          </p:nvSpPr>
          <p:spPr>
            <a:xfrm>
              <a:off x="990720" y="685800"/>
              <a:ext cx="723888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33cc"/>
                </a:gs>
                <a:gs pos="50000">
                  <a:srgbClr val="ffffff"/>
                </a:gs>
                <a:gs pos="100000">
                  <a:srgbClr val="ff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762120"/>
              <a:ext cx="58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The  Church:  Her  Service  and  Steward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124080" y="2057400"/>
            <a:ext cx="5562720" cy="1295280"/>
          </a:xfrm>
          <a:prstGeom prst="wedgeRoundRectCallout">
            <a:avLst>
              <a:gd name="adj1" fmla="val -60388"/>
              <a:gd name="adj2" fmla="val -50490"/>
              <a:gd name="adj3" fmla="val 16667"/>
            </a:avLst>
          </a:prstGeom>
          <a:gradFill rotWithShape="0">
            <a:gsLst>
              <a:gs pos="0">
                <a:srgbClr val="99ccff"/>
              </a:gs>
              <a:gs pos="50000">
                <a:srgbClr val="ffff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828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QUES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2860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ow  Do  You  Glorify  God  By  Y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rvice  &amp;  Stewardship 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8600" y="3429000"/>
            <a:ext cx="2438280" cy="1295280"/>
            <a:chOff x="228600" y="3429000"/>
            <a:chExt cx="2438280" cy="1295280"/>
          </a:xfrm>
        </p:grpSpPr>
        <p:sp>
          <p:nvSpPr>
            <p:cNvPr id="55" name=""/>
            <p:cNvSpPr/>
            <p:nvPr/>
          </p:nvSpPr>
          <p:spPr>
            <a:xfrm>
              <a:off x="228600" y="3429000"/>
              <a:ext cx="2438280" cy="1295280"/>
            </a:xfrm>
            <a:prstGeom prst="wedgeEllipseCallout">
              <a:avLst>
                <a:gd name="adj1" fmla="val 67189"/>
                <a:gd name="adj2" fmla="val -64703"/>
              </a:avLst>
            </a:prstGeom>
            <a:gradFill rotWithShape="0">
              <a:gsLst>
                <a:gs pos="0">
                  <a:srgbClr val="ff99ff"/>
                </a:gs>
                <a:gs pos="50000">
                  <a:srgbClr val="fef1fe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" y="372600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What  Should  Yo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Present  To  God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828800" y="4724280"/>
            <a:ext cx="2819520" cy="1295640"/>
            <a:chOff x="1828800" y="4724280"/>
            <a:chExt cx="2819520" cy="1295640"/>
          </a:xfrm>
        </p:grpSpPr>
        <p:sp>
          <p:nvSpPr>
            <p:cNvPr id="58" name=""/>
            <p:cNvSpPr/>
            <p:nvPr/>
          </p:nvSpPr>
          <p:spPr>
            <a:xfrm>
              <a:off x="1828800" y="4724280"/>
              <a:ext cx="2819520" cy="1295640"/>
            </a:xfrm>
            <a:prstGeom prst="wedgeEllipseCallout">
              <a:avLst>
                <a:gd name="adj1" fmla="val 39638"/>
                <a:gd name="adj2" fmla="val -149263"/>
              </a:avLst>
            </a:prstGeom>
            <a:gradFill rotWithShape="0">
              <a:gsLst>
                <a:gs pos="0">
                  <a:srgbClr val="ff99ff"/>
                </a:gs>
                <a:gs pos="50000">
                  <a:srgbClr val="fef8fe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1080" y="5029200"/>
              <a:ext cx="259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What  Is  The  Purpo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Of  Your  Spiritual  Gift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800600" y="5410080"/>
            <a:ext cx="2590920" cy="1295640"/>
            <a:chOff x="4800600" y="5410080"/>
            <a:chExt cx="2590920" cy="1295640"/>
          </a:xfrm>
        </p:grpSpPr>
        <p:sp>
          <p:nvSpPr>
            <p:cNvPr id="61" name=""/>
            <p:cNvSpPr/>
            <p:nvPr/>
          </p:nvSpPr>
          <p:spPr>
            <a:xfrm>
              <a:off x="4800600" y="5410080"/>
              <a:ext cx="2590920" cy="1295640"/>
            </a:xfrm>
            <a:prstGeom prst="wedgeEllipseCallout">
              <a:avLst>
                <a:gd name="adj1" fmla="val -18564"/>
                <a:gd name="adj2" fmla="val -209189"/>
              </a:avLst>
            </a:prstGeom>
            <a:gradFill rotWithShape="0">
              <a:gsLst>
                <a:gs pos="0">
                  <a:srgbClr val="feebfe"/>
                </a:gs>
                <a:gs pos="50000">
                  <a:srgbClr val="ff99ff"/>
                </a:gs>
                <a:gs pos="100000">
                  <a:srgbClr val="feeb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05520" y="5943600"/>
              <a:ext cx="213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Does  Faith  Rest 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Good  Works  Mix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324480" y="3886200"/>
            <a:ext cx="2590920" cy="1295280"/>
            <a:chOff x="6324480" y="3886200"/>
            <a:chExt cx="2590920" cy="1295280"/>
          </a:xfrm>
        </p:grpSpPr>
        <p:sp>
          <p:nvSpPr>
            <p:cNvPr id="64" name=""/>
            <p:cNvSpPr/>
            <p:nvPr/>
          </p:nvSpPr>
          <p:spPr>
            <a:xfrm>
              <a:off x="6324480" y="3886200"/>
              <a:ext cx="2590920" cy="1295280"/>
            </a:xfrm>
            <a:prstGeom prst="wedgeEllipseCallout">
              <a:avLst>
                <a:gd name="adj1" fmla="val -40810"/>
                <a:gd name="adj2" fmla="val -92648"/>
              </a:avLst>
            </a:prstGeom>
            <a:gradFill rotWithShape="0">
              <a:gsLst>
                <a:gs pos="0">
                  <a:srgbClr val="ff99ff"/>
                </a:gs>
                <a:gs pos="50000">
                  <a:srgbClr val="fef8fe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7120" y="4114800"/>
              <a:ext cx="243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How  Much  Shou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You  Give  Financially ?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905120" y="640080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3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6392880"/>
            <a:ext cx="457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646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049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 Church:  Her  Service  and  Stewar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90720" y="685800"/>
            <a:ext cx="7467120" cy="609480"/>
            <a:chOff x="990720" y="685800"/>
            <a:chExt cx="7467120" cy="609480"/>
          </a:xfrm>
        </p:grpSpPr>
        <p:sp>
          <p:nvSpPr>
            <p:cNvPr id="72" name=""/>
            <p:cNvSpPr/>
            <p:nvPr/>
          </p:nvSpPr>
          <p:spPr>
            <a:xfrm>
              <a:off x="990720" y="685800"/>
              <a:ext cx="746712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33cc"/>
                </a:gs>
                <a:gs pos="50000">
                  <a:srgbClr val="ffffff"/>
                </a:gs>
                <a:gs pos="100000">
                  <a:srgbClr val="ff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45880" y="762120"/>
              <a:ext cx="731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GLORIFYING  GOD:  BY  EACH  MEMBER  OF  CHRIST’S  BODY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0" y="1371600"/>
            <a:ext cx="91440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(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Prerequisit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:   You are walking by faith          -  Col 2:6,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are abiding in Christ        -  Jn 15:5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1. By presenting to H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rself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-  Rom 6:11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r body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-  Rom 12:1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r sacrifice of praise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-  Heb 13:15,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r sacrifice of good works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-  Heb 13: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2. By the Holy Spirit ministering His spiritual gift thru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has given you at least one spiritual gift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-  1 Cor 12:1,4,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r spiritual gift is for the edification of the bod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-  Eph 4: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( See additional notes on following pag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3. By God performing good works thru you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 Eph 2: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 has predetermined His plan of good works  You are His         -  Phil 1:6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orkmanship (product, vessel) for His good 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’s desire is that His good works be part of  your lif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4. By your financial giving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(See separate detailed no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1981080"/>
            <a:ext cx="1752480" cy="762120"/>
          </a:xfrm>
          <a:prstGeom prst="wedgeEllipseCallout">
            <a:avLst>
              <a:gd name="adj1" fmla="val -118296"/>
              <a:gd name="adj2" fmla="val -16875"/>
            </a:avLst>
          </a:prstGeom>
          <a:gradFill rotWithShape="0">
            <a:gsLst>
              <a:gs pos="0">
                <a:srgbClr val="ff99ff"/>
              </a:gs>
              <a:gs pos="50000">
                <a:srgbClr val="fef1fe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1337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What  Should 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Present  To  God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800600" y="2971800"/>
            <a:ext cx="2743200" cy="609480"/>
            <a:chOff x="4800600" y="2971800"/>
            <a:chExt cx="2743200" cy="609480"/>
          </a:xfrm>
        </p:grpSpPr>
        <p:sp>
          <p:nvSpPr>
            <p:cNvPr id="78" name=""/>
            <p:cNvSpPr/>
            <p:nvPr/>
          </p:nvSpPr>
          <p:spPr>
            <a:xfrm>
              <a:off x="4800600" y="2971800"/>
              <a:ext cx="2209680" cy="609480"/>
            </a:xfrm>
            <a:prstGeom prst="wedgeEllipseCallout">
              <a:avLst>
                <a:gd name="adj1" fmla="val -66305"/>
                <a:gd name="adj2" fmla="val 58856"/>
              </a:avLst>
            </a:prstGeom>
            <a:gradFill rotWithShape="0">
              <a:gsLst>
                <a:gs pos="0">
                  <a:srgbClr val="ff99ff"/>
                </a:gs>
                <a:gs pos="50000">
                  <a:srgbClr val="fef8fe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52880" y="3048120"/>
              <a:ext cx="259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What  Is  The  Purp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Of  Your  Spiritual  Gift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867280" y="4495680"/>
            <a:ext cx="2057400" cy="533520"/>
          </a:xfrm>
          <a:prstGeom prst="wedgeEllipseCallout">
            <a:avLst>
              <a:gd name="adj1" fmla="val -96837"/>
              <a:gd name="adj2" fmla="val 41069"/>
            </a:avLst>
          </a:prstGeom>
          <a:gradFill rotWithShape="0">
            <a:gsLst>
              <a:gs pos="0">
                <a:srgbClr val="feebfe"/>
              </a:gs>
              <a:gs pos="50000">
                <a:srgbClr val="ff99ff"/>
              </a:gs>
              <a:gs pos="100000">
                <a:srgbClr val="feeb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457200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oes  Faith  Rest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Good  Works  Mix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5791320"/>
            <a:ext cx="2057400" cy="685800"/>
          </a:xfrm>
          <a:prstGeom prst="wedgeEllipseCallout">
            <a:avLst>
              <a:gd name="adj1" fmla="val -75078"/>
              <a:gd name="adj2" fmla="val 1388"/>
            </a:avLst>
          </a:prstGeom>
          <a:gradFill rotWithShape="0">
            <a:gsLst>
              <a:gs pos="0">
                <a:srgbClr val="ff99ff"/>
              </a:gs>
              <a:gs pos="50000">
                <a:srgbClr val="fef8fe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5867280"/>
            <a:ext cx="19051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How  Much  Sh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You  Give  Financially ?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64008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3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6545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685800"/>
            <a:ext cx="739116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3049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 Church:  Her  Service  and  Stewar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4792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[2. By the Holy Spirit ministering His spiritual gift thru you (cont’d) - Eph 4: 11-1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Spiritual Gifts are Identified With Individual Men: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-  4: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postles &amp; prophets  =  foundational gifts (termina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vangelists, pastors &amp; teachers  =  functional gif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Purpose of Spiritual Gifts: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 -  4: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the perfecting (equipping) of the s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the work of the min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the edifying (spiritual growth) of the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The Goal of Spiritual Gifts: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-  4: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t we all come in the unity of the 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faith” = the body of truth in Scri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ll truth (doctrine) has its focus on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t you come to the knowledge (intimacy) of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t you be perfect (complete, ma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measure (or standard) is the fullness of Christ (all that He i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8380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LORIFYING  GOD:  BY  EACH  MEMBER  OF  CHRIST’S 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2895480"/>
            <a:ext cx="2209680" cy="609840"/>
          </a:xfrm>
          <a:prstGeom prst="wedgeEllipseCallout">
            <a:avLst>
              <a:gd name="adj1" fmla="val -110921"/>
              <a:gd name="adj2" fmla="val -782"/>
            </a:avLst>
          </a:prstGeom>
          <a:gradFill rotWithShape="0">
            <a:gsLst>
              <a:gs pos="0">
                <a:srgbClr val="ff99ff"/>
              </a:gs>
              <a:gs pos="50000">
                <a:srgbClr val="fef8fe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29718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What  Is  The 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Of  Your  Spiritual  Gif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64008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3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6521400"/>
            <a:ext cx="381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6469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685800"/>
            <a:ext cx="723924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3049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 Church:  Her  Service  and  Stewar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00200"/>
            <a:ext cx="9144000" cy="36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[2. By the Holy Spirit ministering His spiritual gift thru you (cont’d) -Eph 4: 11-1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The Results Spiritual Gifts Being Ministered: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                                     -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4:14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Stability of m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t influenced by false doct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t deceived by the trickery of men to misl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Spiritual 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nsidering all the details of life instrumental in your 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unity &amp; spiritual growth of the body requires you funct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ovingly expressing truth in your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The result is a mature body building itself up in lov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8380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LORIFYING  GOD:  BY  EACH  MEMBER  OF  CHRIST’S 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640080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3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6392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cp:lastPrinted>2002-11-01T02:40:37Z</cp:lastPrinted>
  <dcterms:modified xsi:type="dcterms:W3CDTF">2003-11-15T23:24:34Z</dcterms:modified>
  <cp:revision>40</cp:revision>
  <dc:subject/>
  <dc:title>PowerPoint Presentation</dc:title>
</cp:coreProperties>
</file>