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066680" y="914400"/>
            <a:ext cx="5399280" cy="81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09520" y="875664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rcRect l="0" t="0" r="0" b="9993"/>
          <a:stretch/>
        </p:blipFill>
        <p:spPr>
          <a:xfrm>
            <a:off x="152280" y="152280"/>
            <a:ext cx="990720" cy="8384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283840" y="22860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771560" y="406440"/>
            <a:ext cx="3372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28600" y="5335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77880"/>
            <a:ext cx="624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77880"/>
            <a:ext cx="6324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09760" y="762120"/>
          <a:ext cx="6024240" cy="739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762120"/>
                    <a:ext cx="6024240" cy="73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181480" y="875520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1 JULY 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71560" y="406440"/>
            <a:ext cx="3372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677880"/>
            <a:ext cx="6324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754200"/>
            <a:ext cx="624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28600" y="762120"/>
          <a:ext cx="6410160" cy="70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641016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5334120" y="875520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1 JULY 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71560" y="406440"/>
            <a:ext cx="3372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609480"/>
            <a:ext cx="6324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-33480" y="685800"/>
          <a:ext cx="6850080" cy="769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3480" y="685800"/>
                    <a:ext cx="6850080" cy="769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486400" y="876312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1 JULY 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9:41:24Z</dcterms:created>
  <dc:creator>Hal Molloy</dc:creator>
  <dc:description/>
  <dc:language>en-US</dc:language>
  <cp:lastModifiedBy>Hal Molloy</cp:lastModifiedBy>
  <dcterms:modified xsi:type="dcterms:W3CDTF">2003-11-15T22:21:50Z</dcterms:modified>
  <cp:revision>28</cp:revision>
  <dc:subject/>
  <dc:title>PowerPoint Presentation</dc:title>
</cp:coreProperties>
</file>