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54880" y="6405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47920" y="5486400"/>
            <a:ext cx="548640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8800" y="129528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I.  The Bible: The Word of God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 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66438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1752480"/>
            <a:ext cx="2895480" cy="276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57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    HIS  PERS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9320" y="3808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457200"/>
            <a:ext cx="426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4572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: HIS  MINISTRIES  TO  THE  CHUR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Rounded MT Bold"/>
              </a:rPr>
              <a:t>HIS 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COMPLETED</a:t>
            </a:r>
            <a:r>
              <a:rPr b="1" lang="en-US" sz="2000" spc="-1" strike="noStrike">
                <a:solidFill>
                  <a:srgbClr val="3333cc"/>
                </a:solidFill>
                <a:latin typeface="Arial Rounded MT Bold"/>
              </a:rPr>
              <a:t>  MINISTRIES :  VITAL  TRUTHS  ABOUT 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040" y="2095560"/>
            <a:ext cx="863604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.  HIS  COMPLETED  MINISTRIES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TO  YOU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ARE  NOT  REPEAT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.  THEY  ARE  NOT  RETRAC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.  THEY  ARE  E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4.  THEY  ARE  IMMUTIBLE (UNCHANGE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5.  THEY  DO  NOT  DEPEND  ON  YOUR  MERIT  OR  FAITHFUL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6.  THEY DEPEND ON THE EFFICACY OF THE FINISHED WORK OF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7.  THEY  ARE  YOUR  PERMANENT  POSITION  IN  THE  RISEN  LOR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6545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6629400" y="1447920"/>
            <a:ext cx="2666880" cy="3962160"/>
            <a:chOff x="6629400" y="1447920"/>
            <a:chExt cx="2666880" cy="3962160"/>
          </a:xfrm>
        </p:grpSpPr>
        <p:sp>
          <p:nvSpPr>
            <p:cNvPr id="47" name=""/>
            <p:cNvSpPr/>
            <p:nvPr/>
          </p:nvSpPr>
          <p:spPr>
            <a:xfrm>
              <a:off x="8534520" y="3581280"/>
              <a:ext cx="0" cy="1828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7848720" y="2895120"/>
              <a:ext cx="0" cy="25146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29400" y="1447920"/>
              <a:ext cx="2514600" cy="1523880"/>
            </a:xfrm>
            <a:custGeom>
              <a:avLst/>
              <a:gdLst>
                <a:gd name="textAreaLeft" fmla="*/ 672120 w 2514600"/>
                <a:gd name="textAreaRight" fmla="*/ 1842480 w 2514600"/>
                <a:gd name="textAreaTop" fmla="*/ 407160 h 1523880"/>
                <a:gd name="textAreaBottom" fmla="*/ 111672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824" y="12156"/>
                  </a:lnTo>
                  <a:lnTo>
                    <a:pt x="786" y="14846"/>
                  </a:lnTo>
                  <a:lnTo>
                    <a:pt x="4840" y="14671"/>
                  </a:lnTo>
                  <a:lnTo>
                    <a:pt x="3163" y="18437"/>
                  </a:lnTo>
                  <a:lnTo>
                    <a:pt x="6826" y="16692"/>
                  </a:lnTo>
                  <a:lnTo>
                    <a:pt x="6580" y="20741"/>
                  </a:lnTo>
                  <a:lnTo>
                    <a:pt x="9322" y="17752"/>
                  </a:lnTo>
                  <a:lnTo>
                    <a:pt x="10800" y="21600"/>
                  </a:lnTo>
                  <a:lnTo>
                    <a:pt x="12156" y="17776"/>
                  </a:lnTo>
                  <a:lnTo>
                    <a:pt x="14846" y="20814"/>
                  </a:lnTo>
                  <a:lnTo>
                    <a:pt x="14671" y="16760"/>
                  </a:lnTo>
                  <a:lnTo>
                    <a:pt x="18437" y="18437"/>
                  </a:lnTo>
                  <a:lnTo>
                    <a:pt x="16692" y="14774"/>
                  </a:lnTo>
                  <a:lnTo>
                    <a:pt x="20741" y="15020"/>
                  </a:lnTo>
                  <a:lnTo>
                    <a:pt x="17752" y="12278"/>
                  </a:lnTo>
                  <a:lnTo>
                    <a:pt x="21600" y="10800"/>
                  </a:lnTo>
                  <a:lnTo>
                    <a:pt x="17776" y="9444"/>
                  </a:lnTo>
                  <a:lnTo>
                    <a:pt x="20814" y="6754"/>
                  </a:lnTo>
                  <a:lnTo>
                    <a:pt x="16760" y="6929"/>
                  </a:lnTo>
                  <a:lnTo>
                    <a:pt x="18437" y="3163"/>
                  </a:lnTo>
                  <a:lnTo>
                    <a:pt x="14774" y="4908"/>
                  </a:lnTo>
                  <a:lnTo>
                    <a:pt x="15020" y="859"/>
                  </a:lnTo>
                  <a:lnTo>
                    <a:pt x="12278" y="3848"/>
                  </a:lnTo>
                  <a:lnTo>
                    <a:pt x="10800" y="0"/>
                  </a:lnTo>
                  <a:lnTo>
                    <a:pt x="9444" y="3824"/>
                  </a:lnTo>
                  <a:lnTo>
                    <a:pt x="6754" y="786"/>
                  </a:lnTo>
                  <a:lnTo>
                    <a:pt x="6929" y="4840"/>
                  </a:lnTo>
                  <a:lnTo>
                    <a:pt x="3163" y="3163"/>
                  </a:lnTo>
                  <a:lnTo>
                    <a:pt x="4908" y="6826"/>
                  </a:lnTo>
                  <a:lnTo>
                    <a:pt x="859" y="6580"/>
                  </a:lnTo>
                  <a:lnTo>
                    <a:pt x="3848" y="932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66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48720" y="50212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TR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534520" y="5029200"/>
              <a:ext cx="76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K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  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5486400"/>
            <a:ext cx="2743200" cy="3049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50000">
                <a:srgbClr val="ffccff"/>
              </a:gs>
              <a:gs pos="100000">
                <a:srgbClr val="75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5410080"/>
            <a:ext cx="80010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1523880"/>
            <a:ext cx="2590560" cy="1524240"/>
          </a:xfrm>
          <a:custGeom>
            <a:avLst/>
            <a:gdLst>
              <a:gd name="textAreaLeft" fmla="*/ 692640 w 2590560"/>
              <a:gd name="textAreaRight" fmla="*/ 1897920 w 2590560"/>
              <a:gd name="textAreaTop" fmla="*/ 407520 h 1524240"/>
              <a:gd name="textAreaBottom" fmla="*/ 111672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824" y="12156"/>
                </a:lnTo>
                <a:lnTo>
                  <a:pt x="786" y="14846"/>
                </a:lnTo>
                <a:lnTo>
                  <a:pt x="4840" y="14671"/>
                </a:lnTo>
                <a:lnTo>
                  <a:pt x="3163" y="18437"/>
                </a:lnTo>
                <a:lnTo>
                  <a:pt x="6826" y="16692"/>
                </a:lnTo>
                <a:lnTo>
                  <a:pt x="6580" y="20741"/>
                </a:lnTo>
                <a:lnTo>
                  <a:pt x="9322" y="17752"/>
                </a:lnTo>
                <a:lnTo>
                  <a:pt x="10800" y="21600"/>
                </a:lnTo>
                <a:lnTo>
                  <a:pt x="12156" y="17776"/>
                </a:lnTo>
                <a:lnTo>
                  <a:pt x="14846" y="20814"/>
                </a:lnTo>
                <a:lnTo>
                  <a:pt x="14671" y="16760"/>
                </a:lnTo>
                <a:lnTo>
                  <a:pt x="18437" y="18437"/>
                </a:lnTo>
                <a:lnTo>
                  <a:pt x="16692" y="14774"/>
                </a:lnTo>
                <a:lnTo>
                  <a:pt x="20741" y="15020"/>
                </a:lnTo>
                <a:lnTo>
                  <a:pt x="17752" y="12278"/>
                </a:lnTo>
                <a:lnTo>
                  <a:pt x="21600" y="10800"/>
                </a:lnTo>
                <a:lnTo>
                  <a:pt x="17776" y="9444"/>
                </a:lnTo>
                <a:lnTo>
                  <a:pt x="20814" y="6754"/>
                </a:lnTo>
                <a:lnTo>
                  <a:pt x="16760" y="6929"/>
                </a:lnTo>
                <a:lnTo>
                  <a:pt x="18437" y="3163"/>
                </a:lnTo>
                <a:lnTo>
                  <a:pt x="14774" y="4908"/>
                </a:lnTo>
                <a:lnTo>
                  <a:pt x="15020" y="859"/>
                </a:lnTo>
                <a:lnTo>
                  <a:pt x="12278" y="3848"/>
                </a:lnTo>
                <a:lnTo>
                  <a:pt x="10800" y="0"/>
                </a:lnTo>
                <a:lnTo>
                  <a:pt x="9444" y="3824"/>
                </a:lnTo>
                <a:lnTo>
                  <a:pt x="6754" y="786"/>
                </a:lnTo>
                <a:lnTo>
                  <a:pt x="6929" y="4840"/>
                </a:lnTo>
                <a:lnTo>
                  <a:pt x="3163" y="3163"/>
                </a:lnTo>
                <a:lnTo>
                  <a:pt x="4908" y="6826"/>
                </a:lnTo>
                <a:lnTo>
                  <a:pt x="859" y="6580"/>
                </a:lnTo>
                <a:lnTo>
                  <a:pt x="3848" y="932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ffff66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2971800"/>
            <a:ext cx="0" cy="24382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5486400"/>
            <a:ext cx="3962520" cy="304920"/>
          </a:xfrm>
          <a:prstGeom prst="rect">
            <a:avLst/>
          </a:prstGeom>
          <a:gradFill rotWithShape="0">
            <a:gsLst>
              <a:gs pos="0">
                <a:srgbClr val="2f755e"/>
              </a:gs>
              <a:gs pos="50000">
                <a:srgbClr val="66ffcc"/>
              </a:gs>
              <a:gs pos="100000">
                <a:srgbClr val="2f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514600" y="3505320"/>
            <a:ext cx="1371600" cy="2286000"/>
            <a:chOff x="2514600" y="3505320"/>
            <a:chExt cx="1371600" cy="2286000"/>
          </a:xfrm>
        </p:grpSpPr>
        <p:grpSp>
          <p:nvGrpSpPr>
            <p:cNvPr id="60" name=""/>
            <p:cNvGrpSpPr/>
            <p:nvPr/>
          </p:nvGrpSpPr>
          <p:grpSpPr>
            <a:xfrm>
              <a:off x="2819520" y="3505320"/>
              <a:ext cx="1066680" cy="2286000"/>
              <a:chOff x="2819520" y="3505320"/>
              <a:chExt cx="1066680" cy="228600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2819520" y="3657600"/>
                <a:ext cx="1066680" cy="1676520"/>
                <a:chOff x="2819520" y="3657600"/>
                <a:chExt cx="1066680" cy="16765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3276720" y="3657600"/>
                  <a:ext cx="152280" cy="1676520"/>
                </a:xfrm>
                <a:custGeom>
                  <a:avLst/>
                  <a:gdLst>
                    <a:gd name="textAreaLeft" fmla="*/ 33480 w 152280"/>
                    <a:gd name="textAreaRight" fmla="*/ 118800 w 152280"/>
                    <a:gd name="textAreaTop" fmla="*/ 368640 h 1676520"/>
                    <a:gd name="textAreaBottom" fmla="*/ 1307880 h 1676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50000">
                      <a:srgbClr val="cc9900"/>
                    </a:gs>
                    <a:gs pos="100000">
                      <a:srgbClr val="99663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819520" y="3962520"/>
                  <a:ext cx="1066680" cy="76320"/>
                </a:xfrm>
                <a:custGeom>
                  <a:avLst/>
                  <a:gdLst>
                    <a:gd name="textAreaLeft" fmla="*/ 234360 w 1066680"/>
                    <a:gd name="textAreaRight" fmla="*/ 832320 w 1066680"/>
                    <a:gd name="textAreaTop" fmla="*/ 16560 h 76320"/>
                    <a:gd name="textAreaBottom" fmla="*/ 59760 h 76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50000">
                      <a:srgbClr val="cc9900"/>
                    </a:gs>
                    <a:gs pos="100000">
                      <a:srgbClr val="99663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3353040" y="5410440"/>
                <a:ext cx="152280" cy="3808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3505320" y="3505320"/>
                <a:ext cx="76320" cy="22096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514600" y="4952880"/>
              <a:ext cx="83844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4191120"/>
            <a:ext cx="1143000" cy="3808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cc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019920"/>
            <a:ext cx="990720" cy="38088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ccff66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11430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 WORK  &amp;  MINISTRY  OF  THE  HOLY  SPI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218960" y="129528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1295280"/>
            <a:ext cx="6094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1911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PRE-EXIST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33520" y="1676520"/>
            <a:ext cx="1523880" cy="609480"/>
            <a:chOff x="533520" y="1676520"/>
            <a:chExt cx="1523880" cy="609480"/>
          </a:xfrm>
        </p:grpSpPr>
        <p:sp>
          <p:nvSpPr>
            <p:cNvPr id="77" name=""/>
            <p:cNvSpPr/>
            <p:nvPr/>
          </p:nvSpPr>
          <p:spPr>
            <a:xfrm>
              <a:off x="533520" y="167652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50000">
                  <a:srgbClr val="ffffcc"/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9480" y="17524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HIS  DEITY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PERSONHO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200400" y="2133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HIS  CO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2057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HIS  DEPA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49528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IN  LIF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OF  CHR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267080" y="3429000"/>
            <a:ext cx="1447920" cy="1905120"/>
            <a:chOff x="4267080" y="3429000"/>
            <a:chExt cx="1447920" cy="1905120"/>
          </a:xfrm>
        </p:grpSpPr>
        <p:pic>
          <p:nvPicPr>
            <p:cNvPr id="83" name="Man&amp;Woman" descr=""/>
            <p:cNvPicPr/>
            <p:nvPr/>
          </p:nvPicPr>
          <p:blipFill>
            <a:blip r:embed="rId1"/>
            <a:stretch/>
          </p:blipFill>
          <p:spPr>
            <a:xfrm>
              <a:off x="4495680" y="3962520"/>
              <a:ext cx="7095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267080" y="3429000"/>
              <a:ext cx="1371600" cy="4572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50000">
                  <a:srgbClr val="ffffcc"/>
                </a:gs>
                <a:gs pos="100000">
                  <a:srgbClr val="ff99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43400" y="34290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UNBELIE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248520" y="3429000"/>
            <a:ext cx="1295280" cy="1905120"/>
            <a:chOff x="6248520" y="3429000"/>
            <a:chExt cx="1295280" cy="1905120"/>
          </a:xfrm>
        </p:grpSpPr>
        <p:sp>
          <p:nvSpPr>
            <p:cNvPr id="87" name=""/>
            <p:cNvSpPr/>
            <p:nvPr/>
          </p:nvSpPr>
          <p:spPr>
            <a:xfrm>
              <a:off x="6248520" y="3429000"/>
              <a:ext cx="129528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fffcc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Man&amp;Woman" descr=""/>
            <p:cNvPicPr/>
            <p:nvPr/>
          </p:nvPicPr>
          <p:blipFill>
            <a:blip r:embed="rId2">
              <a:lum contrast="24000"/>
            </a:blip>
            <a:stretch/>
          </p:blipFill>
          <p:spPr>
            <a:xfrm>
              <a:off x="6553080" y="3962520"/>
              <a:ext cx="7092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400800" y="3429000"/>
              <a:ext cx="106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BELIE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447920" y="54864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IN  OLD  TEST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5486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IN  THE  CHU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199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IN 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3124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RAP  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24680" y="57913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AY 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  L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39080" y="5943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84836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96080" y="64771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0481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PENTE 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65530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143000" y="457200"/>
            <a:ext cx="7467480" cy="380880"/>
            <a:chOff x="1143000" y="457200"/>
            <a:chExt cx="7467480" cy="380880"/>
          </a:xfrm>
        </p:grpSpPr>
        <p:sp>
          <p:nvSpPr>
            <p:cNvPr id="102" name=""/>
            <p:cNvSpPr/>
            <p:nvPr/>
          </p:nvSpPr>
          <p:spPr>
            <a:xfrm>
              <a:off x="4038480" y="457200"/>
              <a:ext cx="4267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457200"/>
              <a:ext cx="746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GOD THE  HOLY  SPIRIT: HIS  MINISTRIES  TO  THE  CHUR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0" y="1523880"/>
            <a:ext cx="91440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A.  HIS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COMPLETED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 MINISTRIES :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ff0066"/>
                </a:solidFill>
                <a:latin typeface="Arial Rounded MT Bold"/>
              </a:rPr>
              <a:t>(YOUR  INCREDIBLE  POSITION  IN  CHR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        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HE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SHARED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 CHRIST’S  GLORY  WITH 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B.  HIS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CONTINUING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 MINISTRIES :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ff0066"/>
                </a:solidFill>
                <a:latin typeface="Arial Rounded MT Bold"/>
              </a:rPr>
              <a:t>( IN  YOUR  WALK  BY  FAITH - CONDITIO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1.  HE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SHARES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 CHRIST’S  GLORY  WITH  YOU  &amp;  THROUGH  YOU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2.  HE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REVEALS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 CHRIST’S  GLORY  TO  YOU  &amp;  THROUGH 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3.  HE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GLORIFIES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THE FATHER &amp; SON IN YOU &amp; THROUGH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65530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6521400"/>
            <a:ext cx="30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62520" y="380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4572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HIS  MINISTRIES  TO  THE  CHUR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295280"/>
            <a:ext cx="914400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A.  HIS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COMPLETED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MINISTRIES :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( YOUR  INCREDIBLE  POSITION  IN  CHRIS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E SHARED CHRIST’S GLORY WITH YOU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-  2 THES 2:13-14;  JN 17: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CALLED  YOU ( TO SHARE IN CHRIST’S GLORY )      -  2 THES 2:13-14;  ROM 8: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CHOSE  YOU                                                                -  2 THES 2:13;  EPH 1:4; 1 PET 1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REGENERATED  YOU                                                                     -  JN 3:3-6;  TITUS 3:4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BAPTIZED  YOU                                                  -  ROM 6:1-10;  1 COR 12:13;  COL 2: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JUSTIFIED  YOU                                                                                                   -  1 COR 6: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SANCTIFIED  YOU                                               -  1 COR 6:11;  1 PET 1:2;  2 THES 2: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CO-ENLIFED  YOU                                    -  JN 6:63;  EPH 2:4-5;  ROM 8:9-11; COL 3: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FREED  YOU                                                                                              -  ROM 8:2; GAL 5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INDWELLS  YOU  FOREVER                  -  JN 14:16-17: ROM 8:9-11; 1COR 3:16; 6: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SEALED  YOU                                                           -  2 COR 1:22; 5:5; EPH 1:13-14; 4:30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72400" y="64771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5335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4572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: HIS  COMPLETED  MINISTRIES  TO  YO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80880" y="990720"/>
            <a:ext cx="8763120" cy="609480"/>
            <a:chOff x="380880" y="990720"/>
            <a:chExt cx="8763120" cy="609480"/>
          </a:xfrm>
        </p:grpSpPr>
        <p:sp>
          <p:nvSpPr>
            <p:cNvPr id="115" name=""/>
            <p:cNvSpPr/>
            <p:nvPr/>
          </p:nvSpPr>
          <p:spPr>
            <a:xfrm>
              <a:off x="380880" y="990720"/>
              <a:ext cx="8763120" cy="609480"/>
            </a:xfrm>
            <a:custGeom>
              <a:avLst/>
              <a:gdLst>
                <a:gd name="textAreaLeft" fmla="*/ 2000520 w 8763120"/>
                <a:gd name="textAreaRight" fmla="*/ 6762600 w 876312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ff99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1143000"/>
              <a:ext cx="464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HE  SHARED  CHRIST’S  GLORY  WITH  YO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0" y="1600200"/>
            <a:ext cx="914400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HE  CALLED  YOU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DEFINITIO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:  TO  CALL (KALE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 INV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 AP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GENERAL  CALL  OR  INVITATIO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: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-  MK 2:17; 1 COR 1:24-26; JN 3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 EVERY  PERSON ( UNBELIEVER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 INVITATION TO ETERNAL LIFE (HIS GL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ONLY ACCEPTABLE RESPONSE :  IS FAITH                  -  ACTS 16:31; HEB 11: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88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AITH” -  IN THE PERSON &amp; WORK OF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8880" indent="228600">
              <a:lnSpc>
                <a:spcPct val="100000"/>
              </a:lnSpc>
              <a:tabLst>
                <a:tab algn="l" pos="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SPECIFIC  CALL  OR  APPOINTMEN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NLY TO THOSE WHO RESPOND BY FAITH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88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=  BELIEVERS ( “THE CALLED ONES”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PPOINTED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88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HARE HIS GLORY                                                      -  2 THES 2:13-14; ROM 8:28-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88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ELLOWSHIP WITH HIM                                                                                  -  1 COR 1: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88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OLINESS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-  1 THES 4: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64771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65530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4572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: HIS  COMPLETED  MINISTRIES  TO 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533520"/>
            <a:ext cx="7238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80880" y="990720"/>
            <a:ext cx="8763120" cy="609480"/>
            <a:chOff x="380880" y="990720"/>
            <a:chExt cx="8763120" cy="609480"/>
          </a:xfrm>
        </p:grpSpPr>
        <p:sp>
          <p:nvSpPr>
            <p:cNvPr id="123" name=""/>
            <p:cNvSpPr/>
            <p:nvPr/>
          </p:nvSpPr>
          <p:spPr>
            <a:xfrm>
              <a:off x="380880" y="990720"/>
              <a:ext cx="8763120" cy="609480"/>
            </a:xfrm>
            <a:custGeom>
              <a:avLst/>
              <a:gdLst>
                <a:gd name="textAreaLeft" fmla="*/ 2000520 w 8763120"/>
                <a:gd name="textAreaRight" fmla="*/ 6762600 w 876312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ff99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1143000"/>
              <a:ext cx="464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HE  SHARED  CHRIST’S  GLORY  WITH  YO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1828800"/>
            <a:ext cx="9144000" cy="44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HE  CHOSE 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DEFINITIO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:   “CHOSE” ( EKLEGO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 PICK  OUT,   TO  SELECT,   TO  ELEC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 FACTS  OF  HIS  CHOOSING ( ELECTING )  YOU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 ARE CHOSEN (ELECTED) BECAUSE YOU ARE “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IN CHRIST”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-  EPH 1: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HRIST CHOSE YOU - YOU DID NOT CHOOSE HIM               -  JN 15:16; 1 PET 1:1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 CHOSE YOU BEFORE THE FOUNDATION OF THE WORLD                 -  EPH 1: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 ARE HOLY AND DEARLY LOVED                                         -  COL 3:12; 1 THES 1: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WE  ARE  CHOSE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 SHARE  THE  VERY  GLORY  OF  CHRIST                     -  2THES 2:13-14; JN 17: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UT  OF  THE  WORLD  BY  CHRIST                                                                       -  JN 2: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 BE  HOLY &amp;  BLAMELESS                                                                                  -  EPH 1: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 PRAISE  HIS  GLORY                                                                                    -  EPH 1:4, 12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6521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65530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533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: HIS  COMPLETED  MINISTRIES  TO 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80880" y="990720"/>
            <a:ext cx="8763120" cy="609480"/>
            <a:chOff x="380880" y="990720"/>
            <a:chExt cx="8763120" cy="609480"/>
          </a:xfrm>
        </p:grpSpPr>
        <p:sp>
          <p:nvSpPr>
            <p:cNvPr id="130" name=""/>
            <p:cNvSpPr/>
            <p:nvPr/>
          </p:nvSpPr>
          <p:spPr>
            <a:xfrm>
              <a:off x="380880" y="990720"/>
              <a:ext cx="8763120" cy="609480"/>
            </a:xfrm>
            <a:custGeom>
              <a:avLst/>
              <a:gdLst>
                <a:gd name="textAreaLeft" fmla="*/ 2000520 w 8763120"/>
                <a:gd name="textAreaRight" fmla="*/ 6762600 w 876312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ff99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0" y="1143000"/>
              <a:ext cx="464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HE  SHARED  CHRIST’S  GLORY  WITH  YO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0" y="1600200"/>
            <a:ext cx="914400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HE  REGENERATED 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778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Rounded MT Bold"/>
              </a:rPr>
              <a:t>DEFINITION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:  “REGENERATION” (PALINGENES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LIT:  ‘PALIN’ = AGAIN,    ‘GENESIS’ = BIRTH, 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O BE BORN AGAIN , A NEW BIRTH OR NEW CREATION (SPIRITUAL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tabLst>
                <a:tab algn="l" pos="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778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Rounded MT Bold"/>
              </a:rPr>
              <a:t>WHY IS A NEW BIRTH (SPIRITUAL) NECESSARY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ECAUSE EVERY PERSON IS BORN SPIRITUALLY DEAD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-  EPH 2:1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EVERYONE IS BORN WITH A SIN NATURE WHICH IS CONDEMNED                          -  ROM 5:12: 8: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MAN MUST BE RECREATED BY A NEW BIRTH (SPIRITUAL)                                 -  JN 3:3; 1 PET 1: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tabLst>
                <a:tab algn="l" pos="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778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Rounded MT Bold"/>
              </a:rPr>
              <a:t>HOW IS THE NEW BIRTH OBTAINED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NOT BY PHYSICAL BLOOD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        -  JN1: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NOT BY MAN’S WILL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 -  JN 1: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UT BY GOD &amp; THE HOLY SPIRIT THROUGH FAITH IN CHRIST                   -  JN 1:12-13; TITUS 3: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tabLst>
                <a:tab algn="l" pos="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1778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Rounded MT Bold"/>
              </a:rPr>
              <a:t>RESULTS OF THE NEW BIRTH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(REGENER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YOU ARE NO LONGER A CHILD OF SATAN BUT A CHILD OF GOD          -  JN 8:44; 1:12; GAL 3: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YOU ARE A NEW CREATION IN CHRIST                                                                                    -  2 COR 5: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OD IMPARTS CHRIST’S VERY NATURE (GLORY) TO YOU      -  1 PET1:23; 2 COR 5:17; JN 17: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YOU HAVE ETERNAL LIFE                                                                                          -  JN 3:16; 1 JN 5:11-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6400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64771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19320" y="5335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572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: HIS  COMPLETED  MINISTRIES  TO 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80880" y="990720"/>
            <a:ext cx="8763120" cy="609480"/>
            <a:chOff x="380880" y="990720"/>
            <a:chExt cx="8763120" cy="609480"/>
          </a:xfrm>
        </p:grpSpPr>
        <p:sp>
          <p:nvSpPr>
            <p:cNvPr id="138" name=""/>
            <p:cNvSpPr/>
            <p:nvPr/>
          </p:nvSpPr>
          <p:spPr>
            <a:xfrm>
              <a:off x="380880" y="990720"/>
              <a:ext cx="8763120" cy="609480"/>
            </a:xfrm>
            <a:custGeom>
              <a:avLst/>
              <a:gdLst>
                <a:gd name="textAreaLeft" fmla="*/ 2000520 w 8763120"/>
                <a:gd name="textAreaRight" fmla="*/ 6762600 w 876312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ff99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0" y="1143000"/>
              <a:ext cx="464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HE  SHARED  CHRIST’S  GLORY  WITH  YO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0" y="1523880"/>
            <a:ext cx="9144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E  BAPTIZED 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DEFINITIO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APTIZE”(BAPTIZO = TO IMMERSE SO AS TO IDENTIFY ONE OBJECT WITH ANOTH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3360">
              <a:lnSpc>
                <a:spcPct val="10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3360">
              <a:lnSpc>
                <a:spcPct val="10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WHY IS BAPTISM (SPIRITUAL) NECESSARY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 WERE IDENTIFIED (IN ALIVING UNION) WIT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DAM (“IN ADAM”) AND HIS NATURE (SIN NATURE)                                     -  ROM 5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0560" indent="165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A SLAVE TO THE SIN NATURE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-  EPH 2: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 HAD TO TERMINATE YOUR OLD ADAMIC LIFE AND SEPARATE YOU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3360">
              <a:lnSpc>
                <a:spcPct val="10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POWER OF YOUR SIN NATURE IN ORDER TO FELLOWSHIP WITH 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3360">
              <a:lnSpc>
                <a:spcPct val="10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3360">
              <a:lnSpc>
                <a:spcPct val="10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WHAT DID CHRIST DO ON THE CROSS FOR YOU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?                           -  ROM 6:1-10; 1COR 5: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DIED ON THE CROSS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YOUR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SINS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 AS YOUR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SUBSTITUT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(1 JN 2: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ALSO DIED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UNTO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SI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(YOUR SIN NATURE) - AS YOUR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REPRESEN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TOOK YOU TO THE CROSS WITH HIM SO THAT YOU DIED (WERE SEPARAT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3360">
              <a:lnSpc>
                <a:spcPct val="10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UNTO YOUR SIN NATURE - HE IDENTIFIED YOU IN HIS DE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DID NOT FORGIVE, NOR ERADICATE, NOR ANNIHILATE YOUR SIN N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633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OWEVER HE CRUCIFIED YOUR SIN N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6545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654516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0156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533520"/>
            <a:ext cx="7620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457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: HIS  COMPLETED  MINISTRIES  TO 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990720"/>
            <a:ext cx="8763120" cy="609480"/>
            <a:chOff x="380880" y="990720"/>
            <a:chExt cx="8763120" cy="609480"/>
          </a:xfrm>
        </p:grpSpPr>
        <p:sp>
          <p:nvSpPr>
            <p:cNvPr id="147" name=""/>
            <p:cNvSpPr/>
            <p:nvPr/>
          </p:nvSpPr>
          <p:spPr>
            <a:xfrm>
              <a:off x="380880" y="990720"/>
              <a:ext cx="8763120" cy="609480"/>
            </a:xfrm>
            <a:custGeom>
              <a:avLst/>
              <a:gdLst>
                <a:gd name="textAreaLeft" fmla="*/ 2000520 w 8763120"/>
                <a:gd name="textAreaRight" fmla="*/ 6762600 w 876312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ff99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1143000"/>
              <a:ext cx="464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HE  SHARED  CHRIST’S  GLORY  WITH  YO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0" y="1905120"/>
            <a:ext cx="9144000" cy="34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E  BAPTIZED  YOU  (CONT’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114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MOMENT YOU TRUSTED CHRIST - YOU WERE BAPTIZED ( IDENTIFIED 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OM 6:1-10; COL 2:12; 1 COR 12: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.  INTO THE PERSON OF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.  INTO  CHRIST’S  D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.  INTO  CHRIST’S  BU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4.  INTO  CHRIST’S  RESU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5.  INTO  CHRIST’S  ASC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6.  INTO  CHRIST’S  BODY ( THE CHURCH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6469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640080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7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3:00:43Z</dcterms:modified>
  <cp:revision>23</cp:revision>
  <dc:subject/>
  <dc:title>PowerPoint Presentation</dc:title>
</cp:coreProperties>
</file>