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371600" y="1851120"/>
            <a:ext cx="4419720" cy="304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91320" y="99072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97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57000" y="1851120"/>
            <a:ext cx="549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41  The Sabbath and the Lord'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2  The Gentiles in History and Prophecy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3  Israel in History and Prophec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4  Events Preceding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5  The Great Tribul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6  The Second Coming of Christ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7  The Resurrec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8  The Judgment of Israel and the Nation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9  The Millennial Kingdom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0  The Judgment of Satan and Fallen Angel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1  The Judgment of the Great White Thron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2  The New Heaven and the New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60640" y="268200"/>
            <a:ext cx="47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abbath and the Lord's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6491160"/>
            <a:ext cx="1219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553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0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685800"/>
            <a:ext cx="266688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762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2860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Sabbath and the Lord'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19320"/>
            <a:ext cx="3505320" cy="2209680"/>
          </a:xfrm>
          <a:prstGeom prst="cloudCallout">
            <a:avLst>
              <a:gd name="adj1" fmla="val -44564"/>
              <a:gd name="adj2" fmla="val 67240"/>
            </a:avLst>
          </a:prstGeom>
          <a:gradFill rotWithShape="0">
            <a:gsLst>
              <a:gs pos="0">
                <a:srgbClr val="ccecff"/>
              </a:gs>
              <a:gs pos="50000">
                <a:srgbClr val="eef8f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133720"/>
            <a:ext cx="3505320" cy="2209680"/>
          </a:xfrm>
          <a:prstGeom prst="cloudCallout">
            <a:avLst>
              <a:gd name="adj1" fmla="val -164129"/>
              <a:gd name="adj2" fmla="val 32759"/>
            </a:avLst>
          </a:prstGeom>
          <a:gradFill rotWithShape="0">
            <a:gsLst>
              <a:gs pos="0">
                <a:srgbClr val="ccecff"/>
              </a:gs>
              <a:gs pos="50000">
                <a:srgbClr val="eef8f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343400"/>
            <a:ext cx="4648320" cy="2209680"/>
          </a:xfrm>
          <a:prstGeom prst="cloudCallout">
            <a:avLst>
              <a:gd name="adj1" fmla="val -62296"/>
              <a:gd name="adj2" fmla="val -67240"/>
            </a:avLst>
          </a:prstGeom>
          <a:gradFill rotWithShape="0">
            <a:gsLst>
              <a:gs pos="0">
                <a:srgbClr val="ccecff"/>
              </a:gs>
              <a:gs pos="50000">
                <a:srgbClr val="eef8f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00200"/>
            <a:ext cx="3048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THE  SABBATH 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AT  DOES  IT  MEA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EN  WAS  IT  INSTITUTED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O  WAS  IT  GIVEN  TO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HOULD  YOU  OBSERVE  I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438280"/>
            <a:ext cx="33526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         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GOD’S  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DOES GOD HAVE A REST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RAEL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CHURCH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648320"/>
            <a:ext cx="4114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THE  LORD’S 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 THIS THE CHRISTIAN SABBATH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Y IS THIS THE 1st DAY OF THE WEEK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 THERE SOMETHING SPE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YOU ARE TO D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6553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65530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0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57400" y="1600200"/>
            <a:ext cx="2209680" cy="51055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600200"/>
            <a:ext cx="3429000" cy="5105520"/>
          </a:xfrm>
          <a:prstGeom prst="rect">
            <a:avLst/>
          </a:prstGeom>
          <a:solidFill>
            <a:srgbClr val="66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685800"/>
            <a:ext cx="335268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30492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Sabbath and the Lord'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320" y="2286000"/>
          <a:ext cx="1981080" cy="457200"/>
        </p:xfrm>
        <a:graphic>
          <a:graphicData uri="http://schemas.openxmlformats.org/drawingml/2006/table">
            <a:tbl>
              <a:tblPr/>
              <a:tblGrid>
                <a:gridCol w="223560"/>
                <a:gridCol w="292320"/>
                <a:gridCol w="291960"/>
                <a:gridCol w="290520"/>
                <a:gridCol w="297000"/>
                <a:gridCol w="280800"/>
                <a:gridCol w="304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99"/>
                          </a:solidFill>
                          <a:latin typeface="Arial Rounded MT Bold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505320" y="235440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267080" y="2209680"/>
          <a:ext cx="2133360" cy="533160"/>
        </p:xfrm>
        <a:graphic>
          <a:graphicData uri="http://schemas.openxmlformats.org/drawingml/2006/table">
            <a:tbl>
              <a:tblPr/>
              <a:tblGrid>
                <a:gridCol w="307800"/>
                <a:gridCol w="303120"/>
                <a:gridCol w="304920"/>
                <a:gridCol w="303120"/>
                <a:gridCol w="306360"/>
                <a:gridCol w="300240"/>
                <a:gridCol w="3078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99"/>
                          </a:solidFill>
                          <a:latin typeface="Arial Rounded MT Bold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267080" y="4114800"/>
          <a:ext cx="2057400" cy="533520"/>
        </p:xfrm>
        <a:graphic>
          <a:graphicData uri="http://schemas.openxmlformats.org/drawingml/2006/table">
            <a:tbl>
              <a:tblPr/>
              <a:tblGrid>
                <a:gridCol w="231840"/>
                <a:gridCol w="303120"/>
                <a:gridCol w="304920"/>
                <a:gridCol w="303120"/>
                <a:gridCol w="304920"/>
                <a:gridCol w="301680"/>
                <a:gridCol w="307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99"/>
                          </a:solidFill>
                          <a:latin typeface="Arial Rounded MT Bold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267080" y="5715000"/>
          <a:ext cx="2133720" cy="533520"/>
        </p:xfrm>
        <a:graphic>
          <a:graphicData uri="http://schemas.openxmlformats.org/drawingml/2006/table">
            <a:tbl>
              <a:tblPr/>
              <a:tblGrid>
                <a:gridCol w="308160"/>
                <a:gridCol w="303120"/>
                <a:gridCol w="304920"/>
                <a:gridCol w="303120"/>
                <a:gridCol w="304920"/>
                <a:gridCol w="304560"/>
                <a:gridCol w="3049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99"/>
                          </a:solidFill>
                          <a:latin typeface="Arial Rounded MT Bold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1676520" y="9907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D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a 4000 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1066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O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a 1500 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8954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GOD  CR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3200400"/>
            <a:ext cx="2209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NO  OBSERV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OF A  DAY  OF  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          “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SABBAT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67080" y="1676520"/>
            <a:ext cx="2438640" cy="1982880"/>
            <a:chOff x="4267080" y="1676520"/>
            <a:chExt cx="2438640" cy="1982880"/>
          </a:xfrm>
        </p:grpSpPr>
        <p:sp>
          <p:nvSpPr>
            <p:cNvPr id="75" name=""/>
            <p:cNvSpPr/>
            <p:nvPr/>
          </p:nvSpPr>
          <p:spPr>
            <a:xfrm>
              <a:off x="4419720" y="167652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WILDERNESS (40 Y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( EVERY  WEEK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6920" y="274320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GA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MAN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95880" y="27432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5000" y="2971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267080" y="2971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248520" y="274320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943240" y="3352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19720" y="320040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PEOPLE  RES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HOLY  SABBATH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67080" y="27432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0199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2481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722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36576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MOSAIC 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38862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( WORK  WEEK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672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9528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ABBATH” - 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FROM 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195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1295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a 29 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124080"/>
            <a:ext cx="1600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OBSERV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OF  A  DAY 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    ‘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SABBAT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9680" y="2514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74480" y="2514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98160" y="441972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191120" y="5486400"/>
            <a:ext cx="2438280" cy="1267200"/>
            <a:chOff x="4191120" y="5486400"/>
            <a:chExt cx="2438280" cy="1267200"/>
          </a:xfrm>
        </p:grpSpPr>
        <p:sp>
          <p:nvSpPr>
            <p:cNvPr id="100" name=""/>
            <p:cNvSpPr/>
            <p:nvPr/>
          </p:nvSpPr>
          <p:spPr>
            <a:xfrm>
              <a:off x="4191120" y="5486400"/>
              <a:ext cx="243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( SOWING / REAPING YEARS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5880" y="6248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19720" y="624852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WORK  THE  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6400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267080" y="64008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248520" y="6248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019560" y="6629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6477120"/>
              <a:ext cx="17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REST  THE  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2880" y="60199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YE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971800" y="762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TORY  OF  THE  SABB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5238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5960" y="1905120"/>
            <a:ext cx="1981440" cy="1982880"/>
            <a:chOff x="75960" y="1905120"/>
            <a:chExt cx="1981440" cy="1982880"/>
          </a:xfrm>
        </p:grpSpPr>
        <p:sp>
          <p:nvSpPr>
            <p:cNvPr id="112" name=""/>
            <p:cNvSpPr/>
            <p:nvPr/>
          </p:nvSpPr>
          <p:spPr>
            <a:xfrm>
              <a:off x="152280" y="19051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CREATION  WEE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2480" y="2819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320" y="28274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3880" y="3048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05120" y="2819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599840" y="3581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34290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GOD  RES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ON  </a:t>
              </a:r>
              <a:r>
                <a:rPr b="0" lang="en-US" sz="1200" spc="-1" strike="noStrike">
                  <a:solidFill>
                    <a:srgbClr val="ff3399"/>
                  </a:solidFill>
                  <a:latin typeface="Arial Rounded MT Bold"/>
                </a:rPr>
                <a:t>7th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  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5960" y="3048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7696080" y="1600200"/>
            <a:ext cx="1447920" cy="51055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12952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ISRA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124080"/>
            <a:ext cx="1371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SABB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        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TERMIN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0060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16765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5909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-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EX 16:23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-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EX 20:8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60958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- EX 23:10,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7940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- GEN 2 :1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70572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6294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655308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0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5402160"/>
            <a:ext cx="175248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THE  LORD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DA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24680" y="12952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CHU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391520" y="612720"/>
            <a:ext cx="845640" cy="1020600"/>
            <a:chOff x="7391520" y="612720"/>
            <a:chExt cx="845640" cy="1020600"/>
          </a:xfrm>
        </p:grpSpPr>
        <p:sp>
          <p:nvSpPr>
            <p:cNvPr id="137" name=""/>
            <p:cNvSpPr/>
            <p:nvPr/>
          </p:nvSpPr>
          <p:spPr>
            <a:xfrm rot="20050200">
              <a:off x="7631280" y="1479960"/>
              <a:ext cx="30600" cy="108720"/>
            </a:xfrm>
            <a:custGeom>
              <a:avLst/>
              <a:gdLst>
                <a:gd name="textAreaLeft" fmla="*/ 6480 w 30600"/>
                <a:gd name="textAreaRight" fmla="*/ 24120 w 30600"/>
                <a:gd name="textAreaTop" fmla="*/ 23760 h 108720"/>
                <a:gd name="textAreaBottom" fmla="*/ 84960 h 10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391520" y="612720"/>
              <a:ext cx="845640" cy="1020600"/>
              <a:chOff x="7391520" y="612720"/>
              <a:chExt cx="845640" cy="1020600"/>
            </a:xfrm>
          </p:grpSpPr>
          <p:sp>
            <p:nvSpPr>
              <p:cNvPr id="139" name=""/>
              <p:cNvSpPr/>
              <p:nvPr/>
            </p:nvSpPr>
            <p:spPr>
              <a:xfrm>
                <a:off x="7591320" y="720360"/>
                <a:ext cx="58680" cy="764640"/>
              </a:xfrm>
              <a:custGeom>
                <a:avLst/>
                <a:gdLst>
                  <a:gd name="textAreaLeft" fmla="*/ 12960 w 58680"/>
                  <a:gd name="textAreaRight" fmla="*/ 45720 w 58680"/>
                  <a:gd name="textAreaTop" fmla="*/ 168120 h 764640"/>
                  <a:gd name="textAreaBottom" fmla="*/ 596520 h 76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391520" y="858960"/>
                <a:ext cx="438120" cy="47160"/>
              </a:xfrm>
              <a:custGeom>
                <a:avLst/>
                <a:gdLst>
                  <a:gd name="textAreaLeft" fmla="*/ 96120 w 438120"/>
                  <a:gd name="textAreaRight" fmla="*/ 342000 w 438120"/>
                  <a:gd name="textAreaTop" fmla="*/ 10440 h 47160"/>
                  <a:gd name="textAreaBottom" fmla="*/ 36720 h 4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2394200">
                <a:off x="7916040" y="657000"/>
                <a:ext cx="51120" cy="1018440"/>
              </a:xfrm>
              <a:custGeom>
                <a:avLst/>
                <a:gdLst>
                  <a:gd name="textAreaLeft" fmla="*/ 10800 w 51120"/>
                  <a:gd name="textAreaRight" fmla="*/ 40320 w 51120"/>
                  <a:gd name="textAreaTop" fmla="*/ 218880 h 1018440"/>
                  <a:gd name="textAreaBottom" fmla="*/ 799560 h 101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393" y="21600"/>
                    </a:lnTo>
                    <a:lnTo>
                      <a:pt x="5207" y="21600"/>
                    </a:lnTo>
                    <a:close/>
                  </a:path>
                </a:pathLst>
              </a:custGeom>
              <a:solidFill>
                <a:srgbClr val="ff6699"/>
              </a:solidFill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8170200" y="612720"/>
                <a:ext cx="66960" cy="139680"/>
              </a:xfrm>
              <a:prstGeom prst="line">
                <a:avLst/>
              </a:prstGeom>
              <a:ln w="76320">
                <a:solidFill>
                  <a:srgbClr val="ff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685800"/>
            <a:ext cx="39625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3049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Sabbath and the Lord'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1143000"/>
            <a:ext cx="906768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WHAT  DOES  SABBATH  MEA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“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ABBATH”  ( HEB:  SHABBATH ) = TO REST FROM LABOR, CES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OBSERVE:  THE HEBREW WORD FOR SEVEN IS “SHEBA” (A DERIVAT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 SABBATH IS A REST OR REFRAIN BY SOMEONE OR SOMETHING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 CERTAIN ACTIVITY    - EXAMP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“RESTED” ON THE 7th DAY OR CEASED HIS CREATIVE WORK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GEN 2 :1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DIDN’T NEED TO TAKE A BREAK - HIS WORK WAS PERFECT &amp;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WHEN WAS THE SABBATH INSTITUTE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THE FIRST OCCURRENCE  WAS TO ISRAEL IN THE WILDERNESS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EX 16:23-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T WAS JUST PRIOR TO GOD GIVING MOSES THE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STARTED TO PROVIDE MANNA FOR 6 DAYS (DOUBLE PORTION ON 6th DA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RAEL WAS TO REST AND NOT GATHER MANNA ON THE 7th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CALLED THIS DAY:   “REST OF THE HOLY SABBAT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IN HIS FAITHFULNESS SUPPLIED ISRAEL MANNA FOR 40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THE MOSAIC LAW INSTITUTED THE “SABBATH DAY”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- EX 20:8-11; 31:12-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AN, HIS HOUSEHOLD &amp; CATTLE ARE TO WORK 6 DAYS &amp; REST ON THE 7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PATTERN WAS ACCORDING TO GOD’S CREATION W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MADE HEAVEN &amp; EARTH IN 6 DAYS &amp; RESTED IN THE 7th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NOTE:  THIS CONFIRMS THAT A CREATION DAY WAS A LITERAL 24 HOU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7th DAY WAS SATURDAY - THE SABB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THE MOSAIC LAW ALSO INSTITUTED A SABBATH YEAR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EX 23:10,11; LEV 25:2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SABBATH YEAR WAS FOR THE L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7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Y WERE TO SOW &amp; REAP FOR 6 YEARS &amp; REST THE LAND ON THE 7th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762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SABBATH 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6294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656748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0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685800"/>
            <a:ext cx="39625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286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Sabbath and the Lord'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762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SABBATH 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143000"/>
            <a:ext cx="899172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QUESTIONS ABOUT THE SABBAT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1. IS THE SABBATH A DAY OF WORSHIP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RAEL WAS NOT COMMANDED TO WORSHIP ON THE SABBATH - IT BECAM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US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SABBATH DAY WAS SIMPLY CESSATION OR REST FROM LA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2.  DID CHRIST KEEP THE SABBATH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 WAS FAITHFUL TO THE ENTIRE LAW, SABBATH INCLUDED                                  - MT 5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3.  HOW WAS THE SABBATH DISTORTE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JEWS DISTORTED THE INTENT OF THE SABBATH BY RESTRICTING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 CORRECTED THEIR ERROR, HE TOLD THEM :                                                       - MK 2:27,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“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SABBATH WAS MADE FOR MAN &amp; NOT MAN FOR THE SABBAT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“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SON OF MAN IS LORD ALSO OF THE SABBAT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EWS’ ACCUSATON : “JESUS IS A SINNER &amp; BREAKS THE SABBATH BY HEAL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 CORRECTED THEIR ERROR - HE KEEPS ON HEALING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 HEALS THE MAN LAME FOR 38 YEARS ON THE SABBATH                         - JN 5:1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 HEALS THE MAN’S PARALZED HAND ON THE SABBATH                         - MT 12:9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 HEALS THE MAN BORN BLIND ON THE SABBATH                                         - JN 9:1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JEWS HYPOCRIS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OST CONCERNED ABOUT RULES &amp; NO JOY IN THE HEAL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IR HEARTS FULL OF HATRED TOWARD CHR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IS IS THE EPITOME OF MAN’S RELI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662148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65451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0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685800"/>
            <a:ext cx="38862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049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Sabbath and the Lord'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52388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QUESTIONS ABOUT THE SABBAT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4.  SHOULD I OBSERVE THE SABBATH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SABBATH (PART OF THE MOSAIC  LAW) WAS GIVEN TO ISRAEL ONLY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WAS A SIGN BETWEEN JEHOVAH &amp; ISRA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WAS A SIN IF ISRAEL DIDN’T KEEP THE SABB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OWEVER THE SABBATH WAS TERMINATED AT THE 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KEEPING THE SABBATH IS THE ONLY COMMANDMENT OF THE TEN TH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S NOT A COMMAND IN THE NEW TEST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BELIEVER IS NOT TO OBSERVE DAYS                                                      - GAL 4:9,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BELIEVER IS NOT TO BE JUDGED WITH RESPECT TO A SABBATH DA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COL 2:16,17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830160"/>
            <a:ext cx="35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762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SABBATH 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655308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0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762120"/>
            <a:ext cx="380988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049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Sabbath and the Lord'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8380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’S  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295280"/>
            <a:ext cx="899172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GOD HAD PROVIDED A REST FOR ISRAEL !                                      - HEB 3:7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OWEVER ISRAEL FAILED TO ENTER INTO GOD’S 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PROVIDED THEM A LAND (CANAAN) AS A PHYSICAL 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FROM EGYPT TO CANAAN - ISRAEL MURMURED, COMPLAINE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ND HARDENED THEIR HEARTS TOWARD G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IR WILDERNESS JOURNEY WAS ONE OF SIN AND UNBELI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SWORE IN HIS WRATH THAT THE OLDER GENERATION THAT CA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OUT OF EGYPT WOULD NOT ENTER HIS REST (CANA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GOD HAS PROVIDED A REST FOR YOU PERSONALLY                  - HEB 4:9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HAS PROVIDED YOU A SPIRITUAL REST - IT IS HIS 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N HIS REST YOU CEASE FROM YOUR OWN WORKS (BUT NOT FROM HIS WOR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YOU ENTER HIS REST BY FAITH (THE OBJECT IS CHRI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N HIS REST YOU FIND MERCY(COMPASSION),GRACE &amp; PE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E DILIGENT TO ENTER HIS REST OTHERWISE YOU WILL BE IN A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OF UNREST WITH THE SELF LIFE - ISRAEL IS OU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 SAYS TO YOU : 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“COME UNTO ME, ALL YOU THAT LABOR AND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   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HEAVY LADEN, AND 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 Rounded MT Bold"/>
              </a:rPr>
              <a:t>I WILL GIVE YOU REST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”   - ( MT 11:28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6545160"/>
            <a:ext cx="83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0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685800"/>
            <a:ext cx="381024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3049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Sabbath and the Lord'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83016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762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LORD’S 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1219320"/>
            <a:ext cx="8991720" cy="54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WHY CELEBRATE THE LORD’S DAY (SUNDAY - THE 1st DAY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 WAS RESURRECTED FROM THE DEAD ON THE 1st DAY                                   - JN 20:1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IGNIFICANCE OF THE RESURRECTION TO YOU PERSON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YOU ARE NO LONGER IN YOUR SINS                                                              - 1 COR 15:17; 1 JN 2: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T IS THE BASIS BY WHICH GOD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636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MPUTES HIS RIGHTEOUSNESS TO YOU                                                              - ROM 4:24,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636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PPROPRIATES HIS POWER TO YOU                                                - EPH 1:19,20;  PHIL 3: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636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DENTIFIES YOU WITH CHRIST &amp; RAISES YOU TO NEWNESS OF LIFE           - ROM 6: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6364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YOU ARE NOW A NEW CREATION IN CHRIST                                                                   - 2 COR 5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636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OLD THINGS (ALL WHO YOU WERE IN ADAM) ARE PASSED A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636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NEW THINGS (ALL WHO YOU ARE IN CHRIST) HAVE BECOME (YOUR VERY BE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6364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INCE THE 1st DAY (SUNDAY) IS SO SIGNIFICANT TO YOU - IT IS CAUS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ELEBRATE &amp; REFLECT ON THIS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DISCIPLES MET ON THAT RESURRECTION SUNDAY                                                     - JN 20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DISCIPLES CONTINUED TO MEET ON THE 1st DAY OF THE WEEK               -ACTS 20:6,7,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CHURCH STARTED ON THE 1st DAY OF THE WEEK                                                   - ACTS 2:1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FINANCIAL GIVING (BY GRACE) WAS ON THE 1st DAY OF THE WEEK                      -1 COR 16: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1st DAY OF THE WEEK IS CALLED “THE LORD’S DAY”                                                 - REV 1: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6621480"/>
            <a:ext cx="83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6545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0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685800"/>
            <a:ext cx="38862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3049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Sabbath and the Lord'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914400"/>
            <a:ext cx="266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762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LORD’S 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440000"/>
            <a:ext cx="89154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IS THE CHURCH COMMANDED TO KEEP THE 1st DAY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O COMMAND IS GIVEN IN SCRIPTURE TO KEEP THE LORD’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RE IS NO PRESCRIBED MANNER GIVEN TO CELEBRATE THE LORD’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EARLY CHURCH ASSEMBLED AND CONTINUED STEADFASTLY I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APOSTLES’ DOCTR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ELLOW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BREAKING OF B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F THERE WERE A WRITTEN REQUIREMENT WE WOULD MAKE IT INTO A L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YSTEM &amp; NO LONGER WOULD OBSERVING THE 1st DAY BE BY G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ISSUE TO YOU IS TO WALK BY FAITH BEHOLDING CHRIST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VS KEEPING OR OBSERVING A DAY                                     - COL 2:6,7; 2 COR 3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VERY DAY IN OUR LIFE SHOULD BE CONSIDERED THE LORD’S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6545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20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29:15Z</dcterms:modified>
  <cp:revision>45</cp:revision>
  <dc:subject/>
  <dc:title>PowerPoint Presentation</dc:title>
</cp:coreProperties>
</file>