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5398920" cy="81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875664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9993"/>
          <a:stretch/>
        </p:blipFill>
        <p:spPr>
          <a:xfrm>
            <a:off x="152280" y="0"/>
            <a:ext cx="71604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83840" y="1522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33720" y="5335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914400"/>
            <a:ext cx="4190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ff"/>
              </a:gs>
              <a:gs pos="50000">
                <a:srgbClr val="fee5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5120" y="9907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oints on the Resu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87552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1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71560" y="406440"/>
            <a:ext cx="337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371600"/>
            <a:ext cx="662940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Defin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Resurrection (“The better one”) – A rising of the physical body from the dead with a body that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die physically again.  The resurrection has come to pass only in the case of Jesus Chr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ne &amp; will come to pass in all men according to God’s order at the end of this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r 15:20-23, 35-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Resurrection (Restoration) – A rising from the dead of the physical body with a body that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 die again physically. The body is restored to life but to the previous state of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s of Restor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Widow’s son                                    - by Elija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 Ki 17:17-24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Shunammite’s only s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y Elish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- 2 Ki. 4:18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he Jewish ruler’s daugh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y Lord Jesus Chr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k. 5:35-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The widow’s only 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y Lord Jesus Chr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u. 7:11-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Lazar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y Lord Jesus Christ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Jn. 11:32-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Many saints at LJC’s resur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y G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t. 27:50-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Dorc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y Pet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9: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Young man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y Pa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cts 20: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 The fact of the resurrection: foretold in Scri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Of  Messi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David’s prophesy of the resurrection of the Messia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– Psalm 16: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Peter’s explanation that David was speaking of Jesus Chri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– Acts 2:30-32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Of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Resurrection after dec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– Job 19:25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The dead shall l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– Isa. 26: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 The dead shall awake, some to everlasting life &amp; some to everlasting contempt   - Dan. 12: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ll men to be resurrected, some to life, others to judgmen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– Jn. 5:28,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 The time &amp; order of the resur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esurrection of the just to everlasting life (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rrection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– Dan. 12:2;Jn.5:28,29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24:15; Rev. 20:4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Jesus Christ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first fruit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– 1 Cor. 15:20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irst to rise from the dead (accomplishe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– Acts 26:23; Col. 1:1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. 16:9-1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Church age believers at the Rapture (futur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– 1 Cor. 15:20-23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hess. 4:16; Jn 5:28,2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868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71560" y="406440"/>
            <a:ext cx="337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371600"/>
            <a:ext cx="655308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esurrection of just to everlasting life (cont’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2 Witnesses in the middle of Tribulation Period (futur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– Rev. 11:3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O.T. believers at the end of Tribulation Period (futur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– Dan 12:1-3; Jn. 5:2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ribulation believers at the end of Tribulation Period (futur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– Rev. 20:4-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Resurrection of unjust to everlasting contempt &amp; damnation         – Dan. 12:2; Jn. 5:28,29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24:15; Rev. 20:5, 11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unbelieving dead from all ages at the end of the Millennium (fu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. 12:2; Rev. 20:5,11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Significance of Christ’s resurrection – with respect to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The resurrection of LJC fulfilled the everlasting covenant              – Heb. 13:20; Acts 2: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he resurrection of LJC authenticated God’s Word given through the proph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. 16:9-11; Acts 2:30-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The resurrection of LJC authenticated Jesus Christ’s W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He foretold His resurr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– Mt. 26:32; Lu. 9:22; Jn. 2:19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is words were fulfi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– Lu. 24:6,7; Jn. 2: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The resurrection of Jesus Christ was necessary for the implementation of God’s e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or humanity                                                                  – Acts 2:22-36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Pet. 3:21,22; 1Pet. 1:20,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The resurrection proves the deity of Jesus Chr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– Acts 2:24 Rom 1: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 The resurrection proved that Jesus of Nazareth was the Messiah (the Christ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cts 17:1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 Significance of Christ’s resurrection – with respect to believ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Is the basis for the believer’s faith &amp; h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– 1 Pet. 1:21; Acts 26:6-8; I Pet 1:3,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Is the basis for imputed righteousness &amp; the believer’s justification                       – Rom 4:24,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Is the basis for the believer’s 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Rom. 6:4; Gal. 2:20; Phil. 3:10; Col. 3:1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 Is the means of intercession between man &amp; G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– Rom. 8:34; Heb. 7:25; 9: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  Is the means by which resurrection power can be appropriated to a believer’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. 3:10; 2 Cor. 13:4; Eph. 1:19,20; Acts 4: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868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71560" y="406440"/>
            <a:ext cx="337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447920"/>
            <a:ext cx="6553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 Significance of Christ’s resurrection – with respect to believers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 Has many positive aspec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 1 Cor. 15:12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Christ is r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Our proclaiming it is not in v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Our faith is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We are true witnesses of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We are no longer in our s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The dead in Christ will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We have hope for eter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We live with j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  Is the basis for the believer’s identification, union &amp; completeness in Chr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. 6:4-10; Col.2:9-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 Is the guarantee of the believer’s resurrection                                       – Rom. 8:11; 1 Cor. 6:14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hess. 4: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 Is our guarantee that we have 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– Jn. 11:25,26; Jn. 17: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8686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33:56Z</dcterms:modified>
  <cp:revision>38</cp:revision>
  <dc:subject/>
  <dc:title>PowerPoint Presentation</dc:title>
</cp:coreProperties>
</file>