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6 AUG 00, 9 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68320" y="11541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990720" y="990720"/>
          <a:ext cx="8420040" cy="48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84200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2057400" y="22860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TES  ON  CHAPTER 25  -   MAN:  HIS 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43000" y="228600"/>
          <a:ext cx="763272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"/>
                    <a:ext cx="76327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3809880"/>
          <a:ext cx="7861320" cy="381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7861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419720" y="6392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36640" y="692280"/>
          <a:ext cx="7778880" cy="61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692280"/>
                    <a:ext cx="777888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36640" y="3997440"/>
          <a:ext cx="6854760" cy="2800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3997440"/>
                    <a:ext cx="68547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95680" y="654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66680" y="533520"/>
          <a:ext cx="7418520" cy="509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741852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39760" y="3738600"/>
          <a:ext cx="6942240" cy="461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9760" y="3738600"/>
                    <a:ext cx="694224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495680" y="654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139760" y="303120"/>
          <a:ext cx="5397480" cy="220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303120"/>
                    <a:ext cx="5397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33520" y="2670120"/>
          <a:ext cx="8385120" cy="418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70120"/>
                    <a:ext cx="838512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419720" y="65451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3880" y="304920"/>
          <a:ext cx="54612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4920"/>
                    <a:ext cx="54612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1911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447920" y="685800"/>
          <a:ext cx="6413400" cy="38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85800"/>
                    <a:ext cx="64134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3880" y="4267080"/>
          <a:ext cx="5486400" cy="71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267080"/>
                    <a:ext cx="5486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72000" y="6392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943280" y="762120"/>
          <a:ext cx="654048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762120"/>
                    <a:ext cx="654048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34340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3-01-05T02:56:02Z</cp:lastPrinted>
  <dcterms:modified xsi:type="dcterms:W3CDTF">2003-11-15T23:10:03Z</dcterms:modified>
  <cp:revision>82</cp:revision>
  <dc:subject/>
  <dc:title>No Slide Title</dc:title>
</cp:coreProperties>
</file>