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png" ContentType="image/png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990720" y="919080"/>
            <a:ext cx="7199280" cy="60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266760" y="6567480"/>
            <a:ext cx="1552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R. HENDERSON / H. MOLLO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0" y="4680"/>
            <a:ext cx="1206360" cy="1584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2280" y="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MAJOR BIBLE THE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11.jpe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1371600" y="3352680"/>
            <a:ext cx="4419720" cy="30492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efefe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5791320" y="990720"/>
            <a:ext cx="2743200" cy="2764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 Rounded MT Bold"/>
              </a:rPr>
              <a:t>HOMEWORK: READ CHAPTER 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419720" y="64008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57000" y="1851120"/>
            <a:ext cx="54918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41  The Sabbath and the Lord's D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42  The Gentiles in History and Prophecy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43  Israel in History and Prophecy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44  Events Preceding the Second Coming of Christ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45  The Great Tribulation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46  The Second Coming of Christ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47  The Resurrections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48  The Judgment of Israel and the Nations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49  The Millennial Kingdom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50  The Judgment of Satan and Fallen Angels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51  The Judgment of the Great White Throne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52  The New Heaven and the New Ear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00400" y="38088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HE  RESURRE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653724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/  4 MAY 2003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2362320" y="304920"/>
            <a:ext cx="4495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905120" y="685800"/>
            <a:ext cx="5181480" cy="4572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33cc"/>
              </a:gs>
              <a:gs pos="50000">
                <a:srgbClr val="ffffff"/>
              </a:gs>
              <a:gs pos="100000">
                <a:srgbClr val="ff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200400" y="38088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HE  RESURRE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124080" y="762120"/>
            <a:ext cx="281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RESURRECTION   OVERVI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3657600" y="1066680"/>
            <a:ext cx="990360" cy="1066680"/>
            <a:chOff x="3657600" y="1066680"/>
            <a:chExt cx="990360" cy="1066680"/>
          </a:xfrm>
        </p:grpSpPr>
        <p:sp>
          <p:nvSpPr>
            <p:cNvPr id="320" name=""/>
            <p:cNvSpPr/>
            <p:nvPr/>
          </p:nvSpPr>
          <p:spPr>
            <a:xfrm>
              <a:off x="3657600" y="1066680"/>
              <a:ext cx="990360" cy="1066680"/>
            </a:xfrm>
            <a:prstGeom prst="cloudCallout">
              <a:avLst>
                <a:gd name="adj1" fmla="val 3046"/>
                <a:gd name="adj2" fmla="val 49555"/>
              </a:avLst>
            </a:prstGeom>
            <a:gradFill rotWithShape="0">
              <a:gsLst>
                <a:gs pos="0">
                  <a:srgbClr val="66ffff"/>
                </a:gs>
                <a:gs pos="50000">
                  <a:srgbClr val="fefefe"/>
                </a:gs>
                <a:gs pos="100000">
                  <a:srgbClr val="66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733560" y="1218960"/>
              <a:ext cx="8384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</a:rPr>
                <a:t>CHRIS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</a:rPr>
                <a:t>COM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</a:rPr>
                <a:t>FOR  HI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</a:rPr>
                <a:t>SAIN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4610160" y="880920"/>
            <a:ext cx="2019240" cy="1851480"/>
            <a:chOff x="4610160" y="880920"/>
            <a:chExt cx="2019240" cy="1851480"/>
          </a:xfrm>
        </p:grpSpPr>
        <p:sp>
          <p:nvSpPr>
            <p:cNvPr id="323" name=""/>
            <p:cNvSpPr/>
            <p:nvPr/>
          </p:nvSpPr>
          <p:spPr>
            <a:xfrm rot="2220000">
              <a:off x="4876560" y="1143000"/>
              <a:ext cx="1315800" cy="1326960"/>
            </a:xfrm>
            <a:prstGeom prst="lightningBol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791320" y="1218960"/>
              <a:ext cx="83808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</a:rPr>
                <a:t>CHRIS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</a:rPr>
                <a:t>COM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</a:rPr>
                <a:t>WITH HI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</a:rPr>
                <a:t>SAIN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152280" y="2819520"/>
            <a:ext cx="8763120" cy="45720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50000">
                <a:srgbClr val="f5e7ea"/>
              </a:gs>
              <a:gs pos="100000">
                <a:srgbClr val="a5002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1981080" y="1530000"/>
            <a:ext cx="1004760" cy="1309680"/>
            <a:chOff x="1981080" y="1530000"/>
            <a:chExt cx="1004760" cy="1309680"/>
          </a:xfrm>
        </p:grpSpPr>
        <p:sp>
          <p:nvSpPr>
            <p:cNvPr id="327" name=""/>
            <p:cNvSpPr/>
            <p:nvPr/>
          </p:nvSpPr>
          <p:spPr>
            <a:xfrm rot="20050200">
              <a:off x="2264760" y="2642760"/>
              <a:ext cx="36000" cy="140040"/>
            </a:xfrm>
            <a:custGeom>
              <a:avLst/>
              <a:gdLst>
                <a:gd name="textAreaLeft" fmla="*/ 7920 w 36000"/>
                <a:gd name="textAreaRight" fmla="*/ 28080 w 36000"/>
                <a:gd name="textAreaTop" fmla="*/ 30600 h 140040"/>
                <a:gd name="textAreaBottom" fmla="*/ 109440 h 14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6699"/>
            </a:solidFill>
            <a:ln w="93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1981080" y="1530000"/>
              <a:ext cx="1004760" cy="1309680"/>
              <a:chOff x="1981080" y="1530000"/>
              <a:chExt cx="1004760" cy="1309680"/>
            </a:xfrm>
          </p:grpSpPr>
          <p:sp>
            <p:nvSpPr>
              <p:cNvPr id="329" name=""/>
              <p:cNvSpPr/>
              <p:nvPr/>
            </p:nvSpPr>
            <p:spPr>
              <a:xfrm>
                <a:off x="2217240" y="1666440"/>
                <a:ext cx="69480" cy="983160"/>
              </a:xfrm>
              <a:custGeom>
                <a:avLst/>
                <a:gdLst>
                  <a:gd name="textAreaLeft" fmla="*/ 15120 w 69480"/>
                  <a:gd name="textAreaRight" fmla="*/ 54360 w 69480"/>
                  <a:gd name="textAreaTop" fmla="*/ 216000 h 983160"/>
                  <a:gd name="textAreaBottom" fmla="*/ 767160 h 983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981080" y="1844280"/>
                <a:ext cx="517680" cy="60840"/>
              </a:xfrm>
              <a:custGeom>
                <a:avLst/>
                <a:gdLst>
                  <a:gd name="textAreaLeft" fmla="*/ 113760 w 517680"/>
                  <a:gd name="textAreaRight" fmla="*/ 403920 w 517680"/>
                  <a:gd name="textAreaTop" fmla="*/ 13320 h 60840"/>
                  <a:gd name="textAreaBottom" fmla="*/ 47520 h 60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12394200">
                <a:off x="2601000" y="1586160"/>
                <a:ext cx="60480" cy="1308960"/>
              </a:xfrm>
              <a:custGeom>
                <a:avLst/>
                <a:gdLst>
                  <a:gd name="textAreaLeft" fmla="*/ 12960 w 60480"/>
                  <a:gd name="textAreaRight" fmla="*/ 47520 w 60480"/>
                  <a:gd name="textAreaTop" fmla="*/ 281160 h 1308960"/>
                  <a:gd name="textAreaBottom" fmla="*/ 1027800 h 1308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393" y="21600"/>
                    </a:lnTo>
                    <a:lnTo>
                      <a:pt x="5207" y="21600"/>
                    </a:lnTo>
                    <a:close/>
                  </a:path>
                </a:pathLst>
              </a:custGeom>
              <a:solidFill>
                <a:srgbClr val="ff6699"/>
              </a:solidFill>
              <a:ln w="9360">
                <a:solidFill>
                  <a:srgbClr val="ff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V="1">
                <a:off x="2896560" y="1530000"/>
                <a:ext cx="89280" cy="175680"/>
              </a:xfrm>
              <a:prstGeom prst="line">
                <a:avLst/>
              </a:prstGeom>
              <a:ln w="76320">
                <a:solidFill>
                  <a:srgbClr val="ff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3" name=""/>
          <p:cNvSpPr/>
          <p:nvPr/>
        </p:nvSpPr>
        <p:spPr>
          <a:xfrm>
            <a:off x="2666880" y="327672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CHURCH  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267080" y="32767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TRIB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705720" y="3276720"/>
            <a:ext cx="14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MILLENN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362320" y="3276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962520" y="3429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2362320" y="34290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419076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638680" y="3276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924680" y="3429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5638680" y="3429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915400" y="3276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4191120" y="3276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638680" y="35812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362320" y="3505320"/>
            <a:ext cx="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915400" y="35812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7772400" y="838080"/>
            <a:ext cx="1189080" cy="1160280"/>
            <a:chOff x="7772400" y="838080"/>
            <a:chExt cx="1189080" cy="1160280"/>
          </a:xfrm>
        </p:grpSpPr>
        <p:pic>
          <p:nvPicPr>
            <p:cNvPr id="350" name="BD08987_" descr=""/>
            <p:cNvPicPr/>
            <p:nvPr/>
          </p:nvPicPr>
          <p:blipFill>
            <a:blip r:embed="rId3"/>
            <a:srcRect l="16581" t="0" r="8804" b="10675"/>
            <a:stretch/>
          </p:blipFill>
          <p:spPr>
            <a:xfrm>
              <a:off x="8458200" y="838080"/>
              <a:ext cx="503280" cy="83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"/>
            <p:cNvSpPr/>
            <p:nvPr/>
          </p:nvSpPr>
          <p:spPr>
            <a:xfrm>
              <a:off x="7772400" y="1143000"/>
              <a:ext cx="106668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</a:rPr>
                <a:t> 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</a:rPr>
                <a:t>GREAT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</a:rPr>
                <a:t>  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</a:rPr>
                <a:t>WHI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</a:rPr>
                <a:t>THRON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</a:rPr>
                <a:t>JUDGE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</a:rPr>
                <a:t>    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380520" y="3429000"/>
            <a:ext cx="2286360" cy="1160280"/>
            <a:chOff x="380520" y="3429000"/>
            <a:chExt cx="2286360" cy="1160280"/>
          </a:xfrm>
        </p:grpSpPr>
        <p:sp>
          <p:nvSpPr>
            <p:cNvPr id="353" name=""/>
            <p:cNvSpPr/>
            <p:nvPr/>
          </p:nvSpPr>
          <p:spPr>
            <a:xfrm>
              <a:off x="380880" y="3733920"/>
              <a:ext cx="2286000" cy="838080"/>
            </a:xfrm>
            <a:prstGeom prst="rect">
              <a:avLst/>
            </a:prstGeom>
            <a:gradFill rotWithShape="0">
              <a:gsLst>
                <a:gs pos="0">
                  <a:srgbClr val="66ff33"/>
                </a:gs>
                <a:gs pos="50000">
                  <a:srgbClr val="fefefe"/>
                </a:gs>
                <a:gs pos="100000">
                  <a:srgbClr val="66ff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4" name=""/>
            <p:cNvGrpSpPr/>
            <p:nvPr/>
          </p:nvGrpSpPr>
          <p:grpSpPr>
            <a:xfrm>
              <a:off x="380520" y="3429000"/>
              <a:ext cx="2286360" cy="1160280"/>
              <a:chOff x="380520" y="3429000"/>
              <a:chExt cx="2286360" cy="1160280"/>
            </a:xfrm>
          </p:grpSpPr>
          <p:sp>
            <p:nvSpPr>
              <p:cNvPr id="355" name=""/>
              <p:cNvSpPr/>
              <p:nvPr/>
            </p:nvSpPr>
            <p:spPr>
              <a:xfrm flipV="1">
                <a:off x="380880" y="350496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V="1">
                <a:off x="2666880" y="350496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838080" y="3429000"/>
                <a:ext cx="1447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Rounded MT Bold"/>
                  </a:rPr>
                  <a:t>RESTORATION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286000" y="358128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H="1">
                <a:off x="380520" y="35812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80880" y="3733920"/>
                <a:ext cx="22860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 Rounded MT Bold"/>
                  </a:rPr>
                  <a:t>PHYSICALLY  DEAD  RAISED  TO: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 Rounded MT Bold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 Rounded MT Bold"/>
                  </a:rPr>
                  <a:t>  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 Rounded MT Bold"/>
                  </a:rPr>
                  <a:t>PREVIOUS  STATE  OF  DECA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 Rounded MT Bold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 Rounded MT Bold"/>
                  </a:rPr>
                  <a:t> 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 Rounded MT Bold"/>
                  </a:rPr>
                  <a:t>A  MORTAL  BOD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 Rounded MT Bold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 Rounded MT Bold"/>
                  </a:rPr>
                  <a:t> 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 Rounded MT Bold"/>
                  </a:rPr>
                  <a:t>A  NATURAL  BOD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 Rounded MT Bold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 Rounded MT Bold"/>
                  </a:rPr>
                  <a:t> 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 Rounded MT Bold"/>
                  </a:rPr>
                  <a:t>PHYSICAL  DEATH  AGAI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1" name=""/>
          <p:cNvSpPr/>
          <p:nvPr/>
        </p:nvSpPr>
        <p:spPr>
          <a:xfrm>
            <a:off x="2362320" y="4876920"/>
            <a:ext cx="3276360" cy="8380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efefe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743200" y="4876920"/>
            <a:ext cx="25146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PHYSICALLY  DEAD  RAISED  WITH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AN  INCORRUPTABLE  BOD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AN  IMMORTAL  BOD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A  SPIRITUAL  BOD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ETERNAL  LIF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943600" y="5791320"/>
            <a:ext cx="2590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362320" y="4667400"/>
            <a:ext cx="0" cy="1199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666880" y="4419720"/>
            <a:ext cx="2819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THE  FIRST  RESURRECTION 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THE  BETTER  RESURRECTION 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410080" y="47624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2362320" y="47624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6629400" y="4267080"/>
            <a:ext cx="2514600" cy="1524240"/>
            <a:chOff x="6629400" y="4267080"/>
            <a:chExt cx="2514600" cy="1524240"/>
          </a:xfrm>
        </p:grpSpPr>
        <p:sp>
          <p:nvSpPr>
            <p:cNvPr id="369" name=""/>
            <p:cNvSpPr/>
            <p:nvPr/>
          </p:nvSpPr>
          <p:spPr>
            <a:xfrm>
              <a:off x="8839080" y="4724280"/>
              <a:ext cx="152640" cy="1067040"/>
            </a:xfrm>
            <a:prstGeom prst="rect">
              <a:avLst/>
            </a:prstGeom>
            <a:gradFill rotWithShape="0">
              <a:gsLst>
                <a:gs pos="0">
                  <a:srgbClr val="ff7c80"/>
                </a:gs>
                <a:gs pos="50000">
                  <a:srgbClr val="b15659"/>
                </a:gs>
                <a:gs pos="100000">
                  <a:srgbClr val="ff7c8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696080" y="4267080"/>
              <a:ext cx="1447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Rounded MT Bold"/>
                </a:rPr>
                <a:t>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Rounded MT Bold"/>
                </a:rPr>
                <a:t>LAST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Rounded MT Bold"/>
                </a:rPr>
                <a:t>RESURRE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629400" y="4724280"/>
              <a:ext cx="2286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</a:rPr>
                <a:t>PHYSICALLY  DEAD  RAISE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 Rounded MT Bol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Rounded MT Bold"/>
                </a:rPr>
                <a:t> 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</a:rPr>
                <a:t>FROM  ALL  AG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 Rounded MT Bol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</a:rPr>
                <a:t>WITH  AN  IMMORTAL  BOD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 Rounded MT Bol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</a:rPr>
                <a:t>TO  ETERNAL  CONDEMN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" name=""/>
          <p:cNvSpPr/>
          <p:nvPr/>
        </p:nvSpPr>
        <p:spPr>
          <a:xfrm flipV="1">
            <a:off x="4191120" y="22860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28600" y="1447920"/>
            <a:ext cx="1600200" cy="609480"/>
          </a:xfrm>
          <a:prstGeom prst="wedgeRoundRectCallout">
            <a:avLst>
              <a:gd name="adj1" fmla="val 25000"/>
              <a:gd name="adj2" fmla="val 105731"/>
              <a:gd name="adj3" fmla="val 16667"/>
            </a:avLst>
          </a:prstGeom>
          <a:gradFill rotWithShape="0">
            <a:gsLst>
              <a:gs pos="0">
                <a:srgbClr val="ff7c80"/>
              </a:gs>
              <a:gs pos="50000">
                <a:srgbClr val="ffccff"/>
              </a:gs>
              <a:gs pos="100000">
                <a:srgbClr val="ff7c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80880" y="15238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HOW  CAN  TH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RESURRE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BE  SUMMARIZED 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343400" y="654516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Page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676520" y="654516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/  1 June 2003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286000" y="5791320"/>
            <a:ext cx="35053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1. RESURRECTION TO EVERLASTING LIFE-DAN 12: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2. RESURRECTION  TO  LIFE               - JN 5:28,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3. RESURRECTION  OF  JUST              - ACTS 24: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4. FIRST  RESURRECTION                    - REV 20:4-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133720" y="4876920"/>
            <a:ext cx="152280" cy="1600200"/>
          </a:xfrm>
          <a:custGeom>
            <a:avLst/>
            <a:gdLst>
              <a:gd name="textAreaLeft" fmla="*/ 97200 w 152280"/>
              <a:gd name="textAreaRight" fmla="*/ 152640 w 15228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52280" y="5334120"/>
            <a:ext cx="2057400" cy="9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OT  SAINTS  UNDERSTO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&amp; ARE  AWAITING  TH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RESURRECTION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JOB19:25-27; PS 49:15; 71: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715000" y="5791320"/>
            <a:ext cx="3429000" cy="9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1. RESUR. TO EVERLASTING CONTEMPT - DAN 12: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2. RESUR.  TO  DAMNATION                              - JN 5: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3. RESUR.  OF  UNJUST                              - ACTS 24: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4. RESUR.  TO  2ND  DEATH                  - REV 20:13,14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8915400" y="17524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362320" y="304920"/>
            <a:ext cx="4495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90920" y="685800"/>
            <a:ext cx="3581280" cy="4572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33cc"/>
              </a:gs>
              <a:gs pos="50000">
                <a:srgbClr val="ffffff"/>
              </a:gs>
              <a:gs pos="100000">
                <a:srgbClr val="ff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00400" y="38088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HE  RESURRE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066680" y="1219320"/>
            <a:ext cx="2590920" cy="1295280"/>
            <a:chOff x="1066680" y="1219320"/>
            <a:chExt cx="2590920" cy="1295280"/>
          </a:xfrm>
        </p:grpSpPr>
        <p:sp>
          <p:nvSpPr>
            <p:cNvPr id="50" name=""/>
            <p:cNvSpPr/>
            <p:nvPr/>
          </p:nvSpPr>
          <p:spPr>
            <a:xfrm>
              <a:off x="1066680" y="1219320"/>
              <a:ext cx="2590920" cy="1295280"/>
            </a:xfrm>
            <a:prstGeom prst="wedgeRoundRectCallout">
              <a:avLst>
                <a:gd name="adj1" fmla="val -51226"/>
                <a:gd name="adj2" fmla="val 67402"/>
                <a:gd name="adj3" fmla="val 16667"/>
              </a:avLst>
            </a:prstGeom>
            <a:gradFill rotWithShape="0">
              <a:gsLst>
                <a:gs pos="0">
                  <a:srgbClr val="99ccff"/>
                </a:gs>
                <a:gs pos="50000">
                  <a:srgbClr val="fefefe"/>
                </a:gs>
                <a:gs pos="100000">
                  <a:srgbClr val="99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066680" y="1523880"/>
              <a:ext cx="25909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Rounded MT Bold"/>
                </a:rPr>
                <a:t>HOW  DO  THE  PASSAGES  ON  THE  RESURRE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Rounded MT Bold"/>
                </a:rPr>
                <a:t>CORRELATE 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5638680" y="1981080"/>
            <a:ext cx="2667240" cy="1295280"/>
            <a:chOff x="5638680" y="1981080"/>
            <a:chExt cx="2667240" cy="1295280"/>
          </a:xfrm>
        </p:grpSpPr>
        <p:sp>
          <p:nvSpPr>
            <p:cNvPr id="53" name=""/>
            <p:cNvSpPr/>
            <p:nvPr/>
          </p:nvSpPr>
          <p:spPr>
            <a:xfrm>
              <a:off x="5638680" y="1981080"/>
              <a:ext cx="2590920" cy="1295280"/>
            </a:xfrm>
            <a:prstGeom prst="wedgeRoundRectCallout">
              <a:avLst>
                <a:gd name="adj1" fmla="val -46324"/>
                <a:gd name="adj2" fmla="val 60537"/>
                <a:gd name="adj3" fmla="val 16667"/>
              </a:avLst>
            </a:prstGeom>
            <a:gradFill rotWithShape="0">
              <a:gsLst>
                <a:gs pos="0">
                  <a:srgbClr val="ff66ff"/>
                </a:gs>
                <a:gs pos="50000">
                  <a:srgbClr val="fefefe"/>
                </a:gs>
                <a:gs pos="100000">
                  <a:srgbClr val="ff66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638680" y="2286000"/>
              <a:ext cx="26672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Rounded MT Bold"/>
                </a:rPr>
                <a:t>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Rounded MT Bold"/>
                </a:rPr>
                <a:t>WHAT  ARE THE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Rounded MT Bold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Rounded MT Bold"/>
                </a:rPr>
                <a:t>THEOLOGICAL  VIEW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Rounded MT Bold"/>
                </a:rPr>
                <a:t>ON  THE  RESURRECTION 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1905120" y="3124080"/>
            <a:ext cx="2971800" cy="1218960"/>
            <a:chOff x="1905120" y="3124080"/>
            <a:chExt cx="2971800" cy="1218960"/>
          </a:xfrm>
        </p:grpSpPr>
        <p:sp>
          <p:nvSpPr>
            <p:cNvPr id="56" name=""/>
            <p:cNvSpPr/>
            <p:nvPr/>
          </p:nvSpPr>
          <p:spPr>
            <a:xfrm>
              <a:off x="1905120" y="3124080"/>
              <a:ext cx="2971800" cy="1218960"/>
            </a:xfrm>
            <a:prstGeom prst="wedgeRoundRectCallout">
              <a:avLst>
                <a:gd name="adj1" fmla="val 63462"/>
                <a:gd name="adj2" fmla="val 42449"/>
                <a:gd name="adj3" fmla="val 16667"/>
              </a:avLst>
            </a:prstGeom>
            <a:gradFill rotWithShape="0">
              <a:gsLst>
                <a:gs pos="0">
                  <a:srgbClr val="00ffff"/>
                </a:gs>
                <a:gs pos="50000">
                  <a:srgbClr val="fefefe"/>
                </a:gs>
                <a:gs pos="100000">
                  <a:srgbClr val="00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905120" y="3428640"/>
              <a:ext cx="2895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Rounded MT Bold"/>
                </a:rPr>
                <a:t>ARE  THERE  DISTINC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Rounded MT Bold"/>
                </a:rPr>
                <a:t>BETWEEN  RESURRECTIONS 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380880" y="4572000"/>
            <a:ext cx="2743200" cy="1066680"/>
            <a:chOff x="380880" y="4572000"/>
            <a:chExt cx="2743200" cy="1066680"/>
          </a:xfrm>
        </p:grpSpPr>
        <p:sp>
          <p:nvSpPr>
            <p:cNvPr id="59" name=""/>
            <p:cNvSpPr/>
            <p:nvPr/>
          </p:nvSpPr>
          <p:spPr>
            <a:xfrm>
              <a:off x="380880" y="4572000"/>
              <a:ext cx="2743200" cy="1066680"/>
            </a:xfrm>
            <a:prstGeom prst="wedgeRoundRectCallout">
              <a:avLst>
                <a:gd name="adj1" fmla="val -60879"/>
                <a:gd name="adj2" fmla="val 66370"/>
                <a:gd name="adj3" fmla="val 16667"/>
              </a:avLst>
            </a:prstGeom>
            <a:gradFill rotWithShape="0">
              <a:gsLst>
                <a:gs pos="0">
                  <a:srgbClr val="66ff99"/>
                </a:gs>
                <a:gs pos="50000">
                  <a:srgbClr val="fefefe"/>
                </a:gs>
                <a:gs pos="100000">
                  <a:srgbClr val="66ff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9480" y="4876560"/>
              <a:ext cx="24382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Rounded MT Bold"/>
                </a:rPr>
                <a:t>WHAT  RESURREC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Rounded MT Bold"/>
                </a:rPr>
                <a:t>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Rounded MT Bold"/>
                </a:rPr>
                <a:t>ARE  FUTURE 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5334120" y="4876920"/>
            <a:ext cx="2209680" cy="1295280"/>
            <a:chOff x="5334120" y="4876920"/>
            <a:chExt cx="2209680" cy="1295280"/>
          </a:xfrm>
        </p:grpSpPr>
        <p:sp>
          <p:nvSpPr>
            <p:cNvPr id="62" name=""/>
            <p:cNvSpPr/>
            <p:nvPr/>
          </p:nvSpPr>
          <p:spPr>
            <a:xfrm>
              <a:off x="5334120" y="4876920"/>
              <a:ext cx="2209680" cy="1295280"/>
            </a:xfrm>
            <a:prstGeom prst="wedgeRoundRectCallout">
              <a:avLst>
                <a:gd name="adj1" fmla="val -36495"/>
                <a:gd name="adj2" fmla="val 70342"/>
                <a:gd name="adj3" fmla="val 16667"/>
              </a:avLst>
            </a:prstGeom>
            <a:gradFill rotWithShape="0">
              <a:gsLst>
                <a:gs pos="0">
                  <a:srgbClr val="ff7c80"/>
                </a:gs>
                <a:gs pos="50000">
                  <a:srgbClr val="ffccff"/>
                </a:gs>
                <a:gs pos="100000">
                  <a:srgbClr val="ff7c8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562720" y="5181840"/>
              <a:ext cx="19047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Rounded MT Bold"/>
                </a:rPr>
                <a:t>HOW  CAN  TH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Rounded MT Bold"/>
                </a:rPr>
                <a:t>RESURREC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Rounded MT Bold"/>
                </a:rPr>
                <a:t>BE  SUMMARIZED 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2819520" y="762120"/>
            <a:ext cx="32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SOME  IMPORTANT  QUES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91120" y="65070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76520" y="65214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/  4 MAY 2003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362320" y="304920"/>
            <a:ext cx="4495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5120" y="685800"/>
            <a:ext cx="5181480" cy="6094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33cc"/>
              </a:gs>
              <a:gs pos="50000">
                <a:srgbClr val="ffffff"/>
              </a:gs>
              <a:gs pos="100000">
                <a:srgbClr val="ff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00400" y="38088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HE  RESURRE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523880"/>
            <a:ext cx="9144000" cy="47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 Rounded MT Bold"/>
                <a:ea typeface="Times New Roman"/>
              </a:rPr>
              <a:t>Daniel 12:1-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.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at that time shall Michael stand up, the great prince  which standeth for the children of thy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ople: and there shall be a time of trouble, such as never was since there was a nation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that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e time: and at that time thy people shall be delivered, every one that shall be found written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oo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.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many of them that sleep in the dust of the earth shall awake, some 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to everlasting life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to shame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everlasting contempt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    </a:t>
            </a:r>
            <a:r>
              <a:rPr b="1" lang="en-US" sz="1600" spc="-1" strike="noStrike">
                <a:solidFill>
                  <a:srgbClr val="0000ff"/>
                </a:solidFill>
                <a:latin typeface="Arial Rounded MT Bold"/>
                <a:ea typeface="Arial"/>
              </a:rPr>
              <a:t>John 5:25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  </a:t>
            </a:r>
            <a:r>
              <a:rPr b="0" lang="en-US" sz="16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Verily, verily, I say unto you, The hour is coming, and now is, when </a:t>
            </a:r>
            <a:r>
              <a:rPr b="0" lang="en-US" sz="1600" spc="-1" strike="noStrike">
                <a:solidFill>
                  <a:srgbClr val="0000ff"/>
                </a:solidFill>
                <a:latin typeface="Arial Rounded MT Bold"/>
                <a:ea typeface="Arial"/>
              </a:rPr>
              <a:t>the dead</a:t>
            </a:r>
            <a:r>
              <a:rPr b="0" lang="en-US" sz="16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 sh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   </a:t>
            </a:r>
            <a:r>
              <a:rPr b="0" lang="en-US" sz="16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hear the voice of the Son of God: and they that hear shall liv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 Rounded MT Bold"/>
                <a:ea typeface="Arial"/>
              </a:rPr>
              <a:t>    </a:t>
            </a:r>
            <a:r>
              <a:rPr b="1" lang="en-US" sz="1600" spc="-1" strike="noStrike">
                <a:solidFill>
                  <a:srgbClr val="0000ff"/>
                </a:solidFill>
                <a:latin typeface="Arial Rounded MT Bold"/>
                <a:ea typeface="Arial"/>
              </a:rPr>
              <a:t>John 5:28-29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Marvel not at this: for the hour is coming, in the which all that are in the graves shall hea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his voice, </a:t>
            </a:r>
            <a:r>
              <a:rPr b="0" lang="en-US" sz="1600" spc="-1" strike="noStrike">
                <a:solidFill>
                  <a:srgbClr val="0000ff"/>
                </a:solidFill>
                <a:latin typeface="Arial Rounded MT Bold"/>
                <a:ea typeface="Arial"/>
              </a:rPr>
              <a:t>29</a:t>
            </a:r>
            <a:r>
              <a:rPr b="0" lang="en-US" sz="16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And shall come forth; they that have done good, unto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 Rounded MT Bold"/>
                <a:ea typeface="Arial"/>
              </a:rPr>
              <a:t>the resurrection of</a:t>
            </a:r>
            <a:r>
              <a:rPr b="0" lang="en-US" sz="16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 Rounded MT Bold"/>
                <a:ea typeface="Arial"/>
              </a:rPr>
              <a:t>life</a:t>
            </a:r>
            <a:r>
              <a:rPr b="0" lang="en-US" sz="16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;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and they that have done evil, unto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 Rounded MT Bold"/>
                <a:ea typeface="Arial"/>
              </a:rPr>
              <a:t>the resurrection of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Arial Rounded MT Bold"/>
                <a:ea typeface="Arial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 Rounded MT Bold"/>
                <a:ea typeface="Arial"/>
              </a:rPr>
              <a:t>damnation</a:t>
            </a:r>
            <a:r>
              <a:rPr b="1" lang="en-US" sz="1600" spc="-1" strike="noStrike">
                <a:solidFill>
                  <a:srgbClr val="0000ff"/>
                </a:solidFill>
                <a:latin typeface="Arial Rounded MT Bold"/>
                <a:ea typeface="Arial"/>
              </a:rPr>
              <a:t>.</a:t>
            </a:r>
            <a:r>
              <a:rPr b="0" lang="en-US" sz="16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</a:t>
            </a:r>
            <a:r>
              <a:rPr b="1" lang="en-US" sz="1600" spc="-1" strike="noStrike">
                <a:solidFill>
                  <a:srgbClr val="0000ff"/>
                </a:solidFill>
                <a:latin typeface="Arial Rounded MT Bold"/>
                <a:ea typeface="Arial"/>
              </a:rPr>
              <a:t>Acts 24:15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And have hope toward God, which they themselves also allow, that there shall be a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 Rounded MT Bold"/>
                <a:ea typeface="Arial"/>
              </a:rPr>
              <a:t>resurrection of the dead, both of the just and unjus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438280" y="83808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SOME  PASSAGES  ON  THE  RESURR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7696080" y="380880"/>
            <a:ext cx="1143000" cy="1143000"/>
            <a:chOff x="7696080" y="380880"/>
            <a:chExt cx="1143000" cy="1143000"/>
          </a:xfrm>
        </p:grpSpPr>
        <p:sp>
          <p:nvSpPr>
            <p:cNvPr id="73" name=""/>
            <p:cNvSpPr/>
            <p:nvPr/>
          </p:nvSpPr>
          <p:spPr>
            <a:xfrm>
              <a:off x="7696080" y="380880"/>
              <a:ext cx="1143000" cy="1143000"/>
            </a:xfrm>
            <a:prstGeom prst="wedgeRoundRectCallout">
              <a:avLst>
                <a:gd name="adj1" fmla="val -51226"/>
                <a:gd name="adj2" fmla="val 67402"/>
                <a:gd name="adj3" fmla="val 16667"/>
              </a:avLst>
            </a:prstGeom>
            <a:gradFill rotWithShape="0">
              <a:gsLst>
                <a:gs pos="0">
                  <a:srgbClr val="99ccff"/>
                </a:gs>
                <a:gs pos="50000">
                  <a:srgbClr val="fefefe"/>
                </a:gs>
                <a:gs pos="100000">
                  <a:srgbClr val="99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96080" y="649440"/>
              <a:ext cx="11430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Rounded MT Bold"/>
                </a:rPr>
                <a:t>HOW  DO  THE  PASSAG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Rounded MT Bold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 Rounded MT Bold"/>
                </a:rPr>
                <a:t>ON  THE  RESURRECTI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Rounded MT Bold"/>
                </a:rPr>
                <a:t>CORRELATE ?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4419720" y="647712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Pag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76520" y="653724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/  4 MAY 2003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362320" y="304920"/>
            <a:ext cx="4495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05120" y="685800"/>
            <a:ext cx="5181480" cy="4572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33cc"/>
              </a:gs>
              <a:gs pos="50000">
                <a:srgbClr val="ffffff"/>
              </a:gs>
              <a:gs pos="100000">
                <a:srgbClr val="ff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38088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HE  RESURRE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83808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914400"/>
            <a:ext cx="9144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762120" y="1143000"/>
          <a:ext cx="7619760" cy="5403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143000"/>
                    <a:ext cx="7619760" cy="54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2362320" y="762120"/>
            <a:ext cx="426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SOME  PASSAGES  ON  THE  RESURR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191120" y="655308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343400" y="654516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Pag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656748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/  1 June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362320" y="304920"/>
            <a:ext cx="4495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14600" y="685800"/>
            <a:ext cx="3733920" cy="6094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33cc"/>
              </a:gs>
              <a:gs pos="50000">
                <a:srgbClr val="ffffff"/>
              </a:gs>
              <a:gs pos="100000">
                <a:srgbClr val="ff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00400" y="38088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HE  RESURRE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24080" y="838080"/>
            <a:ext cx="289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HE  AMILLENNIAL* 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6172200"/>
            <a:ext cx="655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Arial Rounded MT Bold"/>
              </a:rPr>
              <a:t>*  AMILLENNIALISM :   BELIEVES  THERE  IS  NO  MILLENNIAL (1000 YEAR)  KINGDOM  ON  EARTH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486400"/>
            <a:ext cx="35812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GOD’S  KINGDOM :  WORKING  FOR  G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SATAN’S  KINGDOM :  WORKING  FOR  EV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4648320"/>
            <a:ext cx="7391520" cy="68580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50000">
                <a:srgbClr val="fefefe"/>
              </a:gs>
              <a:gs pos="100000">
                <a:srgbClr val="66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CROSS-1" descr=""/>
          <p:cNvPicPr/>
          <p:nvPr/>
        </p:nvPicPr>
        <p:blipFill>
          <a:blip r:embed="rId1"/>
          <a:srcRect l="20071" t="0" r="18790" b="11113"/>
          <a:stretch/>
        </p:blipFill>
        <p:spPr>
          <a:xfrm>
            <a:off x="2971800" y="4114800"/>
            <a:ext cx="457200" cy="12193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85800" y="480060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ISRAEL = CHU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95680" y="480060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CHURCH = ISRA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5334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0120" y="5334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38880" y="56386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8880" y="58672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342900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429000" y="58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4724280"/>
            <a:ext cx="838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END 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6400800" y="534960"/>
            <a:ext cx="2743200" cy="3960720"/>
            <a:chOff x="6400800" y="534960"/>
            <a:chExt cx="2743200" cy="3960720"/>
          </a:xfrm>
        </p:grpSpPr>
        <p:sp>
          <p:nvSpPr>
            <p:cNvPr id="106" name=""/>
            <p:cNvSpPr/>
            <p:nvPr/>
          </p:nvSpPr>
          <p:spPr>
            <a:xfrm rot="2220000">
              <a:off x="6879960" y="797040"/>
              <a:ext cx="1315800" cy="1326960"/>
            </a:xfrm>
            <a:prstGeom prst="lightningBol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799400" y="1116000"/>
              <a:ext cx="1192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Rounded MT Bold"/>
                </a:rPr>
                <a:t>CHRIST’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Rounded MT Bold"/>
                </a:rPr>
                <a:t>2nd CO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543800" y="3124080"/>
              <a:ext cx="228600" cy="1371600"/>
            </a:xfrm>
            <a:prstGeom prst="upArrow">
              <a:avLst>
                <a:gd name="adj1" fmla="val 50000"/>
                <a:gd name="adj2" fmla="val 150000"/>
              </a:avLst>
            </a:prstGeom>
            <a:solidFill>
              <a:srgbClr val="ff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400800" y="28954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cc"/>
                  </a:solidFill>
                  <a:latin typeface="Arial Rounded MT Bold"/>
                </a:rPr>
                <a:t>GENERAL  RESURRE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705720" y="3124080"/>
              <a:ext cx="24382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 Rounded MT Bold"/>
                </a:rPr>
                <a:t>JUST    &amp;          UNJU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 Rounded MT Bold"/>
                </a:rPr>
                <a:t>LIFE      &amp;          DAMN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 Rounded MT Bold"/>
                </a:rPr>
                <a:t>FIRST   &amp;        “SECOND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772400" y="1973160"/>
              <a:ext cx="1219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Rounded MT Bold"/>
                </a:rPr>
                <a:t>GENER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Rounded MT Bold"/>
                </a:rPr>
                <a:t>JUDG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229600" y="1523880"/>
              <a:ext cx="152280" cy="4572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229600" y="2438280"/>
              <a:ext cx="152280" cy="457200"/>
            </a:xfrm>
            <a:prstGeom prst="upArrow">
              <a:avLst>
                <a:gd name="adj1" fmla="val 50000"/>
                <a:gd name="adj2" fmla="val 75059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838080" y="1371600"/>
            <a:ext cx="1524240" cy="782640"/>
            <a:chOff x="838080" y="1371600"/>
            <a:chExt cx="1524240" cy="782640"/>
          </a:xfrm>
        </p:grpSpPr>
        <p:sp>
          <p:nvSpPr>
            <p:cNvPr id="115" name=""/>
            <p:cNvSpPr/>
            <p:nvPr/>
          </p:nvSpPr>
          <p:spPr>
            <a:xfrm>
              <a:off x="914400" y="1371600"/>
              <a:ext cx="1406520" cy="782640"/>
            </a:xfrm>
            <a:prstGeom prst="wedgeRoundRectCallout">
              <a:avLst>
                <a:gd name="adj1" fmla="val 78328"/>
                <a:gd name="adj2" fmla="val -57912"/>
                <a:gd name="adj3" fmla="val 16667"/>
              </a:avLst>
            </a:prstGeom>
            <a:gradFill rotWithShape="0">
              <a:gsLst>
                <a:gs pos="0">
                  <a:srgbClr val="ffff66"/>
                </a:gs>
                <a:gs pos="50000">
                  <a:srgbClr val="fefefe"/>
                </a:gs>
                <a:gs pos="100000">
                  <a:srgbClr val="ffff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38080" y="1371600"/>
              <a:ext cx="1524240" cy="7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Rounded MT Bold"/>
                </a:rPr>
                <a:t>     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 Rounded MT Bold"/>
                </a:rPr>
                <a:t>WHAT  ARE THE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Rounded MT Bold"/>
                </a:rPr>
                <a:t>          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 Rounded MT Bold"/>
                </a:rPr>
                <a:t>THEOLOGICAL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Rounded MT Bold"/>
                </a:rPr>
                <a:t>         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 Rounded MT Bold"/>
                </a:rPr>
                <a:t>VIEWS ON THE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Rounded MT Bold"/>
                </a:rPr>
                <a:t>        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 Rounded MT Bold"/>
                </a:rPr>
                <a:t>RESURRECTION ?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4114800" y="65451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Pag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76520" y="654516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/  4 MAY 2003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362320" y="304920"/>
            <a:ext cx="4495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05120" y="685800"/>
            <a:ext cx="5181480" cy="6094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33cc"/>
              </a:gs>
              <a:gs pos="50000">
                <a:srgbClr val="ffffff"/>
              </a:gs>
              <a:gs pos="100000">
                <a:srgbClr val="ff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00400" y="38088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HE  RESURRE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4648320"/>
            <a:ext cx="7391520" cy="68580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50000">
                <a:srgbClr val="fefefe"/>
              </a:gs>
              <a:gs pos="100000">
                <a:srgbClr val="ff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CROSS-1" descr=""/>
          <p:cNvPicPr/>
          <p:nvPr/>
        </p:nvPicPr>
        <p:blipFill>
          <a:blip r:embed="rId1"/>
          <a:srcRect l="20071" t="0" r="18790" b="11113"/>
          <a:stretch/>
        </p:blipFill>
        <p:spPr>
          <a:xfrm>
            <a:off x="2971800" y="4114800"/>
            <a:ext cx="457200" cy="12193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685800" y="480060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ISRAEL = CHU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480060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CHURCH = ISRA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429000" y="5334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20120" y="5334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428640" y="5638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72400" y="4724280"/>
            <a:ext cx="838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END 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657600" y="548640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 Rounded MT Bold"/>
              </a:rPr>
              <a:t>GREAT  COMMIS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429000" y="5791320"/>
            <a:ext cx="220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WORLD  CHRISTIAN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TRIUMPH  OVER  EV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895480" y="806400"/>
            <a:ext cx="358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HE  POST- MILLENNIAL 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54864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 Rounded MT Bold"/>
              </a:rPr>
              <a:t>MILLENN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91320" y="5730840"/>
            <a:ext cx="1904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UNDEFINED  PERI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OF 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RIGHTEOUSNESS 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PEACE  ON 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2220000">
            <a:off x="6879960" y="797040"/>
            <a:ext cx="1315800" cy="1326960"/>
          </a:xfrm>
          <a:prstGeom prst="lightningBol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799400" y="1116000"/>
            <a:ext cx="1192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CHRIST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2nd COM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543800" y="3124080"/>
            <a:ext cx="228600" cy="1371600"/>
          </a:xfrm>
          <a:prstGeom prst="upArrow">
            <a:avLst>
              <a:gd name="adj1" fmla="val 50000"/>
              <a:gd name="adj2" fmla="val 150000"/>
            </a:avLst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400800" y="289548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 Rounded MT Bold"/>
              </a:rPr>
              <a:t>GENERAL  RESURR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705720" y="3124080"/>
            <a:ext cx="2438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 Rounded MT Bold"/>
              </a:rPr>
              <a:t>JUST    &amp;          UNJU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 Rounded MT Bold"/>
              </a:rPr>
              <a:t>LIFE      &amp;          DAM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 Rounded MT Bold"/>
              </a:rPr>
              <a:t>FIRST   &amp;        “SECON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772400" y="197316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99"/>
                </a:solidFill>
                <a:latin typeface="Arial Rounded MT Bold"/>
              </a:rPr>
              <a:t>GEN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99"/>
                </a:solidFill>
                <a:latin typeface="Arial Rounded MT Bold"/>
              </a:rPr>
              <a:t>JUD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229600" y="1523880"/>
            <a:ext cx="152280" cy="457200"/>
          </a:xfrm>
          <a:prstGeom prst="downArrow">
            <a:avLst>
              <a:gd name="adj1" fmla="val 50000"/>
              <a:gd name="adj2" fmla="val 750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229600" y="2438280"/>
            <a:ext cx="152280" cy="457200"/>
          </a:xfrm>
          <a:prstGeom prst="upArrow">
            <a:avLst>
              <a:gd name="adj1" fmla="val 50000"/>
              <a:gd name="adj2" fmla="val 750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086600" y="5638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4400" y="1371600"/>
            <a:ext cx="1406520" cy="782640"/>
          </a:xfrm>
          <a:prstGeom prst="wedgeRoundRectCallout">
            <a:avLst>
              <a:gd name="adj1" fmla="val 78328"/>
              <a:gd name="adj2" fmla="val -57912"/>
              <a:gd name="adj3" fmla="val 16667"/>
            </a:avLst>
          </a:prstGeom>
          <a:gradFill rotWithShape="0">
            <a:gsLst>
              <a:gs pos="0">
                <a:srgbClr val="66ccff"/>
              </a:gs>
              <a:gs pos="50000">
                <a:srgbClr val="fefefe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38080" y="1371600"/>
            <a:ext cx="1524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WHAT  ARE THE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THEOLOGICAL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VIEWS ON THE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RESURRECTION 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038480" y="654516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Pag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76520" y="653724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/  4 MAY 2003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362320" y="304920"/>
            <a:ext cx="4495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05120" y="685800"/>
            <a:ext cx="5181480" cy="6094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33cc"/>
              </a:gs>
              <a:gs pos="50000">
                <a:srgbClr val="ffffff"/>
              </a:gs>
              <a:gs pos="100000">
                <a:srgbClr val="ff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00400" y="38088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HE  RESURRE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00400" y="83808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PAST  RESURRE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228600" y="1454760"/>
            <a:ext cx="8610480" cy="3345840"/>
            <a:chOff x="228600" y="1454760"/>
            <a:chExt cx="8610480" cy="3345840"/>
          </a:xfrm>
        </p:grpSpPr>
        <p:pic>
          <p:nvPicPr>
            <p:cNvPr id="154" name="" descr=""/>
            <p:cNvPicPr/>
            <p:nvPr/>
          </p:nvPicPr>
          <p:blipFill>
            <a:blip r:embed="rId1"/>
            <a:stretch/>
          </p:blipFill>
          <p:spPr>
            <a:xfrm>
              <a:off x="4495680" y="3581280"/>
              <a:ext cx="102816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228600" y="2971800"/>
              <a:ext cx="8610480" cy="533520"/>
            </a:xfrm>
            <a:prstGeom prst="rect">
              <a:avLst/>
            </a:prstGeom>
            <a:gradFill rotWithShape="0">
              <a:gsLst>
                <a:gs pos="0">
                  <a:srgbClr val="990033"/>
                </a:gs>
                <a:gs pos="50000">
                  <a:srgbClr val="fefefe"/>
                </a:gs>
                <a:gs pos="100000">
                  <a:srgbClr val="9900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6" name="Golf" descr=""/>
            <p:cNvPicPr/>
            <p:nvPr/>
          </p:nvPicPr>
          <p:blipFill>
            <a:blip r:embed="rId2"/>
            <a:srcRect l="0" t="0" r="39170" b="14004"/>
            <a:stretch/>
          </p:blipFill>
          <p:spPr>
            <a:xfrm>
              <a:off x="1371240" y="3581280"/>
              <a:ext cx="58392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Haystack%2520Thinker" descr=""/>
            <p:cNvPicPr/>
            <p:nvPr/>
          </p:nvPicPr>
          <p:blipFill>
            <a:blip r:embed="rId3"/>
            <a:srcRect l="36002" t="17653" r="0" b="2939"/>
            <a:stretch/>
          </p:blipFill>
          <p:spPr>
            <a:xfrm>
              <a:off x="533160" y="3581280"/>
              <a:ext cx="837720" cy="56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Headphone%2520Girl" descr=""/>
            <p:cNvPicPr/>
            <p:nvPr/>
          </p:nvPicPr>
          <p:blipFill>
            <a:blip r:embed="rId4"/>
            <a:srcRect l="3494" t="6803" r="26741" b="1996"/>
            <a:stretch/>
          </p:blipFill>
          <p:spPr>
            <a:xfrm>
              <a:off x="2133360" y="3581280"/>
              <a:ext cx="45036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Hand%2520Raised" descr=""/>
            <p:cNvPicPr/>
            <p:nvPr/>
          </p:nvPicPr>
          <p:blipFill>
            <a:blip r:embed="rId5"/>
            <a:srcRect l="27067" t="0" r="5264" b="44801"/>
            <a:stretch/>
          </p:blipFill>
          <p:spPr>
            <a:xfrm>
              <a:off x="2819160" y="3581280"/>
              <a:ext cx="59652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At%20Bema" descr=""/>
            <p:cNvPicPr/>
            <p:nvPr/>
          </p:nvPicPr>
          <p:blipFill>
            <a:blip r:embed="rId6"/>
            <a:srcRect l="50675" t="23271" r="42591" b="58525"/>
            <a:stretch/>
          </p:blipFill>
          <p:spPr>
            <a:xfrm>
              <a:off x="3733560" y="3581280"/>
              <a:ext cx="456840" cy="9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At%20Bema" descr=""/>
            <p:cNvPicPr/>
            <p:nvPr/>
          </p:nvPicPr>
          <p:blipFill>
            <a:blip r:embed="rId7"/>
            <a:srcRect l="38327" t="23271" r="56069" b="58525"/>
            <a:stretch/>
          </p:blipFill>
          <p:spPr>
            <a:xfrm>
              <a:off x="5943240" y="3581280"/>
              <a:ext cx="380880" cy="930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2" name=""/>
            <p:cNvGrpSpPr/>
            <p:nvPr/>
          </p:nvGrpSpPr>
          <p:grpSpPr>
            <a:xfrm>
              <a:off x="4114440" y="1454760"/>
              <a:ext cx="1234440" cy="1600920"/>
              <a:chOff x="4114440" y="1454760"/>
              <a:chExt cx="1234440" cy="1600920"/>
            </a:xfrm>
          </p:grpSpPr>
          <p:sp>
            <p:nvSpPr>
              <p:cNvPr id="163" name=""/>
              <p:cNvSpPr/>
              <p:nvPr/>
            </p:nvSpPr>
            <p:spPr>
              <a:xfrm rot="20050200">
                <a:off x="4463640" y="2815920"/>
                <a:ext cx="44640" cy="171000"/>
              </a:xfrm>
              <a:custGeom>
                <a:avLst/>
                <a:gdLst>
                  <a:gd name="textAreaLeft" fmla="*/ 9720 w 44640"/>
                  <a:gd name="textAreaRight" fmla="*/ 34920 w 44640"/>
                  <a:gd name="textAreaTop" fmla="*/ 37440 h 171000"/>
                  <a:gd name="textAreaBottom" fmla="*/ 133560 h 171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6699"/>
              </a:solidFill>
              <a:ln w="9360">
                <a:solidFill>
                  <a:srgbClr val="ff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4" name=""/>
              <p:cNvGrpSpPr/>
              <p:nvPr/>
            </p:nvGrpSpPr>
            <p:grpSpPr>
              <a:xfrm>
                <a:off x="4114440" y="1454760"/>
                <a:ext cx="1234440" cy="1600920"/>
                <a:chOff x="4114440" y="1454760"/>
                <a:chExt cx="1234440" cy="160092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4404960" y="1622160"/>
                  <a:ext cx="85680" cy="1201320"/>
                </a:xfrm>
                <a:custGeom>
                  <a:avLst/>
                  <a:gdLst>
                    <a:gd name="textAreaLeft" fmla="*/ 18720 w 85680"/>
                    <a:gd name="textAreaRight" fmla="*/ 66960 w 85680"/>
                    <a:gd name="textAreaTop" fmla="*/ 264240 h 1201320"/>
                    <a:gd name="textAreaBottom" fmla="*/ 937080 h 1201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blipFill rotWithShape="0">
                  <a:blip r:embed="rId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4114440" y="1839600"/>
                  <a:ext cx="636480" cy="74160"/>
                </a:xfrm>
                <a:custGeom>
                  <a:avLst/>
                  <a:gdLst>
                    <a:gd name="textAreaLeft" fmla="*/ 140040 w 636480"/>
                    <a:gd name="textAreaRight" fmla="*/ 496440 w 636480"/>
                    <a:gd name="textAreaTop" fmla="*/ 16200 h 74160"/>
                    <a:gd name="textAreaBottom" fmla="*/ 57960 h 74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blipFill rotWithShape="0">
                  <a:blip r:embed="rId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 rot="12394200">
                  <a:off x="4875840" y="1523520"/>
                  <a:ext cx="74520" cy="1599840"/>
                </a:xfrm>
                <a:custGeom>
                  <a:avLst/>
                  <a:gdLst>
                    <a:gd name="textAreaLeft" fmla="*/ 15840 w 74520"/>
                    <a:gd name="textAreaRight" fmla="*/ 58680 w 74520"/>
                    <a:gd name="textAreaTop" fmla="*/ 343800 h 1599840"/>
                    <a:gd name="textAreaBottom" fmla="*/ 1256040 h 1599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393" y="21600"/>
                      </a:lnTo>
                      <a:lnTo>
                        <a:pt x="5207" y="21600"/>
                      </a:lnTo>
                      <a:close/>
                    </a:path>
                  </a:pathLst>
                </a:custGeom>
                <a:solidFill>
                  <a:srgbClr val="ff6699"/>
                </a:solidFill>
                <a:ln w="936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 flipV="1">
                  <a:off x="5239800" y="1454760"/>
                  <a:ext cx="109080" cy="215640"/>
                </a:xfrm>
                <a:prstGeom prst="line">
                  <a:avLst/>
                </a:prstGeom>
                <a:ln w="76320">
                  <a:solidFill>
                    <a:srgbClr val="ff33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69" name="Man&amp;Woman" descr=""/>
            <p:cNvPicPr/>
            <p:nvPr/>
          </p:nvPicPr>
          <p:blipFill>
            <a:blip r:embed="rId10"/>
            <a:srcRect l="0" t="0" r="46943" b="0"/>
            <a:stretch/>
          </p:blipFill>
          <p:spPr>
            <a:xfrm>
              <a:off x="6705360" y="3581280"/>
              <a:ext cx="277560" cy="10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2438280" y="3048120"/>
              <a:ext cx="396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99"/>
                  </a:solidFill>
                  <a:latin typeface="Arial Rounded MT Bold"/>
                </a:rPr>
                <a:t>RESURRECTIONS  FROM  THE  DEA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80880" y="4114800"/>
            <a:ext cx="106704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WIDOW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1 KI 17:17-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14400" y="4648320"/>
            <a:ext cx="121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SHUNAMMITE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2 KI 4:18-3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666880" y="5257800"/>
            <a:ext cx="1371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819520" y="4495680"/>
            <a:ext cx="914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WIDOW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LK 7:11-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505320" y="4495680"/>
            <a:ext cx="99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LAZAR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JN 11:32-4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0" y="4724280"/>
            <a:ext cx="1371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SAINTS  AF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CHRIST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RESURRE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MT 27: 50-5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791320" y="457200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DORC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ACTS 9:4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477120" y="4572000"/>
            <a:ext cx="914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YOU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M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ACTS 20: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562720" y="1447920"/>
            <a:ext cx="30477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 Rounded MT Bold"/>
              </a:rPr>
              <a:t>CHRIST’S  RESURR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228600" indent="6336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RAISED  A  SPIRITUAL 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28600" indent="6336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RAISED  AN  IMMORTAL 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81080" y="4800600"/>
            <a:ext cx="990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RULER  O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SYNAGOG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DAUGH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MK 5:35-4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rot="16200000">
            <a:off x="3809880" y="2133360"/>
            <a:ext cx="228600" cy="6629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72800 h 6629400"/>
              <a:gd name="textAreaBottom" fmla="*/ 6456600 h 6629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01"/>
                </a:lnTo>
                <a:cubicBezTo>
                  <a:pt x="10800" y="9801"/>
                  <a:pt x="5400" y="10701"/>
                  <a:pt x="0" y="10701"/>
                </a:cubicBezTo>
                <a:cubicBezTo>
                  <a:pt x="5400" y="10701"/>
                  <a:pt x="10800" y="11601"/>
                  <a:pt x="10800" y="12501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895480" y="5562720"/>
            <a:ext cx="48769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 Rounded MT Bold"/>
              </a:rPr>
              <a:t>    </a:t>
            </a:r>
            <a:r>
              <a:rPr b="1" lang="en-US" sz="1600" spc="-1" strike="noStrike">
                <a:solidFill>
                  <a:srgbClr val="3333cc"/>
                </a:solidFill>
                <a:latin typeface="Arial Rounded MT Bold"/>
              </a:rPr>
              <a:t>RESTO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RAISED  A  NATURAL 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RAISED  A  MORTAL  BODY (THEY  ALL  DIED  AGAIN)  </a:t>
            </a:r>
            <a:r>
              <a:rPr b="1" lang="en-US" sz="1600" spc="-1" strike="noStrike">
                <a:solidFill>
                  <a:srgbClr val="3333cc"/>
                </a:solidFill>
                <a:latin typeface="Arial Rounded MT Bold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" y="6324480"/>
            <a:ext cx="739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 Rounded MT Bold"/>
              </a:rPr>
              <a:t>POINT :  ONLY  CHRIST  HAS  ATTAINED  THE  TRUE (“BETTER”)  RESURRECTION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1371600"/>
            <a:ext cx="30481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333cc"/>
                </a:solidFill>
                <a:uFillTx/>
                <a:latin typeface="Arial Rounded MT Bold"/>
              </a:rPr>
              <a:t>RESURRECTION:</a:t>
            </a: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 ( ANASTASIS 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LIT:  TO  CAUSE  TO  STAND  U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A  RAISING  UP  OF  THE  PHYSICAL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BODY  FROM  PHYSICAL  DEATH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20120" y="228600"/>
            <a:ext cx="1371600" cy="914400"/>
          </a:xfrm>
          <a:prstGeom prst="wedgeRoundRectCallout">
            <a:avLst>
              <a:gd name="adj1" fmla="val -72685"/>
              <a:gd name="adj2" fmla="val 63541"/>
              <a:gd name="adj3" fmla="val 16667"/>
            </a:avLst>
          </a:prstGeom>
          <a:gradFill rotWithShape="0">
            <a:gsLst>
              <a:gs pos="0">
                <a:srgbClr val="00ffff"/>
              </a:gs>
              <a:gs pos="50000">
                <a:srgbClr val="fefefe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696080" y="3808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ARE  THER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DISTINC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BETWEEN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RESURRECTIONS 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038480" y="66214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Page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676520" y="654516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/  4 MAY 2003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362320" y="990720"/>
            <a:ext cx="4495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162920" y="65530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63244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PENTECO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343400" y="4114800"/>
            <a:ext cx="9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1" lang="en-US" sz="1000" spc="-1" strike="noStrike">
                <a:solidFill>
                  <a:srgbClr val="3333cc"/>
                </a:solidFill>
                <a:latin typeface="Arial Rounded MT Bold"/>
              </a:rPr>
              <a:t>THE 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Arial Rounded MT Bold"/>
              </a:rPr>
              <a:t>WITNESS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REV 11:3-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495680" y="3429000"/>
            <a:ext cx="1143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Arial Rounded MT Bold"/>
              </a:rPr>
              <a:t>  </a:t>
            </a:r>
            <a:r>
              <a:rPr b="1" lang="en-US" sz="1000" spc="-1" strike="noStrike">
                <a:solidFill>
                  <a:srgbClr val="3333cc"/>
                </a:solidFill>
                <a:latin typeface="Arial Rounded MT Bold"/>
              </a:rPr>
              <a:t>TRIBUL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Arial Rounded MT Bold"/>
              </a:rPr>
              <a:t>  </a:t>
            </a:r>
            <a:r>
              <a:rPr b="1" lang="en-US" sz="1000" spc="-1" strike="noStrike">
                <a:solidFill>
                  <a:srgbClr val="3333cc"/>
                </a:solidFill>
                <a:latin typeface="Arial Rounded MT Bold"/>
              </a:rPr>
              <a:t>SAI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REV 20:4-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1 COR 15: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715000" y="3581280"/>
            <a:ext cx="10666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Arial Rounded MT Bold"/>
              </a:rPr>
              <a:t>OLD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Arial Rounded MT Bold"/>
              </a:rPr>
              <a:t>TESTA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Arial Rounded MT Bold"/>
              </a:rPr>
              <a:t>SAI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DAN 12:1-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1 COR 15:23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76520" y="3124080"/>
            <a:ext cx="2895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 Rounded MT Bold"/>
              </a:rPr>
              <a:t>THE  “BETTER”  RESURRECTION 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 Rounded MT Bold"/>
              </a:rPr>
              <a:t>               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( TO  ETERNAL  LIFE 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457200" y="360360"/>
            <a:ext cx="8686800" cy="1773360"/>
            <a:chOff x="457200" y="360360"/>
            <a:chExt cx="8686800" cy="1773360"/>
          </a:xfrm>
        </p:grpSpPr>
        <p:sp>
          <p:nvSpPr>
            <p:cNvPr id="197" name=""/>
            <p:cNvSpPr/>
            <p:nvPr/>
          </p:nvSpPr>
          <p:spPr>
            <a:xfrm>
              <a:off x="2057400" y="665280"/>
              <a:ext cx="5181480" cy="609480"/>
            </a:xfrm>
            <a:prstGeom prst="horizontalScroll">
              <a:avLst>
                <a:gd name="adj" fmla="val 12500"/>
              </a:avLst>
            </a:prstGeom>
            <a:gradFill rotWithShape="0">
              <a:gsLst>
                <a:gs pos="0">
                  <a:srgbClr val="ff33cc"/>
                </a:gs>
                <a:gs pos="50000">
                  <a:srgbClr val="ffffff"/>
                </a:gs>
                <a:gs pos="100000">
                  <a:srgbClr val="ff33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352680" y="360360"/>
              <a:ext cx="2514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Rounded MT Bold"/>
                </a:rPr>
                <a:t>THE  RESURRE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200400" y="817560"/>
              <a:ext cx="3200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Rounded MT Bold"/>
                </a:rPr>
                <a:t>THE  PREMILLENNIAL  VIE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7772400" y="360360"/>
              <a:ext cx="1371600" cy="838080"/>
              <a:chOff x="7772400" y="360360"/>
              <a:chExt cx="1371600" cy="838080"/>
            </a:xfrm>
          </p:grpSpPr>
          <p:sp>
            <p:nvSpPr>
              <p:cNvPr id="201" name=""/>
              <p:cNvSpPr/>
              <p:nvPr/>
            </p:nvSpPr>
            <p:spPr>
              <a:xfrm>
                <a:off x="7772400" y="360360"/>
                <a:ext cx="1295280" cy="838080"/>
              </a:xfrm>
              <a:prstGeom prst="wedgeRoundRectCallout">
                <a:avLst>
                  <a:gd name="adj1" fmla="val -61273"/>
                  <a:gd name="adj2" fmla="val 76893"/>
                  <a:gd name="adj3" fmla="val 16667"/>
                </a:avLst>
              </a:prstGeom>
              <a:gradFill rotWithShape="0">
                <a:gsLst>
                  <a:gs pos="0">
                    <a:srgbClr val="66ff99"/>
                  </a:gs>
                  <a:gs pos="50000">
                    <a:srgbClr val="fefefe"/>
                  </a:gs>
                  <a:gs pos="100000">
                    <a:srgbClr val="66ff99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7848720" y="588960"/>
                <a:ext cx="12952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Rounded MT Bold"/>
                  </a:rPr>
                  <a:t>WHAT  ARE 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Rounded MT Bold"/>
                  </a:rPr>
                  <a:t>THE  FUTURE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Rounded MT Bold"/>
                  </a:rPr>
                  <a:t>RESURRECTIONS?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457200" y="1351080"/>
              <a:ext cx="1523880" cy="782640"/>
              <a:chOff x="457200" y="1351080"/>
              <a:chExt cx="1523880" cy="782640"/>
            </a:xfrm>
          </p:grpSpPr>
          <p:sp>
            <p:nvSpPr>
              <p:cNvPr id="204" name=""/>
              <p:cNvSpPr/>
              <p:nvPr/>
            </p:nvSpPr>
            <p:spPr>
              <a:xfrm>
                <a:off x="533160" y="1351080"/>
                <a:ext cx="1406160" cy="782640"/>
              </a:xfrm>
              <a:prstGeom prst="wedgeRoundRectCallout">
                <a:avLst>
                  <a:gd name="adj1" fmla="val 73814"/>
                  <a:gd name="adj2" fmla="val -62777"/>
                  <a:gd name="adj3" fmla="val 16667"/>
                </a:avLst>
              </a:prstGeom>
              <a:gradFill rotWithShape="0">
                <a:gsLst>
                  <a:gs pos="0">
                    <a:srgbClr val="ffff66"/>
                  </a:gs>
                  <a:gs pos="50000">
                    <a:srgbClr val="fefefe"/>
                  </a:gs>
                  <a:gs pos="100000">
                    <a:srgbClr val="ffff6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57200" y="1351080"/>
                <a:ext cx="1523880" cy="71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Rounded MT Bold"/>
                  </a:rPr>
                  <a:t>     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 Rounded MT Bold"/>
                  </a:rPr>
                  <a:t>WHAT  ARE THE 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Rounded MT Bold"/>
                  </a:rPr>
                  <a:t>          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 Rounded MT Bold"/>
                  </a:rPr>
                  <a:t>THEOLOGICAL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Rounded MT Bold"/>
                  </a:rPr>
                  <a:t>         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 Rounded MT Bold"/>
                  </a:rPr>
                  <a:t>VIEWS ON THE 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Rounded MT Bold"/>
                  </a:rPr>
                  <a:t>        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 Rounded MT Bold"/>
                  </a:rPr>
                  <a:t>RESURRECTION ?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6" name=""/>
          <p:cNvGrpSpPr/>
          <p:nvPr/>
        </p:nvGrpSpPr>
        <p:grpSpPr>
          <a:xfrm>
            <a:off x="3505320" y="1981080"/>
            <a:ext cx="990360" cy="1066680"/>
            <a:chOff x="3505320" y="1981080"/>
            <a:chExt cx="990360" cy="1066680"/>
          </a:xfrm>
        </p:grpSpPr>
        <p:sp>
          <p:nvSpPr>
            <p:cNvPr id="207" name=""/>
            <p:cNvSpPr/>
            <p:nvPr/>
          </p:nvSpPr>
          <p:spPr>
            <a:xfrm>
              <a:off x="3505320" y="1981080"/>
              <a:ext cx="990360" cy="1066680"/>
            </a:xfrm>
            <a:prstGeom prst="cloudCallout">
              <a:avLst>
                <a:gd name="adj1" fmla="val 3046"/>
                <a:gd name="adj2" fmla="val 49555"/>
              </a:avLst>
            </a:prstGeom>
            <a:gradFill rotWithShape="0">
              <a:gsLst>
                <a:gs pos="0">
                  <a:srgbClr val="66ffff"/>
                </a:gs>
                <a:gs pos="50000">
                  <a:srgbClr val="fefefe"/>
                </a:gs>
                <a:gs pos="100000">
                  <a:srgbClr val="66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581280" y="2133360"/>
              <a:ext cx="8384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</a:rPr>
                <a:t>CHRIS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</a:rPr>
                <a:t>COM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</a:rPr>
                <a:t>FOR  HI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</a:rPr>
                <a:t>SAIN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3429000" y="4648320"/>
            <a:ext cx="609480" cy="990360"/>
          </a:xfrm>
          <a:custGeom>
            <a:avLst/>
            <a:gdLst>
              <a:gd name="textAreaLeft" fmla="*/ 88920 w 609480"/>
              <a:gd name="textAreaRight" fmla="*/ 540360 w 609480"/>
              <a:gd name="textAreaTop" fmla="*/ 765720 h 990360"/>
              <a:gd name="textAreaBottom" fmla="*/ 878040 h 990360"/>
            </a:gdLst>
            <a:ahLst/>
            <a:rect l="textAreaLeft" t="textAreaTop" r="textAreaRight" b="textAreaBottom"/>
            <a:pathLst>
              <a:path w="21600" h="21600">
                <a:moveTo>
                  <a:pt x="0" y="19150"/>
                </a:moveTo>
                <a:lnTo>
                  <a:pt x="16700" y="19150"/>
                </a:lnTo>
                <a:lnTo>
                  <a:pt x="16700" y="3150"/>
                </a:lnTo>
                <a:lnTo>
                  <a:pt x="14250" y="3150"/>
                </a:lnTo>
                <a:lnTo>
                  <a:pt x="17925" y="0"/>
                </a:lnTo>
                <a:lnTo>
                  <a:pt x="21600" y="3150"/>
                </a:lnTo>
                <a:lnTo>
                  <a:pt x="19150" y="3150"/>
                </a:lnTo>
                <a:lnTo>
                  <a:pt x="191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038480" y="4206960"/>
            <a:ext cx="152640" cy="1447560"/>
          </a:xfrm>
          <a:prstGeom prst="upArrow">
            <a:avLst>
              <a:gd name="adj1" fmla="val 50000"/>
              <a:gd name="adj2" fmla="val 2370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276720" y="4114800"/>
            <a:ext cx="914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DEAD  IN       CHRI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1 COR 4: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4800600"/>
            <a:ext cx="9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ALIVE I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CHRI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1 COR 4: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429000" y="379404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Arial Rounded MT Bold"/>
              </a:rPr>
              <a:t>THE  CHU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5400000">
            <a:off x="3999960" y="3771720"/>
            <a:ext cx="76320" cy="609480"/>
          </a:xfrm>
          <a:custGeom>
            <a:avLst/>
            <a:gdLst>
              <a:gd name="textAreaLeft" fmla="*/ 48960 w 76320"/>
              <a:gd name="textAreaRight" fmla="*/ 76320 w 7632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191120" y="6095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724280" y="4648320"/>
            <a:ext cx="152640" cy="990360"/>
          </a:xfrm>
          <a:prstGeom prst="upArrow">
            <a:avLst>
              <a:gd name="adj1" fmla="val 50000"/>
              <a:gd name="adj2" fmla="val 162205"/>
            </a:avLst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410080" y="3657600"/>
            <a:ext cx="152640" cy="1981080"/>
          </a:xfrm>
          <a:prstGeom prst="upArrow">
            <a:avLst>
              <a:gd name="adj1" fmla="val 50000"/>
              <a:gd name="adj2" fmla="val 324469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562720" y="3657600"/>
            <a:ext cx="152280" cy="1981080"/>
          </a:xfrm>
          <a:prstGeom prst="upArrow">
            <a:avLst>
              <a:gd name="adj1" fmla="val 50000"/>
              <a:gd name="adj2" fmla="val 32523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638680" y="2971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533520" y="297144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533160" y="327672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648320" y="327672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772400" y="4419720"/>
            <a:ext cx="12193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Arial Rounded MT Bold"/>
              </a:rPr>
              <a:t>UNBELIEV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Arial Rounded MT Bold"/>
              </a:rPr>
              <a:t>DEAD  FR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Arial Rounded MT Bold"/>
              </a:rPr>
              <a:t>ALL  A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REV 20:5, 11-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7772400" y="2057400"/>
            <a:ext cx="1189080" cy="1160280"/>
            <a:chOff x="7772400" y="2057400"/>
            <a:chExt cx="1189080" cy="1160280"/>
          </a:xfrm>
        </p:grpSpPr>
        <p:pic>
          <p:nvPicPr>
            <p:cNvPr id="225" name="BD08987_" descr=""/>
            <p:cNvPicPr/>
            <p:nvPr/>
          </p:nvPicPr>
          <p:blipFill>
            <a:blip r:embed="rId1"/>
            <a:srcRect l="16581" t="0" r="8804" b="10675"/>
            <a:stretch/>
          </p:blipFill>
          <p:spPr>
            <a:xfrm>
              <a:off x="8458200" y="2057400"/>
              <a:ext cx="503280" cy="83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7772400" y="2362320"/>
              <a:ext cx="106668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</a:rPr>
                <a:t> 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</a:rPr>
                <a:t>GREAT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</a:rPr>
                <a:t>  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</a:rPr>
                <a:t>WHI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</a:rPr>
                <a:t>THRON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</a:rPr>
                <a:t>JUDG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</a:rPr>
                <a:t>     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</a:rPr>
                <a:t>REV 20: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685800" y="38098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Arial Rounded MT Bold"/>
              </a:rPr>
              <a:t>CHRI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THE  FIRST  FRUI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1 COR 15:20-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4610160" y="1643040"/>
            <a:ext cx="2019240" cy="1851480"/>
            <a:chOff x="4610160" y="1643040"/>
            <a:chExt cx="2019240" cy="1851480"/>
          </a:xfrm>
        </p:grpSpPr>
        <p:sp>
          <p:nvSpPr>
            <p:cNvPr id="229" name=""/>
            <p:cNvSpPr/>
            <p:nvPr/>
          </p:nvSpPr>
          <p:spPr>
            <a:xfrm rot="2220000">
              <a:off x="4876560" y="1905120"/>
              <a:ext cx="1315800" cy="1326960"/>
            </a:xfrm>
            <a:prstGeom prst="lightningBol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791320" y="1981080"/>
              <a:ext cx="83808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</a:rPr>
                <a:t>CHRIS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</a:rPr>
                <a:t>COM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</a:rPr>
                <a:t>WITH HI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</a:rPr>
                <a:t>SAIN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8839080" y="3048120"/>
            <a:ext cx="152640" cy="2590560"/>
          </a:xfrm>
          <a:prstGeom prst="upArrow">
            <a:avLst>
              <a:gd name="adj1" fmla="val 50000"/>
              <a:gd name="adj2" fmla="val 424292"/>
            </a:avLst>
          </a:prstGeom>
          <a:solidFill>
            <a:srgbClr val="00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7480" y="3276720"/>
            <a:ext cx="14479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 Rounded MT Bold"/>
              </a:rPr>
              <a:t>          </a:t>
            </a:r>
            <a:r>
              <a:rPr b="1" lang="en-US" sz="1200" spc="-1" strike="noStrike">
                <a:solidFill>
                  <a:srgbClr val="3333cc"/>
                </a:solidFill>
                <a:latin typeface="Arial Rounded MT Bold"/>
              </a:rPr>
              <a:t>F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 Rounded MT Bold"/>
              </a:rPr>
              <a:t>RESURR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( TO   ETER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DEATH 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76320" y="4349520"/>
            <a:ext cx="8915400" cy="2022840"/>
            <a:chOff x="76320" y="4349520"/>
            <a:chExt cx="8915400" cy="2022840"/>
          </a:xfrm>
        </p:grpSpPr>
        <p:sp>
          <p:nvSpPr>
            <p:cNvPr id="234" name=""/>
            <p:cNvSpPr/>
            <p:nvPr/>
          </p:nvSpPr>
          <p:spPr>
            <a:xfrm>
              <a:off x="457200" y="5638680"/>
              <a:ext cx="8534520" cy="457200"/>
            </a:xfrm>
            <a:prstGeom prst="rect">
              <a:avLst/>
            </a:prstGeom>
            <a:gradFill rotWithShape="0">
              <a:gsLst>
                <a:gs pos="0">
                  <a:srgbClr val="a50021"/>
                </a:gs>
                <a:gs pos="50000">
                  <a:srgbClr val="f5e7ea"/>
                </a:gs>
                <a:gs pos="100000">
                  <a:srgbClr val="a50021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5" name=""/>
            <p:cNvGrpSpPr/>
            <p:nvPr/>
          </p:nvGrpSpPr>
          <p:grpSpPr>
            <a:xfrm>
              <a:off x="76320" y="4349520"/>
              <a:ext cx="1004400" cy="1309680"/>
              <a:chOff x="76320" y="4349520"/>
              <a:chExt cx="1004400" cy="1309680"/>
            </a:xfrm>
          </p:grpSpPr>
          <p:sp>
            <p:nvSpPr>
              <p:cNvPr id="236" name=""/>
              <p:cNvSpPr/>
              <p:nvPr/>
            </p:nvSpPr>
            <p:spPr>
              <a:xfrm rot="20050200">
                <a:off x="360000" y="5462280"/>
                <a:ext cx="36000" cy="140040"/>
              </a:xfrm>
              <a:custGeom>
                <a:avLst/>
                <a:gdLst>
                  <a:gd name="textAreaLeft" fmla="*/ 7920 w 36000"/>
                  <a:gd name="textAreaRight" fmla="*/ 28080 w 36000"/>
                  <a:gd name="textAreaTop" fmla="*/ 30600 h 140040"/>
                  <a:gd name="textAreaBottom" fmla="*/ 109440 h 140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6699"/>
              </a:solidFill>
              <a:ln w="9360">
                <a:solidFill>
                  <a:srgbClr val="ff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7" name=""/>
              <p:cNvGrpSpPr/>
              <p:nvPr/>
            </p:nvGrpSpPr>
            <p:grpSpPr>
              <a:xfrm>
                <a:off x="76320" y="4349520"/>
                <a:ext cx="1004400" cy="1309680"/>
                <a:chOff x="76320" y="4349520"/>
                <a:chExt cx="1004400" cy="130968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312480" y="4485960"/>
                  <a:ext cx="69480" cy="983160"/>
                </a:xfrm>
                <a:custGeom>
                  <a:avLst/>
                  <a:gdLst>
                    <a:gd name="textAreaLeft" fmla="*/ 15120 w 69480"/>
                    <a:gd name="textAreaRight" fmla="*/ 54360 w 69480"/>
                    <a:gd name="textAreaTop" fmla="*/ 216000 h 983160"/>
                    <a:gd name="textAreaBottom" fmla="*/ 767160 h 983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blipFill rotWithShape="0">
                  <a:blip r:embed="rId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76320" y="4663800"/>
                  <a:ext cx="517680" cy="60840"/>
                </a:xfrm>
                <a:custGeom>
                  <a:avLst/>
                  <a:gdLst>
                    <a:gd name="textAreaLeft" fmla="*/ 113760 w 517680"/>
                    <a:gd name="textAreaRight" fmla="*/ 403920 w 517680"/>
                    <a:gd name="textAreaTop" fmla="*/ 13320 h 60840"/>
                    <a:gd name="textAreaBottom" fmla="*/ 47520 h 60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blipFill rotWithShape="0">
                  <a:blip r:embed="rId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12394200">
                  <a:off x="696240" y="4405680"/>
                  <a:ext cx="60480" cy="1308960"/>
                </a:xfrm>
                <a:custGeom>
                  <a:avLst/>
                  <a:gdLst>
                    <a:gd name="textAreaLeft" fmla="*/ 12960 w 60480"/>
                    <a:gd name="textAreaRight" fmla="*/ 47520 w 60480"/>
                    <a:gd name="textAreaTop" fmla="*/ 281160 h 1308960"/>
                    <a:gd name="textAreaBottom" fmla="*/ 1027800 h 1308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393" y="21600"/>
                      </a:lnTo>
                      <a:lnTo>
                        <a:pt x="5207" y="21600"/>
                      </a:lnTo>
                      <a:close/>
                    </a:path>
                  </a:pathLst>
                </a:custGeom>
                <a:solidFill>
                  <a:srgbClr val="ff6699"/>
                </a:solidFill>
                <a:ln w="936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flipV="1">
                  <a:off x="991440" y="4349520"/>
                  <a:ext cx="89280" cy="175680"/>
                </a:xfrm>
                <a:prstGeom prst="line">
                  <a:avLst/>
                </a:prstGeom>
                <a:ln w="76320">
                  <a:solidFill>
                    <a:srgbClr val="ff33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2" name=""/>
            <p:cNvSpPr/>
            <p:nvPr/>
          </p:nvSpPr>
          <p:spPr>
            <a:xfrm>
              <a:off x="1752480" y="609588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Rounded MT Bold"/>
                </a:rPr>
                <a:t>CHURCH  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267080" y="609588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Rounded MT Bold"/>
                </a:rPr>
                <a:t>TRIBUL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705720" y="609588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Rounded MT Bold"/>
                </a:rPr>
                <a:t>MILLENNIU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7200" y="6095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048120" y="62485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457200" y="6248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4190760" y="62485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486400" y="62485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638680" y="6095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924680" y="6248520"/>
              <a:ext cx="106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5638680" y="62485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991720" y="6095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870360" y="6553080"/>
            <a:ext cx="108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Pag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76520" y="654516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/  4 MAY 2003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2362320" y="304920"/>
            <a:ext cx="4495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905120" y="685800"/>
            <a:ext cx="5181480" cy="4572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33cc"/>
              </a:gs>
              <a:gs pos="50000">
                <a:srgbClr val="ffffff"/>
              </a:gs>
              <a:gs pos="100000">
                <a:srgbClr val="ff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200400" y="38088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HE  RESURRE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124080" y="762120"/>
            <a:ext cx="281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RESURRECTION   OVERVI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" y="3962520"/>
            <a:ext cx="2286000" cy="1066680"/>
          </a:xfrm>
          <a:prstGeom prst="rect">
            <a:avLst/>
          </a:prstGeom>
          <a:gradFill rotWithShape="0">
            <a:gsLst>
              <a:gs pos="0">
                <a:srgbClr val="66ff33"/>
              </a:gs>
              <a:gs pos="50000">
                <a:srgbClr val="fefefe"/>
              </a:gs>
              <a:gs pos="100000">
                <a:srgbClr val="66ff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3657600" y="1066680"/>
            <a:ext cx="990360" cy="1066680"/>
            <a:chOff x="3657600" y="1066680"/>
            <a:chExt cx="990360" cy="1066680"/>
          </a:xfrm>
        </p:grpSpPr>
        <p:sp>
          <p:nvSpPr>
            <p:cNvPr id="262" name=""/>
            <p:cNvSpPr/>
            <p:nvPr/>
          </p:nvSpPr>
          <p:spPr>
            <a:xfrm>
              <a:off x="3657600" y="1066680"/>
              <a:ext cx="990360" cy="1066680"/>
            </a:xfrm>
            <a:prstGeom prst="cloudCallout">
              <a:avLst>
                <a:gd name="adj1" fmla="val 3046"/>
                <a:gd name="adj2" fmla="val 49555"/>
              </a:avLst>
            </a:prstGeom>
            <a:gradFill rotWithShape="0">
              <a:gsLst>
                <a:gs pos="0">
                  <a:srgbClr val="66ffff"/>
                </a:gs>
                <a:gs pos="50000">
                  <a:srgbClr val="fefefe"/>
                </a:gs>
                <a:gs pos="100000">
                  <a:srgbClr val="66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733560" y="1218960"/>
              <a:ext cx="8384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</a:rPr>
                <a:t>CHRIS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</a:rPr>
                <a:t>COM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</a:rPr>
                <a:t>FOR  HI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</a:rPr>
                <a:t>SAIN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4610160" y="880920"/>
            <a:ext cx="2019240" cy="1851480"/>
            <a:chOff x="4610160" y="880920"/>
            <a:chExt cx="2019240" cy="1851480"/>
          </a:xfrm>
        </p:grpSpPr>
        <p:sp>
          <p:nvSpPr>
            <p:cNvPr id="265" name=""/>
            <p:cNvSpPr/>
            <p:nvPr/>
          </p:nvSpPr>
          <p:spPr>
            <a:xfrm rot="2220000">
              <a:off x="4876560" y="1143000"/>
              <a:ext cx="1315800" cy="1326960"/>
            </a:xfrm>
            <a:prstGeom prst="lightningBol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791320" y="1218960"/>
              <a:ext cx="83808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</a:rPr>
                <a:t>CHRIS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</a:rPr>
                <a:t>COM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</a:rPr>
                <a:t>WITH HI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</a:rPr>
                <a:t>SAIN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152280" y="2819520"/>
            <a:ext cx="8763120" cy="45720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50000">
                <a:srgbClr val="f5e7ea"/>
              </a:gs>
              <a:gs pos="100000">
                <a:srgbClr val="a5002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1981080" y="1530000"/>
            <a:ext cx="1004760" cy="1309680"/>
            <a:chOff x="1981080" y="1530000"/>
            <a:chExt cx="1004760" cy="1309680"/>
          </a:xfrm>
        </p:grpSpPr>
        <p:sp>
          <p:nvSpPr>
            <p:cNvPr id="269" name=""/>
            <p:cNvSpPr/>
            <p:nvPr/>
          </p:nvSpPr>
          <p:spPr>
            <a:xfrm rot="20050200">
              <a:off x="2264760" y="2642760"/>
              <a:ext cx="36000" cy="140040"/>
            </a:xfrm>
            <a:custGeom>
              <a:avLst/>
              <a:gdLst>
                <a:gd name="textAreaLeft" fmla="*/ 7920 w 36000"/>
                <a:gd name="textAreaRight" fmla="*/ 28080 w 36000"/>
                <a:gd name="textAreaTop" fmla="*/ 30600 h 140040"/>
                <a:gd name="textAreaBottom" fmla="*/ 109440 h 14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6699"/>
            </a:solidFill>
            <a:ln w="93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0" name=""/>
            <p:cNvGrpSpPr/>
            <p:nvPr/>
          </p:nvGrpSpPr>
          <p:grpSpPr>
            <a:xfrm>
              <a:off x="1981080" y="1530000"/>
              <a:ext cx="1004760" cy="1309680"/>
              <a:chOff x="1981080" y="1530000"/>
              <a:chExt cx="1004760" cy="1309680"/>
            </a:xfrm>
          </p:grpSpPr>
          <p:sp>
            <p:nvSpPr>
              <p:cNvPr id="271" name=""/>
              <p:cNvSpPr/>
              <p:nvPr/>
            </p:nvSpPr>
            <p:spPr>
              <a:xfrm>
                <a:off x="2217240" y="1666440"/>
                <a:ext cx="69480" cy="983160"/>
              </a:xfrm>
              <a:custGeom>
                <a:avLst/>
                <a:gdLst>
                  <a:gd name="textAreaLeft" fmla="*/ 15120 w 69480"/>
                  <a:gd name="textAreaRight" fmla="*/ 54360 w 69480"/>
                  <a:gd name="textAreaTop" fmla="*/ 216000 h 983160"/>
                  <a:gd name="textAreaBottom" fmla="*/ 767160 h 983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981080" y="1844280"/>
                <a:ext cx="517680" cy="60840"/>
              </a:xfrm>
              <a:custGeom>
                <a:avLst/>
                <a:gdLst>
                  <a:gd name="textAreaLeft" fmla="*/ 113760 w 517680"/>
                  <a:gd name="textAreaRight" fmla="*/ 403920 w 517680"/>
                  <a:gd name="textAreaTop" fmla="*/ 13320 h 60840"/>
                  <a:gd name="textAreaBottom" fmla="*/ 47520 h 60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12394200">
                <a:off x="2601000" y="1586160"/>
                <a:ext cx="60480" cy="1308960"/>
              </a:xfrm>
              <a:custGeom>
                <a:avLst/>
                <a:gdLst>
                  <a:gd name="textAreaLeft" fmla="*/ 12960 w 60480"/>
                  <a:gd name="textAreaRight" fmla="*/ 47520 w 60480"/>
                  <a:gd name="textAreaTop" fmla="*/ 281160 h 1308960"/>
                  <a:gd name="textAreaBottom" fmla="*/ 1027800 h 1308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393" y="21600"/>
                    </a:lnTo>
                    <a:lnTo>
                      <a:pt x="5207" y="21600"/>
                    </a:lnTo>
                    <a:close/>
                  </a:path>
                </a:pathLst>
              </a:custGeom>
              <a:solidFill>
                <a:srgbClr val="ff6699"/>
              </a:solidFill>
              <a:ln w="9360">
                <a:solidFill>
                  <a:srgbClr val="ff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2896560" y="1530000"/>
                <a:ext cx="89280" cy="175680"/>
              </a:xfrm>
              <a:prstGeom prst="line">
                <a:avLst/>
              </a:prstGeom>
              <a:ln w="76320">
                <a:solidFill>
                  <a:srgbClr val="ff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5" name=""/>
          <p:cNvSpPr/>
          <p:nvPr/>
        </p:nvSpPr>
        <p:spPr>
          <a:xfrm>
            <a:off x="2666880" y="327672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CHURCH  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267080" y="32767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TRIB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05720" y="3276720"/>
            <a:ext cx="14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MILLENN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362320" y="3276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962520" y="3429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2362320" y="34290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419076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48640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638680" y="3276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924680" y="3429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5638680" y="3429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915400" y="3276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4191120" y="3276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362320" y="5257800"/>
            <a:ext cx="3276360" cy="10666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efefe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638680" y="35812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362320" y="350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362320" y="5029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915400" y="35812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8839080" y="5181480"/>
            <a:ext cx="152640" cy="106704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50000">
                <a:srgbClr val="b15659"/>
              </a:gs>
              <a:gs pos="100000">
                <a:srgbClr val="ff7c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380880" y="36572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2666880" y="37335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38080" y="365760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RESTO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8600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380520" y="38098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772400" y="838080"/>
            <a:ext cx="1189080" cy="1160280"/>
            <a:chOff x="7772400" y="838080"/>
            <a:chExt cx="1189080" cy="1160280"/>
          </a:xfrm>
        </p:grpSpPr>
        <p:pic>
          <p:nvPicPr>
            <p:cNvPr id="300" name="BD08987_" descr=""/>
            <p:cNvPicPr/>
            <p:nvPr/>
          </p:nvPicPr>
          <p:blipFill>
            <a:blip r:embed="rId3"/>
            <a:srcRect l="16581" t="0" r="8804" b="10675"/>
            <a:stretch/>
          </p:blipFill>
          <p:spPr>
            <a:xfrm>
              <a:off x="8458200" y="838080"/>
              <a:ext cx="503280" cy="83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7772400" y="1143000"/>
              <a:ext cx="106668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</a:rPr>
                <a:t> 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</a:rPr>
                <a:t>GREAT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</a:rPr>
                <a:t>  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</a:rPr>
                <a:t>WHI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</a:rPr>
                <a:t>THRON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</a:rPr>
                <a:t>JUDG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</a:rPr>
                <a:t>    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0880" y="4098960"/>
            <a:ext cx="2286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PHYSICALLY  DEAD  RAISED  T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PREVIOUS  STATE  OF  DEC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A  MORTAL  BOD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A  NATURAL  BOD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PHYSICAL  DEATH  AGA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743200" y="5410080"/>
            <a:ext cx="2514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PHYSICALLY  DEAD  RAISED  WITH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AN  INCORRUPTABLE  BOD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AN  IMMORTAL  BOD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ETERNAL  LIF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666880" y="4800600"/>
            <a:ext cx="2819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THE  FIRST  RESURRECTION 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THE  BETTER  RESURRECTION 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96080" y="4724280"/>
            <a:ext cx="144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LAS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RESURR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943600" y="5791320"/>
            <a:ext cx="2590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4100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23623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629400" y="5181480"/>
            <a:ext cx="228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PHYSICALLY  DEAD  RAIS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FROM  ALL  A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WITH  AN  IMMORTAL  BOD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TO  ETERNAL  CONDE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4191120" y="22860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28600" y="1447920"/>
            <a:ext cx="1600200" cy="609480"/>
          </a:xfrm>
          <a:prstGeom prst="wedgeRoundRectCallout">
            <a:avLst>
              <a:gd name="adj1" fmla="val 25000"/>
              <a:gd name="adj2" fmla="val 105731"/>
              <a:gd name="adj3" fmla="val 16667"/>
            </a:avLst>
          </a:prstGeom>
          <a:gradFill rotWithShape="0">
            <a:gsLst>
              <a:gs pos="0">
                <a:srgbClr val="ff7c80"/>
              </a:gs>
              <a:gs pos="50000">
                <a:srgbClr val="ffccff"/>
              </a:gs>
              <a:gs pos="100000">
                <a:srgbClr val="ff7c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80880" y="15238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HOW  CAN  TH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RESURRE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BE  SUMMARIZED 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654516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Page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654516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/  4 MAY 2003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0T19:41:24Z</dcterms:created>
  <dc:creator>Hal Molloy</dc:creator>
  <dc:description/>
  <dc:language>en-US</dc:language>
  <cp:lastModifiedBy>Hal Molloy</cp:lastModifiedBy>
  <dcterms:modified xsi:type="dcterms:W3CDTF">2003-11-15T23:33:04Z</dcterms:modified>
  <cp:revision>53</cp:revision>
  <dc:subject/>
  <dc:title>PowerPoint Presentation</dc:title>
</cp:coreProperties>
</file>