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23E-CCA9-4A4A-B0B4-16F377C3A222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 Rounded MT Bold"/>
              </a:rPr>
              <a:t>Christ word about the Holy Spir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-13644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07040" y="6629400"/>
            <a:ext cx="107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20 October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525780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I.  The Bible: The Word of God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. The Bible: Inspired of God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. The Bible: Its Subject and Purpose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TER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57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6553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6629400" y="1447920"/>
            <a:ext cx="2666880" cy="3962160"/>
            <a:chOff x="6629400" y="1447920"/>
            <a:chExt cx="2666880" cy="3962160"/>
          </a:xfrm>
        </p:grpSpPr>
        <p:sp>
          <p:nvSpPr>
            <p:cNvPr id="54" name=""/>
            <p:cNvSpPr/>
            <p:nvPr/>
          </p:nvSpPr>
          <p:spPr>
            <a:xfrm>
              <a:off x="8534520" y="3581280"/>
              <a:ext cx="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7848720" y="2895120"/>
              <a:ext cx="0" cy="2514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1447920"/>
              <a:ext cx="2514600" cy="1523880"/>
            </a:xfrm>
            <a:custGeom>
              <a:avLst/>
              <a:gdLst>
                <a:gd name="textAreaLeft" fmla="*/ 672120 w 2514600"/>
                <a:gd name="textAreaRight" fmla="*/ 1842480 w 2514600"/>
                <a:gd name="textAreaTop" fmla="*/ 407160 h 1523880"/>
                <a:gd name="textAreaBottom" fmla="*/ 11167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48720" y="5021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R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34520" y="502920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K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486400"/>
            <a:ext cx="2743200" cy="3049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410080"/>
            <a:ext cx="8001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5486400"/>
            <a:ext cx="3962520" cy="304920"/>
          </a:xfrm>
          <a:prstGeom prst="rect">
            <a:avLst/>
          </a:prstGeom>
          <a:gradFill rotWithShape="0">
            <a:gsLst>
              <a:gs pos="0">
                <a:srgbClr val="2f755e"/>
              </a:gs>
              <a:gs pos="50000">
                <a:srgbClr val="66ffcc"/>
              </a:gs>
              <a:gs pos="100000">
                <a:srgbClr val="2f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14600" y="3505320"/>
            <a:ext cx="1371600" cy="2286000"/>
            <a:chOff x="2514600" y="3505320"/>
            <a:chExt cx="1371600" cy="2286000"/>
          </a:xfrm>
        </p:grpSpPr>
        <p:grpSp>
          <p:nvGrpSpPr>
            <p:cNvPr id="65" name=""/>
            <p:cNvGrpSpPr/>
            <p:nvPr/>
          </p:nvGrpSpPr>
          <p:grpSpPr>
            <a:xfrm>
              <a:off x="2819520" y="3505320"/>
              <a:ext cx="1066680" cy="2286000"/>
              <a:chOff x="2819520" y="3505320"/>
              <a:chExt cx="1066680" cy="228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2819520" y="3657600"/>
                <a:ext cx="1066680" cy="1676520"/>
                <a:chOff x="2819520" y="3657600"/>
                <a:chExt cx="1066680" cy="1676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276720" y="3657600"/>
                  <a:ext cx="152280" cy="1676520"/>
                </a:xfrm>
                <a:custGeom>
                  <a:avLst/>
                  <a:gdLst>
                    <a:gd name="textAreaLeft" fmla="*/ 33480 w 152280"/>
                    <a:gd name="textAreaRight" fmla="*/ 118800 w 152280"/>
                    <a:gd name="textAreaTop" fmla="*/ 368640 h 1676520"/>
                    <a:gd name="textAreaBottom" fmla="*/ 1307880 h 1676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819520" y="3962520"/>
                  <a:ext cx="1066680" cy="76320"/>
                </a:xfrm>
                <a:custGeom>
                  <a:avLst/>
                  <a:gdLst>
                    <a:gd name="textAreaLeft" fmla="*/ 234360 w 1066680"/>
                    <a:gd name="textAreaRight" fmla="*/ 832320 w 1066680"/>
                    <a:gd name="textAreaTop" fmla="*/ 16560 h 76320"/>
                    <a:gd name="textAreaBottom" fmla="*/ 5976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3353040" y="5410440"/>
                <a:ext cx="152280" cy="380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505320" y="3505320"/>
                <a:ext cx="76320" cy="22096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514600" y="4952880"/>
              <a:ext cx="8384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4191120"/>
            <a:ext cx="1143000" cy="380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cc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019920"/>
            <a:ext cx="990720" cy="3808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ccff66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11430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WORK  &amp;  MINISTRY  OF  THE  HOLY 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218960" y="12952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12952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1911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1676520"/>
            <a:ext cx="1523880" cy="609480"/>
            <a:chOff x="533520" y="1676520"/>
            <a:chExt cx="1523880" cy="609480"/>
          </a:xfrm>
        </p:grpSpPr>
        <p:sp>
          <p:nvSpPr>
            <p:cNvPr id="82" name=""/>
            <p:cNvSpPr/>
            <p:nvPr/>
          </p:nvSpPr>
          <p:spPr>
            <a:xfrm>
              <a:off x="533520" y="167652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cc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1752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HIS  DEITY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PERSONHO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0102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IS  DEPA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9528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N  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F  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7080" y="3429000"/>
            <a:ext cx="1447920" cy="1905120"/>
            <a:chOff x="4267080" y="3429000"/>
            <a:chExt cx="1447920" cy="1905120"/>
          </a:xfrm>
        </p:grpSpPr>
        <p:pic>
          <p:nvPicPr>
            <p:cNvPr id="87" name="Man&amp;Woman" descr=""/>
            <p:cNvPicPr/>
            <p:nvPr/>
          </p:nvPicPr>
          <p:blipFill>
            <a:blip r:embed="rId1"/>
            <a:stretch/>
          </p:blipFill>
          <p:spPr>
            <a:xfrm>
              <a:off x="4495680" y="3962520"/>
              <a:ext cx="7095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67080" y="3429000"/>
              <a:ext cx="1371600" cy="4572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ffffcc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429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UN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248520" y="3429000"/>
            <a:ext cx="1295280" cy="1905120"/>
            <a:chOff x="6248520" y="3429000"/>
            <a:chExt cx="1295280" cy="1905120"/>
          </a:xfrm>
        </p:grpSpPr>
        <p:sp>
          <p:nvSpPr>
            <p:cNvPr id="91" name=""/>
            <p:cNvSpPr/>
            <p:nvPr/>
          </p:nvSpPr>
          <p:spPr>
            <a:xfrm>
              <a:off x="6248520" y="3429000"/>
              <a:ext cx="129528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cc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Man&amp;Woman" descr="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6553080" y="3962520"/>
              <a:ext cx="70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00800" y="3429000"/>
              <a:ext cx="106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47920" y="54864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OLD 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IN  THE 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19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3124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  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5791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Y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L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390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4836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90920" y="1523880"/>
            <a:ext cx="2590560" cy="3886200"/>
            <a:chOff x="2590920" y="1523880"/>
            <a:chExt cx="2590560" cy="3886200"/>
          </a:xfrm>
        </p:grpSpPr>
        <p:sp>
          <p:nvSpPr>
            <p:cNvPr id="103" name=""/>
            <p:cNvSpPr/>
            <p:nvPr/>
          </p:nvSpPr>
          <p:spPr>
            <a:xfrm>
              <a:off x="2590920" y="1523880"/>
              <a:ext cx="2590560" cy="1524240"/>
            </a:xfrm>
            <a:custGeom>
              <a:avLst/>
              <a:gdLst>
                <a:gd name="textAreaLeft" fmla="*/ 692640 w 2590560"/>
                <a:gd name="textAreaRight" fmla="*/ 1897920 w 2590560"/>
                <a:gd name="textAreaTop" fmla="*/ 407520 h 1524240"/>
                <a:gd name="textAreaBottom" fmla="*/ 111672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2971800"/>
              <a:ext cx="0" cy="2438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1337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HIS  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3048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ENTE 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568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98840" y="838080"/>
            <a:ext cx="33526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838080"/>
            <a:ext cx="23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N  OLD  TEST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04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040" y="1828800"/>
            <a:ext cx="806868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Holy Spirit working in &amp; through people according to the will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. 41:38 --- can we find a man like this, in whom is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divine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od. 31:3 And I have filled him 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Spirit of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n wisdo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understanding, in knowledge and in all kinds of craftsma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um. 27:18 --- Take Joshua the son of Nun, a man in whom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lay your hands on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g. 2:5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My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s abiding in your midst; do not f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e Holy Spirit as the Omnipresen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S 139:7 Where can I go from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Your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? Or where can I fle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r pres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65451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304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1480" y="1752480"/>
            <a:ext cx="762948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e demonstration of the Holy Spirit’s power in the life of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ke 1:35 ---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Holy 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will come upon you,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ower of the Most High will over-shadow you; and for th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ason the holy offspring shall be called the Son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att. 3:16 --- after being baptized --- the heavens were ope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He saw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Spirit of God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descending as a dov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ming upon 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b. 9:14  how much more will the blood of Christ, who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Spirit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offered Himself without blemish to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14600" y="762120"/>
            <a:ext cx="4122720" cy="337320"/>
            <a:chOff x="2514600" y="762120"/>
            <a:chExt cx="4122720" cy="337320"/>
          </a:xfrm>
        </p:grpSpPr>
        <p:sp>
          <p:nvSpPr>
            <p:cNvPr id="116" name=""/>
            <p:cNvSpPr/>
            <p:nvPr/>
          </p:nvSpPr>
          <p:spPr>
            <a:xfrm>
              <a:off x="2590920" y="762120"/>
              <a:ext cx="3886200" cy="304560"/>
            </a:xfrm>
            <a:prstGeom prst="rect">
              <a:avLst/>
            </a:prstGeom>
            <a:gradFill rotWithShape="0">
              <a:gsLst>
                <a:gs pos="0">
                  <a:srgbClr val="757546"/>
                </a:gs>
                <a:gs pos="5000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76212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IN  LIFE OF CHRIST ON THE EA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4340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04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440" y="1371600"/>
            <a:ext cx="803844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omises about the Holy Spirit’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4:16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I will ask the Fath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and He will give you an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lper, that He may be with you for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ke 24:49 --- I am sending forth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promise of My Fathe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upon yo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you are to stay in the city until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clothed with power from on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omises about the Holy Spirit’s minist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ohn 14:16-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Holy Spirit will be the same kind as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Holy Spirit will be with you fore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ld cannot receive H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Holy Spirit abides with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Holy Spirit will be in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10280" y="152280"/>
            <a:ext cx="2133720" cy="2209680"/>
            <a:chOff x="7010280" y="152280"/>
            <a:chExt cx="2133720" cy="2209680"/>
          </a:xfrm>
        </p:grpSpPr>
        <p:sp>
          <p:nvSpPr>
            <p:cNvPr id="122" name=""/>
            <p:cNvSpPr/>
            <p:nvPr/>
          </p:nvSpPr>
          <p:spPr>
            <a:xfrm>
              <a:off x="7010280" y="152280"/>
              <a:ext cx="2133720" cy="866880"/>
            </a:xfrm>
            <a:custGeom>
              <a:avLst/>
              <a:gdLst>
                <a:gd name="textAreaLeft" fmla="*/ 570240 w 2133720"/>
                <a:gd name="textAreaRight" fmla="*/ 1563480 w 2133720"/>
                <a:gd name="textAreaTop" fmla="*/ 231840 h 866880"/>
                <a:gd name="textAreaBottom" fmla="*/ 6350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6960" y="976320"/>
              <a:ext cx="0" cy="1385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67480" y="4572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HIS 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62640" y="1054080"/>
            <a:ext cx="811764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omises about the Holy Spirit’s ministry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6: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is to your advantage that I go 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Helper shall not come if I don’t go 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will send Him to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omises about the Holy Spirit’s ministry to the world (unbeliev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6:8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en He comes will convict (convince) th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cerning - sin, righteousness and jud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in - because they do not beli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ighteousness - because I go to the Father and you no lo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ehol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udgment - because the ruler of this world has been jud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04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10280" y="152280"/>
            <a:ext cx="2133720" cy="2209680"/>
            <a:chOff x="7010280" y="152280"/>
            <a:chExt cx="2133720" cy="2209680"/>
          </a:xfrm>
        </p:grpSpPr>
        <p:sp>
          <p:nvSpPr>
            <p:cNvPr id="129" name=""/>
            <p:cNvSpPr/>
            <p:nvPr/>
          </p:nvSpPr>
          <p:spPr>
            <a:xfrm>
              <a:off x="7010280" y="152280"/>
              <a:ext cx="2133720" cy="866880"/>
            </a:xfrm>
            <a:custGeom>
              <a:avLst/>
              <a:gdLst>
                <a:gd name="textAreaLeft" fmla="*/ 570240 w 2133720"/>
                <a:gd name="textAreaRight" fmla="*/ 1563480 w 2133720"/>
                <a:gd name="textAreaTop" fmla="*/ 231840 h 866880"/>
                <a:gd name="textAreaBottom" fmla="*/ 6350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6960" y="976320"/>
              <a:ext cx="0" cy="1385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67480" y="4572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HIS 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267080" y="6477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7010280" y="152280"/>
            <a:ext cx="2133720" cy="2209680"/>
            <a:chOff x="7010280" y="152280"/>
            <a:chExt cx="2133720" cy="2209680"/>
          </a:xfrm>
        </p:grpSpPr>
        <p:sp>
          <p:nvSpPr>
            <p:cNvPr id="134" name=""/>
            <p:cNvSpPr/>
            <p:nvPr/>
          </p:nvSpPr>
          <p:spPr>
            <a:xfrm>
              <a:off x="7010280" y="152280"/>
              <a:ext cx="2133720" cy="866880"/>
            </a:xfrm>
            <a:custGeom>
              <a:avLst/>
              <a:gdLst>
                <a:gd name="textAreaLeft" fmla="*/ 570240 w 2133720"/>
                <a:gd name="textAreaRight" fmla="*/ 1563480 w 2133720"/>
                <a:gd name="textAreaTop" fmla="*/ 231840 h 866880"/>
                <a:gd name="textAreaBottom" fmla="*/ 6350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76960" y="976320"/>
              <a:ext cx="0" cy="1385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7480" y="4572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HIS 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49600" y="1295280"/>
            <a:ext cx="687384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Promises about the Holy Spirit’s ministry to bel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6: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ill guide you into all the tr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ill not speak on His own initi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atever He hears He will s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will disclose to you what is to 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hn 16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shall glorify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shall take of Mine and shall disclose it to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ll things that the father has are M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 therefore - He shall take of Mine and will disclose it to yo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80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380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HIS  AD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9480" y="1523880"/>
            <a:ext cx="51591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At the coming of the Holy Spi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took up His abode on the Day of Pente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abode is now in the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new ministry is unique to the church 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010280" y="152280"/>
            <a:ext cx="2133720" cy="2209680"/>
            <a:chOff x="7010280" y="152280"/>
            <a:chExt cx="2133720" cy="2209680"/>
          </a:xfrm>
        </p:grpSpPr>
        <p:sp>
          <p:nvSpPr>
            <p:cNvPr id="144" name=""/>
            <p:cNvSpPr/>
            <p:nvPr/>
          </p:nvSpPr>
          <p:spPr>
            <a:xfrm>
              <a:off x="7010280" y="152280"/>
              <a:ext cx="2133720" cy="866880"/>
            </a:xfrm>
            <a:custGeom>
              <a:avLst/>
              <a:gdLst>
                <a:gd name="textAreaLeft" fmla="*/ 570240 w 2133720"/>
                <a:gd name="textAreaRight" fmla="*/ 1563480 w 2133720"/>
                <a:gd name="textAreaTop" fmla="*/ 231840 h 866880"/>
                <a:gd name="textAreaBottom" fmla="*/ 6350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76960" y="976320"/>
              <a:ext cx="0" cy="1385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HIS 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572000" y="6507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cp:lastPrinted>2002-10-20T02:42:35Z</cp:lastPrinted>
  <dcterms:modified xsi:type="dcterms:W3CDTF">2003-11-15T23:00:02Z</dcterms:modified>
  <cp:revision>59</cp:revision>
  <dc:subject/>
  <dc:title>PowerPoint Presentation</dc:title>
</cp:coreProperties>
</file>