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567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990720" y="3352680"/>
            <a:ext cx="411480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43000" y="1143000"/>
            <a:ext cx="6780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752480"/>
            <a:ext cx="2895480" cy="554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572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OWER OF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0280" y="65530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6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451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33720" y="3808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OWER OF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762120"/>
            <a:ext cx="4953240" cy="5331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8380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4. The  Process  of  Temp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5145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010280" y="990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JAMES 1:13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65530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6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33720" y="3808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OWER OF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685800"/>
            <a:ext cx="6400800" cy="533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7621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5.  The Impact of Abiding:  Sin  vs. New 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523880"/>
            <a:ext cx="914400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                       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ABIDING / WALKING  IN THE FLESH (SIN NA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are living in death (separation of fellowship with Christ)-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8:6,13; J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are slaves to the sin nature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6:6,16; 7: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sin nature with its desires is reigning in our body                  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6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sin nature has dominion (lords over us)                                     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6: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are grieving the Holy Spirit                                                             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ph 4: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cannot grow in Christ (we are beholding self &amp; not Christ)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 Cor 3: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have no fruit acceptable to God                                         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6:21; 7: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have fallen from grace (to law- conditionally)                             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al 5:4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cannot please God                                                            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8:8; Heb 11:6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91520" y="64692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6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646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3720" y="3808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OWER OF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447920" y="685800"/>
            <a:ext cx="5715000" cy="533520"/>
            <a:chOff x="1447920" y="685800"/>
            <a:chExt cx="5715000" cy="533520"/>
          </a:xfrm>
        </p:grpSpPr>
        <p:sp>
          <p:nvSpPr>
            <p:cNvPr id="130" name=""/>
            <p:cNvSpPr/>
            <p:nvPr/>
          </p:nvSpPr>
          <p:spPr>
            <a:xfrm>
              <a:off x="1447920" y="685800"/>
              <a:ext cx="5715000" cy="53352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6699ff"/>
                </a:gs>
                <a:gs pos="5000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00200" y="7621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5.  The Impact of Abiding: Sin  vs. New Natu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0" y="1219320"/>
            <a:ext cx="9144000" cy="56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ABIDING / WALKING  IN THE SPIRIT  (NEW NA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are filled by the Holy Spirit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ph 5: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Spirit fills us with the things of Christ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n 16:12-15; 1 Cor 2:9-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Spirit is leading- we are following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-  Rom 8:4,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are growing &amp; being conformed to Christ’s image    -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8:28,29; 2 Cor 3: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righteousness of the law is being fulfilled in us                        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8: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are not fulfilling the lusts of the flesh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al 5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Spirit is manifesting His fruit in us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al 5:22,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is life is being manifested through us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 Cor 4:10-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are being used as an epistle of Christ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 Cor 3: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are reckoning ourselves dead to our sin nature &amp; alive to God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6:11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are free from the slavery of the sin nature                    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8:2; Gal 5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are walking by faith in God’s grace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ol 2:6,7; 2 Cor 9: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ur walk is pleasing to God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11:6; Col 2:6,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24680" y="664380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6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6545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33720" y="3808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OWER OF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685800"/>
            <a:ext cx="6095880" cy="533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7621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5.  The Impact of Abiding:  Sin  vs. New 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1142640"/>
            <a:ext cx="8915400" cy="5719320"/>
            <a:chOff x="0" y="1142640"/>
            <a:chExt cx="8915400" cy="5719320"/>
          </a:xfrm>
        </p:grpSpPr>
        <p:grpSp>
          <p:nvGrpSpPr>
            <p:cNvPr id="139" name=""/>
            <p:cNvGrpSpPr/>
            <p:nvPr/>
          </p:nvGrpSpPr>
          <p:grpSpPr>
            <a:xfrm>
              <a:off x="0" y="1142640"/>
              <a:ext cx="8763120" cy="2242800"/>
              <a:chOff x="0" y="1142640"/>
              <a:chExt cx="8763120" cy="22428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1143000" y="1905120"/>
                <a:ext cx="3683160" cy="1003320"/>
                <a:chOff x="1143000" y="1905120"/>
                <a:chExt cx="3683160" cy="10033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997360" y="1905120"/>
                  <a:ext cx="1828800" cy="0"/>
                </a:xfrm>
                <a:prstGeom prst="line">
                  <a:avLst/>
                </a:prstGeom>
                <a:ln w="63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143000" y="1914480"/>
                  <a:ext cx="1879920" cy="993960"/>
                </a:xfrm>
                <a:custGeom>
                  <a:avLst/>
                  <a:gdLst/>
                  <a:ahLst/>
                  <a:rect l="l" t="t" r="r" b="b"/>
                  <a:pathLst>
                    <a:path w="1184" h="626">
                      <a:moveTo>
                        <a:pt x="0" y="626"/>
                      </a:moveTo>
                      <a:cubicBezTo>
                        <a:pt x="57" y="588"/>
                        <a:pt x="72" y="591"/>
                        <a:pt x="136" y="570"/>
                      </a:cubicBezTo>
                      <a:cubicBezTo>
                        <a:pt x="213" y="493"/>
                        <a:pt x="166" y="508"/>
                        <a:pt x="312" y="498"/>
                      </a:cubicBezTo>
                      <a:cubicBezTo>
                        <a:pt x="360" y="482"/>
                        <a:pt x="394" y="454"/>
                        <a:pt x="440" y="434"/>
                      </a:cubicBezTo>
                      <a:cubicBezTo>
                        <a:pt x="490" y="412"/>
                        <a:pt x="546" y="409"/>
                        <a:pt x="592" y="378"/>
                      </a:cubicBezTo>
                      <a:cubicBezTo>
                        <a:pt x="601" y="350"/>
                        <a:pt x="611" y="327"/>
                        <a:pt x="640" y="314"/>
                      </a:cubicBezTo>
                      <a:cubicBezTo>
                        <a:pt x="655" y="307"/>
                        <a:pt x="672" y="303"/>
                        <a:pt x="688" y="298"/>
                      </a:cubicBezTo>
                      <a:cubicBezTo>
                        <a:pt x="696" y="295"/>
                        <a:pt x="712" y="290"/>
                        <a:pt x="712" y="290"/>
                      </a:cubicBezTo>
                      <a:cubicBezTo>
                        <a:pt x="727" y="268"/>
                        <a:pt x="727" y="261"/>
                        <a:pt x="752" y="250"/>
                      </a:cubicBezTo>
                      <a:cubicBezTo>
                        <a:pt x="767" y="243"/>
                        <a:pt x="800" y="234"/>
                        <a:pt x="800" y="234"/>
                      </a:cubicBezTo>
                      <a:cubicBezTo>
                        <a:pt x="857" y="245"/>
                        <a:pt x="872" y="253"/>
                        <a:pt x="928" y="234"/>
                      </a:cubicBezTo>
                      <a:cubicBezTo>
                        <a:pt x="949" y="213"/>
                        <a:pt x="964" y="182"/>
                        <a:pt x="992" y="170"/>
                      </a:cubicBezTo>
                      <a:cubicBezTo>
                        <a:pt x="1034" y="152"/>
                        <a:pt x="1074" y="147"/>
                        <a:pt x="1112" y="122"/>
                      </a:cubicBezTo>
                      <a:cubicBezTo>
                        <a:pt x="1134" y="56"/>
                        <a:pt x="1119" y="88"/>
                        <a:pt x="1160" y="26"/>
                      </a:cubicBezTo>
                      <a:cubicBezTo>
                        <a:pt x="1177" y="0"/>
                        <a:pt x="1166" y="2"/>
                        <a:pt x="1184" y="2"/>
                      </a:cubicBezTo>
                    </a:path>
                  </a:pathLst>
                </a:custGeom>
                <a:noFill/>
                <a:ln w="63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4826160" y="1523880"/>
                <a:ext cx="1747800" cy="393840"/>
              </a:xfrm>
              <a:custGeom>
                <a:avLst/>
                <a:gdLst/>
                <a:ahLst/>
                <a:rect l="l" t="t" r="r" b="b"/>
                <a:pathLst>
                  <a:path w="1101" h="248">
                    <a:moveTo>
                      <a:pt x="0" y="248"/>
                    </a:moveTo>
                    <a:cubicBezTo>
                      <a:pt x="11" y="245"/>
                      <a:pt x="23" y="246"/>
                      <a:pt x="32" y="240"/>
                    </a:cubicBezTo>
                    <a:cubicBezTo>
                      <a:pt x="40" y="235"/>
                      <a:pt x="41" y="223"/>
                      <a:pt x="48" y="216"/>
                    </a:cubicBezTo>
                    <a:cubicBezTo>
                      <a:pt x="64" y="200"/>
                      <a:pt x="76" y="199"/>
                      <a:pt x="96" y="192"/>
                    </a:cubicBezTo>
                    <a:cubicBezTo>
                      <a:pt x="203" y="200"/>
                      <a:pt x="227" y="207"/>
                      <a:pt x="344" y="192"/>
                    </a:cubicBezTo>
                    <a:cubicBezTo>
                      <a:pt x="387" y="187"/>
                      <a:pt x="424" y="147"/>
                      <a:pt x="464" y="144"/>
                    </a:cubicBezTo>
                    <a:cubicBezTo>
                      <a:pt x="520" y="139"/>
                      <a:pt x="576" y="139"/>
                      <a:pt x="632" y="136"/>
                    </a:cubicBezTo>
                    <a:cubicBezTo>
                      <a:pt x="673" y="109"/>
                      <a:pt x="711" y="91"/>
                      <a:pt x="752" y="64"/>
                    </a:cubicBezTo>
                    <a:cubicBezTo>
                      <a:pt x="768" y="53"/>
                      <a:pt x="781" y="36"/>
                      <a:pt x="800" y="32"/>
                    </a:cubicBezTo>
                    <a:cubicBezTo>
                      <a:pt x="837" y="25"/>
                      <a:pt x="858" y="20"/>
                      <a:pt x="888" y="0"/>
                    </a:cubicBezTo>
                    <a:cubicBezTo>
                      <a:pt x="1101" y="21"/>
                      <a:pt x="835" y="0"/>
                      <a:pt x="1048" y="0"/>
                    </a:cubicBezTo>
                    <a:cubicBezTo>
                      <a:pt x="1059" y="0"/>
                      <a:pt x="1069" y="8"/>
                      <a:pt x="1080" y="8"/>
                    </a:cubicBezTo>
                  </a:path>
                </a:pathLst>
              </a:custGeom>
              <a:noFill/>
              <a:ln w="63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1143000" y="1142640"/>
                <a:ext cx="0" cy="21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1676520"/>
                <a:ext cx="1066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Growth /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Maturit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3000" y="3276720"/>
                <a:ext cx="685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001000" y="3048120"/>
                <a:ext cx="762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Tim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76720" y="1905120"/>
                <a:ext cx="160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( No  Growth 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0" y="3505320"/>
              <a:ext cx="8915400" cy="3356640"/>
              <a:chOff x="0" y="3505320"/>
              <a:chExt cx="8915400" cy="3356640"/>
            </a:xfrm>
          </p:grpSpPr>
          <p:sp>
            <p:nvSpPr>
              <p:cNvPr id="150" name=""/>
              <p:cNvSpPr/>
              <p:nvPr/>
            </p:nvSpPr>
            <p:spPr>
              <a:xfrm>
                <a:off x="2971800" y="5715000"/>
                <a:ext cx="1828800" cy="0"/>
              </a:xfrm>
              <a:prstGeom prst="line">
                <a:avLst/>
              </a:prstGeom>
              <a:ln w="63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0" y="3505320"/>
                <a:ext cx="8915400" cy="3356640"/>
                <a:chOff x="0" y="3505320"/>
                <a:chExt cx="8915400" cy="33566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4267440"/>
                  <a:ext cx="106668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Abiding /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Walk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143000" y="3505320"/>
                  <a:ext cx="0" cy="220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143000" y="3810240"/>
                  <a:ext cx="1828800" cy="0"/>
                </a:xfrm>
                <a:prstGeom prst="line">
                  <a:avLst/>
                </a:prstGeom>
                <a:ln w="63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971800" y="3810240"/>
                  <a:ext cx="0" cy="19047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800600" y="3810240"/>
                  <a:ext cx="0" cy="1904760"/>
                </a:xfrm>
                <a:prstGeom prst="line">
                  <a:avLst/>
                </a:prstGeom>
                <a:ln w="63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00600" y="3810240"/>
                  <a:ext cx="1828800" cy="0"/>
                </a:xfrm>
                <a:prstGeom prst="line">
                  <a:avLst/>
                </a:prstGeom>
                <a:ln w="63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124080" y="5181840"/>
                  <a:ext cx="16002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In  The  Fles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( Sin  Nature 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295280" y="3505320"/>
                  <a:ext cx="16765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In  The  Spir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(New  Nature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86400" y="3505320"/>
                  <a:ext cx="1219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( Grace 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715000" y="5410440"/>
                  <a:ext cx="990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( Law 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934320" y="3810240"/>
                  <a:ext cx="0" cy="1904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934320" y="4343400"/>
                  <a:ext cx="144756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To  Fal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From  Gra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( Gal 5: 4 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143000" y="5715000"/>
                  <a:ext cx="685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7320" y="548640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Tim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486400" y="3886200"/>
                  <a:ext cx="1447920" cy="11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buClr>
                      <a:srgbClr val="000000"/>
                    </a:buClr>
                    <a:buFont typeface="Arial Rounded MT Bold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Fait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Rounded MT Bold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Trut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Rounded MT Bold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Freedo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Rounded MT Bold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Christ 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  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Manifes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562720" y="5702400"/>
                  <a:ext cx="1600200" cy="11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buClr>
                      <a:srgbClr val="000000"/>
                    </a:buClr>
                    <a:buFont typeface="Arial Rounded MT Bold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Sigh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Rounded MT Bold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Erro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Rounded MT Bold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Bondag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 Rounded MT Bold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Self  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  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Manifes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8" name=""/>
          <p:cNvSpPr/>
          <p:nvPr/>
        </p:nvSpPr>
        <p:spPr>
          <a:xfrm>
            <a:off x="7924680" y="65530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6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65530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3049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OWER OF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685800"/>
            <a:ext cx="3962520" cy="533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762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O U T L I N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752480"/>
            <a:ext cx="762012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1.   POTENTIAL  SINS  OF  A  BELI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2.   THE  SOURCE  OF  A  BELIEVER’S  S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3.   OUR  RELATIONSHIP  TO  THE  SOURCE  OF  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4.   THE  PROCESS  OF  TEMP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5.   THE  IMPACT  OF  ABIDING (OLD  VS.  NEW  NA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0120" y="654516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6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3720" y="3049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OWER OF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4680" y="1981080"/>
            <a:ext cx="221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asting Bl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Irri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Bitter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Resentf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elf P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iscoura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Fearf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Wo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nx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onel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e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esp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hort Temp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o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r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2920" y="1981080"/>
            <a:ext cx="205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is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rov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ompl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Inhospi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lutto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Excess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Extravag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az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Busy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iserl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Bad Att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ggr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lorifies 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ack of Fa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oss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nconcer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981080"/>
            <a:ext cx="2133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elfi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Insens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rgument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nthankf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Never Satis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Obstin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Rebellio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at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Wrathf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al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Judg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Returns E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ornf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lander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Inso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Quarrel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29528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Question :  What  is  the  source  of  the  following  SINS  that  can  be 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often  are  practiced  by every  believer  in  Chris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2057400"/>
            <a:ext cx="2590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1981080"/>
            <a:ext cx="251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10280" y="1981080"/>
            <a:ext cx="2133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nlov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Impat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ar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Roug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nca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Igno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ard Hea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elf Amb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iss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Fraudu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ishone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Flat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r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Falseh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wi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Inc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685800"/>
            <a:ext cx="3962520" cy="533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7621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1.  Potential  Sins  of  a  Belie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24680" y="65530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6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65530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33720" y="31896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OWER OF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19320"/>
            <a:ext cx="216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rrog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isobed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Inconsid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urm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Faultf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bu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exual Lu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efen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ypocr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dul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For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Bra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Idola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omosex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aro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1440000"/>
            <a:ext cx="2971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1219320"/>
            <a:ext cx="228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rostit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orc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elfi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Fact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rofa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tr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runken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Immor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u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ovet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eceitf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nfaithf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te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Takes Advan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nk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1219320"/>
            <a:ext cx="220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Jealou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Env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agic 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Tempting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tumbling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once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edit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Not Abi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n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ar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ewd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Enm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tr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F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ivi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Rev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10280" y="1219320"/>
            <a:ext cx="2133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ack of J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Thoughtl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ost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Ra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eres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ngen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esir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opu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Rep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re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ccep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Ri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Wisd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60958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Question :  Do  you  personally  identify  with  any  of  these  sin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685800"/>
            <a:ext cx="5105520" cy="533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762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1.  Potential  Sins  of  a  Believer - Continu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654516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6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6545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33720" y="3049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OWER OF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830160"/>
            <a:ext cx="541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609480"/>
            <a:ext cx="5181480" cy="685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7621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2.  The  Source  of  a  Believer’s  Sins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295280"/>
            <a:ext cx="91440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cripture clearly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eaches the source of a believer’s sins is his/her Sin 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 one-naturist (who says the sin nature is eradicated) says source of sins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Residual sins        - or Bad habits           - or Sata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very believer possesses 2 natu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“sin (Adamic) nature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5:12; 1 Jn 1;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“new (Christ’s) nature                                           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 Cor 5:17; 2 Pet 1: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 in His wisdom &amp; sovereignty has not removed our sin 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sin nature is incapable of holiness / righteou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ositional                                                                              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3:23; 5:12-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nditional                                                                 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7:4-25; Gal 5:19-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new nature is incapable of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ositional                                                                                                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Jn 3: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nditional                                                                      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Jn 3: 6; Gal 5:22-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’s work in the belie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ot fixing up nor improving the sin nature (old man)               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8: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ut forming Christ’s nature in us (new man)-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al 4:19; Rom 8:28-29; 2 Cor 3: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654516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6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6545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33720" y="3049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OWER OF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830160"/>
            <a:ext cx="5410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609480"/>
            <a:ext cx="4800600" cy="685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7621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2.  The  Source  of  a  Believer’s  Sins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The%20Two%20Natures-1" descr=""/>
          <p:cNvPicPr/>
          <p:nvPr/>
        </p:nvPicPr>
        <p:blipFill>
          <a:blip r:embed="rId1"/>
          <a:srcRect l="1509" t="0" r="11113" b="0"/>
          <a:stretch/>
        </p:blipFill>
        <p:spPr>
          <a:xfrm>
            <a:off x="1143000" y="1295280"/>
            <a:ext cx="6705720" cy="5273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 flipV="1">
            <a:off x="1980720" y="1523520"/>
            <a:ext cx="175284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133360" y="2057400"/>
            <a:ext cx="14475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904760" y="2133720"/>
            <a:ext cx="160020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182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 Rounded MT Bold"/>
              </a:rPr>
              <a:t>S I N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10666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Our Sin 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Rom 6:12-13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7096400">
            <a:off x="4187160" y="4880520"/>
            <a:ext cx="104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F A I T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64692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6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3720" y="3808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OWER OF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95280" y="609480"/>
            <a:ext cx="6400440" cy="1066680"/>
            <a:chOff x="1295280" y="609480"/>
            <a:chExt cx="6400440" cy="1066680"/>
          </a:xfrm>
        </p:grpSpPr>
        <p:sp>
          <p:nvSpPr>
            <p:cNvPr id="98" name=""/>
            <p:cNvSpPr/>
            <p:nvPr/>
          </p:nvSpPr>
          <p:spPr>
            <a:xfrm>
              <a:off x="1295280" y="609480"/>
              <a:ext cx="6400440" cy="10666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6699ff"/>
                </a:gs>
                <a:gs pos="5000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47640" y="846360"/>
              <a:ext cx="614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3. The Believer’s Relationship to His/Her Sin Na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(POSITIONAL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0" y="1981080"/>
            <a:ext cx="914400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“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We are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DEAD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to sin (nature)”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-  Rom 6: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ad”  -  means separated, or cut loose from our sin 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orist Tense = The fact tense - separated at our new bi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dicative Mood = It’s a reality in your life (posi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Our death occurred by our co-crucifixion with Chris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were co-crucified with Christ                                          -  Gal 2:20; Rom 6: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hrist died unto your sin nature                                                            -  Rom 6: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also judicially died with Him to your sin nature                     -  Rom 6:8,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Your death is part of your identification with Chris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-  Rom 6:1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 His De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 His Bu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 His Resur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 His Asc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 His Sea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64692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6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57400" y="3049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OWER OF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685800"/>
            <a:ext cx="6477120" cy="533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58200" cy="4903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00200" y="7621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3. The Believer’s Relationship to His/Her Sin 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77320" y="65530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6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6545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33720" y="3808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OWER OF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685800"/>
            <a:ext cx="5029200" cy="533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762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4. The  Process  of  Tem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37160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What  Is  Temptatio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emptation (Peirazo) = A solicitation or an alluring to sin(negative sen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owever temptation is not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What  Is  the  Source  of  Temptatio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source is never ever God                                                             - James 1: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world, the flesh &amp; the devil are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y allure or solicit the sin 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When  Does  Temptation  Become  Sin ?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- James 1:13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en the desire (in the sin nature) from the temptation becom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ore attractive than Christ’s desi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then,by faith, “take the bait” &amp; temptation now becomes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in results in death(separation of fellowship with Chri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are now abiding in the sin nature(fles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Next to the Knowledge of the Lord Jesus Nothing Is So Important a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Knowledge of Self (the Sin Nature)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646920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6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6545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3:21:04Z</dcterms:modified>
  <cp:revision>49</cp:revision>
  <dc:subject/>
  <dc:title>PowerPoint Presentation</dc:title>
</cp:coreProperties>
</file>