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58400" cy="7678738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89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18960" y="674280"/>
            <a:ext cx="442116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54856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972-C49D-4B15-8E6B-5BEC6765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19320" y="674640"/>
            <a:ext cx="4421160" cy="3375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Jesus Christ as the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Jesus Christ a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Cre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Jesus Christ a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Supreme Ruler of the wor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Jesus Christ a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Incarnate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Jesus Christ a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Savi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History of Man in the B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</a:t>
            </a:r>
            <a:r>
              <a:rPr b="0" lang="en-US" sz="1400" spc="-1" strike="noStrike">
                <a:solidFill>
                  <a:srgbClr val="3333cc"/>
                </a:solidFill>
                <a:latin typeface="Arial Rounded MT Bold"/>
              </a:rPr>
              <a:t>Purpose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of the B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All things created for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His gl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The nation Israel is for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glory of Go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Salvation is unto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glory of Go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All service should be unto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glory of Go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The Christian’s new passion is that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God may be glorifi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Even the believer’s death is said to be to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one 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The saved one is appointed to share in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glory of Go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19320" y="674640"/>
            <a:ext cx="4421160" cy="3375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fection's of Christ in His person and work are presented in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in scri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2600" y="685800"/>
            <a:ext cx="4421160" cy="3375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273200"/>
            <a:ext cx="50292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ways scripture show that Jesus Christ is the supreme rul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point addressing His person or wor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7520" y="5181480"/>
            <a:ext cx="21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hat does incarnat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9052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123080"/>
            <a:ext cx="9052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1520" y="179676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12308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1520" y="412308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291456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3640" y="1796760"/>
            <a:ext cx="291456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4360" y="1796760"/>
            <a:ext cx="291456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123080"/>
            <a:ext cx="291456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3640" y="4123080"/>
            <a:ext cx="291456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4360" y="4123080"/>
            <a:ext cx="291456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796760"/>
            <a:ext cx="9052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9052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4417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1520" y="1796760"/>
            <a:ext cx="4417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6360"/>
            <a:ext cx="9052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796760"/>
            <a:ext cx="4417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12308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4417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79676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1520" y="412308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9676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796760"/>
            <a:ext cx="4417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23080"/>
            <a:ext cx="905220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36920" y="6997680"/>
            <a:ext cx="3184560" cy="51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920000" cy="68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75760" y="7155000"/>
            <a:ext cx="174744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73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425040" y="-27000"/>
            <a:ext cx="2939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93640" y="708660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July 28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52200" cy="12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02920" y="1796760"/>
            <a:ext cx="905220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523880"/>
            <a:ext cx="4359240" cy="341280"/>
          </a:xfrm>
          <a:prstGeom prst="rect">
            <a:avLst/>
          </a:prstGeom>
          <a:solidFill>
            <a:srgbClr val="cce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85360" y="39060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73240" y="1023840"/>
            <a:ext cx="67053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The Bible: The Word of God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51520" y="2048040"/>
            <a:ext cx="3772080" cy="924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a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Chapter 4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for Augus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swer Questions: 1,2,6 &amp;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84760" y="723888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85360" y="30492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143000"/>
            <a:ext cx="6858000" cy="11955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person and work of the Lord Jesus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s the supre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of Scri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32520" y="2783160"/>
            <a:ext cx="1859040" cy="2587680"/>
            <a:chOff x="632520" y="2783160"/>
            <a:chExt cx="1859040" cy="2587680"/>
          </a:xfrm>
        </p:grpSpPr>
        <p:sp>
          <p:nvSpPr>
            <p:cNvPr id="59" name=""/>
            <p:cNvSpPr/>
            <p:nvPr/>
          </p:nvSpPr>
          <p:spPr>
            <a:xfrm rot="5253000">
              <a:off x="304560" y="3200400"/>
              <a:ext cx="2514600" cy="175248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227160 h 1752480"/>
                <a:gd name="textAreaBottom" fmla="*/ 15253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3360" y="3429360"/>
              <a:ext cx="1084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Cre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842200" y="3240360"/>
            <a:ext cx="1859040" cy="2587680"/>
            <a:chOff x="2842200" y="3240360"/>
            <a:chExt cx="1859040" cy="2587680"/>
          </a:xfrm>
        </p:grpSpPr>
        <p:sp>
          <p:nvSpPr>
            <p:cNvPr id="62" name=""/>
            <p:cNvSpPr/>
            <p:nvPr/>
          </p:nvSpPr>
          <p:spPr>
            <a:xfrm rot="5253000">
              <a:off x="2514240" y="3657600"/>
              <a:ext cx="2514600" cy="175248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227160 h 1752480"/>
                <a:gd name="textAreaBottom" fmla="*/ 15253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75560" y="3810240"/>
              <a:ext cx="1264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Supr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Ru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of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27840" y="3697560"/>
            <a:ext cx="1859400" cy="2587680"/>
            <a:chOff x="5127840" y="3697560"/>
            <a:chExt cx="1859400" cy="2587680"/>
          </a:xfrm>
        </p:grpSpPr>
        <p:sp>
          <p:nvSpPr>
            <p:cNvPr id="65" name=""/>
            <p:cNvSpPr/>
            <p:nvPr/>
          </p:nvSpPr>
          <p:spPr>
            <a:xfrm rot="5253000">
              <a:off x="4800240" y="4114800"/>
              <a:ext cx="2514600" cy="175284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227160 h 1752840"/>
                <a:gd name="textAreaBottom" fmla="*/ 152568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42120" y="4343760"/>
              <a:ext cx="1329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Incar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490520" y="4002120"/>
            <a:ext cx="1859040" cy="2587680"/>
            <a:chOff x="7490520" y="4002120"/>
            <a:chExt cx="1859040" cy="2587680"/>
          </a:xfrm>
        </p:grpSpPr>
        <p:sp>
          <p:nvSpPr>
            <p:cNvPr id="68" name=""/>
            <p:cNvSpPr/>
            <p:nvPr/>
          </p:nvSpPr>
          <p:spPr>
            <a:xfrm rot="5253000">
              <a:off x="7162560" y="4419360"/>
              <a:ext cx="2514600" cy="175248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227160 h 1752480"/>
                <a:gd name="textAreaBottom" fmla="*/ 15253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8200" y="4648320"/>
              <a:ext cx="91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S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66294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 perfection's of Christ in His person and work are presented in many ways in scri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73152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705720" y="3657600"/>
            <a:ext cx="2590560" cy="1600200"/>
          </a:xfrm>
          <a:prstGeom prst="wedgeRoundRectCallout">
            <a:avLst>
              <a:gd name="adj1" fmla="val -92217"/>
              <a:gd name="adj2" fmla="val -6329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7720" y="34128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143000"/>
            <a:ext cx="771228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Arial Rounded MT Bold"/>
              </a:rPr>
              <a:t>Jesus Christ as the Cre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enesis 1:1&amp;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 the beginning God (Elohim) cre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et us make man in our image according to our lik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:3 all thing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came into bein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by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ossians 1:16 - all thing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reated by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r Him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 Him they hold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809880"/>
            <a:ext cx="2666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re made (KJ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e into a new state of being (ginom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7307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990720"/>
            <a:ext cx="91440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Arial Rounded MT Bold"/>
              </a:rPr>
              <a:t>Jesus Christ as the Supreme Ruler of the wor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ph1:20-22 - seated Him(Christ) at the right hand in heavenly p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r above every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r above every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r above every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r above every dom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r above every name that is na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tabLst>
                <a:tab algn="l" pos="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Rounded MT Bold"/>
              </a:rPr>
              <a:t>Jesus Christ as the Incarnate 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John 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was in the beg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was with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was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ebrews 1:3 -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e is the radiance of His gl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He is the exact representation of His 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268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85360" y="30492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9448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QUESTION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:  What are the ways scripture show that Jesus Christ is the supreme rul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s this point addressing His person or work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7307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8760" y="966960"/>
            <a:ext cx="341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Jesus Christ as S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67720" y="34128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4343400" cy="5410080"/>
            <a:chOff x="457200" y="1600200"/>
            <a:chExt cx="4343400" cy="5410080"/>
          </a:xfrm>
        </p:grpSpPr>
        <p:sp>
          <p:nvSpPr>
            <p:cNvPr id="84" name=""/>
            <p:cNvSpPr/>
            <p:nvPr/>
          </p:nvSpPr>
          <p:spPr>
            <a:xfrm>
              <a:off x="457200" y="1600200"/>
              <a:ext cx="4343400" cy="5410080"/>
            </a:xfrm>
            <a:prstGeom prst="vertic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50760" y="1676520"/>
              <a:ext cx="20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Old Testa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295280" y="2590920"/>
              <a:ext cx="2514600" cy="2057400"/>
              <a:chOff x="1295280" y="2590920"/>
              <a:chExt cx="2514600" cy="2057400"/>
            </a:xfrm>
          </p:grpSpPr>
          <p:sp>
            <p:nvSpPr>
              <p:cNvPr id="87" name=""/>
              <p:cNvSpPr/>
              <p:nvPr/>
            </p:nvSpPr>
            <p:spPr>
              <a:xfrm>
                <a:off x="1295280" y="2590920"/>
                <a:ext cx="2514600" cy="205740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266400 h 2057400"/>
                  <a:gd name="textAreaBottom" fmla="*/ 179100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20120" y="3276720"/>
                <a:ext cx="2460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The promised se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to conquer Sat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95280" y="4724280"/>
              <a:ext cx="2514600" cy="2057400"/>
              <a:chOff x="1295280" y="4724280"/>
              <a:chExt cx="2514600" cy="2057400"/>
            </a:xfrm>
          </p:grpSpPr>
          <p:sp>
            <p:nvSpPr>
              <p:cNvPr id="90" name=""/>
              <p:cNvSpPr/>
              <p:nvPr/>
            </p:nvSpPr>
            <p:spPr>
              <a:xfrm>
                <a:off x="1295280" y="4724280"/>
                <a:ext cx="2514600" cy="205740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266400 h 2057400"/>
                  <a:gd name="textAreaBottom" fmla="*/ 179100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33520" y="5410080"/>
                <a:ext cx="2227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The iniquity of 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all to fall on Hi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5181480" y="1600200"/>
            <a:ext cx="4343400" cy="5334120"/>
            <a:chOff x="5181480" y="1600200"/>
            <a:chExt cx="4343400" cy="5334120"/>
          </a:xfrm>
        </p:grpSpPr>
        <p:sp>
          <p:nvSpPr>
            <p:cNvPr id="93" name=""/>
            <p:cNvSpPr/>
            <p:nvPr/>
          </p:nvSpPr>
          <p:spPr>
            <a:xfrm>
              <a:off x="5181480" y="1600200"/>
              <a:ext cx="4343400" cy="5334120"/>
            </a:xfrm>
            <a:prstGeom prst="vertic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172200" y="2210040"/>
              <a:ext cx="2514600" cy="2819160"/>
              <a:chOff x="6172200" y="2210040"/>
              <a:chExt cx="2514600" cy="2819160"/>
            </a:xfrm>
          </p:grpSpPr>
          <p:sp>
            <p:nvSpPr>
              <p:cNvPr id="95" name=""/>
              <p:cNvSpPr/>
              <p:nvPr/>
            </p:nvSpPr>
            <p:spPr>
              <a:xfrm>
                <a:off x="6172200" y="2210040"/>
                <a:ext cx="2514600" cy="281916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365400 h 2819160"/>
                  <a:gd name="textAreaBottom" fmla="*/ 2453760 h 28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43920" y="2971800"/>
                <a:ext cx="20901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Savior from th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enalty of S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ower of S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resence of S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172200" y="4800600"/>
              <a:ext cx="2514600" cy="1768680"/>
              <a:chOff x="6172200" y="4800600"/>
              <a:chExt cx="2514600" cy="1768680"/>
            </a:xfrm>
          </p:grpSpPr>
          <p:sp>
            <p:nvSpPr>
              <p:cNvPr id="98" name=""/>
              <p:cNvSpPr/>
              <p:nvPr/>
            </p:nvSpPr>
            <p:spPr>
              <a:xfrm>
                <a:off x="6172200" y="4800600"/>
                <a:ext cx="2514600" cy="176868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229320 h 1768680"/>
                  <a:gd name="textAreaBottom" fmla="*/ 1539720 h 176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84200" y="5389920"/>
                <a:ext cx="1275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Our Hig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ri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634080" y="1676520"/>
              <a:ext cx="21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New Testa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952880" y="72309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98360" y="1409760"/>
            <a:ext cx="47721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The History of Man in the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Gen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Nation of Isr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7720" y="34128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7155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67720" y="341280"/>
            <a:ext cx="65894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Rounded MT Bold"/>
              </a:rPr>
              <a:t>The Bible:  Its Subject and Purp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914400"/>
            <a:ext cx="6705360" cy="1195560"/>
            <a:chOff x="1066680" y="914400"/>
            <a:chExt cx="6705360" cy="1195560"/>
          </a:xfrm>
        </p:grpSpPr>
        <p:sp>
          <p:nvSpPr>
            <p:cNvPr id="107" name=""/>
            <p:cNvSpPr/>
            <p:nvPr/>
          </p:nvSpPr>
          <p:spPr>
            <a:xfrm>
              <a:off x="1066680" y="914400"/>
              <a:ext cx="6705360" cy="1195560"/>
            </a:xfrm>
            <a:prstGeom prst="horizont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84720" y="1119240"/>
              <a:ext cx="5878800" cy="825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The suprem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 Rounded MT Bold"/>
                </a:rPr>
                <a:t>purpos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of Scrip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is the manifestation of the glory of G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2280" y="2286000"/>
            <a:ext cx="6324840" cy="3093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7 aspects of God’s gl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 things created for His gl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nation Israel is for the glory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lvation is unto the glory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 service unto the glory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new passion is that God may be glor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liever’s death is said to be to this on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ointed to share in the glory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286000"/>
            <a:ext cx="32767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’s glory Decl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733920"/>
            <a:ext cx="32767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’s glory Revea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5181480"/>
            <a:ext cx="32767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d’s glory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5638680"/>
            <a:ext cx="6019560" cy="14320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result is that God is to be glo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7383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21:06Z</dcterms:created>
  <dc:creator>Roger Henderson</dc:creator>
  <dc:description/>
  <dc:language>en-US</dc:language>
  <cp:lastModifiedBy>Hal Molloy</cp:lastModifiedBy>
  <cp:lastPrinted>2002-07-27T21:35:41Z</cp:lastPrinted>
  <dcterms:modified xsi:type="dcterms:W3CDTF">2003-11-15T22:22:17Z</dcterms:modified>
  <cp:revision>82</cp:revision>
  <dc:subject/>
  <dc:title>No Slide Title</dc:title>
</cp:coreProperties>
</file>