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C342-4EF0-4509-A204-2C45BBD1F655}" type="slidenum"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.  HIS  COMPLETED  MINISTRIES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O  YOU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ARE  NOT  REPEA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2.  THEY  ARE  NOT  RETRAC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3.  THEY  ARE  E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4.  THEY  ARE  IMMUTIBLE (UNCHANGE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.  HIS  COMPLETED  MINISTRIES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O  YOU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ARE  NOT  REPEA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2.  THEY  ARE  NOT  RETRAC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3.  THEY  ARE  E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4.  THEY  ARE  IMMUTIBLE (UNCHANGE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5.  THEY  DO  NOT  DEPEND  ON  YOUR  MERIT  OR  FAITHFUL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6.  THEY  DEPEND  ON  THE  EFFICACY  OF  THE  FINISHED  WORK  OF 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7.  THEY  ARE  YOUR  PERMANENT  POSITION  IN  THE  RISEN  LOR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567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5715000"/>
            <a:ext cx="548640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129528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6643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 NOV 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1752480"/>
            <a:ext cx="251460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5720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43000" y="457200"/>
            <a:ext cx="7467480" cy="380880"/>
            <a:chOff x="1143000" y="457200"/>
            <a:chExt cx="7467480" cy="380880"/>
          </a:xfrm>
        </p:grpSpPr>
        <p:sp>
          <p:nvSpPr>
            <p:cNvPr id="54" name=""/>
            <p:cNvSpPr/>
            <p:nvPr/>
          </p:nvSpPr>
          <p:spPr>
            <a:xfrm>
              <a:off x="4038480" y="457200"/>
              <a:ext cx="4267440" cy="380880"/>
            </a:xfrm>
            <a:prstGeom prst="rect">
              <a:avLst/>
            </a:prstGeom>
            <a:gradFill rotWithShape="0">
              <a:gsLst>
                <a:gs pos="0">
                  <a:srgbClr val="2f755e"/>
                </a:gs>
                <a:gs pos="50000">
                  <a:srgbClr val="66ffcc"/>
                </a:gs>
                <a:gs pos="100000">
                  <a:srgbClr val="2f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3000" y="457200"/>
              <a:ext cx="746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GOD THE  HOLY  SPIRIT: HIS  MINISTRIES  TO  THE  CHU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733920"/>
            <a:ext cx="8686800" cy="336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23880"/>
            <a:ext cx="91440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A. HIS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COMPLETED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MINISTRIES :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ff0066"/>
                </a:solidFill>
                <a:latin typeface="Arial Rounded MT Bold"/>
              </a:rPr>
              <a:t>(YOUR  INCREDIBLE  POSITION  IN  CHR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HE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SHARED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CHRIST’S  GLORY  WITH 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B. HIS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CONTINUING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MINISTRIES:  </a:t>
            </a:r>
            <a:r>
              <a:rPr b="0" lang="en-US" sz="1600" spc="-1" strike="noStrike">
                <a:solidFill>
                  <a:srgbClr val="ff0066"/>
                </a:solidFill>
                <a:latin typeface="Arial Rounded MT Bold"/>
              </a:rPr>
              <a:t>( FOR YOUR SPIRITUAL GROWTH - WALK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1.  HE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SHARES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CHRIST’S  GLORY  WITH  YOU  &amp;  THROUGH  YO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2.  HE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REVEALS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CHRIST’S  GLORY  TO  YOU  &amp;  THROUGH 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3.  HE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GLORIFIES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THE FATHER &amp; SON IN YOU &amp; THROUGH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335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: HIS  MINISTRIES  TO  THE  CHU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65530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 NOV 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65214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685800"/>
            <a:ext cx="518148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744560"/>
            <a:ext cx="8001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.  HIS  COMPLETED  MINISTRIES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O  YOU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ARE  NOT  REPEA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2.  THEY  ARE  NOT  RETRAC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3.  THEY  ARE  E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4.  THEY  ARE  IMMUTABLE (UNCHANGE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5.  THEY  DO  NOT  DEPEND  ON  YOUR  MERIT  OR  FAITHFU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6.  THEY  DEPEND  ON  THE  EFFICACY  OF  THE  FINISHED  WORK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OF 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7.  THEY  ARE  YOUR  PERMANENT  POSITION  IN  THE  RISEN  LOR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76212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HIS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COMPLETED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MINI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64692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 NOV 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523880"/>
            <a:ext cx="6248520" cy="336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9144000" cy="83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B.  HIS  CONTINUING  MINISTRIES 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(FOR YOUR SPIRITUAL GROWTH - CONDI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1.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HE SHARES CHRIST’S GLORY WITH YOU &amp; THROUGH 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- 2 COR 3:18;  ROM 5:1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FILL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ACTS 2:1-4; 13:9;  EPH 5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EMPOWER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ACTS 1:8; ROM 15:19; 1 COR 2:4; EPH 3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GIFT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1 COR 12:4-11; ROM 12:3-6; HEB 2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MANIFESTS  IN  YOU  &amp;  THROUGH  YO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FRUIT  OF  THE  SPIRIT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GAL 5:22-23;  2 COR 6:4-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ESUS  CHRIST’S  GLORY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2 COR 3:1-11,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FREES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ROM 8:2; 2 COR 3: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DESIRES  FOR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GAL 5:16-17;  ROM 8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GIVES  YOU  ACCESS  TO  THE  FATHER                                                      - EPH 2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LEAD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ROM 8:14;  GAL 5:18,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FELLOWSHIPS  WITH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2 COR 13:14;  PHIL 2:1;  1 JN 4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TRANSFORMS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2 COR 3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CONFORMS  YOU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ROM 8:26-29;  GAL 4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ANNOINTS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1 JN 2:20,27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80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4572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4572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HIS  MINISTRIES  TO  THE 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66294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 NOV 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65530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rials-Purpose" descr=""/>
          <p:cNvPicPr/>
          <p:nvPr/>
        </p:nvPicPr>
        <p:blipFill>
          <a:blip r:embed="rId1"/>
          <a:srcRect l="-2036" t="0" r="0" b="0"/>
          <a:stretch/>
        </p:blipFill>
        <p:spPr>
          <a:xfrm>
            <a:off x="838080" y="1143000"/>
            <a:ext cx="7315200" cy="5448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038480" y="4572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572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: HIS  MINISTRIES  TO  THE  CHU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152280" y="-1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152280" y="1295280"/>
            <a:ext cx="3809880" cy="990720"/>
          </a:xfrm>
          <a:custGeom>
            <a:avLst/>
            <a:gdLst>
              <a:gd name="textAreaLeft" fmla="*/ 869760 w 3809880"/>
              <a:gd name="textAreaRight" fmla="*/ 2940120 w 380988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99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5238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TO SHARE CHRIST’S GL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WITH YOU &amp; THROUGH 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 NOV 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65530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038480" y="4572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572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: HIS  MINISTRIES  TO  THE  CHU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5256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Trials-Purpose-2" descr=""/>
          <p:cNvPicPr/>
          <p:nvPr/>
        </p:nvPicPr>
        <p:blipFill>
          <a:blip r:embed="rId1"/>
          <a:stretch/>
        </p:blipFill>
        <p:spPr>
          <a:xfrm>
            <a:off x="0" y="1201680"/>
            <a:ext cx="7543800" cy="5656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86400" y="762120"/>
            <a:ext cx="3809880" cy="720720"/>
          </a:xfrm>
          <a:custGeom>
            <a:avLst/>
            <a:gdLst>
              <a:gd name="textAreaLeft" fmla="*/ 869760 w 3809880"/>
              <a:gd name="textAreaRight" fmla="*/ 2940120 w 38098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99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914400"/>
            <a:ext cx="30477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TO SHARE CHRIST’S GL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WITH YOU &amp; THROUGH 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661356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      3 NOV 2002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38480" y="4572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572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: HIS  MINISTRIES  TO  THE  CHU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00200"/>
            <a:ext cx="914400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HE  FILLS  YO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OMMAND :  “…. BE FILLED WITH THE SPIRIT”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- EPH 5: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AT  IT  IS  NOT  SAYING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T’S NOT A COMMAND TO BE 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 Rounded MT Bold"/>
              </a:rPr>
              <a:t>CONTROLLED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BY THE HOLY SPIR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T’S NOT REFERRING TO THE DEGREE OF YOUR BEING FILLED WITH THE HOLY SPIR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HOLY SPIRIT IS NOT THE 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 Rounded MT Bold"/>
              </a:rPr>
              <a:t>CONTENT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OF THE FI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AT IT IS SAY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HOLY SPIRIT IS THE 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 Rounded MT Bold"/>
              </a:rPr>
              <a:t>AGENT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OF THE FI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PREPOSITION “WITH” (EN) - IS BETTER TRANSLATED AS “B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 Rounded MT Bold"/>
              </a:rPr>
              <a:t>YOU ARE FILLED BY THE SPIRIT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- THE HOLY SPIRIT DOES THE FI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AT IS THE 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 Rounded MT Bold"/>
              </a:rPr>
              <a:t>CONTENT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OF HIS FILLING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T IS THE FULLNESS OF CHRIST (HIS GLORY)                         - EPH 1:23; 3:16-19; 4:10; JN 16:1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T IS THE FULLNESS OF GOD (HIS GLORY)                                                                                    - EPH 3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OW DOES THE SPIRIT FILL YOU WITH THE GLORY OF CHRIS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S YOU WALK BY FAITH &amp; BEHOLD HIM                                                               - COL 2:6-7; 2 COR 3: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RESULTS OF THE HOLY SPIRIT’S FILLING YOU WITH CHRIS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YOU GLORIFY GO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N PSALMS (PRAISES) &amp; SPIRITUAL SONGS                                                                    - EPH 5:19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N THANKSGIVING                                                                                                         - EPH 5:20; COL 2: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-838080" y="990720"/>
            <a:ext cx="11048760" cy="685800"/>
            <a:chOff x="-838080" y="990720"/>
            <a:chExt cx="11048760" cy="685800"/>
          </a:xfrm>
        </p:grpSpPr>
        <p:sp>
          <p:nvSpPr>
            <p:cNvPr id="94" name=""/>
            <p:cNvSpPr/>
            <p:nvPr/>
          </p:nvSpPr>
          <p:spPr>
            <a:xfrm>
              <a:off x="-838080" y="990720"/>
              <a:ext cx="11048760" cy="685800"/>
            </a:xfrm>
            <a:custGeom>
              <a:avLst/>
              <a:gdLst>
                <a:gd name="textAreaLeft" fmla="*/ 2522160 w 11048760"/>
                <a:gd name="textAreaRight" fmla="*/ 8526600 w 11048760"/>
                <a:gd name="textAreaTop" fmla="*/ 156600 h 685800"/>
                <a:gd name="textAreaBottom" fmla="*/ 529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ff99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1143360"/>
              <a:ext cx="830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Rounded MT Bold"/>
                </a:rPr>
                <a:t>HE  </a:t>
              </a:r>
              <a:r>
                <a:rPr b="1" lang="en-US" sz="2000" spc="-1" strike="noStrike" u="sng">
                  <a:solidFill>
                    <a:srgbClr val="3333cc"/>
                  </a:solidFill>
                  <a:uFillTx/>
                  <a:latin typeface="Arial Rounded MT Bold"/>
                </a:rPr>
                <a:t>SHARES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 Rounded MT Bold"/>
                </a:rPr>
                <a:t>  CHRIST’S  GLORY  WITH  YOU  &amp;  THROUGH  Y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7086600" y="65530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3 NOV 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01:26Z</dcterms:modified>
  <cp:revision>17</cp:revision>
  <dc:subject/>
  <dc:title>PowerPoint Presentation</dc:title>
</cp:coreProperties>
</file>