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00FA-0BF3-4E02-B7A0-97A04C4364C0}" type="slidenum"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.  NOTE:  DETAILS ON 1 COR 11: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 CUP” IS THE SUBJECT OF THE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 VERB “IS” IS A “LINKING” OR “ESSENCE” VE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(IT DEFINES  THE QUALITY OR NATURE OF THE CU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RESENT TENSE = CONTINUOUS ACTION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RESENT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INDICATIVE MODE =  A REALITY IN YOUR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 NEW COVENANT IS THE SUBJECT COMP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OR “PREDICATE NOMINITIVE” -WHICH IDENTIF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ONCLUSION: THE CUP (CHRIST’S BLOOD / THE CRO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ONTINOUSLY EXISTS AS  GOD’S MEAN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BINDING OR UNITING THE BELIEVER TO CHR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(THE NEW COVENANT RELATIONSHIP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Rounded MT Bold"/>
              </a:rPr>
              <a:t>Defini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dia” =a preposition: it means “ between tw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ke” = from a verb which means “to put or pla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Rounded MT Bold"/>
              </a:rPr>
              <a:t>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1. Conditional:  A covenant in which man has to fulf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his responsibility before God will do His part. If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fails in his part God is not obligated to fulfill His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2. Unconditional:  a  covenant in which God m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ertain promises and will fulfill them in His ti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and man has no responsibilities to fulf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Rounded MT Bold"/>
              </a:rPr>
              <a:t>Du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1.  Temporal - A covenant in which the dur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lim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2.  Eternal - A covenant which is durative for all etern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567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1447920"/>
            <a:ext cx="32004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1143000"/>
            <a:ext cx="6780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1752480"/>
            <a:ext cx="2895480" cy="554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304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THE COVEN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43800" y="6553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838080" y="1371600"/>
            <a:ext cx="7696440" cy="762120"/>
            <a:chOff x="838080" y="1371600"/>
            <a:chExt cx="7696440" cy="762120"/>
          </a:xfrm>
        </p:grpSpPr>
        <p:grpSp>
          <p:nvGrpSpPr>
            <p:cNvPr id="186" name=""/>
            <p:cNvGrpSpPr/>
            <p:nvPr/>
          </p:nvGrpSpPr>
          <p:grpSpPr>
            <a:xfrm>
              <a:off x="838080" y="1371600"/>
              <a:ext cx="7696440" cy="762120"/>
              <a:chOff x="838080" y="1371600"/>
              <a:chExt cx="7696440" cy="762120"/>
            </a:xfrm>
          </p:grpSpPr>
          <p:sp>
            <p:nvSpPr>
              <p:cNvPr id="187" name=""/>
              <p:cNvSpPr/>
              <p:nvPr/>
            </p:nvSpPr>
            <p:spPr>
              <a:xfrm>
                <a:off x="838080" y="1371600"/>
                <a:ext cx="7696440" cy="76212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cc6600"/>
                  </a:gs>
                  <a:gs pos="50000">
                    <a:srgbClr val="ffff99"/>
                  </a:gs>
                  <a:gs pos="100000">
                    <a:srgbClr val="cc66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990720" y="1600200"/>
                <a:ext cx="7467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LORD  JESUS  CHRIST         COVENANT (BINDER)             BELIEV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3505320" y="1447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48520" y="1447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114800" y="2133720"/>
            <a:ext cx="1447560" cy="1676160"/>
            <a:chOff x="4114800" y="2133720"/>
            <a:chExt cx="1447560" cy="1676160"/>
          </a:xfrm>
        </p:grpSpPr>
        <p:sp>
          <p:nvSpPr>
            <p:cNvPr id="192" name=""/>
            <p:cNvSpPr/>
            <p:nvPr/>
          </p:nvSpPr>
          <p:spPr>
            <a:xfrm>
              <a:off x="4114800" y="2361960"/>
              <a:ext cx="1447560" cy="152280"/>
            </a:xfrm>
            <a:custGeom>
              <a:avLst/>
              <a:gdLst>
                <a:gd name="textAreaLeft" fmla="*/ 318240 w 1447560"/>
                <a:gd name="textAreaRight" fmla="*/ 1129320 w 1447560"/>
                <a:gd name="textAreaTop" fmla="*/ 33480 h 152280"/>
                <a:gd name="textAreaBottom" fmla="*/ 1188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567320" y="2133720"/>
              <a:ext cx="641880" cy="1676160"/>
              <a:chOff x="4567320" y="2133720"/>
              <a:chExt cx="641880" cy="167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4748040" y="2133720"/>
                <a:ext cx="271080" cy="1676160"/>
              </a:xfrm>
              <a:custGeom>
                <a:avLst/>
                <a:gdLst>
                  <a:gd name="textAreaLeft" fmla="*/ 59400 w 271080"/>
                  <a:gd name="textAreaRight" fmla="*/ 211680 w 271080"/>
                  <a:gd name="textAreaTop" fmla="*/ 368640 h 1676160"/>
                  <a:gd name="textAreaBottom" fmla="*/ 1307520 h 167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ff"/>
                  </a:gs>
                  <a:gs pos="50000">
                    <a:srgbClr val="ffffff"/>
                  </a:gs>
                  <a:gs pos="100000">
                    <a:srgbClr val="ff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5" name="FD00435_" descr=""/>
              <p:cNvPicPr/>
              <p:nvPr/>
            </p:nvPicPr>
            <p:blipFill>
              <a:blip r:embed="rId1"/>
              <a:stretch/>
            </p:blipFill>
            <p:spPr>
              <a:xfrm>
                <a:off x="4567320" y="2590560"/>
                <a:ext cx="641880" cy="10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6" name=""/>
          <p:cNvGrpSpPr/>
          <p:nvPr/>
        </p:nvGrpSpPr>
        <p:grpSpPr>
          <a:xfrm>
            <a:off x="2971800" y="2057400"/>
            <a:ext cx="5714640" cy="550800"/>
            <a:chOff x="2971800" y="2057400"/>
            <a:chExt cx="5714640" cy="550800"/>
          </a:xfrm>
        </p:grpSpPr>
        <p:sp>
          <p:nvSpPr>
            <p:cNvPr id="197" name=""/>
            <p:cNvSpPr/>
            <p:nvPr/>
          </p:nvSpPr>
          <p:spPr>
            <a:xfrm>
              <a:off x="2971800" y="2057400"/>
              <a:ext cx="3593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90000" y="2057400"/>
              <a:ext cx="2296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1 COR 11:23-26; MT 26:26-29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Rounded MT Bold"/>
                </a:rPr>
                <a:t>MK 14:22-25; LK 22:14-20; 2 COR 3: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62120" y="3809880"/>
            <a:ext cx="838188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“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THIS  CUP  IS  THE  NEW  COVENANT “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     - 1 COR 11:2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CUP REPRESENTS CHRIST’S BLOOD / DEATH ON THE CR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OF THE ETERNAL COVENANT   (HEB 13:2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NEW COVENANT IS THE APPROPRIATION OF THE CUP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ETERNAL COVENANT TO EVERY BELIEVER BY GO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CUP ( CHRIST’S BLOOD / DEATH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INDS YOU ( POSITIONALLY) TO CHRIST’S DEA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YOU GROW (CONDITIONALLY) IN CONFORMITY TO HIS DEATH                        - PHIL 3: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DEATH TO SEL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INDS YOU TO CHRIST’S RESURRECTION LIFE &amp; FELLOWSHIP                      - PHIL 3: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65530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1066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THE   CHURCH’S   NEW   COVE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752480" y="457200"/>
            <a:ext cx="5715000" cy="533520"/>
            <a:chOff x="1752480" y="457200"/>
            <a:chExt cx="5715000" cy="533520"/>
          </a:xfrm>
        </p:grpSpPr>
        <p:sp>
          <p:nvSpPr>
            <p:cNvPr id="203" name=""/>
            <p:cNvSpPr/>
            <p:nvPr/>
          </p:nvSpPr>
          <p:spPr>
            <a:xfrm>
              <a:off x="1752480" y="457200"/>
              <a:ext cx="5715000" cy="53352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ffff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43400" y="577800"/>
              <a:ext cx="434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3.  WHAT  ARE  THE  MAJOR  COVENANTS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419720" y="6553080"/>
            <a:ext cx="38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1371600"/>
            <a:ext cx="9144000" cy="62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SOME  KEY 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.  THE REVELATION OF THE COVENA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AUL RECEIVED IT DIRECTLY FROM THE LORD    -  1 COR 11: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REVELATION WAS PERSONALLY GIVEN TO PAUL BY CHRI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tabLst>
                <a:tab algn="l" pos="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GAL 1:11,12,15-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 WAS TOTALLY SEPARATE &amp; DISTINCT FROM ISRAEL’S NEW COVENANT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JER 31:31-34; EZEK 36:21-28; 1 COR 10:16-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CHURCH’S NEW COVENANT WAS NOT PREVIOUSLY REVEA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tabLst>
                <a:tab algn="l" pos="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.  DEFIN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 COVENANT ( DIATHEKE = TO PLACE BETWEEN TWO PARTIES SO AS TO B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M TOGETHER  -   e.g.  MARRIAG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TWO PARTIES:  JESUS CHRIST &amp; YOU (THE BELIE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COVENANT:  “THE CUP IS THE NEW COVENANT” ( SEE NOT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3.  THE ESSENCE OF THE COVENA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CUP REPRESENTS CHRIST’S BLOOD / DEATH WHICH IS PART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TERNAL COVENANT” (HEB 13: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DIED AND SHED HIS BLOOD ON THE CRO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(1) 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OUR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SIN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 AS OUR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SUBSTITUTE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- 1 JN 2:2; 2 COR 5: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(2) 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UNTO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SIN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(OUR SIN NATURE) - AS OUR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REPRESENTATIV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ROM 6:1-10; 2 COR 5: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65530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133720" y="685800"/>
            <a:ext cx="4952880" cy="533520"/>
            <a:chOff x="2133720" y="685800"/>
            <a:chExt cx="4952880" cy="533520"/>
          </a:xfrm>
        </p:grpSpPr>
        <p:sp>
          <p:nvSpPr>
            <p:cNvPr id="209" name=""/>
            <p:cNvSpPr/>
            <p:nvPr/>
          </p:nvSpPr>
          <p:spPr>
            <a:xfrm>
              <a:off x="2133720" y="685800"/>
              <a:ext cx="4952880" cy="53352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ffff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14600" y="762120"/>
              <a:ext cx="449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 Rounded MT Bold"/>
                </a:rPr>
                <a:t>THE   CHURCH’S   NEW   COVEN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4197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17524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523880"/>
            <a:ext cx="91440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3.  THE ESSENCE OF THE COVENANT:  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CUP IS A CUP OF BLESSING BECAUSE IT PROCURED FOR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IGHTEOUSNESS AND LIFE (HIS LIFE)             - ROM 3:21-26; GAL 3:21;1 COR 10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tabLst>
                <a:tab algn="l" pos="0"/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8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NEW COVENANT IS THE APPROPRIATION OF THE CUP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TERNAL COVENANT TO EVERY BELIEVER BY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CUP ( CHRIST’S BLOOD / DEATH )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INDS YOU ( POSITIONALLY) TO CHRIST’S DEATH                                     - ROM 6: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 GROW (CONDITIONALLY) IN CONFORMITY TO HIS DEATH             - PHIL 3: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14480">
              <a:lnSpc>
                <a:spcPct val="100000"/>
              </a:lnSpc>
              <a:tabLst>
                <a:tab algn="l" pos="0"/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(DEATH TO SEL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INDS YOU TO CHRIST’S RESURRECTION LIFE &amp; FELLOWSHIP            - ROM 6: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14480">
              <a:lnSpc>
                <a:spcPct val="100000"/>
              </a:lnSpc>
              <a:tabLst>
                <a:tab algn="l" pos="0"/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HIL 3: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14480">
              <a:lnSpc>
                <a:spcPct val="80000"/>
              </a:lnSpc>
              <a:tabLst>
                <a:tab algn="l" pos="0"/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4.  TYPE OF COVENANT:    UNCONDI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5.  DURATION OF THE COVENANT:    E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6.  THE LORD’S TABLE IS A REMEMBRANCE OF THE NEW COVE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6807240"/>
                <a:tab algn="l" pos="8686800"/>
                <a:tab algn="l" pos="8991720"/>
                <a:tab algn="l" pos="9740880"/>
                <a:tab algn="l" pos="10490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65530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133720" y="533520"/>
            <a:ext cx="4952880" cy="533160"/>
            <a:chOff x="2133720" y="533520"/>
            <a:chExt cx="4952880" cy="533160"/>
          </a:xfrm>
        </p:grpSpPr>
        <p:sp>
          <p:nvSpPr>
            <p:cNvPr id="216" name=""/>
            <p:cNvSpPr/>
            <p:nvPr/>
          </p:nvSpPr>
          <p:spPr>
            <a:xfrm>
              <a:off x="2133720" y="533520"/>
              <a:ext cx="4952880" cy="53316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ffff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14600" y="609480"/>
              <a:ext cx="449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 Rounded MT Bold"/>
                </a:rPr>
                <a:t>THE   CHURCH’S   NEW   COVEN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419720" y="6545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685800"/>
            <a:ext cx="365760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1893960"/>
            <a:ext cx="876312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“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THE CUP”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S THE SUBJECT OF THE SEN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THE VERB “IS”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S A “LINKING” OR “ESSENCE” VER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(IT DEFINES  THE QUALITY OR NATURE OF THE CU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PRESENT TENS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= CONTINUOUS ACTION IN THE PRESENT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INDICATIVE MOD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=  A REA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THE NEW COVENAN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S THE SUBJECT COMPLEMENT OR “PREDICATE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OMINATIVE” - WHICH IDENTIFIES THE C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CONCLUSION: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THE CUP (CHRIST’S BLOOD / THE CROSS) CONTINUOUSL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XISTS AS  GOD’S MEANS FOR  BINDING OR UNITING TH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ELIEVER TO CHRIST (THE NEW COVENANT RELATIONSHI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NDITION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8380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OTES ON 1 COR 11: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6545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91520" y="6545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057400" y="609480"/>
            <a:ext cx="4800600" cy="685800"/>
            <a:chOff x="2057400" y="609480"/>
            <a:chExt cx="4800600" cy="685800"/>
          </a:xfrm>
        </p:grpSpPr>
        <p:sp>
          <p:nvSpPr>
            <p:cNvPr id="226" name=""/>
            <p:cNvSpPr/>
            <p:nvPr/>
          </p:nvSpPr>
          <p:spPr>
            <a:xfrm>
              <a:off x="2057400" y="609480"/>
              <a:ext cx="4800600" cy="6858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ffff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38280" y="776160"/>
              <a:ext cx="41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SUMMARY  OF  THE  COVEN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1447920"/>
            <a:ext cx="0" cy="5105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65896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1447920"/>
            <a:ext cx="0" cy="5105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1447920"/>
            <a:ext cx="0" cy="5105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05920" y="1447920"/>
            <a:ext cx="0" cy="5105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1447920"/>
            <a:ext cx="0" cy="5105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1324080"/>
            <a:ext cx="9372600" cy="5316120"/>
            <a:chOff x="0" y="1324080"/>
            <a:chExt cx="9372600" cy="5316120"/>
          </a:xfrm>
        </p:grpSpPr>
        <p:sp>
          <p:nvSpPr>
            <p:cNvPr id="236" name=""/>
            <p:cNvSpPr/>
            <p:nvPr/>
          </p:nvSpPr>
          <p:spPr>
            <a:xfrm>
              <a:off x="0" y="1324080"/>
              <a:ext cx="929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Covenant                 Ref.               2 Parties                 Major  Aspects                                       Type             Duration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1857600"/>
              <a:ext cx="9372600" cy="47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Eternal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       Heb 13:20         Father &amp;      Christ would shed His blood (die)         Conditional        Eter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Son                God would resurrect Hi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Abrahamic         Gen 12:1-3        God &amp;           A Land, A Seed, A Blessing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         Unconditional   Eter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Abrah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Palestinian         Deut 30:1-10    God &amp;           God reaffirms &amp; describes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 Rounded MT Bold"/>
                </a:rPr>
                <a:t>“land”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      Unconditional   Eter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Israel            portion of Abrahamic Coven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Davidic                2 Sam 7:4-16    God &amp;           God reaffirms &amp; describes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 Rounded MT Bold"/>
                </a:rPr>
                <a:t>“seed”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     Unconditional   Eter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Israel            portion of Abrahamic Covenan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Provides a king, throne &amp; kingd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Israel’s New       Jer 31:31-34    God &amp;           God reaffirms &amp; describes “blessing”  Unconditional  Eter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Israel            portion of Abrahamic Coven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Mosai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       Ex 20:1-31:18   God &amp;           If Israel keeps God’s law = blessing;    Conditional      Tempo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Israel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If they do not = cur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Church’s New  1 Cor 11:23-26  Christ &amp;       the appropriation of the cup(Christ’s   Unconditional  Eter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Believers     death) of the Eternal Covenant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every believer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49568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65451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352680" y="304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THE COVEN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685800"/>
            <a:ext cx="3048120" cy="533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8064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447920"/>
            <a:ext cx="8077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1.  WHAT  IS  A  COVENAN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2.  WHAT  ARE  THE  MAJOR  COVENANT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3. HOW  DO  THE DISPENSATIONS  &amp;  COVENANTS  RELAT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4.  THE  MISUNDERSTOOD  COVE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 ETERNAL  COVE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SRAEL’S  NEW  COVE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HURCH’S  NEW  COVE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5.  SUMMARY  OF  THE  MAJOR  COVE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6553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65530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352680" y="304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THE COVEN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609480"/>
            <a:ext cx="6781680" cy="533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858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WHAT   IS   A   COVENAN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3352680"/>
            <a:ext cx="8381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DEFINITIO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 COVENANT ( DIATHEKE = TO PLACE BETWEEN TWO PARTIES SO AS TO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IND THEM TOGETHER  -   e.g.  MARRIAG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TYP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.  CONDI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.  UNCONDI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DURATION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.  TEMP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.  E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62120" y="1523880"/>
            <a:ext cx="8076600" cy="1294920"/>
            <a:chOff x="762120" y="1523880"/>
            <a:chExt cx="8076600" cy="1294920"/>
          </a:xfrm>
        </p:grpSpPr>
        <p:grpSp>
          <p:nvGrpSpPr>
            <p:cNvPr id="65" name=""/>
            <p:cNvGrpSpPr/>
            <p:nvPr/>
          </p:nvGrpSpPr>
          <p:grpSpPr>
            <a:xfrm>
              <a:off x="762120" y="1523880"/>
              <a:ext cx="8076600" cy="1294920"/>
              <a:chOff x="762120" y="1523880"/>
              <a:chExt cx="8076600" cy="1294920"/>
            </a:xfrm>
          </p:grpSpPr>
          <p:sp>
            <p:nvSpPr>
              <p:cNvPr id="66" name=""/>
              <p:cNvSpPr/>
              <p:nvPr/>
            </p:nvSpPr>
            <p:spPr>
              <a:xfrm>
                <a:off x="762120" y="1523880"/>
                <a:ext cx="8076600" cy="129492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cc6600"/>
                  </a:gs>
                  <a:gs pos="50000">
                    <a:srgbClr val="ffff99"/>
                  </a:gs>
                  <a:gs pos="100000">
                    <a:srgbClr val="cc66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21960" y="1912320"/>
                <a:ext cx="7836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   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PARTY  # 1                  COVENANT (AGREEMENT                 PARTY  # 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                                                                    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OR  BINDER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3200400" y="16761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0400" y="16761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495680" y="65530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6080" y="65530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685800"/>
            <a:ext cx="342900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447920"/>
            <a:ext cx="838188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Defini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ia” =  a preposition: it means “ between tw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ke” = from a verb which means “to put or plac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iatheke” =  to put or place between two parties (e.g  man &amp; Go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Typ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1. Conditional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:  A covenant in which man has to fulfill his responsibility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 will do His part. If man fails in his part God is not obligated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fulfill His pa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2. Unconditional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: A covenant in which God makes certain promises and wil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ulfill them in His timing and man has no responsibil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n the fulfillment. God does desire that man believe Hi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Dur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1.  Temporal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 A covenant in which the duration is limi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2.  Eternal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 A covenant which is durative for all etern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83808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WHAT   IS   A   COVENAN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654516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5730840"/>
            <a:ext cx="8908920" cy="80964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cc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5520" y="4554360"/>
            <a:ext cx="5472000" cy="1103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cc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771200">
            <a:off x="467640" y="1464840"/>
            <a:ext cx="469800" cy="882720"/>
          </a:xfrm>
          <a:custGeom>
            <a:avLst/>
            <a:gdLst>
              <a:gd name="textAreaLeft" fmla="*/ 103320 w 469800"/>
              <a:gd name="textAreaRight" fmla="*/ 366480 w 469800"/>
              <a:gd name="textAreaTop" fmla="*/ 194040 h 882720"/>
              <a:gd name="textAreaBottom" fmla="*/ 6886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790400">
            <a:off x="1093320" y="1465200"/>
            <a:ext cx="549360" cy="882720"/>
          </a:xfrm>
          <a:custGeom>
            <a:avLst/>
            <a:gdLst>
              <a:gd name="textAreaLeft" fmla="*/ 120600 w 549360"/>
              <a:gd name="textAreaRight" fmla="*/ 428760 w 549360"/>
              <a:gd name="textAreaTop" fmla="*/ 194040 h 882720"/>
              <a:gd name="textAreaBottom" fmla="*/ 6886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1160" y="1392120"/>
            <a:ext cx="469800" cy="426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64240" y="4554360"/>
            <a:ext cx="2266920" cy="1103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ccffcc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57520" y="5867280"/>
            <a:ext cx="35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E t e r n a l     C o v e n a n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173640" y="5657760"/>
            <a:ext cx="703080" cy="882720"/>
            <a:chOff x="6173640" y="5657760"/>
            <a:chExt cx="703080" cy="882720"/>
          </a:xfrm>
        </p:grpSpPr>
        <p:grpSp>
          <p:nvGrpSpPr>
            <p:cNvPr id="86" name=""/>
            <p:cNvGrpSpPr/>
            <p:nvPr/>
          </p:nvGrpSpPr>
          <p:grpSpPr>
            <a:xfrm>
              <a:off x="6173640" y="5657760"/>
              <a:ext cx="546840" cy="882720"/>
              <a:chOff x="6173640" y="5657760"/>
              <a:chExt cx="546840" cy="882720"/>
            </a:xfrm>
          </p:grpSpPr>
          <p:sp>
            <p:nvSpPr>
              <p:cNvPr id="87" name=""/>
              <p:cNvSpPr/>
              <p:nvPr/>
            </p:nvSpPr>
            <p:spPr>
              <a:xfrm>
                <a:off x="6408000" y="5657760"/>
                <a:ext cx="78120" cy="882720"/>
              </a:xfrm>
              <a:custGeom>
                <a:avLst/>
                <a:gdLst>
                  <a:gd name="textAreaLeft" fmla="*/ 16920 w 78120"/>
                  <a:gd name="textAreaRight" fmla="*/ 61200 w 78120"/>
                  <a:gd name="textAreaTop" fmla="*/ 194040 h 882720"/>
                  <a:gd name="textAreaBottom" fmla="*/ 688680 h 88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173640" y="5878440"/>
                <a:ext cx="546840" cy="73440"/>
              </a:xfrm>
              <a:custGeom>
                <a:avLst/>
                <a:gdLst>
                  <a:gd name="textAreaLeft" fmla="*/ 120240 w 546840"/>
                  <a:gd name="textAreaRight" fmla="*/ 426600 w 546840"/>
                  <a:gd name="textAreaTop" fmla="*/ 16200 h 73440"/>
                  <a:gd name="textAreaBottom" fmla="*/ 57240 h 7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6486120" y="5657760"/>
              <a:ext cx="390600" cy="88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721560" y="5289480"/>
            <a:ext cx="203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1 Cor 11:23-26;  Mt 26:26-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Lk 22:14-30;       2 Cor 3: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099120"/>
            <a:ext cx="297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hrist ( seed ) would shed His blood ( die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God would raise Him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400" y="4921200"/>
            <a:ext cx="42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A b r a h a m I c     C o v e n a n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92040" y="2862360"/>
            <a:ext cx="1561320" cy="1998720"/>
            <a:chOff x="392040" y="2862360"/>
            <a:chExt cx="1561320" cy="1998720"/>
          </a:xfrm>
        </p:grpSpPr>
        <p:grpSp>
          <p:nvGrpSpPr>
            <p:cNvPr id="94" name=""/>
            <p:cNvGrpSpPr/>
            <p:nvPr/>
          </p:nvGrpSpPr>
          <p:grpSpPr>
            <a:xfrm>
              <a:off x="392040" y="2862360"/>
              <a:ext cx="1561320" cy="1998720"/>
              <a:chOff x="392040" y="2862360"/>
              <a:chExt cx="1561320" cy="19987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468360" y="2862360"/>
                <a:ext cx="1406520" cy="1618200"/>
                <a:chOff x="468360" y="2862360"/>
                <a:chExt cx="1406520" cy="16182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468360" y="2862360"/>
                  <a:ext cx="1406520" cy="1618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66cc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24600" y="2862360"/>
                  <a:ext cx="1173600" cy="10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Palestinia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Covenan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 Rounded MT Bold"/>
                    </a:rPr>
                    <a:t>Deut 30:1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392040" y="4554000"/>
                <a:ext cx="1561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“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Great Nation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782640" y="4112640"/>
              <a:ext cx="8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L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876320" y="2819520"/>
            <a:ext cx="2109240" cy="2041560"/>
            <a:chOff x="1876320" y="2819520"/>
            <a:chExt cx="2109240" cy="2041560"/>
          </a:xfrm>
        </p:grpSpPr>
        <p:grpSp>
          <p:nvGrpSpPr>
            <p:cNvPr id="101" name=""/>
            <p:cNvGrpSpPr/>
            <p:nvPr/>
          </p:nvGrpSpPr>
          <p:grpSpPr>
            <a:xfrm>
              <a:off x="1876320" y="2819520"/>
              <a:ext cx="2109240" cy="2041560"/>
              <a:chOff x="1876320" y="2819520"/>
              <a:chExt cx="2109240" cy="204156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2188800" y="2819520"/>
                <a:ext cx="1562040" cy="1660680"/>
                <a:chOff x="2188800" y="2819520"/>
                <a:chExt cx="1562040" cy="16606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188800" y="2862000"/>
                  <a:ext cx="1406160" cy="1618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66cc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65120" y="2819520"/>
                  <a:ext cx="1485720" cy="10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  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Davidi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 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Covenan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 Rounded MT Bold"/>
                    </a:rPr>
                    <a:t>2 Sam 7:4-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 Rounded MT Bold"/>
                    </a:rPr>
                    <a:t>1 Chron 17:3-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1876320" y="4554000"/>
                <a:ext cx="2109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“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All Nations Blessed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501280" y="4112640"/>
              <a:ext cx="8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SEED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986280" y="2833560"/>
            <a:ext cx="1719000" cy="2194560"/>
            <a:chOff x="3986280" y="2833560"/>
            <a:chExt cx="1719000" cy="2194560"/>
          </a:xfrm>
        </p:grpSpPr>
        <p:sp>
          <p:nvSpPr>
            <p:cNvPr id="108" name=""/>
            <p:cNvSpPr/>
            <p:nvPr/>
          </p:nvSpPr>
          <p:spPr>
            <a:xfrm>
              <a:off x="3986280" y="4507920"/>
              <a:ext cx="171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I will bless the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(The Jew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064400" y="2833560"/>
              <a:ext cx="1406160" cy="1646640"/>
              <a:chOff x="4064400" y="2833560"/>
              <a:chExt cx="1406160" cy="1646640"/>
            </a:xfrm>
          </p:grpSpPr>
          <p:sp>
            <p:nvSpPr>
              <p:cNvPr id="110" name=""/>
              <p:cNvSpPr/>
              <p:nvPr/>
            </p:nvSpPr>
            <p:spPr>
              <a:xfrm>
                <a:off x="4064400" y="2862720"/>
                <a:ext cx="1406160" cy="161748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66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98760" y="2833560"/>
                <a:ext cx="1093680" cy="12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Ne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Covena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Jer 31:31-3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Ezek 36:24-2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        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37:21-2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Rounded MT Bold"/>
                  </a:rPr>
                  <a:t>Heb 8:6-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142160" y="4111200"/>
                <a:ext cx="1326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LESS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2662200" y="5334120"/>
            <a:ext cx="32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*Seed = Christ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(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Gal 3:16; Gen 22: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5392800"/>
            <a:ext cx="26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Gen 12:1-3; 15:7-17; 17:7; 18: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88280" y="4627440"/>
            <a:ext cx="24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 h u r c h’ s   N e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 o v e n a n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63840" y="1612800"/>
            <a:ext cx="17967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Mosa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ovenant (Ol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Ex 20:1 - 31: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28960" y="1979640"/>
            <a:ext cx="17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Contrast in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Of  Heb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2054160"/>
            <a:ext cx="1720800" cy="58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12000">
            <a:off x="4642560" y="2594160"/>
            <a:ext cx="28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   WALL   OF   S E P AR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66920" y="1096920"/>
            <a:ext cx="26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Israel’s   Coven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32400" y="1317600"/>
            <a:ext cx="13287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12840" y="1317600"/>
            <a:ext cx="1954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3800" y="1066680"/>
            <a:ext cx="23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Church’s  Coven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18680" y="1317600"/>
            <a:ext cx="5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486120" y="1317600"/>
            <a:ext cx="4698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56280" y="6099120"/>
            <a:ext cx="21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Heb 13:20;  Acts 2:22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 Pet 1:18-21;  Rev 13: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79760" y="3672000"/>
            <a:ext cx="93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KING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THR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533520"/>
            <a:ext cx="58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295280" y="457200"/>
            <a:ext cx="6629400" cy="533520"/>
            <a:chOff x="1295280" y="457200"/>
            <a:chExt cx="6629400" cy="533520"/>
          </a:xfrm>
        </p:grpSpPr>
        <p:sp>
          <p:nvSpPr>
            <p:cNvPr id="130" name=""/>
            <p:cNvSpPr/>
            <p:nvPr/>
          </p:nvSpPr>
          <p:spPr>
            <a:xfrm>
              <a:off x="1295280" y="457200"/>
              <a:ext cx="6629400" cy="53352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ffff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99840" y="53352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 Rounded MT Bold"/>
                </a:rPr>
                <a:t>BIBLICAL  COVENANTS  &amp;  THEIR  RELATIONSHI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791320" y="6621480"/>
            <a:ext cx="53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6583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96080" y="65530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392200" y="228600"/>
            <a:ext cx="438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0" y="66294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65833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83808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143000" y="457200"/>
            <a:ext cx="6857640" cy="609480"/>
            <a:chOff x="1143000" y="457200"/>
            <a:chExt cx="6857640" cy="609480"/>
          </a:xfrm>
        </p:grpSpPr>
        <p:grpSp>
          <p:nvGrpSpPr>
            <p:cNvPr id="140" name=""/>
            <p:cNvGrpSpPr/>
            <p:nvPr/>
          </p:nvGrpSpPr>
          <p:grpSpPr>
            <a:xfrm>
              <a:off x="1143000" y="457200"/>
              <a:ext cx="6857640" cy="609480"/>
              <a:chOff x="1143000" y="457200"/>
              <a:chExt cx="6857640" cy="609480"/>
            </a:xfrm>
          </p:grpSpPr>
          <p:sp>
            <p:nvSpPr>
              <p:cNvPr id="141" name=""/>
              <p:cNvSpPr/>
              <p:nvPr/>
            </p:nvSpPr>
            <p:spPr>
              <a:xfrm>
                <a:off x="1143000" y="457200"/>
                <a:ext cx="6857640" cy="60948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66ff"/>
                  </a:gs>
                  <a:gs pos="50000">
                    <a:srgbClr val="ffffff"/>
                  </a:gs>
                  <a:gs pos="100000">
                    <a:srgbClr val="ff66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72240" y="609480"/>
                <a:ext cx="659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676520" y="609480"/>
              <a:ext cx="609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HOW  DO  DISPENSATIONS  &amp;  COVENANTS  RELATE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Dispensations%20&amp;%20Covenants" descr=""/>
          <p:cNvPicPr/>
          <p:nvPr/>
        </p:nvPicPr>
        <p:blipFill>
          <a:blip r:embed="rId1"/>
          <a:srcRect l="1068" t="1352" r="0" b="1782"/>
          <a:stretch/>
        </p:blipFill>
        <p:spPr>
          <a:xfrm>
            <a:off x="914400" y="1071720"/>
            <a:ext cx="75438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533520" y="1752480"/>
            <a:ext cx="8076960" cy="2820600"/>
            <a:chOff x="533520" y="1752480"/>
            <a:chExt cx="8076960" cy="2820600"/>
          </a:xfrm>
        </p:grpSpPr>
        <p:sp>
          <p:nvSpPr>
            <p:cNvPr id="146" name=""/>
            <p:cNvSpPr/>
            <p:nvPr/>
          </p:nvSpPr>
          <p:spPr>
            <a:xfrm>
              <a:off x="533520" y="1752480"/>
              <a:ext cx="8001000" cy="144756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cc9900"/>
                </a:gs>
                <a:gs pos="50000">
                  <a:srgbClr val="ffcccc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5800" y="2133360"/>
              <a:ext cx="28195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GOD  THE  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   “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E  GREAT  SHEPHERD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9880" y="220968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AGRE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91320" y="2085840"/>
              <a:ext cx="2819160" cy="7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GOD  THE  FA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    “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E  GOD  OF  PEAC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81280" y="1981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62720" y="1981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09680" y="3047760"/>
              <a:ext cx="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86600" y="3047760"/>
              <a:ext cx="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480" y="3504960"/>
              <a:ext cx="3124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“…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ROUGH THE BLOOD..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( AGREES TO SHED HIS BLO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FOR THE SINS OF THE WORLD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3504960"/>
              <a:ext cx="320040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“…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AT BROUGHT AGAIN FR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E DEAD OUR LORD JESUS 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( AGREES TO RAISE UP CHRIST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0" y="4724280"/>
            <a:ext cx="91440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REAS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LOOD / DEATH - WITHOUT THE SHEDDING OF BLOOD THERE IS NO FORGIVENESS OF SI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HEB 9: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RESURRECTION - WITHOUT THE RESURRECTION WE WOULD STILL BE IN OUR S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1 COR 15: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IT’S THE PROOF THAT GOD IS SATISFIED WITH CHRIST’S 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1 COR 15:1-4; 1 JN 2: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6477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752480" y="685800"/>
            <a:ext cx="5715000" cy="533520"/>
            <a:chOff x="1752480" y="685800"/>
            <a:chExt cx="5715000" cy="533520"/>
          </a:xfrm>
        </p:grpSpPr>
        <p:sp>
          <p:nvSpPr>
            <p:cNvPr id="159" name=""/>
            <p:cNvSpPr/>
            <p:nvPr/>
          </p:nvSpPr>
          <p:spPr>
            <a:xfrm>
              <a:off x="1752480" y="685800"/>
              <a:ext cx="5715000" cy="53352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ffff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38280" y="80640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286000" y="76212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THE  ETERNAL  COVENANT      -     HEB 13: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65451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362320" y="533520"/>
            <a:ext cx="3886200" cy="685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6858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SRAEL’S   NEW   COVE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2120" y="1447920"/>
            <a:ext cx="7924680" cy="1142640"/>
            <a:chOff x="762120" y="1447920"/>
            <a:chExt cx="7924680" cy="1142640"/>
          </a:xfrm>
        </p:grpSpPr>
        <p:sp>
          <p:nvSpPr>
            <p:cNvPr id="166" name=""/>
            <p:cNvSpPr/>
            <p:nvPr/>
          </p:nvSpPr>
          <p:spPr>
            <a:xfrm>
              <a:off x="762120" y="1447920"/>
              <a:ext cx="7924680" cy="114264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996600"/>
                </a:gs>
                <a:gs pos="50000">
                  <a:srgbClr val="ffcc00"/>
                </a:gs>
                <a:gs pos="100000">
                  <a:srgbClr val="99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67040" y="1743120"/>
              <a:ext cx="7315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G O D                          P R O M I S E S                          I S R A E L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        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24440" y="167616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24840" y="1562040"/>
              <a:ext cx="0" cy="79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523880" y="3048120"/>
            <a:ext cx="685800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IME:   DURING  MILLENNIAL  KING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LACE:   IN  PALESTINE (ON  EAR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KINGDOM:   CHRIST  IS  KING  RULING ON  DAVID’S  THR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OMI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  WRITES  LAW (OF KINGDOM)  IN  THEIR  HE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HOLY  SPIRIT  WILL  INDWELL 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SRAEL  WILL  RECEIVE  EARTHLY  PHYSICAL  BLESS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YPE:   UNCONDI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URATION:   ETERNAL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990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JER 31: 31-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654516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4572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118120" cy="5943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00400" y="3049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905120" y="228600"/>
            <a:ext cx="5257800" cy="476280"/>
            <a:chOff x="1905120" y="228600"/>
            <a:chExt cx="5257800" cy="476280"/>
          </a:xfrm>
        </p:grpSpPr>
        <p:sp>
          <p:nvSpPr>
            <p:cNvPr id="178" name=""/>
            <p:cNvSpPr/>
            <p:nvPr/>
          </p:nvSpPr>
          <p:spPr>
            <a:xfrm>
              <a:off x="1905120" y="228600"/>
              <a:ext cx="5207040" cy="4762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ffff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57760" y="304560"/>
              <a:ext cx="51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KEY ASPECTS OF "ISRAEL'S NEW COVENANT"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257800" y="11430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1430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11430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6583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6567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DEC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03:30Z</dcterms:modified>
  <cp:revision>59</cp:revision>
  <dc:subject/>
  <dc:title>PowerPoint Presentation</dc:title>
</cp:coreProperties>
</file>