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74120" y="6477120"/>
            <a:ext cx="120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0 November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6019920"/>
            <a:ext cx="5029200" cy="228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664380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752480"/>
            <a:ext cx="2895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808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REVEALS 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37720" y="5410080"/>
            <a:ext cx="1590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Note we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be using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outline on ch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to cover the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Rounded MT Bold"/>
              </a:rPr>
              <a:t>in Chapters 16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486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248520" y="594324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9880"/>
            <a:ext cx="8153280" cy="533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3352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HIS  MINISTRIES  TO  THE  CHURCH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6920" y="990720"/>
            <a:ext cx="74682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SHARED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CHRIST’S  GLORY  WIT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Called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Chose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Regenerated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Baptized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SHARES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CHRIST’S GLORY  TO  YOU  &amp;  THROUG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the Holy Spirit Shares Christ’s Glory through Trial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Fill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REVEALS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 CHRIST’S  GLORY  TO  YOU  &amp;  THROUG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w the Holy Spirit Reveals Christ’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Guide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Teache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H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 Rounded MT Bold"/>
              </a:rPr>
              <a:t>GLORIFIES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THE FATHER &amp; SON IN YOU &amp; THROUGH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6580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82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B.  HIS  CONTINUING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 IN  YOUR  WALK  BY  FAITH - CONDI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2.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Rounded MT Bold"/>
              </a:rPr>
              <a:t>HE  REVEALS  CHRIST’S  GLORY  TO  YOU  &amp;  THROUGH  YOU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N 16:12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2:9-13;  ROM 8:5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OMFORT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-  JN 14:16, 26; 15:26; 16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ff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HE  TEACHES 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JN 14:26; 16:12-15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2:13;  1 JN 2:20,2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INTERCEDES  FOR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ROM 8:26-27;  EPH 6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ff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HE  GUIDES 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-  JN 16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SANCTIFIE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 2 THES 2:13;  1 PET 1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TESTIFIES  TO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-  ROM 8:16;  HEB 10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NCOURAGE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ACTS 9:31;  ROM 5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REVEALS  TO  YOU  &amp;  THROUGH  YOU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FRUIT  OF  THE  SPIRIT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GAL 5:22-23;  2 COR 6:4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GLORY  OF  CHRIST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ROM 5:1-5;  2 COR 3:1-11,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UNITY ( ONENESS )  OF HIS  PURPOSE                        -  EPH 4:3;  JN 16:12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DIFIES  YOU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-  EPH 4:11-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ASSURE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-  ROM 8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QUIP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-  1 COR 12:7; 2 COR 6:4;  EPH 4:11-12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572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REVEALS 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533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REVEALS 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498680"/>
            <a:ext cx="75153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e Reveals “the things of God”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1 Corinthians 2:9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ye has not seen, ear has not heard, has not ent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heart of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hich God has prepared for them that love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has revealed </a:t>
            </a: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them</a:t>
            </a:r>
            <a:r>
              <a:rPr b="1" i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nto us by His Spi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pirit search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all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ven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eep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o knows the things of a man except the spirit of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hings of Go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no one knows except the Spirit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580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3352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REVEALS 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0240" y="1422360"/>
            <a:ext cx="816156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e Reveals “the things of God” (cont.)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1 Corinthians 2:9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e have received the Spirit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we might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at are freely given to us by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i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lso we spea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in words taught by human wis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mpar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spiritual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ith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natural man receives no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of the Spirit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y are foolishness unto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either can he know </a:t>
            </a: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cause they are spiritually discer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580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8240" y="1447920"/>
            <a:ext cx="77518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e makes known to you “the things of Christ”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John 16:13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 have many m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o say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you cannot bear them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will guide you into all the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will not speak on His own initiativ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ut as man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as He hears He will s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at are coming He will make known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4572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REVEALS 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6580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19320" y="53352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HE  REVEALS  CHRIST’S  GLORY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960" y="1600200"/>
            <a:ext cx="8446680" cy="33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 Rounded MT Bold"/>
              </a:rPr>
              <a:t>He makes known to you “the things of Christ” (cont.) 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John 16:13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shall glorify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shall take of Min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hich pertain to M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make it known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All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that the Father has are 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shall take of Min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thing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which pertain to 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shall make it known to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6580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2-11-10T01:30:33Z</cp:lastPrinted>
  <dcterms:modified xsi:type="dcterms:W3CDTF">2003-11-15T23:02:10Z</dcterms:modified>
  <cp:revision>53</cp:revision>
  <dc:subject/>
  <dc:title>PowerPoint Presentation</dc:title>
</cp:coreProperties>
</file>