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A51-BD68-45CC-9AE7-FC963D14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398-EBFB-444F-9C3E-4FA1D082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42F-B8AF-4553-9DC6-E114FA32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C25-82F6-4D6D-8CD9-585ADEE4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088-F114-4D80-B802-5984F86E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105-1161-4CA4-9875-E5FA0573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DF8-E737-4F46-B52E-8B257840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220-56FD-47CD-B63A-7F3B1CEF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DC0-D8E0-4781-97C4-02BF565D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2EA-5457-4009-9F3E-CEA77458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2E5-AE7F-4D30-9396-FF906BC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B19-3374-44B2-8F22-8F53E81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A064-DE56-4B35-8157-D737626E4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68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162000"/>
          <a:ext cx="6400800" cy="88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2000"/>
                    <a:ext cx="6400800" cy="88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124080" y="8755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436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380880"/>
          <a:ext cx="61722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172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124080" y="8755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068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0"/>
          <a:ext cx="6105600" cy="815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6105600" cy="81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429000" y="8755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06280" y="380880"/>
          <a:ext cx="6651720" cy="739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80880"/>
                    <a:ext cx="665172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276720" y="8755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068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4240" y="304920"/>
          <a:ext cx="6780240" cy="76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304920"/>
                    <a:ext cx="678024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352680" y="88311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9700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860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7316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85800"/>
            <a:ext cx="655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81160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296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4480" y="228600"/>
          <a:ext cx="6756120" cy="79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28600"/>
                    <a:ext cx="6756120" cy="79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124080" y="8755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8:33:47Z</dcterms:created>
  <dc:creator>Hal Molloy</dc:creator>
  <dc:description/>
  <dc:language>en-US</dc:language>
  <cp:lastModifiedBy>Hal Molloy</cp:lastModifiedBy>
  <dcterms:modified xsi:type="dcterms:W3CDTF">2003-11-15T23:26:38Z</dcterms:modified>
  <cp:revision>4</cp:revision>
  <dc:subject/>
  <dc:title>PowerPoint Presentation</dc:title>
</cp:coreProperties>
</file>