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4880" y="6400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115080" y="-144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46840" y="6324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16240" y="38088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Coming with His S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4191120"/>
            <a:ext cx="48006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99072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0880" y="2057400"/>
            <a:ext cx="2440800" cy="520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OMEWORK:  Read Ch.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nswer questions: 1,2,6 &amp;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18600">
            <a:off x="6708600" y="4109760"/>
            <a:ext cx="2133720" cy="2292480"/>
          </a:xfrm>
          <a:prstGeom prst="wedgeRoundRectCallout">
            <a:avLst>
              <a:gd name="adj1" fmla="val -41347"/>
              <a:gd name="adj2" fmla="val 58671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46960" y="4343400"/>
            <a:ext cx="259704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ther Chapters on Su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44. Events Preceding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econd Coming of Chr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45. The Great Trib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46. The Second Coming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6469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646416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[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3962520"/>
            <a:ext cx="739116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840" y="2971800"/>
            <a:ext cx="146088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e-ex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6320" y="355680"/>
            <a:ext cx="53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 Overview (Chp. 7 to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66688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28800" y="1676520"/>
            <a:ext cx="2133360" cy="1218960"/>
            <a:chOff x="1828800" y="1676520"/>
            <a:chExt cx="2133360" cy="1218960"/>
          </a:xfrm>
        </p:grpSpPr>
        <p:sp>
          <p:nvSpPr>
            <p:cNvPr id="57" name=""/>
            <p:cNvSpPr/>
            <p:nvPr/>
          </p:nvSpPr>
          <p:spPr>
            <a:xfrm>
              <a:off x="1828800" y="1676520"/>
              <a:ext cx="2133360" cy="121896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64320" y="1981080"/>
              <a:ext cx="128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Incar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781680" y="1676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781680" y="34290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3048120"/>
            <a:ext cx="8380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23120" y="30481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5720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3809880"/>
            <a:ext cx="1463760" cy="612000"/>
            <a:chOff x="457200" y="3809880"/>
            <a:chExt cx="1463760" cy="612000"/>
          </a:xfrm>
        </p:grpSpPr>
        <p:sp>
          <p:nvSpPr>
            <p:cNvPr id="65" name=""/>
            <p:cNvSpPr/>
            <p:nvPr/>
          </p:nvSpPr>
          <p:spPr>
            <a:xfrm>
              <a:off x="990720" y="3809880"/>
              <a:ext cx="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" y="4114800"/>
              <a:ext cx="14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Cre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114800" y="4419720"/>
            <a:ext cx="152388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Resu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920" y="396252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3429000"/>
            <a:ext cx="685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r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35960" y="3962520"/>
            <a:ext cx="1883520" cy="2286000"/>
            <a:chOff x="2235960" y="3962520"/>
            <a:chExt cx="1883520" cy="2286000"/>
          </a:xfrm>
        </p:grpSpPr>
        <p:sp>
          <p:nvSpPr>
            <p:cNvPr id="71" name=""/>
            <p:cNvSpPr/>
            <p:nvPr/>
          </p:nvSpPr>
          <p:spPr>
            <a:xfrm>
              <a:off x="3052440" y="39625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47880" y="4267080"/>
              <a:ext cx="609480" cy="16765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cc66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90680" y="457200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35960" y="4267080"/>
              <a:ext cx="1636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Substitution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De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52440" y="5943600"/>
              <a:ext cx="304920" cy="3049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357360" y="4571640"/>
              <a:ext cx="762120" cy="1676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200400" y="762120"/>
            <a:ext cx="3505320" cy="990360"/>
          </a:xfrm>
          <a:prstGeom prst="cloudCallout">
            <a:avLst>
              <a:gd name="adj1" fmla="val -20740"/>
              <a:gd name="adj2" fmla="val -30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70520" y="838080"/>
            <a:ext cx="190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Asc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&amp;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52680" y="2514600"/>
            <a:ext cx="0" cy="1447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52680" y="15238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31160" y="1066680"/>
            <a:ext cx="143640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3581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HURCH  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373392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37339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Pente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781680" y="1981080"/>
            <a:ext cx="2362320" cy="2440800"/>
            <a:chOff x="6781680" y="1981080"/>
            <a:chExt cx="2362320" cy="2440800"/>
          </a:xfrm>
        </p:grpSpPr>
        <p:grpSp>
          <p:nvGrpSpPr>
            <p:cNvPr id="89" name=""/>
            <p:cNvGrpSpPr/>
            <p:nvPr/>
          </p:nvGrpSpPr>
          <p:grpSpPr>
            <a:xfrm>
              <a:off x="7046280" y="1981080"/>
              <a:ext cx="1570680" cy="1981440"/>
              <a:chOff x="7046280" y="1981080"/>
              <a:chExt cx="15706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7046280" y="1981080"/>
                <a:ext cx="1570680" cy="58068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His Com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000000"/>
                    </a:solidFill>
                    <a:uFillTx/>
                    <a:latin typeface="Arial Rounded MT Bold"/>
                  </a:rPr>
                  <a:t>with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His Sai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831080" y="2590920"/>
                <a:ext cx="0" cy="1371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7238880" y="41148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Day of the L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781680" y="42670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63120" y="42670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01000" y="350532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King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915400" y="365760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848360" y="365760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8001000" y="64771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[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636160" y="4717440"/>
            <a:ext cx="3056760" cy="1004400"/>
            <a:chOff x="5636160" y="4717440"/>
            <a:chExt cx="3056760" cy="1004400"/>
          </a:xfrm>
        </p:grpSpPr>
        <p:sp>
          <p:nvSpPr>
            <p:cNvPr id="100" name=""/>
            <p:cNvSpPr/>
            <p:nvPr/>
          </p:nvSpPr>
          <p:spPr>
            <a:xfrm rot="5384400">
              <a:off x="6669000" y="3693240"/>
              <a:ext cx="990720" cy="3052440"/>
            </a:xfrm>
            <a:prstGeom prst="wedgeRoundRectCallout">
              <a:avLst>
                <a:gd name="adj1" fmla="val 578"/>
                <a:gd name="adj2" fmla="val 15384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9760" y="4800600"/>
              <a:ext cx="2492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Contrast Christ Co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w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 His Saints vs. Chr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Coming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fo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 His S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905120" y="990720"/>
            <a:ext cx="5486040" cy="711000"/>
            <a:chOff x="1905120" y="990720"/>
            <a:chExt cx="5486040" cy="711000"/>
          </a:xfrm>
        </p:grpSpPr>
        <p:sp>
          <p:nvSpPr>
            <p:cNvPr id="104" name=""/>
            <p:cNvSpPr/>
            <p:nvPr/>
          </p:nvSpPr>
          <p:spPr>
            <a:xfrm>
              <a:off x="1905120" y="990720"/>
              <a:ext cx="4482720" cy="711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d8fed8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72080" y="1143000"/>
              <a:ext cx="54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Facts about His Second Co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416240" y="38088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Coming with His S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1560" y="1868400"/>
            <a:ext cx="68907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His return will be physical to this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Zech. 14:4 And in that day His feet will stand o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Mount of  Olives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ob 19:25 --- And at the last He will take His 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 the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His return on the clouds of he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cts 1:9-11 --- while they were looking on --- a clou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ceived Him --- will come in just the sam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v. 1:7 Behold, He is coming with the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aniel 7:13 And behold with the clouds of heaven One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 Son of Man was co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86720" y="6469200"/>
            <a:ext cx="92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[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6469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4760" y="369720"/>
            <a:ext cx="49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Son: His Coming with His S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320" y="1676520"/>
            <a:ext cx="738756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His return is in power and great glory</a:t>
            </a:r>
            <a:r>
              <a:rPr b="0" lang="en-US" sz="16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Matt. 24:27-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fter the trib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un darkened, moon will not give light, stars will fall from sk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owers of heaven sh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gn of the Son of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 people on earth will mo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 people will see the Son of Man coming on the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ith power and great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will send forth His angels (with great trump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 angels will gather together His elect from the four wi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2 Thess. 1:7-8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---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Lord Jesus shall be revealed from heave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 mighty angels in flaming f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54280" y="965160"/>
            <a:ext cx="5486040" cy="711000"/>
            <a:chOff x="1754280" y="965160"/>
            <a:chExt cx="5486040" cy="711000"/>
          </a:xfrm>
        </p:grpSpPr>
        <p:sp>
          <p:nvSpPr>
            <p:cNvPr id="113" name=""/>
            <p:cNvSpPr/>
            <p:nvPr/>
          </p:nvSpPr>
          <p:spPr>
            <a:xfrm>
              <a:off x="1754280" y="965160"/>
              <a:ext cx="4482720" cy="711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d8fed8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1240" y="1117440"/>
              <a:ext cx="54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Facts about His Second Co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7467480" y="6499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[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6499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228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 COMING  FOR  HIS 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64771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90920" y="533520"/>
            <a:ext cx="3886200" cy="1066680"/>
            <a:chOff x="2590920" y="533520"/>
            <a:chExt cx="3886200" cy="1066680"/>
          </a:xfrm>
        </p:grpSpPr>
        <p:sp>
          <p:nvSpPr>
            <p:cNvPr id="120" name=""/>
            <p:cNvSpPr/>
            <p:nvPr/>
          </p:nvSpPr>
          <p:spPr>
            <a:xfrm>
              <a:off x="2590920" y="533520"/>
              <a:ext cx="3886200" cy="1066680"/>
            </a:xfrm>
            <a:prstGeom prst="irregularSeal2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66ffff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9097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WHAT  IS  THE  RAPTUR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33520" y="1600200"/>
            <a:ext cx="86104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RIMARY PASSAGES :  1 THES 4:13-18; 1 COR 15:51-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DEFINITION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RAPTURE IS THE CATCHING AWAY OF THE CHURCH ( THOSE LIVING ) FROM THE EARTH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MEET THE LORD IN THE AIR  WHEN HE COMES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Rounded MT Bold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 CHURCH ( THOSE ASLEEP  &amp;  ALIV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RIOR TO THE RAPTURE :   THERE ARE 2 GROUPS OF BELIE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  THOSE A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Y DIED PHYS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Y ARE ABSENT FROM THE BODY &amp; PRESENT WITH THE LORD                                      - 2COR 5: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  THOSE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T THE TIME OF THE RAPTURE   -   GOD DOES THE FOLLOWING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  TO THOSE A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HE RESURRECTS THEM WITH A GLORIFIED BODY                                                         - 1 COR 15: 35-4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Y RISE UP TO HIM IN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  TO THOSE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Y DO NOT EXPERIENCE PHYSICA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Y ARE CHANGED INTO THEIR GLORIFIED BODIES                                                 - 1 COR 15: 51-5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Y ARE THEN CAUGHT UP ( RAPTURED ) TO MEET THE LORD IN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PARTIAL RAPTURE POSITIO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IS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 Rounded MT Bold"/>
              </a:rPr>
              <a:t>INCORRECT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VIEW SAYS NOT ALL BELIEVERS WILL BE R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NLY THOSE WHO ARE “WATCHING &amp; WAITING” FOR THE RAPTURE         - HEB 9: 28; PHIL 3: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HEY MUST REACH AN UNDEFINED DEGREE OF SPIRITUAL WORTH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6477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16240" y="38088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Coming with His S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193320" y="1905120"/>
            <a:ext cx="918612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The Church return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with</a:t>
            </a: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 Christ at His Second C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n the Lord my God will come and all the holy ones with Him -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ech.14: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hold the Lord came with many thousands of His Holy ones -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ude 14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at the coming of our Lord Jesus with all His saints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1 Thes. 3: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armies which are in heaven clothed in fine linen - were following H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Rev 19: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The return is seen in both Old and New Test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the Son of Man is going to come in the glory of His Fa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ith His angels -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ath 16: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with clouds of heaven --- One like the Son of Man was coming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Him was given dominion, glory and a kingdom --- all peop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ations --- might serve Him -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Dan 7:13-14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057400" y="990720"/>
            <a:ext cx="5486040" cy="711000"/>
            <a:chOff x="2057400" y="990720"/>
            <a:chExt cx="5486040" cy="711000"/>
          </a:xfrm>
        </p:grpSpPr>
        <p:sp>
          <p:nvSpPr>
            <p:cNvPr id="127" name=""/>
            <p:cNvSpPr/>
            <p:nvPr/>
          </p:nvSpPr>
          <p:spPr>
            <a:xfrm>
              <a:off x="2057400" y="990720"/>
              <a:ext cx="4482720" cy="711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d8fed8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24360" y="1143000"/>
              <a:ext cx="54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Facts about His Second Co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543800" y="64198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[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641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676520" y="660240"/>
            <a:ext cx="6552720" cy="711000"/>
            <a:chOff x="1676520" y="660240"/>
            <a:chExt cx="6552720" cy="711000"/>
          </a:xfrm>
        </p:grpSpPr>
        <p:sp>
          <p:nvSpPr>
            <p:cNvPr id="132" name=""/>
            <p:cNvSpPr/>
            <p:nvPr/>
          </p:nvSpPr>
          <p:spPr>
            <a:xfrm>
              <a:off x="1676520" y="660240"/>
              <a:ext cx="5354280" cy="711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d8fed8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6440" y="812520"/>
              <a:ext cx="64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Contrast Rapture vs. Second Co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895040" y="252360"/>
            <a:ext cx="49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Son: His Coming with His S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1473120"/>
          <a:ext cx="837252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73120"/>
                    <a:ext cx="837252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696080" y="6400800"/>
            <a:ext cx="105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[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6400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2:21:06Z</dcterms:created>
  <dc:creator>Roger Henderson</dc:creator>
  <dc:description/>
  <dc:language>en-US</dc:language>
  <cp:lastModifiedBy>Hal Molloy</cp:lastModifiedBy>
  <cp:lastPrinted>2002-10-06T01:59:15Z</cp:lastPrinted>
  <dcterms:modified xsi:type="dcterms:W3CDTF">2003-11-15T22:59:05Z</dcterms:modified>
  <cp:revision>143</cp:revision>
  <dc:subject/>
  <dc:title>No Slide Title</dc:title>
</cp:coreProperties>
</file>