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990720" y="919080"/>
            <a:ext cx="7199280" cy="60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266760" y="6567480"/>
            <a:ext cx="1552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R. HENDERSON / H. MOLLO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0" y="4680"/>
            <a:ext cx="1206360" cy="1584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2280" y="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 Rounded MT Bold"/>
              </a:rPr>
              <a:t>MAJOR BIBLE THEM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1066680" y="5105520"/>
            <a:ext cx="4876920" cy="22860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50000">
                <a:srgbClr val="fefefe"/>
              </a:gs>
              <a:gs pos="100000">
                <a:srgbClr val="ff99cc"/>
              </a:gs>
            </a:gsLst>
            <a:lin ang="5400000"/>
          </a:gra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1143000" y="1143000"/>
            <a:ext cx="678024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20  The Dispensations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21  The Covenants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22  The Angels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23  Satan: His Personality and Power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24  Satan: His Work and Destiny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25  Man: His Creation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26  Man: His Fal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27  Sin: Its Character and Universality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28  Salvation From the Penalty of Sin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29  Salvation From the Power of Sin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30  Four Aspects of Righteousness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31  Sanctification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32  Assurance of Salvation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33  Security of Salvation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34  Divine Election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35  The Church: Her Members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36  The Church: Her Purpose and Commiss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37  The Church: Her Service and Stewardship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38  The Church: Her Worship in Prayer and Thanksgiv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39  The Church: Her Organization and Ordinances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40  The Church: The Body and Bride of Christ and Her Rewar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019920" y="1752480"/>
            <a:ext cx="2895480" cy="5544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 Rounded MT Bold"/>
              </a:rPr>
              <a:t>HOMEWORK: READ CHAP  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533520"/>
            <a:ext cx="57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THE  CHURCH :  HER  PURPOSE &amp; COMMI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391520" y="6553080"/>
            <a:ext cx="106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16 MAR 20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495680" y="654516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362320" y="304920"/>
            <a:ext cx="44956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657600" y="609480"/>
            <a:ext cx="1905120" cy="6098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33cc"/>
              </a:gs>
              <a:gs pos="50000">
                <a:srgbClr val="ffffff"/>
              </a:gs>
              <a:gs pos="100000">
                <a:srgbClr val="ff33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752480" y="289080"/>
            <a:ext cx="563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THE  CHURCH :  HER  PURPOSE &amp; COMMISSION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762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OUT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71800" y="1371600"/>
            <a:ext cx="5257800" cy="990720"/>
          </a:xfrm>
          <a:prstGeom prst="cloudCallout">
            <a:avLst>
              <a:gd name="adj1" fmla="val -98550"/>
              <a:gd name="adj2" fmla="val 88462"/>
            </a:avLst>
          </a:prstGeom>
          <a:gradFill rotWithShape="0">
            <a:gsLst>
              <a:gs pos="0">
                <a:srgbClr val="66ffff"/>
              </a:gs>
              <a:gs pos="50000">
                <a:srgbClr val="f2fefe"/>
              </a:gs>
              <a:gs pos="100000">
                <a:srgbClr val="66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143000" y="2743200"/>
            <a:ext cx="4495680" cy="990720"/>
          </a:xfrm>
          <a:prstGeom prst="cloudCallout">
            <a:avLst>
              <a:gd name="adj1" fmla="val -44069"/>
              <a:gd name="adj2" fmla="val -50000"/>
            </a:avLst>
          </a:prstGeom>
          <a:gradFill rotWithShape="0">
            <a:gsLst>
              <a:gs pos="0">
                <a:srgbClr val="b2b2b2"/>
              </a:gs>
              <a:gs pos="50000">
                <a:srgbClr val="f9f9f9"/>
              </a:gs>
              <a:gs pos="100000">
                <a:srgbClr val="b2b2b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86200" y="3733920"/>
            <a:ext cx="4191120" cy="1295280"/>
          </a:xfrm>
          <a:prstGeom prst="cloudCallout">
            <a:avLst>
              <a:gd name="adj1" fmla="val -105453"/>
              <a:gd name="adj2" fmla="val -114703"/>
            </a:avLst>
          </a:prstGeom>
          <a:gradFill rotWithShape="0">
            <a:gsLst>
              <a:gs pos="0">
                <a:srgbClr val="cc99ff"/>
              </a:gs>
              <a:gs pos="50000">
                <a:srgbClr val="fcfafe"/>
              </a:gs>
              <a:gs pos="100000">
                <a:srgbClr val="cc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5105520"/>
            <a:ext cx="4190760" cy="838080"/>
          </a:xfrm>
          <a:prstGeom prst="cloudCallout">
            <a:avLst>
              <a:gd name="adj1" fmla="val -21819"/>
              <a:gd name="adj2" fmla="val -295453"/>
            </a:avLst>
          </a:prstGeom>
          <a:gradFill rotWithShape="0">
            <a:gsLst>
              <a:gs pos="0">
                <a:srgbClr val="66ff33"/>
              </a:gs>
              <a:gs pos="50000">
                <a:srgbClr val="fefefe"/>
              </a:gs>
              <a:gs pos="100000">
                <a:srgbClr val="66ff3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9880" y="152388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Is The Church  Separ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From  Israel &amp; The  Gentiles 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133720" y="289548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What  Is  The  Compos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Of  The  Church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800600" y="39625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What  Is  The  Purpose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Of  The  Church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38080" y="534816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How  Is  The  Church  Unique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91520" y="6567480"/>
            <a:ext cx="99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16 MAR 20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495680" y="646920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8600" y="1600200"/>
            <a:ext cx="8229600" cy="9144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efefe"/>
              </a:gs>
              <a:gs pos="100000">
                <a:srgbClr val="00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362320" y="304920"/>
            <a:ext cx="44956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447920" y="685800"/>
            <a:ext cx="6248160" cy="6094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33cc"/>
              </a:gs>
              <a:gs pos="50000">
                <a:srgbClr val="ffffff"/>
              </a:gs>
              <a:gs pos="100000">
                <a:srgbClr val="ff33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752480" y="289080"/>
            <a:ext cx="563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THE  CHURCH :  HER  PURPOSE &amp; COMMISSION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523880" y="838080"/>
            <a:ext cx="640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Is The Church  Separate  From  Israel &amp; The  Gentiles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50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Answer:  YES !!!    Scripture  Is  Very  Clea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1720800"/>
            <a:ext cx="807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 Rounded MT Bold"/>
                <a:ea typeface="Times New Roman"/>
              </a:rPr>
              <a:t>1 Cor. 10:32  “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 Give none offence, neither to the </a:t>
            </a:r>
            <a:r>
              <a:rPr b="0" lang="en-US" sz="1800" spc="-1" strike="noStrike">
                <a:solidFill>
                  <a:srgbClr val="3333cc"/>
                </a:solidFill>
                <a:latin typeface="Arial Rounded MT Bold"/>
                <a:ea typeface="Times New Roman"/>
              </a:rPr>
              <a:t>Jews(Israel)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, nor to the         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             </a:t>
            </a:r>
            <a:r>
              <a:rPr b="0" lang="en-US" sz="1800" spc="-1" strike="noStrike">
                <a:solidFill>
                  <a:srgbClr val="3333cc"/>
                </a:solidFill>
                <a:latin typeface="Arial Rounded MT Bold"/>
                <a:ea typeface="Times New Roman"/>
              </a:rPr>
              <a:t>Gentiles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, nor to the </a:t>
            </a:r>
            <a:r>
              <a:rPr b="0" lang="en-US" sz="1800" spc="-1" strike="noStrike">
                <a:solidFill>
                  <a:srgbClr val="3333cc"/>
                </a:solidFill>
                <a:latin typeface="Arial Rounded MT Bold"/>
                <a:ea typeface="Times New Roman"/>
              </a:rPr>
              <a:t>Church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 of God:”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Also: Gal 6:15,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434340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 Rounded MT Bold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467480" y="6545160"/>
            <a:ext cx="838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16 MAR 20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419720" y="655308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Biblical%20Dispensations-1" descr=""/>
          <p:cNvPicPr/>
          <p:nvPr/>
        </p:nvPicPr>
        <p:blipFill>
          <a:blip r:embed="rId1"/>
          <a:srcRect l="0" t="5347" r="0" b="2004"/>
          <a:stretch/>
        </p:blipFill>
        <p:spPr>
          <a:xfrm>
            <a:off x="1143000" y="2440080"/>
            <a:ext cx="6400800" cy="42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362320" y="304920"/>
            <a:ext cx="44956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905120" y="685800"/>
            <a:ext cx="5333760" cy="6094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33cc"/>
              </a:gs>
              <a:gs pos="50000">
                <a:srgbClr val="ffffff"/>
              </a:gs>
              <a:gs pos="100000">
                <a:srgbClr val="ff33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752480" y="289080"/>
            <a:ext cx="563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THE  CHURCH :  HER  PURPOSE &amp; COMMISSION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057400" y="76212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What  Is  The  Composition  Of  The  Church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1447920"/>
            <a:ext cx="914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800" spc="-1" strike="noStrike">
                <a:solidFill>
                  <a:srgbClr val="3333cc"/>
                </a:solidFill>
                <a:latin typeface="Arial Rounded MT Bold"/>
              </a:rPr>
              <a:t>BELIEVING  JEWS &amp; GENTILES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                                     -  Acts 15:14; Eph 2:15,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From Pentecost to the Rap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800" spc="-1" strike="noStrike">
                <a:solidFill>
                  <a:srgbClr val="3333cc"/>
                </a:solidFill>
                <a:latin typeface="Arial Rounded MT Bold"/>
              </a:rPr>
              <a:t>REFERED  TO  AS  “ONE  NEW  MAN”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                                                 -  Eph 2:14-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Oneness of Jew &amp; Gentile In Chris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Contrast &amp; Separation Elimin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Peace vs. Enmity Now Exis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The Law Is Abolished (Grace Is Now the Principle of Livin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Totally New In Qua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“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Newness” In the Resurrected &amp; Glorified Lord Jesus           -  Rom 6: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Not the Continuation or Remaking of Isra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 Rounded MT Bold"/>
              </a:rPr>
              <a:t>REFERED  TO  AS  A  “NEW  CREATION”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                                               -  Gal 6:14-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“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Creation”:  It Did Not Previously Exist” (Just Like We Did Not) -2 Cor 5:1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 “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Newness” In the Resurrected &amp; Glorified Lord Jesus                   - Rom 6: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Circumcision (being a Jew) Nor Un-circumcision (being a Genti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Is Not God’s Measure (Ru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God’s  Measure is the Cross - We Glory there &amp; not in distin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543800" y="6545160"/>
            <a:ext cx="91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16 MAR 20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495680" y="6545160"/>
            <a:ext cx="381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419720" y="64008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362320" y="304920"/>
            <a:ext cx="44956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057400" y="685800"/>
            <a:ext cx="4800600" cy="6094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33cc"/>
              </a:gs>
              <a:gs pos="50000">
                <a:srgbClr val="ffffff"/>
              </a:gs>
              <a:gs pos="100000">
                <a:srgbClr val="ff33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752480" y="289080"/>
            <a:ext cx="563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THE  CHURCH :  HER  PURPOSE &amp; COMMISSION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209680" y="838080"/>
            <a:ext cx="472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What  Is  The  Purpose  Of  The  Church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1600200"/>
            <a:ext cx="9144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 Rounded MT Bold"/>
              </a:rPr>
              <a:t>  </a:t>
            </a:r>
            <a:r>
              <a:rPr b="0" lang="en-US" sz="1800" spc="-1" strike="noStrike">
                <a:solidFill>
                  <a:srgbClr val="3333cc"/>
                </a:solidFill>
                <a:latin typeface="Arial Rounded MT Bold"/>
              </a:rPr>
              <a:t>A.  FOR EACH MEMBER OF HIS BODY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:                                                        -  2Tim 1: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7784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God called us in Christ with a holy calling to be a vessel in fulfill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God’s Eternal Purpo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17784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God’s eternal purpose is fulfilled through the individual belie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rather than through the local church bo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17784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Because every believer is in a vital (living) union with th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resurrected glorified Lord he/she is in union with God’s etern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purpose, which i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3333cc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Arial Rounded MT Bold"/>
              </a:rPr>
              <a:t>To Declare His Gl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3333cc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Arial Rounded MT Bold"/>
              </a:rPr>
              <a:t>To Share His Gl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3333cc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Arial Rounded MT Bold"/>
              </a:rPr>
              <a:t>To Reveal His Gl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3333cc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Arial Rounded MT Bold"/>
              </a:rPr>
              <a:t>To Be Glorifi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162920" y="6553080"/>
            <a:ext cx="1218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16 MAR 20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648320" y="64692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362320" y="304920"/>
            <a:ext cx="44956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981080" y="685800"/>
            <a:ext cx="5029200" cy="6094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33cc"/>
              </a:gs>
              <a:gs pos="50000">
                <a:srgbClr val="ffffff"/>
              </a:gs>
              <a:gs pos="100000">
                <a:srgbClr val="ff33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752480" y="289080"/>
            <a:ext cx="563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THE  CHURCH :  HER  PURPOSE &amp; COMMISSION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1257480"/>
            <a:ext cx="9144000" cy="56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51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 Rounded MT Bold"/>
              </a:rPr>
              <a:t>A.  FOR EACH MEMBER OF HIS BODY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: </a:t>
            </a:r>
            <a:r>
              <a:rPr b="0" lang="en-US" sz="1800" spc="-1" strike="noStrike">
                <a:solidFill>
                  <a:srgbClr val="3333cc"/>
                </a:solidFill>
                <a:latin typeface="Arial Rounded MT Bold"/>
              </a:rPr>
              <a:t>(Cont’d)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                                       - 2Tim 1: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51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51120">
              <a:lnSpc>
                <a:spcPct val="100000"/>
              </a:lnSpc>
              <a:buClr>
                <a:srgbClr val="3333cc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 Rounded MT Bold"/>
              </a:rPr>
              <a:t>  </a:t>
            </a:r>
            <a:r>
              <a:rPr b="0" lang="en-US" sz="1800" spc="-1" strike="noStrike">
                <a:solidFill>
                  <a:srgbClr val="3333cc"/>
                </a:solidFill>
                <a:latin typeface="Arial Rounded MT Bold"/>
              </a:rPr>
              <a:t>HOW EXCITING!!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- How God uses you in His eternal purpo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51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228600" indent="11448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Arial Rounded MT Bold"/>
              </a:rPr>
              <a:t>To Declare His Glory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To declare the riches of His glory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               - Col 1:26-2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To declare (make known) His righteousness                              - Rom 3:25,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To declare the gospel                                                                          - 1 Cor 15:1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228600" indent="11448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Arial Rounded MT Bold"/>
              </a:rPr>
              <a:t>To Reveal His Gl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Through you as an epistle of Christ                                          - 2 Cor 3:3-11,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Through you in your trials &amp; suffering                                               - Rom 5:1-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228600" indent="11448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Arial Rounded MT Bold"/>
              </a:rPr>
              <a:t>To Share His Gl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Christ shares His glory with those who believe via your witness  -Jn 17: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228600" indent="114480">
              <a:lnSpc>
                <a:spcPct val="100000"/>
              </a:lnSpc>
              <a:buClr>
                <a:srgbClr val="3333cc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Arial Rounded MT Bold"/>
              </a:rPr>
              <a:t>To Glorify G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We glory only  in the Lord!!                                           - 1 Cor 1:31; 2 Cor 10:1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We glory  in the cross moment by moment                                          - Gal 6: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We glorify God as the Holy Spirit bears His fruit in us                       - Jn 15: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We glorify God by edifying each other                                                - Rom 15: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We are to glorify God in our bodies - which are His                      - 1 Cor 6:20   </a:t>
            </a:r>
            <a:r>
              <a:rPr b="0" lang="en-US" sz="1800" spc="-1" strike="noStrike">
                <a:solidFill>
                  <a:srgbClr val="3333cc"/>
                </a:solidFill>
                <a:latin typeface="Arial Rounded MT Bold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133720" y="77616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What  Is  The  Purpose  Of  The  Church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543800" y="6545160"/>
            <a:ext cx="114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16 MAR 20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419720" y="662148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6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362320" y="304920"/>
            <a:ext cx="44956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685800"/>
            <a:ext cx="4114800" cy="6094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33cc"/>
              </a:gs>
              <a:gs pos="50000">
                <a:srgbClr val="ffffff"/>
              </a:gs>
              <a:gs pos="100000">
                <a:srgbClr val="ff33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752480" y="289080"/>
            <a:ext cx="563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THE  CHURCH :  HER  PURPOSE &amp; COMMISSION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76212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How  Is  The  Church  Unique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1219320"/>
            <a:ext cx="91440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          </a:t>
            </a:r>
            <a:r>
              <a:rPr b="0" lang="en-US" sz="1800" spc="-1" strike="noStrike">
                <a:solidFill>
                  <a:srgbClr val="3333cc"/>
                </a:solidFill>
                <a:latin typeface="Arial Rounded MT Bold"/>
              </a:rPr>
              <a:t>TRUTHS CONCERNING WHO YOU ARE IN THE BODY OF CHRI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Born of God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         - Jn 1:13; 1Jn 4:7; 5:1; 1Pet 1: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Indwelt by the Holy Spirit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       - 1Cor 3:16; 6: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Baptized by the Holy Spirit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Into His person, death, burial, resurrection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- Rom 6:3,4; Col 2: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Into His body(the church)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- 1Cor 12: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A new creation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- 2Cor 5:17; Gal 6: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You share His very glory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    - Jn 17: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You share His very life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                                       - Col 3: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You share His eternal purpose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    - 2Tim 1: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You share in the oneness that the Father &amp; Son share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- Jn 17:21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You are Christ’s body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     - 1Cor 12:12-25; Rom 12: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You are a heavenly people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      - 1Cor 15:47-49; Phil 3: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Christ is in you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 - Jn 14:20; 2Tim 1: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You are not of this world 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 - Jn 17:16; Phil 3: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You are a temple &amp; building of God                   - 1Cor 3:16,17; 6:19; Eph 2:19-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You are loved &amp; cherished by Christ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             - Eph 5:25,2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You are Christ’s bride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   - Jn 3:29; Rev:19: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162920" y="6469200"/>
            <a:ext cx="106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16 MAR 20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419720" y="654516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7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0T19:41:24Z</dcterms:created>
  <dc:creator>Hal Molloy</dc:creator>
  <dc:description/>
  <dc:language>en-US</dc:language>
  <cp:lastModifiedBy>Hal Molloy</cp:lastModifiedBy>
  <dcterms:modified xsi:type="dcterms:W3CDTF">2003-11-15T23:24:10Z</dcterms:modified>
  <cp:revision>37</cp:revision>
  <dc:subject/>
  <dc:title>PowerPoint Presentation</dc:title>
</cp:coreProperties>
</file>