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919080"/>
            <a:ext cx="7199280" cy="60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66760" y="656748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468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066680" y="4876920"/>
            <a:ext cx="3200400" cy="2286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143000" y="1143000"/>
            <a:ext cx="67802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0  The Dispensation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1  The Covenants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2  The Angels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3  Satan: His Personality and Power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4  Satan: His Work and Destiny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5  Man: His Creatio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6  Man: His F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7  Sin: Its Character and Universality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8  Salvation From the Penalty of Si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9  Salvation From the Power of Si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0  Four Aspects of Righteousnes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1  Sanctifica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2  Assurance of Salvatio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3  Security of Salvatio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4  Divine Electio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5  The Church: Her Members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6  The Church: Her Purpose and Commiss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7  The Church: Her Service and Stewardshi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8  The Church: Her Worship in Prayer and Thanksgiv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9  The Church: Her Organization and Ordinances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0  The Church: The Body and Bride of Christ and Her Rew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19920" y="1752480"/>
            <a:ext cx="2666880" cy="554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READ CHAP  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525600"/>
            <a:ext cx="45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45720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 CHURCH :   HER 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91520" y="6553080"/>
            <a:ext cx="99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9 MAR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49116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685800"/>
            <a:ext cx="518148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449280"/>
            <a:ext cx="4267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304920"/>
            <a:ext cx="44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 CHURCH :   HER 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8524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HAT  IS  THE  MEANING  OF  “CHURCH”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752480"/>
            <a:ext cx="9144000" cy="45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CHURCH”  -  Ekklesia (Gree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SECULAR  MEANING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  Acts 19:32,39,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141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does not refer to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141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t refers to a formal meeting of a political 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NT  MEANING  - 2 Basic 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141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The Church” -  As an organism(“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 Rounded MT Bold"/>
              </a:rPr>
              <a:t>called out ones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”)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-Eph 1:22,23; Heb12: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177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 living union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all believer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in Christ - His body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177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hrist is the head                                                                    - Eph 5:23; Col 1: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177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elievers between Pentecost &amp; the Rap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1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14120"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“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The Church” -  Local or organized chu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177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 singular group (meeting in a house or at HHBC)  -1 Cor 16:19; Col 4: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177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everal different groups in a city or local         - 1 Cor 4:17; 11:16; Gal 1: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15200" y="654516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9 MAR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65451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 flipV="1">
            <a:off x="3733920" y="304812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3720" y="609480"/>
            <a:ext cx="4343400" cy="6098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09680" y="449280"/>
            <a:ext cx="4267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228600"/>
            <a:ext cx="44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 CHURCH :   HER 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6858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 CHURCH :   OV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5181480"/>
            <a:ext cx="8077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3289200">
            <a:off x="631440" y="56152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Cr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544120" y="2133720"/>
            <a:ext cx="2725200" cy="4232160"/>
            <a:chOff x="2544120" y="2133720"/>
            <a:chExt cx="2725200" cy="4232160"/>
          </a:xfrm>
        </p:grpSpPr>
        <p:grpSp>
          <p:nvGrpSpPr>
            <p:cNvPr id="65" name=""/>
            <p:cNvGrpSpPr/>
            <p:nvPr/>
          </p:nvGrpSpPr>
          <p:grpSpPr>
            <a:xfrm>
              <a:off x="2544120" y="3200400"/>
              <a:ext cx="2725200" cy="3165480"/>
              <a:chOff x="2544120" y="3200400"/>
              <a:chExt cx="2725200" cy="3165480"/>
            </a:xfrm>
          </p:grpSpPr>
          <p:sp>
            <p:nvSpPr>
              <p:cNvPr id="66" name=""/>
              <p:cNvSpPr/>
              <p:nvPr/>
            </p:nvSpPr>
            <p:spPr>
              <a:xfrm>
                <a:off x="2819520" y="52578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496040" y="52578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3231600">
                <a:off x="2436840" y="5715000"/>
                <a:ext cx="106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Rounded MT Bold"/>
                  </a:rPr>
                  <a:t>Incarn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819520" y="449568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733920" y="3200400"/>
                <a:ext cx="762120" cy="1950120"/>
                <a:chOff x="3733920" y="3200400"/>
                <a:chExt cx="762120" cy="1950120"/>
              </a:xfrm>
            </p:grpSpPr>
            <p:sp>
              <p:nvSpPr>
                <p:cNvPr id="71" name=""/>
                <p:cNvSpPr/>
                <p:nvPr/>
              </p:nvSpPr>
              <p:spPr>
                <a:xfrm rot="20050200">
                  <a:off x="4115160" y="4953240"/>
                  <a:ext cx="48960" cy="196560"/>
                </a:xfrm>
                <a:custGeom>
                  <a:avLst/>
                  <a:gdLst>
                    <a:gd name="textAreaLeft" fmla="*/ 10800 w 48960"/>
                    <a:gd name="textAreaRight" fmla="*/ 38160 w 48960"/>
                    <a:gd name="textAreaTop" fmla="*/ 43200 h 196560"/>
                    <a:gd name="textAreaBottom" fmla="*/ 153360 h 196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038840" y="3505320"/>
                  <a:ext cx="168120" cy="1449360"/>
                </a:xfrm>
                <a:custGeom>
                  <a:avLst/>
                  <a:gdLst>
                    <a:gd name="textAreaLeft" fmla="*/ 36720 w 168120"/>
                    <a:gd name="textAreaRight" fmla="*/ 131400 w 168120"/>
                    <a:gd name="textAreaTop" fmla="*/ 318600 h 1449360"/>
                    <a:gd name="textAreaBottom" fmla="*/ 1130760 h 144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3733920" y="3733920"/>
                  <a:ext cx="762120" cy="152280"/>
                </a:xfrm>
                <a:custGeom>
                  <a:avLst/>
                  <a:gdLst>
                    <a:gd name="textAreaLeft" fmla="*/ 167400 w 762120"/>
                    <a:gd name="textAreaRight" fmla="*/ 594720 w 762120"/>
                    <a:gd name="textAreaTop" fmla="*/ 33480 h 152280"/>
                    <a:gd name="textAreaBottom" fmla="*/ 118800 h 152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 flipV="1">
                  <a:off x="4191120" y="3200400"/>
                  <a:ext cx="304920" cy="1905120"/>
                </a:xfrm>
                <a:prstGeom prst="line">
                  <a:avLst/>
                </a:prstGeom>
                <a:ln w="38160">
                  <a:solidFill>
                    <a:srgbClr val="ff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" name=""/>
              <p:cNvSpPr/>
              <p:nvPr/>
            </p:nvSpPr>
            <p:spPr>
              <a:xfrm>
                <a:off x="3200400" y="4495680"/>
                <a:ext cx="8384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Rounded MT Bold"/>
                  </a:rPr>
                  <a:t>Christ’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Rounded MT Bold"/>
                  </a:rPr>
                  <a:t>Earth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Rounded MT Bold"/>
                  </a:rPr>
                  <a:t>Minist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96040" y="449568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2819520" y="48006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886200" y="480060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2908800">
                <a:off x="4341960" y="5715360"/>
                <a:ext cx="990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Rounded MT Bold"/>
                  </a:rPr>
                  <a:t>Ascens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3200400" y="2133720"/>
              <a:ext cx="1295280" cy="824040"/>
              <a:chOff x="3200400" y="2133720"/>
              <a:chExt cx="1295280" cy="824040"/>
            </a:xfrm>
          </p:grpSpPr>
          <p:sp>
            <p:nvSpPr>
              <p:cNvPr id="81" name=""/>
              <p:cNvSpPr/>
              <p:nvPr/>
            </p:nvSpPr>
            <p:spPr>
              <a:xfrm>
                <a:off x="3200400" y="2133720"/>
                <a:ext cx="1295280" cy="762120"/>
              </a:xfrm>
              <a:prstGeom prst="wedgeRoundRectCallout">
                <a:avLst>
                  <a:gd name="adj1" fmla="val -8453"/>
                  <a:gd name="adj2" fmla="val 62083"/>
                  <a:gd name="adj3" fmla="val 16667"/>
                </a:avLst>
              </a:prstGeom>
              <a:gradFill rotWithShape="0">
                <a:gsLst>
                  <a:gs pos="0">
                    <a:srgbClr val="ffff99"/>
                  </a:gs>
                  <a:gs pos="50000">
                    <a:srgbClr val="fefee5"/>
                  </a:gs>
                  <a:gs pos="100000">
                    <a:srgbClr val="ffff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200400" y="2133720"/>
                <a:ext cx="12952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Rounded MT Bold"/>
                  </a:rPr>
                  <a:t>FIR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Rounded MT Bold"/>
                  </a:rPr>
                  <a:t>REVEL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Rounded MT Bold"/>
                  </a:rPr>
                  <a:t>OF CHURC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Rounded MT Bold"/>
                  </a:rPr>
                  <a:t>   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Rounded MT Bold"/>
                  </a:rPr>
                  <a:t>Mt 16:1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"/>
          <p:cNvSpPr/>
          <p:nvPr/>
        </p:nvSpPr>
        <p:spPr>
          <a:xfrm flipV="1">
            <a:off x="914400" y="12189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6320" y="1523880"/>
            <a:ext cx="1600200" cy="1297080"/>
            <a:chOff x="76320" y="1523880"/>
            <a:chExt cx="1600200" cy="1297080"/>
          </a:xfrm>
        </p:grpSpPr>
        <p:sp>
          <p:nvSpPr>
            <p:cNvPr id="85" name=""/>
            <p:cNvSpPr/>
            <p:nvPr/>
          </p:nvSpPr>
          <p:spPr>
            <a:xfrm>
              <a:off x="76320" y="1523880"/>
              <a:ext cx="1447560" cy="1295280"/>
            </a:xfrm>
            <a:prstGeom prst="wedgeRoundRectCallout">
              <a:avLst>
                <a:gd name="adj1" fmla="val -20833"/>
                <a:gd name="adj2" fmla="val 77819"/>
                <a:gd name="adj3" fmla="val 16667"/>
              </a:avLst>
            </a:prstGeom>
            <a:gradFill rotWithShape="0">
              <a:gsLst>
                <a:gs pos="0">
                  <a:srgbClr val="ff9999"/>
                </a:gs>
                <a:gs pos="50000">
                  <a:srgbClr val="fecccc"/>
                </a:gs>
                <a:gs pos="100000">
                  <a:srgbClr val="ff99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2280" y="1631880"/>
              <a:ext cx="15242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CHOSEN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IN  CHRIST  BEFORE T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FOUND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OF THE  WORL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Eph 1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295280" y="3200400"/>
            <a:ext cx="2209680" cy="1142640"/>
            <a:chOff x="1295280" y="3200400"/>
            <a:chExt cx="2209680" cy="1142640"/>
          </a:xfrm>
        </p:grpSpPr>
        <p:sp>
          <p:nvSpPr>
            <p:cNvPr id="88" name=""/>
            <p:cNvSpPr/>
            <p:nvPr/>
          </p:nvSpPr>
          <p:spPr>
            <a:xfrm>
              <a:off x="1295280" y="3200400"/>
              <a:ext cx="2124720" cy="1142640"/>
            </a:xfrm>
            <a:prstGeom prst="wedgeRoundRectCallout">
              <a:avLst>
                <a:gd name="adj1" fmla="val 14916"/>
                <a:gd name="adj2" fmla="val 47222"/>
                <a:gd name="adj3" fmla="val 16667"/>
              </a:avLst>
            </a:prstGeom>
            <a:gradFill rotWithShape="0">
              <a:gsLst>
                <a:gs pos="0">
                  <a:srgbClr val="00d7d7"/>
                </a:gs>
                <a:gs pos="50000">
                  <a:srgbClr val="00ffff"/>
                </a:gs>
                <a:gs pos="100000">
                  <a:srgbClr val="00d7d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95280" y="3295440"/>
              <a:ext cx="22096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THE  CHUR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Rounded MT Bol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A MYSTERY, A SECR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Rounded MT Bol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NEVER BEF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REVEALED    - Eph 3:5,6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- Eph 5:32; Col 1:24-2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 flipH="1">
            <a:off x="914040" y="3657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0532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2839800">
            <a:off x="4822560" y="56916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entec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528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1295280"/>
            <a:ext cx="1523880" cy="609840"/>
          </a:xfrm>
          <a:prstGeom prst="wedgeRoundRectCallout">
            <a:avLst>
              <a:gd name="adj1" fmla="val 314"/>
              <a:gd name="adj2" fmla="val 70314"/>
              <a:gd name="adj3" fmla="val 16667"/>
            </a:avLst>
          </a:prstGeom>
          <a:gradFill rotWithShape="0">
            <a:gsLst>
              <a:gs pos="0">
                <a:srgbClr val="66ff66"/>
              </a:gs>
              <a:gs pos="50000">
                <a:srgbClr val="d8fed8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129528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START 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CH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Acts 1:4,5,8; 2:1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992720" y="5257800"/>
            <a:ext cx="747000" cy="983520"/>
            <a:chOff x="7992720" y="5257800"/>
            <a:chExt cx="747000" cy="983520"/>
          </a:xfrm>
        </p:grpSpPr>
        <p:sp>
          <p:nvSpPr>
            <p:cNvPr id="98" name=""/>
            <p:cNvSpPr/>
            <p:nvPr/>
          </p:nvSpPr>
          <p:spPr>
            <a:xfrm>
              <a:off x="8229600" y="5257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3027000">
              <a:off x="7946640" y="5691600"/>
              <a:ext cx="838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Rapt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 flipV="1">
            <a:off x="8229600" y="289512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Cloud"/>
          <p:cNvSpPr/>
          <p:nvPr/>
        </p:nvSpPr>
        <p:spPr>
          <a:xfrm>
            <a:off x="7238880" y="1752480"/>
            <a:ext cx="1752840" cy="1067040"/>
          </a:xfrm>
          <a:prstGeom prst="pie">
            <a:avLst/>
          </a:prstGeom>
          <a:gradFill rotWithShape="0">
            <a:gsLst>
              <a:gs pos="0">
                <a:srgbClr val="ffbe7d"/>
              </a:gs>
              <a:gs pos="50000">
                <a:srgbClr val="fef8f2"/>
              </a:gs>
              <a:gs pos="100000">
                <a:srgbClr val="ffbe7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153280" y="1295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91520" y="19810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CHRIST  CO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FOR  HIS  SA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1 Thes 4:13-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2819520"/>
            <a:ext cx="2438280" cy="838080"/>
          </a:xfrm>
          <a:prstGeom prst="wedgeRoundRectCallout">
            <a:avLst>
              <a:gd name="adj1" fmla="val -14972"/>
              <a:gd name="adj2" fmla="val 46402"/>
              <a:gd name="adj3" fmla="val 16667"/>
            </a:avLst>
          </a:prstGeom>
          <a:gradFill rotWithShape="0">
            <a:gsLst>
              <a:gs pos="0">
                <a:srgbClr val="ff99ff"/>
              </a:gs>
              <a:gs pos="50000">
                <a:srgbClr val="fedcfe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2819520"/>
            <a:ext cx="2743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CHRIST  BUIL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HIS  CHURCH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NUMERICALLY - Acts 2:47; 16:5 SPIRITUALLY    - Eph 4:11-1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848720" y="3276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95252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05920" y="29718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SA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334120" y="3733920"/>
            <a:ext cx="2819160" cy="914400"/>
            <a:chOff x="5334120" y="3733920"/>
            <a:chExt cx="2819160" cy="914400"/>
          </a:xfrm>
        </p:grpSpPr>
        <p:sp>
          <p:nvSpPr>
            <p:cNvPr id="110" name=""/>
            <p:cNvSpPr/>
            <p:nvPr/>
          </p:nvSpPr>
          <p:spPr>
            <a:xfrm>
              <a:off x="5334120" y="3733920"/>
              <a:ext cx="2514600" cy="914400"/>
            </a:xfrm>
            <a:prstGeom prst="wedgeRoundRectCallout">
              <a:avLst>
                <a:gd name="adj1" fmla="val -3347"/>
                <a:gd name="adj2" fmla="val 44444"/>
                <a:gd name="adj3" fmla="val 16667"/>
              </a:avLst>
            </a:prstGeom>
            <a:gradFill rotWithShape="0">
              <a:gsLst>
                <a:gs pos="0">
                  <a:srgbClr val="b2dfdf"/>
                </a:gs>
                <a:gs pos="50000">
                  <a:srgbClr val="ccffff"/>
                </a:gs>
                <a:gs pos="100000">
                  <a:srgbClr val="b2dfd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34120" y="3810240"/>
              <a:ext cx="2819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THE  HOLY SPIRIT’S  MINIS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THE  FORMING  OF  CHRIST  IN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THE  LIVES  OF  HIS  PEOPLE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      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- Gal 4:19; Rom 8:29;  2 Cor 3: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792468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95252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52117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Church  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38880" y="5334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952520" y="5334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76920" y="4572000"/>
            <a:ext cx="1066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Tran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eriod Acts 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19:1-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4952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952880" y="4952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34320" y="65530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9 MAR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914400"/>
            <a:ext cx="12193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990720"/>
            <a:ext cx="12193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86600" y="152280"/>
            <a:ext cx="1905120" cy="1067040"/>
          </a:xfrm>
          <a:prstGeom prst="wedgeRoundRectCallout">
            <a:avLst>
              <a:gd name="adj1" fmla="val -5083"/>
              <a:gd name="adj2" fmla="val 44791"/>
              <a:gd name="adj3" fmla="val 16667"/>
            </a:avLst>
          </a:prstGeom>
          <a:gradFill rotWithShape="0">
            <a:gsLst>
              <a:gs pos="0">
                <a:srgbClr val="e7e75c"/>
              </a:gs>
              <a:gs pos="50000">
                <a:srgbClr val="ffff66"/>
              </a:gs>
              <a:gs pos="100000">
                <a:srgbClr val="e7e75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152280"/>
            <a:ext cx="20574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CHR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WILL  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TO  HIMSELF 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CHURCH  BLAMELES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Eph 5: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65451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5120" y="685800"/>
            <a:ext cx="518148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449280"/>
            <a:ext cx="4267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304920"/>
            <a:ext cx="44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 CHURCH :   HER 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8380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HEN  DID  THE  CHURCH  START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295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295280"/>
            <a:ext cx="91440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THE CHURCH WAS NEVER REVEALED IN THE 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THE CHURCH WAS FIRST FORTOLD BY CHRIST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            -  Mt 16: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HE  SAID IT  WOULD START AFTER HIS EARTHLY MINISTRY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- Acts 1:4,5,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THE CHURCH STARTED ON THE DAY OF PENTECOST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- Acts 2:1-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THE CHURCH INCREASED NUMERICALLY VIA THE GOSPEL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- Acts 2:47; 16: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CHRIST IS THE FOUNDER &amp; FOUNDATION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 - Mt 16:18; 1 Cor 3: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DISAGREEMENTS ON THE START OF THE CHU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BY ULTRADISPENSATIONAL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eaches the church started sometime after Pente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Moderates - Some say Acts 9, others say Acts 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(They observe the Lord’s table but not water baptis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Extremes - Acts 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(No observance of Lord’s table or water baptis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aul taught the church started on Pente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believed in Acts 9 &amp;  persecuted the “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church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” prior -1 Cor 15:9; Gal 1:13; Phil 3: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10280" y="656748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9 MAR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65451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0T19:41:24Z</dcterms:created>
  <dc:creator>Hal Molloy</dc:creator>
  <dc:description/>
  <dc:language>en-US</dc:language>
  <cp:lastModifiedBy>Hal Molloy</cp:lastModifiedBy>
  <dcterms:modified xsi:type="dcterms:W3CDTF">2003-11-15T23:23:47Z</dcterms:modified>
  <cp:revision>48</cp:revision>
  <dc:subject/>
  <dc:title>PowerPoint Presentation</dc:title>
</cp:coreProperties>
</file>