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6760" y="6567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371600" y="3809880"/>
            <a:ext cx="441972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791320" y="1295280"/>
            <a:ext cx="274320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TER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19720" y="6400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57000" y="1851120"/>
            <a:ext cx="5491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41  The Sabbath and the Lord's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2  The Gentiles in History and Prophecy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3  Israel in History and Prophec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4  Events Preceding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5  The Great Tribul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6 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7  The Resurrec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8  The Judgment of Israel and the Nation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9  The Millennial Kingdom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0  The Judgment of Satan and Fallen Angel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1  The Judgment of the Great White Throne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2  The New Heaven and the New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380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Millennial King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65674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15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62320" y="9907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436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PENTEC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66528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81756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PREMILLENNIAL 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6320" y="1185840"/>
            <a:ext cx="8915400" cy="4729320"/>
            <a:chOff x="76320" y="1185840"/>
            <a:chExt cx="8915400" cy="4729320"/>
          </a:xfrm>
        </p:grpSpPr>
        <p:sp>
          <p:nvSpPr>
            <p:cNvPr id="51" name=""/>
            <p:cNvSpPr/>
            <p:nvPr/>
          </p:nvSpPr>
          <p:spPr>
            <a:xfrm>
              <a:off x="4343400" y="365760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   </a:t>
              </a:r>
              <a:r>
                <a:rPr b="1" lang="en-US" sz="1000" spc="-1" strike="noStrike">
                  <a:solidFill>
                    <a:srgbClr val="3333cc"/>
                  </a:solidFill>
                  <a:latin typeface="Arial Rounded MT Bold"/>
                </a:rPr>
                <a:t>THE 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 Rounded MT Bold"/>
                </a:rPr>
                <a:t>WITNESS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REV 11:3-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95680" y="2971800"/>
              <a:ext cx="11430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 Rounded MT Bold"/>
                </a:rPr>
                <a:t>  </a:t>
              </a:r>
              <a:r>
                <a:rPr b="1" lang="en-US" sz="1000" spc="-1" strike="noStrike">
                  <a:solidFill>
                    <a:srgbClr val="3333cc"/>
                  </a:solidFill>
                  <a:latin typeface="Arial Rounded MT Bold"/>
                </a:rPr>
                <a:t>TRIBU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 Rounded MT Bold"/>
                </a:rPr>
                <a:t>  </a:t>
              </a:r>
              <a:r>
                <a:rPr b="1" lang="en-US" sz="1000" spc="-1" strike="noStrike">
                  <a:solidFill>
                    <a:srgbClr val="3333cc"/>
                  </a:solidFill>
                  <a:latin typeface="Arial Rounded MT Bold"/>
                </a:rPr>
                <a:t>SAI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REV 20:4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1 COR 15: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15000" y="3124080"/>
              <a:ext cx="10666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 Rounded MT Bold"/>
                </a:rPr>
                <a:t>OL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 Rounded MT Bold"/>
                </a:rPr>
                <a:t>TESTA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 Rounded MT Bold"/>
                </a:rPr>
                <a:t>SAI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DAN 12:1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1 COR 15:23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505320" y="1828800"/>
              <a:ext cx="990360" cy="1066680"/>
              <a:chOff x="3505320" y="1828800"/>
              <a:chExt cx="990360" cy="1066680"/>
            </a:xfrm>
          </p:grpSpPr>
          <p:sp>
            <p:nvSpPr>
              <p:cNvPr id="55" name=""/>
              <p:cNvSpPr/>
              <p:nvPr/>
            </p:nvSpPr>
            <p:spPr>
              <a:xfrm>
                <a:off x="3505320" y="1828800"/>
                <a:ext cx="990360" cy="1066680"/>
              </a:xfrm>
              <a:prstGeom prst="cloudCallout">
                <a:avLst>
                  <a:gd name="adj1" fmla="val 3046"/>
                  <a:gd name="adj2" fmla="val 49555"/>
                </a:avLst>
              </a:prstGeom>
              <a:gradFill rotWithShape="0">
                <a:gsLst>
                  <a:gs pos="0">
                    <a:srgbClr val="66ffff"/>
                  </a:gs>
                  <a:gs pos="50000">
                    <a:srgbClr val="fefefe"/>
                  </a:gs>
                  <a:gs pos="100000">
                    <a:srgbClr val="66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581280" y="1981080"/>
                <a:ext cx="83844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CHRI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COM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FOR  HI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SAIN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3429000" y="4191120"/>
              <a:ext cx="609480" cy="990360"/>
            </a:xfrm>
            <a:custGeom>
              <a:avLst/>
              <a:gdLst>
                <a:gd name="textAreaLeft" fmla="*/ 88920 w 609480"/>
                <a:gd name="textAreaRight" fmla="*/ 540360 w 609480"/>
                <a:gd name="textAreaTop" fmla="*/ 765720 h 990360"/>
                <a:gd name="textAreaBottom" fmla="*/ 87804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9150"/>
                  </a:moveTo>
                  <a:lnTo>
                    <a:pt x="16700" y="19150"/>
                  </a:lnTo>
                  <a:lnTo>
                    <a:pt x="16700" y="3150"/>
                  </a:lnTo>
                  <a:lnTo>
                    <a:pt x="14250" y="3150"/>
                  </a:lnTo>
                  <a:lnTo>
                    <a:pt x="17925" y="0"/>
                  </a:lnTo>
                  <a:lnTo>
                    <a:pt x="21600" y="3150"/>
                  </a:lnTo>
                  <a:lnTo>
                    <a:pt x="19150" y="3150"/>
                  </a:lnTo>
                  <a:lnTo>
                    <a:pt x="1915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38480" y="3749760"/>
              <a:ext cx="152640" cy="1447560"/>
            </a:xfrm>
            <a:prstGeom prst="upArrow">
              <a:avLst>
                <a:gd name="adj1" fmla="val 50000"/>
                <a:gd name="adj2" fmla="val 23708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76720" y="36576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DEAD  IN       CHRI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1 COR 4: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71800" y="434340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ALIVE I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CHRI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1 COR 4: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29000" y="333684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 Rounded MT Bold"/>
                </a:rPr>
                <a:t>THE  CHUR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5400000">
              <a:off x="3999960" y="3314520"/>
              <a:ext cx="76320" cy="6094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1120" y="5638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24280" y="4191120"/>
              <a:ext cx="152640" cy="990360"/>
            </a:xfrm>
            <a:prstGeom prst="upArrow">
              <a:avLst>
                <a:gd name="adj1" fmla="val 50000"/>
                <a:gd name="adj2" fmla="val 162205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10080" y="3200400"/>
              <a:ext cx="152640" cy="1981080"/>
            </a:xfrm>
            <a:prstGeom prst="upArrow">
              <a:avLst>
                <a:gd name="adj1" fmla="val 50000"/>
                <a:gd name="adj2" fmla="val 324469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62720" y="3200400"/>
              <a:ext cx="152280" cy="1981080"/>
            </a:xfrm>
            <a:prstGeom prst="upArrow">
              <a:avLst>
                <a:gd name="adj1" fmla="val 50000"/>
                <a:gd name="adj2" fmla="val 32523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638680" y="2514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72400" y="3962520"/>
              <a:ext cx="1219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 Rounded MT Bold"/>
                </a:rPr>
                <a:t>UNBELIEV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 Rounded MT Bold"/>
                </a:rPr>
                <a:t>DEAD  FR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 Rounded MT Bold"/>
                </a:rPr>
                <a:t>ALL  AG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REV 20:5, 11-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7772400" y="1600200"/>
              <a:ext cx="1189080" cy="1160280"/>
              <a:chOff x="7772400" y="1600200"/>
              <a:chExt cx="1189080" cy="1160280"/>
            </a:xfrm>
          </p:grpSpPr>
          <p:pic>
            <p:nvPicPr>
              <p:cNvPr id="70" name="BD08987_" descr=""/>
              <p:cNvPicPr/>
              <p:nvPr/>
            </p:nvPicPr>
            <p:blipFill>
              <a:blip r:embed="rId1"/>
              <a:srcRect l="16581" t="0" r="8804" b="10675"/>
              <a:stretch/>
            </p:blipFill>
            <p:spPr>
              <a:xfrm>
                <a:off x="8458200" y="1600200"/>
                <a:ext cx="503280" cy="83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7772400" y="1905120"/>
                <a:ext cx="106668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GREAT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 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WHI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THRO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JUDGM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    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REV 20: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685800" y="3352680"/>
              <a:ext cx="144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 Rounded MT Bold"/>
                </a:rPr>
                <a:t>CHRI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THE  FIRST  FRUI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1 COR 15:20-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610160" y="1185840"/>
              <a:ext cx="2019240" cy="1851480"/>
              <a:chOff x="4610160" y="1185840"/>
              <a:chExt cx="2019240" cy="1851480"/>
            </a:xfrm>
          </p:grpSpPr>
          <p:sp>
            <p:nvSpPr>
              <p:cNvPr id="74" name=""/>
              <p:cNvSpPr/>
              <p:nvPr/>
            </p:nvSpPr>
            <p:spPr>
              <a:xfrm rot="2220000">
                <a:off x="4876560" y="1447920"/>
                <a:ext cx="1315800" cy="1326960"/>
              </a:xfrm>
              <a:prstGeom prst="lightningBol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791320" y="1523880"/>
                <a:ext cx="8380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CHRI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COM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WITH HI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SAIN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8839080" y="2590920"/>
              <a:ext cx="152640" cy="2590560"/>
            </a:xfrm>
            <a:prstGeom prst="upArrow">
              <a:avLst>
                <a:gd name="adj1" fmla="val 50000"/>
                <a:gd name="adj2" fmla="val 424292"/>
              </a:avLst>
            </a:prstGeom>
            <a:solidFill>
              <a:srgbClr val="00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67480" y="2819520"/>
              <a:ext cx="14479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 Rounded MT Bold"/>
                </a:rPr>
                <a:t>         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 Rounded MT Bold"/>
                </a:rPr>
                <a:t>F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 Rounded MT Bold"/>
                </a:rPr>
                <a:t>RESURR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( TO   ETER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DEATH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76320" y="3892320"/>
              <a:ext cx="8915400" cy="2022840"/>
              <a:chOff x="76320" y="3892320"/>
              <a:chExt cx="8915400" cy="2022840"/>
            </a:xfrm>
          </p:grpSpPr>
          <p:sp>
            <p:nvSpPr>
              <p:cNvPr id="79" name=""/>
              <p:cNvSpPr/>
              <p:nvPr/>
            </p:nvSpPr>
            <p:spPr>
              <a:xfrm>
                <a:off x="457200" y="5181480"/>
                <a:ext cx="8534520" cy="457200"/>
              </a:xfrm>
              <a:prstGeom prst="rect">
                <a:avLst/>
              </a:prstGeom>
              <a:gradFill rotWithShape="0">
                <a:gsLst>
                  <a:gs pos="0">
                    <a:srgbClr val="a50021"/>
                  </a:gs>
                  <a:gs pos="50000">
                    <a:srgbClr val="f5e7ea"/>
                  </a:gs>
                  <a:gs pos="100000">
                    <a:srgbClr val="a5002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76320" y="3892320"/>
                <a:ext cx="1004400" cy="1309680"/>
                <a:chOff x="76320" y="3892320"/>
                <a:chExt cx="1004400" cy="1309680"/>
              </a:xfrm>
            </p:grpSpPr>
            <p:sp>
              <p:nvSpPr>
                <p:cNvPr id="81" name=""/>
                <p:cNvSpPr/>
                <p:nvPr/>
              </p:nvSpPr>
              <p:spPr>
                <a:xfrm rot="20050200">
                  <a:off x="360000" y="5005080"/>
                  <a:ext cx="36000" cy="140040"/>
                </a:xfrm>
                <a:custGeom>
                  <a:avLst/>
                  <a:gdLst>
                    <a:gd name="textAreaLeft" fmla="*/ 7920 w 36000"/>
                    <a:gd name="textAreaRight" fmla="*/ 28080 w 36000"/>
                    <a:gd name="textAreaTop" fmla="*/ 30600 h 140040"/>
                    <a:gd name="textAreaBottom" fmla="*/ 109440 h 140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76320" y="3892320"/>
                  <a:ext cx="1004400" cy="1309680"/>
                  <a:chOff x="76320" y="3892320"/>
                  <a:chExt cx="1004400" cy="130968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312480" y="4028760"/>
                    <a:ext cx="69480" cy="983160"/>
                  </a:xfrm>
                  <a:custGeom>
                    <a:avLst/>
                    <a:gdLst>
                      <a:gd name="textAreaLeft" fmla="*/ 15120 w 69480"/>
                      <a:gd name="textAreaRight" fmla="*/ 54360 w 69480"/>
                      <a:gd name="textAreaTop" fmla="*/ 216000 h 983160"/>
                      <a:gd name="textAreaBottom" fmla="*/ 767160 h 983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6320" y="4206600"/>
                    <a:ext cx="517680" cy="60840"/>
                  </a:xfrm>
                  <a:custGeom>
                    <a:avLst/>
                    <a:gdLst>
                      <a:gd name="textAreaLeft" fmla="*/ 113760 w 517680"/>
                      <a:gd name="textAreaRight" fmla="*/ 403920 w 517680"/>
                      <a:gd name="textAreaTop" fmla="*/ 13320 h 60840"/>
                      <a:gd name="textAreaBottom" fmla="*/ 47520 h 60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2394200">
                    <a:off x="696240" y="3948480"/>
                    <a:ext cx="60480" cy="1308960"/>
                  </a:xfrm>
                  <a:custGeom>
                    <a:avLst/>
                    <a:gdLst>
                      <a:gd name="textAreaLeft" fmla="*/ 12960 w 60480"/>
                      <a:gd name="textAreaRight" fmla="*/ 47520 w 60480"/>
                      <a:gd name="textAreaTop" fmla="*/ 281160 h 1308960"/>
                      <a:gd name="textAreaBottom" fmla="*/ 1027800 h 1308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393" y="21600"/>
                        </a:lnTo>
                        <a:lnTo>
                          <a:pt x="5207" y="21600"/>
                        </a:lnTo>
                        <a:close/>
                      </a:path>
                    </a:pathLst>
                  </a:custGeom>
                  <a:solidFill>
                    <a:srgbClr val="ff6699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flipV="1">
                    <a:off x="991440" y="3892320"/>
                    <a:ext cx="89280" cy="175680"/>
                  </a:xfrm>
                  <a:prstGeom prst="line">
                    <a:avLst/>
                  </a:prstGeom>
                  <a:ln w="76320">
                    <a:solidFill>
                      <a:srgbClr val="ff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7" name=""/>
              <p:cNvSpPr/>
              <p:nvPr/>
            </p:nvSpPr>
            <p:spPr>
              <a:xfrm>
                <a:off x="1752480" y="5638680"/>
                <a:ext cx="14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CHURCH  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267080" y="5638680"/>
                <a:ext cx="1371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TRIBUL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05720" y="563868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MILLENNIU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57200" y="5638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048120" y="57913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457200" y="579132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4190760" y="57913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486400" y="57913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638680" y="5638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924680" y="579132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638680" y="5791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991720" y="5638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" name=""/>
          <p:cNvSpPr/>
          <p:nvPr/>
        </p:nvSpPr>
        <p:spPr>
          <a:xfrm>
            <a:off x="3870360" y="6553080"/>
            <a:ext cx="10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304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Millennial King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65674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15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68580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hrist’s rule during the Millenn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371600"/>
            <a:ext cx="8610840" cy="49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Christ will rule the entire 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-- and all the nations will stream to it (mountain of the house of the Lord)       Isa. 2: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sk of Me, and I will surely give the nations as Your inheritance, a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very ends of the earth as Your possession                                                                 PS. 2: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at all the peoples, nations and men of every language might serve Him    Dan.7: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Christ will rule with absolute authority and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nd let all kings bow down before him, all nations serve him                           PS. 72: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-- He will rule them with a rod of iron                                                                     Rev. 19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Christ will rule with righteousness and pe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ut with righteousness He will judge the poor                                                     Isa. 11:4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lso righteousness will be the belt about His loins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nd the wolf will dwell with the la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nd the leopard will lie down with the young g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nd the lion will eat straw like the o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nursing child will play by the hole of the c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89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Millennial King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6400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65674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15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68580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srael in the Millennial King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289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Millennial King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60" y="1676520"/>
            <a:ext cx="920700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Israel will be regathered and restored to their land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Jer. 30:3 &amp; 31:8-9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Ezek. 39:25-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Israel will be the subjects of the revived Davidic kingdom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sa. 9:6-7 &amp; 33:17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Jer 23: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Israel and Judah will be united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Jer. 3:18 &amp; 33:14, Ezek 20: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Israel as the wife of Jehovah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sa. 62:2-5, Hos 2:14-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Israel will be in a privileged place above the Gentile believers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sa. 14:1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sa. 49:22-23 &amp; 60:14-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Israel will be spiritually revived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sa. 2:3, 49:22-24 &amp; Isa. 45: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6400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65674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15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05120" y="609480"/>
            <a:ext cx="5181480" cy="6098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Blessing in the Millennial King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89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Millennial King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295280"/>
            <a:ext cx="8305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 period of plenty &amp; peace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Joel 2:18-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Spirit of God poured out on all people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Joel 2:28,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eliverance for those who call upon the Lord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Joel 2: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estoration of Israel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Joel 3: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 time of plenty, blessing &amp; restoration of Israel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Joel 3:18-2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 pure language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Zeph. 3: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eoples to call upon the Lord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Zeph. 3: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eople to serve God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Zeph. 3: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in's shame removed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Zeph. 3: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o pride or arrogance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Zeph. 3: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o more iniquity or lies from Israel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Zeph. 3: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 time of plenty and peace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Zeph. 3: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o more judgment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Zeph. 3: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srael's enemies cast out &amp; Messiah King in their midst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Zeph.  3: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bsence of evil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Zeph. 3: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ejoicing over Israel by the Lord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Zeph. 3: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od's overflowing love manifested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Zeph. 3: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estoration of Israel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Zeph. 3:18-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6400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65674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15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6400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289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Millennial King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9360" y="1600200"/>
          <a:ext cx="8597880" cy="382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600200"/>
                    <a:ext cx="859788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905120" y="609480"/>
            <a:ext cx="5181480" cy="6098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hrist’s Manifesto of the King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65674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15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419720" y="6400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21276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Millennial King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38080" y="1066680"/>
          <a:ext cx="8031240" cy="531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803124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905120" y="45720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hrist’s Manifesto of the King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65674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15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419720" y="6400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289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Millennial King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609480"/>
            <a:ext cx="5181480" cy="6098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hrist’s Manifesto of the King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04920" y="1676520"/>
          <a:ext cx="8592840" cy="34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59284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1676520" y="65674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15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cp:lastPrinted>2003-06-29T04:06:29Z</cp:lastPrinted>
  <dcterms:modified xsi:type="dcterms:W3CDTF">2003-11-15T23:35:40Z</dcterms:modified>
  <cp:revision>72</cp:revision>
  <dc:subject/>
  <dc:title>PowerPoint Presentation</dc:title>
</cp:coreProperties>
</file>