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89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360" y="674280"/>
            <a:ext cx="4500720" cy="33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54856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54856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5C6E-100F-41B6-8343-FDCF78649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9360" y="674640"/>
            <a:ext cx="4500720" cy="3375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re j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apter on God the F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hapters on God the 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pters on God the Spi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9360" y="674640"/>
            <a:ext cx="4500720" cy="3375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120" y="4114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Pre-exist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Direct Statements, B.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Incarn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Fact of Christ’s Humanity, B. Reason for the Incar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Substitutionary Dea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What the Son’s Death Accomplish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llacies Concerning the Son’s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Resur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 A. Resurrection in the Old Testa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Christ’s Prediction of His Own Resurrection, C. Proof of the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asons for the Resurrection, E. Significance of the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Ascension and Priestly Minis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Fact of the Ascension, B.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Arrival in Heaven, C. Meaning of the Ascension, D. Present Work of Chr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en, E. Present Work of Chris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Coming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fo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His Sai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Unfulfilled Prophecy, B. Prophecies of the Raptu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Contrast: Christ Co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is Saints vs. Christ Co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is S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Coming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His Sai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Events Preceding the Second Com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cts Related to Second Coming, C. Second Coming vs. R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4880" y="6400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115080" y="-144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324480"/>
            <a:ext cx="133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5 Sept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5880" y="3808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429000"/>
            <a:ext cx="4343400" cy="380880"/>
          </a:xfrm>
          <a:prstGeom prst="rect">
            <a:avLst/>
          </a:prstGeom>
          <a:gradFill rotWithShape="0">
            <a:gsLst>
              <a:gs pos="0">
                <a:srgbClr val="c47575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99072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78760" y="2057400"/>
            <a:ext cx="269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OMEWORK:  Read Ch.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nswer questions: 5,7,10 &amp;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6477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24280" y="4876920"/>
            <a:ext cx="4114800" cy="1523880"/>
          </a:xfrm>
          <a:prstGeom prst="wedgeRoundRectCallout">
            <a:avLst>
              <a:gd name="adj1" fmla="val -42939"/>
              <a:gd name="adj2" fmla="val -72500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962520"/>
            <a:ext cx="670536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880" y="2666880"/>
            <a:ext cx="146088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-ex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981080"/>
            <a:ext cx="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57400" y="990720"/>
            <a:ext cx="2133360" cy="1218960"/>
            <a:chOff x="2057400" y="990720"/>
            <a:chExt cx="2133360" cy="1218960"/>
          </a:xfrm>
        </p:grpSpPr>
        <p:sp>
          <p:nvSpPr>
            <p:cNvPr id="61" name=""/>
            <p:cNvSpPr/>
            <p:nvPr/>
          </p:nvSpPr>
          <p:spPr>
            <a:xfrm>
              <a:off x="2057400" y="990720"/>
              <a:ext cx="2133360" cy="121896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92560" y="1295280"/>
              <a:ext cx="128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Incar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809880" y="39625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993760" y="4267080"/>
            <a:ext cx="1636200" cy="1676520"/>
            <a:chOff x="2993760" y="4267080"/>
            <a:chExt cx="1636200" cy="1676520"/>
          </a:xfrm>
        </p:grpSpPr>
        <p:sp>
          <p:nvSpPr>
            <p:cNvPr id="65" name=""/>
            <p:cNvSpPr/>
            <p:nvPr/>
          </p:nvSpPr>
          <p:spPr>
            <a:xfrm>
              <a:off x="3505320" y="4267080"/>
              <a:ext cx="609840" cy="1676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8120" y="4572000"/>
              <a:ext cx="1524240" cy="2286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93760" y="4267080"/>
              <a:ext cx="1636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Substitution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De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038480" y="1676520"/>
            <a:ext cx="2133720" cy="1066680"/>
            <a:chOff x="4038480" y="1676520"/>
            <a:chExt cx="2133720" cy="1066680"/>
          </a:xfrm>
        </p:grpSpPr>
        <p:sp>
          <p:nvSpPr>
            <p:cNvPr id="69" name=""/>
            <p:cNvSpPr/>
            <p:nvPr/>
          </p:nvSpPr>
          <p:spPr>
            <a:xfrm>
              <a:off x="4038480" y="1676520"/>
              <a:ext cx="2133720" cy="1066680"/>
            </a:xfrm>
            <a:prstGeom prst="cloudCallout">
              <a:avLst>
                <a:gd name="adj1" fmla="val -8037"/>
                <a:gd name="adj2" fmla="val 2633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6120" y="1904760"/>
              <a:ext cx="190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Asc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&amp; Priestly Min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781680" y="1676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81680" y="34290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31160" y="1066680"/>
            <a:ext cx="143640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048120"/>
            <a:ext cx="8380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16200" y="1981080"/>
            <a:ext cx="1570680" cy="5806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0100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7040" y="35053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3809880"/>
            <a:ext cx="0" cy="381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720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1148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30492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114800"/>
            <a:ext cx="15242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Resu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3962520"/>
            <a:ext cx="533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342900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r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14800" y="4571640"/>
            <a:ext cx="76212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181480" y="274284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4876920"/>
            <a:ext cx="41148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y is it so signific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at are the reasons for Resu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at are the proofs that it happe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72400" y="27612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533520"/>
            <a:ext cx="4648320" cy="6858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y is the Resurrection so significan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280" y="1219320"/>
            <a:ext cx="68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me say “no resurrection of the dead” 1 Cor. 15:12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6600" y="2286000"/>
            <a:ext cx="1652760" cy="580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 resu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13440" y="2286000"/>
            <a:ext cx="1672560" cy="580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hris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ot been ra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74200" y="2286000"/>
            <a:ext cx="1526400" cy="580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ur pre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 fu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720" y="4267080"/>
            <a:ext cx="2062800" cy="580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suming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as not been ra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35800" y="4267080"/>
            <a:ext cx="1102680" cy="580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r fa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 fu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50760" y="4267080"/>
            <a:ext cx="2370600" cy="580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ose fallen asl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Christ have per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6360" y="5334120"/>
            <a:ext cx="1657440" cy="8240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f all 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ost mis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ost pit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8160" y="1752480"/>
            <a:ext cx="31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rgument 1 (v:13 &amp; 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4400" y="3429000"/>
            <a:ext cx="28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rgument 3 (v:17-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71480" y="228600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62400" y="228600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5160" y="2590920"/>
            <a:ext cx="94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46760" y="25909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56800" y="4267080"/>
            <a:ext cx="1276560" cy="580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 are st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your s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5400" y="457200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2120" y="457200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40560" y="457200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4857840"/>
            <a:ext cx="30492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7960" y="3048120"/>
            <a:ext cx="1102680" cy="5806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your fa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 fu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25909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54640" y="49528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2160" y="5715000"/>
            <a:ext cx="2855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ssuming we have h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nly in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71880" y="4191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646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685800"/>
            <a:ext cx="5715000" cy="7621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at are the reasons for the Resurrection ?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5640" y="30492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57200" y="1752480"/>
            <a:ext cx="2819520" cy="2133720"/>
            <a:chOff x="457200" y="1752480"/>
            <a:chExt cx="2819520" cy="2133720"/>
          </a:xfrm>
        </p:grpSpPr>
        <p:sp>
          <p:nvSpPr>
            <p:cNvPr id="120" name=""/>
            <p:cNvSpPr/>
            <p:nvPr/>
          </p:nvSpPr>
          <p:spPr>
            <a:xfrm>
              <a:off x="457200" y="1752480"/>
              <a:ext cx="2819520" cy="2133720"/>
            </a:xfrm>
            <a:prstGeom prst="vertic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7560" y="2438280"/>
              <a:ext cx="1617840" cy="916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hrist aro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becaus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who He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76720" y="1752480"/>
            <a:ext cx="2819160" cy="2133720"/>
            <a:chOff x="3276720" y="1752480"/>
            <a:chExt cx="2819160" cy="2133720"/>
          </a:xfrm>
        </p:grpSpPr>
        <p:sp>
          <p:nvSpPr>
            <p:cNvPr id="123" name=""/>
            <p:cNvSpPr/>
            <p:nvPr/>
          </p:nvSpPr>
          <p:spPr>
            <a:xfrm>
              <a:off x="3276720" y="1752480"/>
              <a:ext cx="2819160" cy="2133720"/>
            </a:xfrm>
            <a:prstGeom prst="vertic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1120" y="2362320"/>
              <a:ext cx="1858680" cy="1191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hrist aro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be the giver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Resurr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Lif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752480" y="4191120"/>
            <a:ext cx="2819520" cy="2133360"/>
            <a:chOff x="1752480" y="4191120"/>
            <a:chExt cx="2819520" cy="2133360"/>
          </a:xfrm>
        </p:grpSpPr>
        <p:sp>
          <p:nvSpPr>
            <p:cNvPr id="126" name=""/>
            <p:cNvSpPr/>
            <p:nvPr/>
          </p:nvSpPr>
          <p:spPr>
            <a:xfrm>
              <a:off x="1752480" y="4191120"/>
              <a:ext cx="2819520" cy="2133360"/>
            </a:xfrm>
            <a:prstGeom prst="vertic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79000" y="4648320"/>
              <a:ext cx="2198520" cy="1465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hrist arose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He might bec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sourc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Resurrec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876920" y="4191120"/>
            <a:ext cx="2819160" cy="2133360"/>
            <a:chOff x="4876920" y="4191120"/>
            <a:chExt cx="2819160" cy="2133360"/>
          </a:xfrm>
        </p:grpSpPr>
        <p:sp>
          <p:nvSpPr>
            <p:cNvPr id="129" name=""/>
            <p:cNvSpPr/>
            <p:nvPr/>
          </p:nvSpPr>
          <p:spPr>
            <a:xfrm>
              <a:off x="4876920" y="4191120"/>
              <a:ext cx="2819160" cy="2133360"/>
            </a:xfrm>
            <a:prstGeom prst="vertic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72120" y="4800600"/>
              <a:ext cx="2198520" cy="1191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hrist arose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he first fr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Resurr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172200" y="1752480"/>
            <a:ext cx="2819160" cy="2133720"/>
            <a:chOff x="6172200" y="1752480"/>
            <a:chExt cx="2819160" cy="2133720"/>
          </a:xfrm>
        </p:grpSpPr>
        <p:sp>
          <p:nvSpPr>
            <p:cNvPr id="132" name=""/>
            <p:cNvSpPr/>
            <p:nvPr/>
          </p:nvSpPr>
          <p:spPr>
            <a:xfrm>
              <a:off x="6172200" y="1752480"/>
              <a:ext cx="2819160" cy="2133720"/>
            </a:xfrm>
            <a:prstGeom prst="vertic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65680" y="2362320"/>
              <a:ext cx="2000520" cy="916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hrist aro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fulfill God’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Eternal Purp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685800"/>
            <a:ext cx="5715000" cy="7621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at are the reasons for the Resurrection ?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5640" y="30492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1280" y="1447920"/>
            <a:ext cx="7821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Christ arose because of who H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cts 2:24 And God raised Him up again putting a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the agony of death --- it was impossible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m to be held in its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om 1:4 ---declared to be the Son of God with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y the resurrection from the 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Christ arose to be the giver of Resurrection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om 7:4 --- were made to die to Law through the body of Chri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at you might be joined to another, to Him who w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aised from the dead that we might bear fruit to G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l 3:1-4 If then you have been raised up with Christ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you have died and your life is hidden with Christ in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 When Christ, who is our life, is revealed, then you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 revealed with Him in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65451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685800"/>
            <a:ext cx="5638680" cy="7621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hat are the reasons for the Resurrection ?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75640" y="30492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" y="1471680"/>
            <a:ext cx="799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Christ arose to fulfill God’s Eternal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’s Eternal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declare Hi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reveal Hi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share Hi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 be Glor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 Resurrection is proof that our sins are forgiv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d we are justified by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om. 4:22-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r faith has been reckoned as righteou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put to death because of our transg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rist raised to secure our jus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r identification (union) with Christ is required to share Hi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ph.  2:5-6 --- made us alive together with Christ and raised u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ith Him in the heavenly places in Christ Je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l. 2:12  --- buried with Him in baptism, in which you were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aised up with Him through fa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6469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990720"/>
            <a:ext cx="5715000" cy="7617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are the reasons for the Resurrection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89480" y="53352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240" y="2057400"/>
            <a:ext cx="77500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Christ arose that He might become the source of Resurrection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ph. 1:19 and what is the surpassing greatness of His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ward us who believe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:20 which He brought about in Christ when He raised H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rom the dead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om. 6:4 --- as Christ was raised from the dead through the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f the Father, so we too might walk in newness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Christ arose to be the firstfruits of the Resu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 Cor. 15:20-23 But now Christ has been raised from the d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first fruits of those who are asl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---- those who are Christ’s at His co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hil. 3:21 --- will transform the body of our humble state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nformity with the body of His gl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477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65920" y="2590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533520"/>
            <a:ext cx="4952880" cy="7617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are the proofs of the Resurrec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72400" y="27612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0520" y="1295280"/>
            <a:ext cx="49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7 Appearances after the Resu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1676520"/>
          <a:ext cx="612612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12612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26708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65920" y="2590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33520"/>
            <a:ext cx="4952880" cy="7617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are the proofs of the Resurrec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2400" y="27612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Son: His Resu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59480" y="1295280"/>
            <a:ext cx="63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7 Appearances after the Resurrection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43000" y="1752480"/>
          <a:ext cx="6126120" cy="40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12612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1911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2:21:06Z</dcterms:created>
  <dc:creator>Roger Henderson</dc:creator>
  <dc:description/>
  <dc:language>en-US</dc:language>
  <cp:lastModifiedBy>Hal Molloy</cp:lastModifiedBy>
  <cp:lastPrinted>2002-09-15T02:04:18Z</cp:lastPrinted>
  <dcterms:modified xsi:type="dcterms:W3CDTF">2003-11-15T22:54:39Z</dcterms:modified>
  <cp:revision>112</cp:revision>
  <dc:subject/>
  <dc:title>No Slide Title</dc:title>
</cp:coreProperties>
</file>