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74120" y="6477120"/>
            <a:ext cx="120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7 November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6248520"/>
            <a:ext cx="449568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664380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752480"/>
            <a:ext cx="2895480" cy="55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Questions: 1, 2 and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80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MANIFESTS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37720" y="5410080"/>
            <a:ext cx="1590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Note we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be using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outline on ch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to cover the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in Chapters 16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486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48520" y="594324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5486400"/>
            <a:ext cx="8610480" cy="533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HIS  MINISTRIES  TO  THE  CHURC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600" y="1295280"/>
            <a:ext cx="74682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SHARE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 GLORY  WIT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Call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Chose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Regenerat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Baptiz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SHARE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the Holy Spirit Shares Christ’s Glory through Trial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Fill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REVEAL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the Holy Spirit Reveals Christ’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Guid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Teach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GLORIFIE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THE FATHER &amp; SON IN YOU &amp; THROUGH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4572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HIS  MINISTRIES  TO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15960"/>
            <a:ext cx="91440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GLORIFIES  THE  FATHER  &amp;  SON  IN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 MANIFESTS  IN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FRUIT  OF  THE  SPIRIT                            -  JN 15:1-5,8; GAL 5:22-23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COR 6:4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GLORY OF JESUS 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-  JN 16:14; 2 COR 3:1-11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MANIFESTS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560" y="1447920"/>
            <a:ext cx="745884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Definition of “manif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haneroo - to make visible, clear,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uncover, lay bare, rev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bearing of fruit that glorifies God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JN 15:1-5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am the true V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y Father is the Vinedresser (tiller of the so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ery branch in Me that does not bear fruit He takes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ery branch that bears fruit He prune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You are already clean because of the word which I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poke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248520" y="990720"/>
          <a:ext cx="2720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990720"/>
                    <a:ext cx="272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8720" y="1295280"/>
            <a:ext cx="662436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bearing of fruit that glorifies God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JN 15:1-5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ide in Me and I in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s the branch cannot bear fruit of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nless it abides in the V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neither can you unless you abide in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y this is My Father glori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you bear much f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 prove to be My dis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fruit of the Spirit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Gal 5:22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ove, Joy, Pe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atience, Kindness, Goo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aithfulness, Gentleness, Self-control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MANIFESTS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72200" y="1752480"/>
          <a:ext cx="2720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752480"/>
                    <a:ext cx="272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MANIFESTS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5880" y="1371600"/>
            <a:ext cx="753264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 Glory of  Jesus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 Cor. 3:1-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2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You are our le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 written in our hea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 known and read by all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3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- being manifested that you are a letter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written not with 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written with Spirit of the living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not on tablets of 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but on tablets of human he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5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not adequate in our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our adequacy is from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7- 8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ministry of death came with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the ministry of the Spirit --- even more glori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0" y="1295280"/>
          <a:ext cx="18288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295280"/>
                    <a:ext cx="18288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8160" y="1447920"/>
            <a:ext cx="6031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The  Glory of  Jesus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 Cor. 3:9 -11 &amp;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ministry of condemnation ha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ministry of righteousness abounds in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hich fades was with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hich remains is in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we) with unveiled 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we) beholding as in a mirror the glory of the L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we) are being transformed into the sam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glory to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the Lord the Spir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MANIFESTS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1-16T16:54:38Z</cp:lastPrinted>
  <dcterms:modified xsi:type="dcterms:W3CDTF">2003-11-15T23:02:38Z</dcterms:modified>
  <cp:revision>80</cp:revision>
  <dc:subject/>
  <dc:title>PowerPoint Presentation</dc:title>
</cp:coreProperties>
</file>