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09D9-1F12-4820-811D-6FE7023DE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DEFINI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Verbal:  The Holy Spirit guided in the choice of the words in the original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Scriptur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 Rounded MT Bold"/>
              </a:rPr>
              <a:t>Plenary: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Means fully inspired (all the words) and not just most of the word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 Rounded MT Bold"/>
              </a:rPr>
              <a:t>Infallible: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Impossible of error, thus it cannot mislead, deceive or disappoi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 Rounded MT Bold"/>
              </a:rPr>
              <a:t>Inerrant (unlimited):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The entire original scripture is truth &amp; contains no err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 Rounded MT Bold"/>
              </a:rPr>
              <a:t>Concept View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:  The heresy that God inspired the concepts &amp; not the word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 Rounded MT Bold"/>
              </a:rPr>
              <a:t>Partial View: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The heresy that only parts of the Bible are inspir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 Rounded MT Bold"/>
              </a:rPr>
              <a:t>Neo-orthodox View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:  The 20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 Rounded MT Bold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century heresy saying there are errors in the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Bible and it is not literally true. Truth is dependent on the individual read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 Rounded MT Bold"/>
              </a:rPr>
              <a:t>Naturalistic View: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The heresy that the Bible is strictly a human production and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is not the Word of God.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92096-2EF0-46DD-AA67-049B68C81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D26F1-8043-4BC8-81C2-040D19496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9F7A6-4EC4-4D7E-946A-7C37371D2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2D8FA-785F-412F-8E66-0440A1BE1F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1457D-D618-400E-A926-407CE9C41D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9F33E-23EA-460C-8CFE-A0302DFAA9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FEBA7-6531-407A-9EB7-F66E74704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51D58-F780-4D3D-9674-701B00417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31F3E-8FD4-484E-8A81-2DE996143B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6B0D0-7D16-4C1C-A235-F307378BF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E6F4C-5806-4CFF-BC88-A97AD087F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C924D-53AE-4075-9781-002C101B3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53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348D-CAE2-42A4-8374-D9B6CD4D0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640548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468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122280" y="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3880" y="1371600"/>
            <a:ext cx="4191120" cy="304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ee2f0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0440" y="330120"/>
            <a:ext cx="44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ble:  The Word of G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1143000"/>
            <a:ext cx="609588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I.  The Bible: The Word of God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2. The Bible: Inspired of G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3. The Bible: Its Subject and Purpose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4. The Bible: As a Divine Revelation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.  God theTrin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6.  God the Fathe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7.  God the Son: His Deity and Eternity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8.  God the Son: His Incarn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9.  God the Son: His Substitutionary Death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0. God the Son: His Resurrection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1. God the Son: His Ascension and Priestly Mini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2. God the Son: His Coming for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3. God the Son: His Coming With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4. God the Holy Spirit: His Personalit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5. God the Holy Spirit: His Advent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6. God the Holy Spirit: His Regener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7. God the Holy Spirit: His Indwelling and Sea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8. God the Holy Spirit: His Baptism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9. God the Holy Spirit: His Filling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63244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1 JULY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1752480"/>
            <a:ext cx="2666880" cy="832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HOMEWORK: READ CHAP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 Rounded MT Bold"/>
              </a:rPr>
              <a:t>ANSWER QUESTIONS: 1,3,8,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632448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5867280"/>
            <a:ext cx="3262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4572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THE  BIBLE :   INSPIRED  OF 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6324480"/>
            <a:ext cx="16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1 JULY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1523880"/>
            <a:ext cx="3048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REVELATION:  GOD REVEALS WHO HE I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HIS PURPOSES &amp;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590920"/>
            <a:ext cx="28195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INSPIRATION:  GUARANTEES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REVELATION OF GOD BY WO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USING THE  AUTHORS AS A VES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28600" y="1066680"/>
            <a:ext cx="8152920" cy="5410440"/>
            <a:chOff x="228600" y="1066680"/>
            <a:chExt cx="8152920" cy="5410440"/>
          </a:xfrm>
        </p:grpSpPr>
        <p:sp>
          <p:nvSpPr>
            <p:cNvPr id="64" name=""/>
            <p:cNvSpPr/>
            <p:nvPr/>
          </p:nvSpPr>
          <p:spPr>
            <a:xfrm>
              <a:off x="228600" y="1371600"/>
              <a:ext cx="37339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INSPIRATION  OF  SCRIPTUR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-  2TIM 3:16; 2PET 1:21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228600" y="1066680"/>
              <a:ext cx="8152920" cy="5410440"/>
              <a:chOff x="228600" y="1066680"/>
              <a:chExt cx="8152920" cy="541044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228600" y="1066680"/>
                <a:ext cx="8152920" cy="3953520"/>
                <a:chOff x="228600" y="1066680"/>
                <a:chExt cx="8152920" cy="395352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4269600" y="3078000"/>
                  <a:ext cx="2339280" cy="485280"/>
                </a:xfrm>
                <a:prstGeom prst="ellipse">
                  <a:avLst/>
                </a:prstGeom>
                <a:solidFill>
                  <a:srgbClr val="66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333040" y="2107080"/>
                  <a:ext cx="2126880" cy="485280"/>
                </a:xfrm>
                <a:prstGeom prst="ellipse">
                  <a:avLst/>
                </a:prstGeom>
                <a:solidFill>
                  <a:srgbClr val="ff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907520" y="2107080"/>
                  <a:ext cx="2126880" cy="485280"/>
                </a:xfrm>
                <a:prstGeom prst="ellipse">
                  <a:avLst/>
                </a:prstGeom>
                <a:solidFill>
                  <a:srgbClr val="ff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4269600" y="2107080"/>
                  <a:ext cx="2126880" cy="485280"/>
                </a:xfrm>
                <a:prstGeom prst="ellipse">
                  <a:avLst/>
                </a:prstGeom>
                <a:solidFill>
                  <a:srgbClr val="ff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702600" y="2107080"/>
                  <a:ext cx="2126880" cy="485280"/>
                </a:xfrm>
                <a:prstGeom prst="ellipse">
                  <a:avLst/>
                </a:prstGeom>
                <a:solidFill>
                  <a:srgbClr val="ff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418920" y="2107080"/>
                  <a:ext cx="1843200" cy="485280"/>
                </a:xfrm>
                <a:prstGeom prst="ellipse">
                  <a:avLst/>
                </a:prstGeom>
                <a:solidFill>
                  <a:srgbClr val="ff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844080" y="2176200"/>
                  <a:ext cx="1345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 Rounded MT Bold"/>
                    </a:rPr>
                    <a:t>AUTHO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915360" y="1066680"/>
                  <a:ext cx="2977560" cy="485280"/>
                </a:xfrm>
                <a:prstGeom prst="ellipse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989960" y="1135800"/>
                  <a:ext cx="869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Rounded MT Bold"/>
                    </a:rPr>
                    <a:t>GO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83200" y="3771720"/>
                  <a:ext cx="7514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83200" y="4534560"/>
                  <a:ext cx="7585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766040" y="3162960"/>
                  <a:ext cx="2354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Rounded MT Bold"/>
                    </a:rPr>
                    <a:t>SCRIPTUR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900400" y="3787200"/>
                  <a:ext cx="2481120" cy="83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 Rounded MT Bold"/>
                    </a:rPr>
                    <a:t>                                   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 Rounded MT Bold"/>
                    </a:rPr>
                    <a:t>LANGUA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 Rounded MT Bold"/>
                    </a:rPr>
                    <a:t>BARRIERS :            HISTORIC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 Rounded MT Bold"/>
                    </a:rPr>
                    <a:t>                                    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 Rounded MT Bold"/>
                    </a:rPr>
                    <a:t>CULTUR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03960" y="155196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403960" y="2592360"/>
                  <a:ext cx="0" cy="48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228600" y="2661840"/>
                  <a:ext cx="1701360" cy="416160"/>
                </a:xfrm>
                <a:prstGeom prst="ellipse">
                  <a:avLst/>
                </a:prstGeom>
                <a:solidFill>
                  <a:srgbClr val="cc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0440" y="2800440"/>
                  <a:ext cx="1701360" cy="416160"/>
                </a:xfrm>
                <a:prstGeom prst="ellipse">
                  <a:avLst/>
                </a:prstGeom>
                <a:solidFill>
                  <a:srgbClr val="cc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12280" y="2939400"/>
                  <a:ext cx="1701360" cy="416160"/>
                </a:xfrm>
                <a:prstGeom prst="ellipse">
                  <a:avLst/>
                </a:prstGeom>
                <a:solidFill>
                  <a:srgbClr val="cc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53760" y="3078000"/>
                  <a:ext cx="1701360" cy="416160"/>
                </a:xfrm>
                <a:prstGeom prst="ellipse">
                  <a:avLst/>
                </a:prstGeom>
                <a:solidFill>
                  <a:srgbClr val="cc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95960" y="3216600"/>
                  <a:ext cx="1701360" cy="416160"/>
                </a:xfrm>
                <a:prstGeom prst="ellipse">
                  <a:avLst/>
                </a:prstGeom>
                <a:solidFill>
                  <a:srgbClr val="cc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H="1">
                  <a:off x="2497320" y="3355560"/>
                  <a:ext cx="177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1221120" y="3286080"/>
                  <a:ext cx="127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Rounded MT Bold"/>
                    </a:rPr>
                    <a:t>COPI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" name=""/>
                <p:cNvGrpSpPr/>
                <p:nvPr/>
              </p:nvGrpSpPr>
              <p:grpSpPr>
                <a:xfrm>
                  <a:off x="3773520" y="4604040"/>
                  <a:ext cx="3615120" cy="416160"/>
                  <a:chOff x="3773520" y="4604040"/>
                  <a:chExt cx="3615120" cy="416160"/>
                </a:xfrm>
              </p:grpSpPr>
              <p:grpSp>
                <p:nvGrpSpPr>
                  <p:cNvPr id="90" name=""/>
                  <p:cNvGrpSpPr/>
                  <p:nvPr/>
                </p:nvGrpSpPr>
                <p:grpSpPr>
                  <a:xfrm>
                    <a:off x="3773520" y="4604040"/>
                    <a:ext cx="3543840" cy="416160"/>
                    <a:chOff x="3773520" y="4604040"/>
                    <a:chExt cx="3543840" cy="416160"/>
                  </a:xfrm>
                </p:grpSpPr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3773520" y="4604040"/>
                      <a:ext cx="2338920" cy="4161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4056840" y="4604040"/>
                      <a:ext cx="2338920" cy="4161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4340160" y="4604040"/>
                      <a:ext cx="2338920" cy="4161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4552920" y="4604040"/>
                      <a:ext cx="2338920" cy="4161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4978440" y="4604040"/>
                      <a:ext cx="2338920" cy="4161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6" name=""/>
                  <p:cNvSpPr/>
                  <p:nvPr/>
                </p:nvSpPr>
                <p:spPr>
                  <a:xfrm>
                    <a:off x="5403600" y="4673160"/>
                    <a:ext cx="1985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 Rounded MT Bold"/>
                      </a:rPr>
                      <a:t>TRANSLATION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7" name=""/>
              <p:cNvSpPr/>
              <p:nvPr/>
            </p:nvSpPr>
            <p:spPr>
              <a:xfrm flipH="1" flipV="1">
                <a:off x="1646640" y="3632760"/>
                <a:ext cx="2126880" cy="11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40520" y="5505480"/>
                <a:ext cx="2693880" cy="34704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907520" y="5505480"/>
                <a:ext cx="212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INTERPRET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553280" y="6130080"/>
                <a:ext cx="2481120" cy="34704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262480" y="6131520"/>
                <a:ext cx="1275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DOCTRI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flipV="1">
                <a:off x="1433880" y="3632760"/>
                <a:ext cx="2906640" cy="208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687640" y="5852520"/>
                <a:ext cx="0" cy="27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 flipV="1">
              <a:off x="7010280" y="4495680"/>
              <a:ext cx="638280" cy="11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5715000" y="5029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7238880" y="457164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410080" y="2743200"/>
              <a:ext cx="10670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5486040" y="1752480"/>
              <a:ext cx="6094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41972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66680" y="990720"/>
            <a:ext cx="2133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VIEWS   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NS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80880" y="1295280"/>
            <a:ext cx="8762760" cy="5867280"/>
            <a:chOff x="380880" y="1295280"/>
            <a:chExt cx="8762760" cy="5867280"/>
          </a:xfrm>
        </p:grpSpPr>
        <p:grpSp>
          <p:nvGrpSpPr>
            <p:cNvPr id="113" name=""/>
            <p:cNvGrpSpPr/>
            <p:nvPr/>
          </p:nvGrpSpPr>
          <p:grpSpPr>
            <a:xfrm>
              <a:off x="380880" y="1295280"/>
              <a:ext cx="8762760" cy="5867280"/>
              <a:chOff x="380880" y="1295280"/>
              <a:chExt cx="8762760" cy="5867280"/>
            </a:xfrm>
          </p:grpSpPr>
          <p:sp>
            <p:nvSpPr>
              <p:cNvPr id="114" name=""/>
              <p:cNvSpPr/>
              <p:nvPr/>
            </p:nvSpPr>
            <p:spPr>
              <a:xfrm>
                <a:off x="7391160" y="2593800"/>
                <a:ext cx="1219320" cy="1069200"/>
              </a:xfrm>
              <a:prstGeom prst="ellipse">
                <a:avLst/>
              </a:prstGeom>
              <a:gradFill rotWithShape="0">
                <a:gsLst>
                  <a:gs pos="0">
                    <a:srgbClr val="a5ecda"/>
                  </a:gs>
                  <a:gs pos="100000">
                    <a:srgbClr val="00cc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38080" y="2517120"/>
                <a:ext cx="1218960" cy="106956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1f131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943240" y="3433680"/>
                <a:ext cx="1219320" cy="1069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99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85640" y="3587040"/>
                <a:ext cx="1219320" cy="106920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b16a8d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190760" y="3892320"/>
                <a:ext cx="1219320" cy="1069560"/>
              </a:xfrm>
              <a:prstGeom prst="ellipse">
                <a:avLst/>
              </a:prstGeom>
              <a:gradFill rotWithShape="0">
                <a:gsLst>
                  <a:gs pos="0">
                    <a:srgbClr val="feeaf4"/>
                  </a:gs>
                  <a:gs pos="100000">
                    <a:srgbClr val="ff99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724280" y="1600560"/>
                <a:ext cx="1523880" cy="190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724280" y="1600560"/>
                <a:ext cx="75960" cy="229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3123720" y="1600560"/>
                <a:ext cx="1600200" cy="206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1904760" y="1600560"/>
                <a:ext cx="2819520" cy="114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724280" y="1600560"/>
                <a:ext cx="2819160" cy="12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09880" y="1295280"/>
                <a:ext cx="211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Rounded MT Bold"/>
                  </a:rPr>
                  <a:t>[ THE  BIBLE 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467480" y="3816000"/>
                <a:ext cx="137160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 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INSPIR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WORD OF GO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60" y="3816000"/>
                <a:ext cx="144792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  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NOT 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WORD  OF  GO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895480" y="4885560"/>
                <a:ext cx="0" cy="61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705360" y="4808880"/>
                <a:ext cx="0" cy="6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4960" y="4961880"/>
                <a:ext cx="274320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CONTAINS  THE  WORD  OF  GO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53280" y="4732920"/>
                <a:ext cx="0" cy="61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47560" y="4885560"/>
                <a:ext cx="0" cy="61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467480" y="5496480"/>
                <a:ext cx="167616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VERBAL, PLENA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INSPIRATION VIE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248160" y="5496480"/>
                <a:ext cx="99072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CONCEP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VIE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19360" y="5480640"/>
                <a:ext cx="99072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PARTI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VIE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209680" y="5496480"/>
                <a:ext cx="144756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NEOORTHODO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      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VIE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61760" y="5496480"/>
                <a:ext cx="137160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NATURALIST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     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VIE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0880" y="6948000"/>
                <a:ext cx="4267080" cy="21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6172200" y="510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971440" y="5105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625840" y="45720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Rounded MT Bold"/>
              </a:rPr>
              <a:t>THE  BIBLE :   INSPIRED   OF  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632448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1 JULY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6469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362320" y="304920"/>
            <a:ext cx="449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685800"/>
            <a:ext cx="3353040" cy="609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cc"/>
              </a:gs>
              <a:gs pos="50000">
                <a:srgbClr val="ff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8380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DEFIN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371600"/>
            <a:ext cx="8610480" cy="54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Verbal: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The Holy Spirit guided in the choice of the words in the original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Scriptu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Plenary: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 Means fully inspired (all the words) and not just most of the wor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Infallible: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Impossible of error, thus it cannot mislead, deceive or disappo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Inerrant (unlimited):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The entire original scripture is truth &amp; contains no err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Concept View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:    The heresy that God inspired the concepts &amp; not the wor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Partial View: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The heresy that only parts of the Bible are inspir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Neo-orthodox View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:    The 2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Rounded MT Bold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century heresy saying there are errors in the   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Bible and it is not literally true. Truth is depend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on the individual read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Naturalistic View: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The heresy that the Bible is strictly a human production and 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is not the Word of God.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65530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64771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21 JULY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9:41:24Z</dcterms:created>
  <dc:creator>Hal Molloy</dc:creator>
  <dc:description/>
  <dc:language>en-US</dc:language>
  <cp:lastModifiedBy>Hal Molloy</cp:lastModifiedBy>
  <dcterms:modified xsi:type="dcterms:W3CDTF">2003-11-15T22:21:09Z</dcterms:modified>
  <cp:revision>14</cp:revision>
  <dc:subject/>
  <dc:title>PowerPoint Presentation</dc:title>
</cp:coreProperties>
</file>