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89963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8996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2"/>
          </p:nvPr>
        </p:nvSpPr>
        <p:spPr>
          <a:xfrm>
            <a:off x="3885840" y="0"/>
            <a:ext cx="29718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79360" y="674280"/>
            <a:ext cx="4500720" cy="3375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8" name="PlaceHolder 4"/>
          <p:cNvSpPr>
            <a:spLocks noGrp="1"/>
          </p:cNvSpPr>
          <p:nvPr>
            <p:ph type="body"/>
          </p:nvPr>
        </p:nvSpPr>
        <p:spPr>
          <a:xfrm>
            <a:off x="914400" y="4273200"/>
            <a:ext cx="5029200" cy="404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3"/>
          </p:nvPr>
        </p:nvSpPr>
        <p:spPr>
          <a:xfrm>
            <a:off x="-360" y="8548560"/>
            <a:ext cx="29718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4"/>
          </p:nvPr>
        </p:nvSpPr>
        <p:spPr>
          <a:xfrm>
            <a:off x="3885840" y="8548560"/>
            <a:ext cx="29718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91F15-09F8-4321-8EEC-37B8C843CB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79360" y="674640"/>
            <a:ext cx="4500720" cy="3375000"/>
          </a:xfrm>
          <a:prstGeom prst="rect">
            <a:avLst/>
          </a:prstGeom>
          <a:ln w="0">
            <a:noFill/>
          </a:ln>
        </p:spPr>
      </p:sp>
      <p:sp>
        <p:nvSpPr>
          <p:cNvPr id="134" name="PlaceHolder 2"/>
          <p:cNvSpPr>
            <a:spLocks noGrp="1"/>
          </p:cNvSpPr>
          <p:nvPr>
            <p:ph type="body"/>
          </p:nvPr>
        </p:nvSpPr>
        <p:spPr>
          <a:xfrm>
            <a:off x="914400" y="4273200"/>
            <a:ext cx="5029200" cy="404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death of Christ assures us of the love of God toward the si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death of Christ is said to be a Redemption or Ransom paid to the holy      demands of God for the si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death of Christ is represented on His part as an act of obedience to the law which sinners have bro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The death of Christ was a priestly mediation by which the world was reconciled unto G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The death of Christ removed all moral hindrances in the mind of God to the saving of sin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Christ, in His death, became the Substitute bearing the penalty belonging to the si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79360" y="674640"/>
            <a:ext cx="4500720" cy="3375000"/>
          </a:xfrm>
          <a:prstGeom prst="rect">
            <a:avLst/>
          </a:prstGeom>
          <a:ln w="0">
            <a:noFill/>
          </a:ln>
        </p:spPr>
      </p:sp>
      <p:sp>
        <p:nvSpPr>
          <p:cNvPr id="136" name="PlaceHolder 2"/>
          <p:cNvSpPr>
            <a:spLocks noGrp="1"/>
          </p:cNvSpPr>
          <p:nvPr>
            <p:ph type="body"/>
          </p:nvPr>
        </p:nvSpPr>
        <p:spPr>
          <a:xfrm>
            <a:off x="914400" y="4273200"/>
            <a:ext cx="5029200" cy="404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uest New Testa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3:16  For in such a manner did God love the world, insomuch that His Son, the uniquely-begotten One, He gave, in order that everyone who places his trust in Him may not perish but may be having life ete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s 5:8  But God is constantly proving His own love to us, because while we were yet sinners, Christ in behalf of us d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John 4:9  In this was clearly shown the love of God in our case, because His Son, the uniquely-begotten One, God sent off into the world on a mission in order that we may live through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79360" y="674640"/>
            <a:ext cx="4500720" cy="3375000"/>
          </a:xfrm>
          <a:prstGeom prst="rect">
            <a:avLst/>
          </a:prstGeom>
          <a:ln w="0">
            <a:noFill/>
          </a:ln>
        </p:spPr>
      </p:sp>
      <p:sp>
        <p:nvSpPr>
          <p:cNvPr id="138" name="PlaceHolder 2"/>
          <p:cNvSpPr>
            <a:spLocks noGrp="1"/>
          </p:cNvSpPr>
          <p:nvPr>
            <p:ph type="body"/>
          </p:nvPr>
        </p:nvSpPr>
        <p:spPr>
          <a:xfrm>
            <a:off x="914400" y="4273200"/>
            <a:ext cx="5029200" cy="404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uest New Testa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3:18  He who places his trust in Him is not being judged.  He who is not believing, has been judged already, and is as a result under judgment, because he has not put his trust in the Name of the uniquely-begotten Son of God, with the result that he is in a state of unbeli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s 6:23  For the subsistence pay which the sinful nature doles out is death.  But the free gift of God is life eternal in Christ Jesus our L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atians 3:13  Christ delivered us by the payment of ransom from the curse of the law by becoming a curse in behalf of us, because it stands written, Accursed is everyone who is suspended upon a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79360" y="674640"/>
            <a:ext cx="4500720" cy="3375000"/>
          </a:xfrm>
          <a:prstGeom prst="rect">
            <a:avLst/>
          </a:prstGeom>
          <a:ln w="0">
            <a:noFill/>
          </a:ln>
        </p:spPr>
      </p:sp>
      <p:sp>
        <p:nvSpPr>
          <p:cNvPr id="140" name="PlaceHolder 2"/>
          <p:cNvSpPr>
            <a:spLocks noGrp="1"/>
          </p:cNvSpPr>
          <p:nvPr>
            <p:ph type="body"/>
          </p:nvPr>
        </p:nvSpPr>
        <p:spPr>
          <a:xfrm>
            <a:off x="914400" y="4273200"/>
            <a:ext cx="5029200" cy="404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uest New Testa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rinthians 15:3  For I delivered to you among the first things that which also I received, that Christ died on behalf of our sins according to the scrip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John 1:10  If we say that we have not sinned and are now in a state where we do not sin, a liar we are making Him, and His word is not in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John 1:8  If we say that [indwelling] sin we are not having, ourselves we are leading astray [nobody else], and the truth is not in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s 6:10  For the death He died, He died with respect to our sinful nature once for all.  But the life He lives, He lives with respect to Go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79360" y="674640"/>
            <a:ext cx="4500720" cy="3375000"/>
          </a:xfrm>
          <a:prstGeom prst="rect">
            <a:avLst/>
          </a:prstGeom>
          <a:ln w="0">
            <a:noFill/>
          </a:ln>
        </p:spPr>
      </p:sp>
      <p:sp>
        <p:nvSpPr>
          <p:cNvPr id="142" name="PlaceHolder 2"/>
          <p:cNvSpPr>
            <a:spLocks noGrp="1"/>
          </p:cNvSpPr>
          <p:nvPr>
            <p:ph type="body"/>
          </p:nvPr>
        </p:nvSpPr>
        <p:spPr>
          <a:xfrm>
            <a:off x="914400" y="4273200"/>
            <a:ext cx="5029200" cy="404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uest New Testa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10:11  I alone am the shepherd, the good one.  The shepherd, the good one, lays down his life on behalf of and instead of the she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s 5:6&amp;8  For when we were yet without strength, in a strategic season Christ instead of and in behalf of those who do not have reverence for God and are devoid of piety d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ut God is constantly proving His own love to us, because while we were yet sinners, Christ in behalf of us d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eter 3:18  Because Christ also died once for all in relation to sins, a just One on behalf of unjust ones, in order that He might provide you with an entrée (entrance) into the presence of God, having in fact been put to death with respect to the flesh [His human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1" name="" descr=""/>
          <p:cNvPicPr/>
          <p:nvPr/>
        </p:nvPicPr>
        <p:blipFill>
          <a:blip r:embed="rId2"/>
          <a:stretch/>
        </p:blipFill>
        <p:spPr>
          <a:xfrm>
            <a:off x="990720" y="914400"/>
            <a:ext cx="7199280" cy="60480"/>
          </a:xfrm>
          <a:prstGeom prst="rect">
            <a:avLst/>
          </a:prstGeom>
          <a:ln w="0">
            <a:noFill/>
          </a:ln>
        </p:spPr>
      </p:pic>
      <p:sp>
        <p:nvSpPr>
          <p:cNvPr id="2" name=""/>
          <p:cNvSpPr/>
          <p:nvPr/>
        </p:nvSpPr>
        <p:spPr>
          <a:xfrm>
            <a:off x="254880" y="6400800"/>
            <a:ext cx="1552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Rounded MT Bold"/>
              </a:rPr>
              <a:t>R. HENDERSON / H. MOLLOY</a:t>
            </a:r>
            <a:endParaRPr b="0" lang="en-US" sz="800" spc="-1" strike="noStrike">
              <a:solidFill>
                <a:srgbClr val="000000"/>
              </a:solidFill>
              <a:latin typeface="Times New Roman"/>
            </a:endParaRPr>
          </a:p>
        </p:txBody>
      </p:sp>
      <p:pic>
        <p:nvPicPr>
          <p:cNvPr id="3" name="" descr=""/>
          <p:cNvPicPr/>
          <p:nvPr/>
        </p:nvPicPr>
        <p:blipFill>
          <a:blip r:embed="rId3"/>
          <a:stretch/>
        </p:blipFill>
        <p:spPr>
          <a:xfrm>
            <a:off x="0" y="0"/>
            <a:ext cx="1206360" cy="1584360"/>
          </a:xfrm>
          <a:prstGeom prst="rect">
            <a:avLst/>
          </a:prstGeom>
          <a:ln w="0">
            <a:noFill/>
          </a:ln>
        </p:spPr>
      </p:pic>
      <p:sp>
        <p:nvSpPr>
          <p:cNvPr id="4" name=""/>
          <p:cNvSpPr/>
          <p:nvPr/>
        </p:nvSpPr>
        <p:spPr>
          <a:xfrm>
            <a:off x="3115080" y="-1440"/>
            <a:ext cx="26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Rounded MT Bold"/>
              </a:rPr>
              <a:t>MAJOR BIBLE THEMES</a:t>
            </a:r>
            <a:endParaRPr b="0" lang="en-US" sz="1800" spc="-1" strike="noStrike">
              <a:solidFill>
                <a:srgbClr val="000000"/>
              </a:solidFill>
              <a:latin typeface="Times New Roman"/>
            </a:endParaRPr>
          </a:p>
        </p:txBody>
      </p:sp>
      <p:sp>
        <p:nvSpPr>
          <p:cNvPr id="5" name=""/>
          <p:cNvSpPr/>
          <p:nvPr/>
        </p:nvSpPr>
        <p:spPr>
          <a:xfrm>
            <a:off x="7751520" y="6324480"/>
            <a:ext cx="1262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8 September 2002</a:t>
            </a:r>
            <a:endParaRPr b="0" lang="en-US" sz="1000" spc="-1" strike="noStrike">
              <a:solidFill>
                <a:srgbClr val="000000"/>
              </a:solidFill>
              <a:latin typeface="Times New Roman"/>
            </a:endParaRPr>
          </a:p>
        </p:txBody>
      </p:sp>
      <p:sp>
        <p:nvSpPr>
          <p:cNvPr id="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785240" y="380880"/>
            <a:ext cx="5773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God the Son: His Substitutionary Death</a:t>
            </a:r>
            <a:endParaRPr b="0" lang="en-US" sz="2400" spc="-1" strike="noStrike">
              <a:solidFill>
                <a:srgbClr val="000000"/>
              </a:solidFill>
              <a:latin typeface="Times New Roman"/>
            </a:endParaRPr>
          </a:p>
        </p:txBody>
      </p:sp>
      <p:sp>
        <p:nvSpPr>
          <p:cNvPr id="52" name=""/>
          <p:cNvSpPr/>
          <p:nvPr/>
        </p:nvSpPr>
        <p:spPr>
          <a:xfrm>
            <a:off x="1752480" y="3276720"/>
            <a:ext cx="4496040" cy="228600"/>
          </a:xfrm>
          <a:prstGeom prst="rect">
            <a:avLst/>
          </a:prstGeom>
          <a:gradFill rotWithShape="0">
            <a:gsLst>
              <a:gs pos="0">
                <a:srgbClr val="00d9ad"/>
              </a:gs>
              <a:gs pos="100000">
                <a:srgbClr val="00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905120" y="990720"/>
            <a:ext cx="6095880" cy="517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Rounded MT Bold"/>
                <a:ea typeface="Times New Roman"/>
              </a:rPr>
              <a:t> </a:t>
            </a:r>
            <a:r>
              <a:rPr b="1" lang="en-US" sz="1600" spc="-1" strike="noStrike">
                <a:solidFill>
                  <a:srgbClr val="000000"/>
                </a:solidFill>
                <a:latin typeface="Arial Rounded MT Bold"/>
                <a:ea typeface="Times New Roman"/>
              </a:rPr>
              <a:t>I.  The Bible: The Word of Go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ea typeface="Times New Roman"/>
              </a:rPr>
              <a:t> </a:t>
            </a:r>
            <a:r>
              <a:rPr b="1" lang="en-US" sz="1600" spc="-1" strike="noStrike">
                <a:solidFill>
                  <a:srgbClr val="000000"/>
                </a:solidFill>
                <a:latin typeface="Arial Rounded MT Bold"/>
                <a:ea typeface="Times New Roman"/>
              </a:rPr>
              <a:t>2. The Bible: Inspired of Go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ea typeface="Times New Roman"/>
              </a:rPr>
              <a:t> </a:t>
            </a:r>
            <a:r>
              <a:rPr b="1" lang="en-US" sz="1600" spc="-1" strike="noStrike">
                <a:solidFill>
                  <a:srgbClr val="000000"/>
                </a:solidFill>
                <a:latin typeface="Arial Rounded MT Bold"/>
                <a:ea typeface="Times New Roman"/>
              </a:rPr>
              <a:t>3. The Bible: Its Subject and Purpos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ea typeface="Times New Roman"/>
              </a:rPr>
              <a:t> </a:t>
            </a:r>
            <a:r>
              <a:rPr b="1" lang="en-US" sz="1600" spc="-1" strike="noStrike">
                <a:solidFill>
                  <a:srgbClr val="000000"/>
                </a:solidFill>
                <a:latin typeface="Arial Rounded MT Bold"/>
                <a:ea typeface="Times New Roman"/>
              </a:rPr>
              <a:t>4. The Bible: As a Divine Revelation</a:t>
            </a:r>
            <a:r>
              <a:rPr b="1" lang="en-US" sz="1400" spc="-1" strike="noStrike">
                <a:solidFill>
                  <a:srgbClr val="000000"/>
                </a:solidFill>
                <a:latin typeface="Arial Rounded MT Bold"/>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Rounded MT Bold"/>
                <a:ea typeface="Times New Roman"/>
              </a:rPr>
              <a:t> </a:t>
            </a:r>
            <a:r>
              <a:rPr b="1" lang="en-US" sz="1600" spc="-1" strike="noStrike">
                <a:solidFill>
                  <a:srgbClr val="000000"/>
                </a:solidFill>
                <a:latin typeface="Arial Rounded MT Bold"/>
                <a:ea typeface="Times New Roman"/>
              </a:rPr>
              <a:t>5.  God the Trin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ea typeface="Times New Roman"/>
              </a:rPr>
              <a:t> </a:t>
            </a:r>
            <a:r>
              <a:rPr b="1" lang="en-US" sz="1600" spc="-1" strike="noStrike">
                <a:solidFill>
                  <a:srgbClr val="000000"/>
                </a:solidFill>
                <a:latin typeface="Arial Rounded MT Bold"/>
                <a:ea typeface="Times New Roman"/>
              </a:rPr>
              <a:t>6.  God the Father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ea typeface="Times New Roman"/>
              </a:rPr>
              <a:t> </a:t>
            </a:r>
            <a:r>
              <a:rPr b="1" lang="en-US" sz="1600" spc="-1" strike="noStrike">
                <a:solidFill>
                  <a:srgbClr val="000000"/>
                </a:solidFill>
                <a:latin typeface="Arial Rounded MT Bold"/>
                <a:ea typeface="Times New Roman"/>
              </a:rPr>
              <a:t>7.  God the Son: His Deity and Etern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ea typeface="Times New Roman"/>
              </a:rPr>
              <a:t> </a:t>
            </a:r>
            <a:r>
              <a:rPr b="1" lang="en-US" sz="1600" spc="-1" strike="noStrike">
                <a:solidFill>
                  <a:srgbClr val="000000"/>
                </a:solidFill>
                <a:latin typeface="Arial Rounded MT Bold"/>
                <a:ea typeface="Times New Roman"/>
              </a:rPr>
              <a:t>8.  God the Son: His Incarn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ea typeface="Times New Roman"/>
              </a:rPr>
              <a:t> </a:t>
            </a:r>
            <a:r>
              <a:rPr b="1" lang="en-US" sz="1600" spc="-1" strike="noStrike">
                <a:solidFill>
                  <a:srgbClr val="000000"/>
                </a:solidFill>
                <a:latin typeface="Arial Rounded MT Bold"/>
                <a:ea typeface="Times New Roman"/>
              </a:rPr>
              <a:t>9.  God the Son: His Substitutionary Death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ea typeface="Times New Roman"/>
              </a:rPr>
              <a:t>10. God the Son: His Resurrec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ea typeface="Times New Roman"/>
              </a:rPr>
              <a:t>11. God the Son: His Ascension and Priestly Minis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ea typeface="Times New Roman"/>
              </a:rPr>
              <a:t>12. God the Son: His Coming for His Sain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ea typeface="Times New Roman"/>
              </a:rPr>
              <a:t>13. God the Son: His Coming With His Saint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ea typeface="Times New Roman"/>
              </a:rPr>
              <a:t>14. God the Holy Spirit: His Personal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ea typeface="Times New Roman"/>
              </a:rPr>
              <a:t>15. God the Holy Spirit: His Adv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ea typeface="Times New Roman"/>
              </a:rPr>
              <a:t>16. God the Holy Spirit: His Regener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ea typeface="Times New Roman"/>
              </a:rPr>
              <a:t>17. God the Holy Spirit: His Indwelling and Seal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ea typeface="Times New Roman"/>
              </a:rPr>
              <a:t>18. God the Holy Spirit: His Baptis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ea typeface="Times New Roman"/>
              </a:rPr>
              <a:t>19. God the Holy Spirit: His Filling   </a:t>
            </a:r>
            <a:endParaRPr b="0" lang="en-US" sz="1600" spc="-1" strike="noStrike">
              <a:solidFill>
                <a:srgbClr val="000000"/>
              </a:solidFill>
              <a:latin typeface="Times New Roman"/>
            </a:endParaRPr>
          </a:p>
        </p:txBody>
      </p:sp>
      <p:sp>
        <p:nvSpPr>
          <p:cNvPr id="54" name=""/>
          <p:cNvSpPr/>
          <p:nvPr/>
        </p:nvSpPr>
        <p:spPr>
          <a:xfrm>
            <a:off x="6204240" y="2057400"/>
            <a:ext cx="2736360" cy="520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Rounded MT Bold"/>
              </a:rPr>
              <a:t>HOMEWORK</a:t>
            </a:r>
            <a:r>
              <a:rPr b="0" lang="en-US" sz="1400" spc="-1" strike="noStrike">
                <a:solidFill>
                  <a:srgbClr val="000000"/>
                </a:solidFill>
                <a:latin typeface="Arial Rounded MT Bold"/>
              </a:rPr>
              <a:t>:  Read Ch. 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Answer questions: 4, 8, 12 &amp;13</a:t>
            </a:r>
            <a:endParaRPr b="0" lang="en-US" sz="1400" spc="-1" strike="noStrike">
              <a:solidFill>
                <a:srgbClr val="000000"/>
              </a:solidFill>
              <a:latin typeface="Times New Roman"/>
            </a:endParaRPr>
          </a:p>
        </p:txBody>
      </p:sp>
      <p:sp>
        <p:nvSpPr>
          <p:cNvPr id="55" name=""/>
          <p:cNvSpPr/>
          <p:nvPr/>
        </p:nvSpPr>
        <p:spPr>
          <a:xfrm>
            <a:off x="4419720" y="6469200"/>
            <a:ext cx="38088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4495680" y="6477120"/>
            <a:ext cx="457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Rounded MT Bold"/>
              </a:rPr>
              <a:t>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676520" y="3962520"/>
            <a:ext cx="6705360" cy="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31880" y="2666880"/>
            <a:ext cx="1460880" cy="5806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Hi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Pre-existence</a:t>
            </a:r>
            <a:endParaRPr b="0" lang="en-US" sz="1600" spc="-1" strike="noStrike">
              <a:solidFill>
                <a:srgbClr val="000000"/>
              </a:solidFill>
              <a:latin typeface="Times New Roman"/>
            </a:endParaRPr>
          </a:p>
        </p:txBody>
      </p:sp>
      <p:sp>
        <p:nvSpPr>
          <p:cNvPr id="59" name=""/>
          <p:cNvSpPr/>
          <p:nvPr/>
        </p:nvSpPr>
        <p:spPr>
          <a:xfrm>
            <a:off x="3048120" y="1981080"/>
            <a:ext cx="0" cy="1981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 name=""/>
          <p:cNvGrpSpPr/>
          <p:nvPr/>
        </p:nvGrpSpPr>
        <p:grpSpPr>
          <a:xfrm>
            <a:off x="2057400" y="990720"/>
            <a:ext cx="2133360" cy="1218960"/>
            <a:chOff x="2057400" y="990720"/>
            <a:chExt cx="2133360" cy="1218960"/>
          </a:xfrm>
        </p:grpSpPr>
        <p:sp>
          <p:nvSpPr>
            <p:cNvPr id="61" name=""/>
            <p:cNvSpPr/>
            <p:nvPr/>
          </p:nvSpPr>
          <p:spPr>
            <a:xfrm>
              <a:off x="2057400" y="990720"/>
              <a:ext cx="2133360" cy="1218960"/>
            </a:xfrm>
            <a:prstGeom prst="irregularSeal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392560" y="1295280"/>
              <a:ext cx="12808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Hi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Incarnation</a:t>
              </a:r>
              <a:endParaRPr b="0" lang="en-US" sz="1600" spc="-1" strike="noStrike">
                <a:solidFill>
                  <a:srgbClr val="000000"/>
                </a:solidFill>
                <a:latin typeface="Times New Roman"/>
              </a:endParaRPr>
            </a:p>
          </p:txBody>
        </p:sp>
      </p:grpSp>
      <p:sp>
        <p:nvSpPr>
          <p:cNvPr id="63" name=""/>
          <p:cNvSpPr/>
          <p:nvPr/>
        </p:nvSpPr>
        <p:spPr>
          <a:xfrm>
            <a:off x="3809880" y="3962520"/>
            <a:ext cx="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4" name=""/>
          <p:cNvGrpSpPr/>
          <p:nvPr/>
        </p:nvGrpSpPr>
        <p:grpSpPr>
          <a:xfrm>
            <a:off x="2993760" y="4267080"/>
            <a:ext cx="1636200" cy="1676520"/>
            <a:chOff x="2993760" y="4267080"/>
            <a:chExt cx="1636200" cy="1676520"/>
          </a:xfrm>
        </p:grpSpPr>
        <p:sp>
          <p:nvSpPr>
            <p:cNvPr id="65" name=""/>
            <p:cNvSpPr/>
            <p:nvPr/>
          </p:nvSpPr>
          <p:spPr>
            <a:xfrm>
              <a:off x="3505320" y="4267080"/>
              <a:ext cx="609840" cy="167652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048120" y="4572000"/>
              <a:ext cx="1524240" cy="2286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993760" y="4267080"/>
              <a:ext cx="16362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Hi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Substitutiona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Death</a:t>
              </a:r>
              <a:endParaRPr b="0" lang="en-US" sz="1600" spc="-1" strike="noStrike">
                <a:solidFill>
                  <a:srgbClr val="000000"/>
                </a:solidFill>
                <a:latin typeface="Times New Roman"/>
              </a:endParaRPr>
            </a:p>
          </p:txBody>
        </p:sp>
      </p:grpSp>
      <p:grpSp>
        <p:nvGrpSpPr>
          <p:cNvPr id="68" name=""/>
          <p:cNvGrpSpPr/>
          <p:nvPr/>
        </p:nvGrpSpPr>
        <p:grpSpPr>
          <a:xfrm>
            <a:off x="4038480" y="1676520"/>
            <a:ext cx="2133720" cy="1066680"/>
            <a:chOff x="4038480" y="1676520"/>
            <a:chExt cx="2133720" cy="1066680"/>
          </a:xfrm>
        </p:grpSpPr>
        <p:sp>
          <p:nvSpPr>
            <p:cNvPr id="69" name=""/>
            <p:cNvSpPr/>
            <p:nvPr/>
          </p:nvSpPr>
          <p:spPr>
            <a:xfrm>
              <a:off x="4038480" y="1676520"/>
              <a:ext cx="2133720" cy="1066680"/>
            </a:xfrm>
            <a:prstGeom prst="cloudCallout">
              <a:avLst>
                <a:gd name="adj1" fmla="val -8037"/>
                <a:gd name="adj2" fmla="val 2633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4146120" y="1904760"/>
              <a:ext cx="1904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His Ascens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amp; Priestly Ministry</a:t>
              </a:r>
              <a:endParaRPr b="0" lang="en-US" sz="1600" spc="-1" strike="noStrike">
                <a:solidFill>
                  <a:srgbClr val="000000"/>
                </a:solidFill>
                <a:latin typeface="Times New Roman"/>
              </a:endParaRPr>
            </a:p>
          </p:txBody>
        </p:sp>
      </p:grpSp>
      <p:sp>
        <p:nvSpPr>
          <p:cNvPr id="71" name=""/>
          <p:cNvSpPr/>
          <p:nvPr/>
        </p:nvSpPr>
        <p:spPr>
          <a:xfrm>
            <a:off x="6781680" y="1676520"/>
            <a:ext cx="0" cy="1371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6781680" y="3429000"/>
            <a:ext cx="0" cy="533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131160" y="1066680"/>
            <a:ext cx="1436400" cy="5806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His Com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Rounded MT Bold"/>
              </a:rPr>
              <a:t>for</a:t>
            </a:r>
            <a:r>
              <a:rPr b="0" lang="en-US" sz="1600" spc="-1" strike="noStrike">
                <a:solidFill>
                  <a:srgbClr val="000000"/>
                </a:solidFill>
                <a:latin typeface="Arial Rounded MT Bold"/>
              </a:rPr>
              <a:t> His Saints</a:t>
            </a:r>
            <a:endParaRPr b="0" lang="en-US" sz="1600" spc="-1" strike="noStrike">
              <a:solidFill>
                <a:srgbClr val="000000"/>
              </a:solidFill>
              <a:latin typeface="Times New Roman"/>
            </a:endParaRPr>
          </a:p>
        </p:txBody>
      </p:sp>
      <p:sp>
        <p:nvSpPr>
          <p:cNvPr id="74" name=""/>
          <p:cNvSpPr/>
          <p:nvPr/>
        </p:nvSpPr>
        <p:spPr>
          <a:xfrm>
            <a:off x="6400800" y="3048120"/>
            <a:ext cx="838080" cy="380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216200" y="1981080"/>
            <a:ext cx="1570680" cy="5806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His Com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Rounded MT Bold"/>
              </a:rPr>
              <a:t>with</a:t>
            </a:r>
            <a:r>
              <a:rPr b="0" lang="en-US" sz="1600" spc="-1" strike="noStrike">
                <a:solidFill>
                  <a:srgbClr val="000000"/>
                </a:solidFill>
                <a:latin typeface="Arial Rounded MT Bold"/>
              </a:rPr>
              <a:t> His Saints</a:t>
            </a:r>
            <a:endParaRPr b="0" lang="en-US" sz="1600" spc="-1" strike="noStrike">
              <a:solidFill>
                <a:srgbClr val="000000"/>
              </a:solidFill>
              <a:latin typeface="Times New Roman"/>
            </a:endParaRPr>
          </a:p>
        </p:txBody>
      </p:sp>
      <p:sp>
        <p:nvSpPr>
          <p:cNvPr id="76" name=""/>
          <p:cNvSpPr/>
          <p:nvPr/>
        </p:nvSpPr>
        <p:spPr>
          <a:xfrm>
            <a:off x="8001000" y="2590920"/>
            <a:ext cx="0" cy="1371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017040" y="3505320"/>
            <a:ext cx="75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Saints</a:t>
            </a:r>
            <a:endParaRPr b="0" lang="en-US" sz="1600" spc="-1" strike="noStrike">
              <a:solidFill>
                <a:srgbClr val="000000"/>
              </a:solidFill>
              <a:latin typeface="Times New Roman"/>
            </a:endParaRPr>
          </a:p>
        </p:txBody>
      </p:sp>
      <p:sp>
        <p:nvSpPr>
          <p:cNvPr id="78" name=""/>
          <p:cNvSpPr/>
          <p:nvPr/>
        </p:nvSpPr>
        <p:spPr>
          <a:xfrm>
            <a:off x="1676520" y="3809880"/>
            <a:ext cx="0" cy="3812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143000" y="4114800"/>
            <a:ext cx="1463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Creation</a:t>
            </a:r>
            <a:endParaRPr b="0" lang="en-US" sz="1400" spc="-1" strike="noStrike">
              <a:solidFill>
                <a:srgbClr val="000000"/>
              </a:solidFill>
              <a:latin typeface="Times New Roman"/>
            </a:endParaRPr>
          </a:p>
        </p:txBody>
      </p:sp>
      <p:sp>
        <p:nvSpPr>
          <p:cNvPr id="80" name=""/>
          <p:cNvSpPr/>
          <p:nvPr/>
        </p:nvSpPr>
        <p:spPr>
          <a:xfrm>
            <a:off x="3809880" y="5943600"/>
            <a:ext cx="304920" cy="30492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267080" y="4114800"/>
            <a:ext cx="1524240" cy="4644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Rounded MT Bold"/>
              </a:rPr>
              <a:t>His</a:t>
            </a: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Rounded MT Bold"/>
              </a:rPr>
              <a:t>Resurrection</a:t>
            </a:r>
            <a:endParaRPr b="0" lang="en-US" sz="1600" spc="-1" strike="noStrike">
              <a:solidFill>
                <a:srgbClr val="000000"/>
              </a:solidFill>
              <a:latin typeface="Times New Roman"/>
            </a:endParaRPr>
          </a:p>
        </p:txBody>
      </p:sp>
      <p:sp>
        <p:nvSpPr>
          <p:cNvPr id="82" name=""/>
          <p:cNvSpPr/>
          <p:nvPr/>
        </p:nvSpPr>
        <p:spPr>
          <a:xfrm>
            <a:off x="8305920" y="3962520"/>
            <a:ext cx="53316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086600" y="3429000"/>
            <a:ext cx="685800" cy="46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Rounded MT Bold"/>
              </a:rPr>
              <a:t>7 Year</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Rounded MT Bold"/>
              </a:rPr>
              <a:t>  </a:t>
            </a:r>
            <a:r>
              <a:rPr b="1" lang="en-US" sz="1200" spc="-1" strike="noStrike">
                <a:solidFill>
                  <a:srgbClr val="000000"/>
                </a:solidFill>
                <a:latin typeface="Arial Rounded MT Bold"/>
              </a:rPr>
              <a:t>Trib</a:t>
            </a:r>
            <a:endParaRPr b="0" lang="en-US" sz="1200" spc="-1" strike="noStrike">
              <a:solidFill>
                <a:srgbClr val="000000"/>
              </a:solidFill>
              <a:latin typeface="Times New Roman"/>
            </a:endParaRPr>
          </a:p>
        </p:txBody>
      </p:sp>
      <p:sp>
        <p:nvSpPr>
          <p:cNvPr id="84" name=""/>
          <p:cNvSpPr/>
          <p:nvPr/>
        </p:nvSpPr>
        <p:spPr>
          <a:xfrm flipV="1">
            <a:off x="4114800" y="4571640"/>
            <a:ext cx="762120" cy="1676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5181480" y="2742840"/>
            <a:ext cx="0" cy="1219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785240" y="380880"/>
            <a:ext cx="5773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God the Son: His Substitutionary Death</a:t>
            </a:r>
            <a:endParaRPr b="0" lang="en-US" sz="2400" spc="-1" strike="noStrike">
              <a:solidFill>
                <a:srgbClr val="000000"/>
              </a:solidFill>
              <a:latin typeface="Times New Roman"/>
            </a:endParaRPr>
          </a:p>
        </p:txBody>
      </p:sp>
      <p:grpSp>
        <p:nvGrpSpPr>
          <p:cNvPr id="87" name=""/>
          <p:cNvGrpSpPr/>
          <p:nvPr/>
        </p:nvGrpSpPr>
        <p:grpSpPr>
          <a:xfrm>
            <a:off x="471240" y="4724280"/>
            <a:ext cx="2657160" cy="1304280"/>
            <a:chOff x="471240" y="4724280"/>
            <a:chExt cx="2657160" cy="1304280"/>
          </a:xfrm>
        </p:grpSpPr>
        <p:sp>
          <p:nvSpPr>
            <p:cNvPr id="88" name=""/>
            <p:cNvSpPr/>
            <p:nvPr/>
          </p:nvSpPr>
          <p:spPr>
            <a:xfrm>
              <a:off x="1066680" y="4724280"/>
              <a:ext cx="114264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rot="10828200">
              <a:off x="533520" y="5027040"/>
              <a:ext cx="2590560" cy="990720"/>
            </a:xfrm>
            <a:prstGeom prst="wedgeRoundRectCallout">
              <a:avLst>
                <a:gd name="adj1" fmla="val -43921"/>
                <a:gd name="adj2" fmla="val 68953"/>
                <a:gd name="adj3" fmla="val 16667"/>
              </a:avLst>
            </a:prstGeom>
            <a:solidFill>
              <a:srgbClr val="fefdc6"/>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471240" y="5029200"/>
              <a:ext cx="263736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a:t>
              </a:r>
              <a:r>
                <a:rPr b="0" lang="en-US" sz="1600" spc="-1" strike="noStrike">
                  <a:solidFill>
                    <a:srgbClr val="000000"/>
                  </a:solidFill>
                  <a:latin typeface="Arial Rounded MT Bold"/>
                </a:rPr>
                <a:t>For the Son of M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 </a:t>
              </a:r>
              <a:r>
                <a:rPr b="0" lang="en-US" sz="1600" spc="-1" strike="noStrike">
                  <a:solidFill>
                    <a:srgbClr val="000000"/>
                  </a:solidFill>
                  <a:latin typeface="Arial Rounded MT Bold"/>
                </a:rPr>
                <a:t>has come to seek 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 </a:t>
              </a:r>
              <a:r>
                <a:rPr b="0" lang="en-US" sz="1600" spc="-1" strike="noStrike">
                  <a:solidFill>
                    <a:srgbClr val="000000"/>
                  </a:solidFill>
                  <a:latin typeface="Arial Rounded MT Bold"/>
                </a:rPr>
                <a:t>to save that which is lost”</a:t>
              </a:r>
              <a:endParaRPr b="0" lang="en-US" sz="1600" spc="-1" strike="noStrike">
                <a:solidFill>
                  <a:srgbClr val="000000"/>
                </a:solidFill>
                <a:latin typeface="Times New Roman"/>
              </a:endParaRPr>
            </a:p>
          </p:txBody>
        </p:sp>
      </p:grpSp>
      <p:sp>
        <p:nvSpPr>
          <p:cNvPr id="91" name=""/>
          <p:cNvSpPr/>
          <p:nvPr/>
        </p:nvSpPr>
        <p:spPr>
          <a:xfrm>
            <a:off x="4419720" y="646920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Rounded MT Bold"/>
              </a:rPr>
              <a:t>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457200" y="1752480"/>
            <a:ext cx="2819520" cy="2133720"/>
            <a:chOff x="457200" y="1752480"/>
            <a:chExt cx="2819520" cy="2133720"/>
          </a:xfrm>
        </p:grpSpPr>
        <p:sp>
          <p:nvSpPr>
            <p:cNvPr id="93" name=""/>
            <p:cNvSpPr/>
            <p:nvPr/>
          </p:nvSpPr>
          <p:spPr>
            <a:xfrm>
              <a:off x="457200" y="1752480"/>
              <a:ext cx="2819520" cy="2133720"/>
            </a:xfrm>
            <a:prstGeom prst="verticalScroll">
              <a:avLst>
                <a:gd name="adj" fmla="val 12500"/>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690120" y="2438280"/>
              <a:ext cx="2233440" cy="91692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Assures us o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the Love of Go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toward the sinner</a:t>
              </a:r>
              <a:endParaRPr b="0" lang="en-US" sz="1800" spc="-1" strike="noStrike">
                <a:solidFill>
                  <a:srgbClr val="000000"/>
                </a:solidFill>
                <a:latin typeface="Times New Roman"/>
              </a:endParaRPr>
            </a:p>
          </p:txBody>
        </p:sp>
      </p:grpSp>
      <p:grpSp>
        <p:nvGrpSpPr>
          <p:cNvPr id="95" name=""/>
          <p:cNvGrpSpPr/>
          <p:nvPr/>
        </p:nvGrpSpPr>
        <p:grpSpPr>
          <a:xfrm>
            <a:off x="3276720" y="1752480"/>
            <a:ext cx="2819160" cy="2133720"/>
            <a:chOff x="3276720" y="1752480"/>
            <a:chExt cx="2819160" cy="2133720"/>
          </a:xfrm>
        </p:grpSpPr>
        <p:sp>
          <p:nvSpPr>
            <p:cNvPr id="96" name=""/>
            <p:cNvSpPr/>
            <p:nvPr/>
          </p:nvSpPr>
          <p:spPr>
            <a:xfrm>
              <a:off x="3276720" y="1752480"/>
              <a:ext cx="2819160" cy="2133720"/>
            </a:xfrm>
            <a:prstGeom prst="verticalScroll">
              <a:avLst>
                <a:gd name="adj" fmla="val 12500"/>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3620160" y="2362320"/>
              <a:ext cx="21009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A Redemption 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Ransom to 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Holy God f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the sinner </a:t>
              </a:r>
              <a:endParaRPr b="0" lang="en-US" sz="1800" spc="-1" strike="noStrike">
                <a:solidFill>
                  <a:srgbClr val="000000"/>
                </a:solidFill>
                <a:latin typeface="Times New Roman"/>
              </a:endParaRPr>
            </a:p>
          </p:txBody>
        </p:sp>
      </p:grpSp>
      <p:grpSp>
        <p:nvGrpSpPr>
          <p:cNvPr id="98" name=""/>
          <p:cNvGrpSpPr/>
          <p:nvPr/>
        </p:nvGrpSpPr>
        <p:grpSpPr>
          <a:xfrm>
            <a:off x="6095880" y="1752480"/>
            <a:ext cx="2819160" cy="2133720"/>
            <a:chOff x="6095880" y="1752480"/>
            <a:chExt cx="2819160" cy="2133720"/>
          </a:xfrm>
        </p:grpSpPr>
        <p:sp>
          <p:nvSpPr>
            <p:cNvPr id="99" name=""/>
            <p:cNvSpPr/>
            <p:nvPr/>
          </p:nvSpPr>
          <p:spPr>
            <a:xfrm>
              <a:off x="6095880" y="1752480"/>
              <a:ext cx="2819160" cy="2133720"/>
            </a:xfrm>
            <a:prstGeom prst="verticalScroll">
              <a:avLst>
                <a:gd name="adj" fmla="val 12500"/>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6535080" y="2362320"/>
              <a:ext cx="19090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The Substitut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bearing th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penalty o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the sinner</a:t>
              </a:r>
              <a:endParaRPr b="0" lang="en-US" sz="1800" spc="-1" strike="noStrike">
                <a:solidFill>
                  <a:srgbClr val="000000"/>
                </a:solidFill>
                <a:latin typeface="Times New Roman"/>
              </a:endParaRPr>
            </a:p>
          </p:txBody>
        </p:sp>
      </p:grpSp>
      <p:grpSp>
        <p:nvGrpSpPr>
          <p:cNvPr id="101" name=""/>
          <p:cNvGrpSpPr/>
          <p:nvPr/>
        </p:nvGrpSpPr>
        <p:grpSpPr>
          <a:xfrm>
            <a:off x="3276720" y="4191120"/>
            <a:ext cx="2819160" cy="2133360"/>
            <a:chOff x="3276720" y="4191120"/>
            <a:chExt cx="2819160" cy="2133360"/>
          </a:xfrm>
        </p:grpSpPr>
        <p:sp>
          <p:nvSpPr>
            <p:cNvPr id="102" name=""/>
            <p:cNvSpPr/>
            <p:nvPr/>
          </p:nvSpPr>
          <p:spPr>
            <a:xfrm>
              <a:off x="3276720" y="4191120"/>
              <a:ext cx="2819160" cy="2133360"/>
            </a:xfrm>
            <a:prstGeom prst="verticalScroll">
              <a:avLst>
                <a:gd name="adj" fmla="val 12500"/>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3580200" y="4800600"/>
              <a:ext cx="21801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The Judg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or Condemn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of the Sin Nature</a:t>
              </a:r>
              <a:endParaRPr b="0" lang="en-US" sz="1800" spc="-1" strike="noStrike">
                <a:solidFill>
                  <a:srgbClr val="000000"/>
                </a:solidFill>
                <a:latin typeface="Times New Roman"/>
              </a:endParaRPr>
            </a:p>
          </p:txBody>
        </p:sp>
      </p:grpSp>
      <p:sp>
        <p:nvSpPr>
          <p:cNvPr id="104" name=""/>
          <p:cNvSpPr/>
          <p:nvPr/>
        </p:nvSpPr>
        <p:spPr>
          <a:xfrm>
            <a:off x="1143000" y="914400"/>
            <a:ext cx="6858000" cy="762120"/>
          </a:xfrm>
          <a:prstGeom prst="horizontalScroll">
            <a:avLst>
              <a:gd name="adj" fmla="val 12500"/>
            </a:avLst>
          </a:prstGeom>
          <a:solidFill>
            <a:srgbClr val="ffffcc"/>
          </a:solidFill>
          <a:ln w="93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2400" spc="-1" strike="noStrike">
                <a:solidFill>
                  <a:srgbClr val="000000"/>
                </a:solidFill>
                <a:latin typeface="Arial Rounded MT Bold"/>
              </a:rPr>
              <a:t>The death of Christ</a:t>
            </a:r>
            <a:endParaRPr b="0" lang="en-US" sz="2400" spc="-1" strike="noStrike">
              <a:solidFill>
                <a:srgbClr val="000000"/>
              </a:solidFill>
              <a:latin typeface="Times New Roman"/>
            </a:endParaRPr>
          </a:p>
        </p:txBody>
      </p:sp>
      <p:sp>
        <p:nvSpPr>
          <p:cNvPr id="105" name=""/>
          <p:cNvSpPr/>
          <p:nvPr/>
        </p:nvSpPr>
        <p:spPr>
          <a:xfrm>
            <a:off x="1785240" y="380880"/>
            <a:ext cx="5773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God the Son: His Substitutionary Death</a:t>
            </a:r>
            <a:endParaRPr b="0" lang="en-US" sz="2400" spc="-1" strike="noStrike">
              <a:solidFill>
                <a:srgbClr val="000000"/>
              </a:solidFill>
              <a:latin typeface="Times New Roman"/>
            </a:endParaRPr>
          </a:p>
        </p:txBody>
      </p:sp>
      <p:sp>
        <p:nvSpPr>
          <p:cNvPr id="106" name=""/>
          <p:cNvSpPr/>
          <p:nvPr/>
        </p:nvSpPr>
        <p:spPr>
          <a:xfrm>
            <a:off x="4572000" y="646920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Rounded MT Bold"/>
              </a:rPr>
              <a:t>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785240" y="380880"/>
            <a:ext cx="5773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God the Son: His Substitutionary Death</a:t>
            </a:r>
            <a:endParaRPr b="0" lang="en-US" sz="2400" spc="-1" strike="noStrike">
              <a:solidFill>
                <a:srgbClr val="000000"/>
              </a:solidFill>
              <a:latin typeface="Times New Roman"/>
            </a:endParaRPr>
          </a:p>
        </p:txBody>
      </p:sp>
      <p:sp>
        <p:nvSpPr>
          <p:cNvPr id="108" name=""/>
          <p:cNvSpPr/>
          <p:nvPr/>
        </p:nvSpPr>
        <p:spPr>
          <a:xfrm>
            <a:off x="1143000" y="914400"/>
            <a:ext cx="6858000" cy="762120"/>
          </a:xfrm>
          <a:prstGeom prst="horizontalScroll">
            <a:avLst>
              <a:gd name="adj" fmla="val 12500"/>
            </a:avLst>
          </a:prstGeom>
          <a:solidFill>
            <a:srgbClr val="ffffcc"/>
          </a:solidFill>
          <a:ln w="93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2400" spc="-1" strike="noStrike">
                <a:solidFill>
                  <a:srgbClr val="000000"/>
                </a:solidFill>
                <a:latin typeface="Arial Rounded MT Bold"/>
              </a:rPr>
              <a:t>The assurance of God’s Love toward the sinner</a:t>
            </a:r>
            <a:endParaRPr b="0" lang="en-US" sz="2400" spc="-1" strike="noStrike">
              <a:solidFill>
                <a:srgbClr val="000000"/>
              </a:solidFill>
              <a:latin typeface="Times New Roman"/>
            </a:endParaRPr>
          </a:p>
        </p:txBody>
      </p:sp>
      <p:sp>
        <p:nvSpPr>
          <p:cNvPr id="109" name=""/>
          <p:cNvSpPr/>
          <p:nvPr/>
        </p:nvSpPr>
        <p:spPr>
          <a:xfrm>
            <a:off x="570600" y="1981080"/>
            <a:ext cx="8167680" cy="3681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John 3:16  For God so loved the world, </a:t>
            </a:r>
            <a:r>
              <a:rPr b="0" lang="en-US" sz="2000" spc="-1" strike="noStrike" u="sng">
                <a:solidFill>
                  <a:srgbClr val="000000"/>
                </a:solidFill>
                <a:uFillTx/>
                <a:latin typeface="Arial Rounded MT Bold"/>
              </a:rPr>
              <a:t>that</a:t>
            </a:r>
            <a:r>
              <a:rPr b="0" lang="en-US" sz="2000" spc="-1" strike="noStrike">
                <a:solidFill>
                  <a:srgbClr val="000000"/>
                </a:solidFill>
                <a:latin typeface="Arial Rounded MT Bold"/>
              </a:rPr>
              <a:t> He gave H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       </a:t>
            </a:r>
            <a:r>
              <a:rPr b="0" lang="en-US" sz="2000" spc="-1" strike="noStrike">
                <a:solidFill>
                  <a:srgbClr val="000000"/>
                </a:solidFill>
                <a:latin typeface="Arial Rounded MT Bold"/>
              </a:rPr>
              <a:t>only  begotten S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Romans 5:8  But God demonstrates His own love toward 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           </a:t>
            </a:r>
            <a:r>
              <a:rPr b="0" lang="en-US" sz="2000" spc="-1" strike="noStrike" u="sng">
                <a:solidFill>
                  <a:srgbClr val="000000"/>
                </a:solidFill>
                <a:uFillTx/>
                <a:latin typeface="Arial Rounded MT Bold"/>
              </a:rPr>
              <a:t>in that</a:t>
            </a:r>
            <a:r>
              <a:rPr b="0" lang="en-US" sz="2000" spc="-1" strike="noStrike">
                <a:solidFill>
                  <a:srgbClr val="000000"/>
                </a:solidFill>
                <a:latin typeface="Arial Rounded MT Bold"/>
              </a:rPr>
              <a:t> while we were yet sinners, Christ di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           </a:t>
            </a:r>
            <a:r>
              <a:rPr b="0" lang="en-US" sz="2000" spc="-1" strike="noStrike">
                <a:solidFill>
                  <a:srgbClr val="000000"/>
                </a:solidFill>
                <a:latin typeface="Arial Rounded MT Bold"/>
              </a:rPr>
              <a:t>for 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1 John 3:16  We know love by this, </a:t>
            </a:r>
            <a:r>
              <a:rPr b="0" lang="en-US" sz="2000" spc="-1" strike="noStrike" u="sng">
                <a:solidFill>
                  <a:srgbClr val="000000"/>
                </a:solidFill>
                <a:uFillTx/>
                <a:latin typeface="Arial Rounded MT Bold"/>
              </a:rPr>
              <a:t>that</a:t>
            </a:r>
            <a:r>
              <a:rPr b="0" lang="en-US" sz="2000" spc="-1" strike="noStrike">
                <a:solidFill>
                  <a:srgbClr val="000000"/>
                </a:solidFill>
                <a:latin typeface="Arial Rounded MT Bold"/>
              </a:rPr>
              <a:t> He laid down His life for us</a:t>
            </a:r>
            <a:endParaRPr b="0" lang="en-US" sz="2000" spc="-1" strike="noStrike">
              <a:solidFill>
                <a:srgbClr val="000000"/>
              </a:solidFill>
              <a:latin typeface="Times New Roman"/>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1 John 4:9  By this the love of God was manifested in us, </a:t>
            </a:r>
            <a:r>
              <a:rPr b="0" lang="en-US" sz="2000" spc="-1" strike="noStrike" u="sng">
                <a:solidFill>
                  <a:srgbClr val="000000"/>
                </a:solidFill>
                <a:uFillTx/>
                <a:latin typeface="Arial Rounded MT Bold"/>
              </a:rPr>
              <a:t>that</a:t>
            </a:r>
            <a:r>
              <a:rPr b="0" lang="en-US" sz="2000" spc="-1" strike="noStrike">
                <a:solidFill>
                  <a:srgbClr val="000000"/>
                </a:solidFill>
                <a:latin typeface="Arial Rounded MT Bold"/>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God has sent His only begotten Son</a:t>
            </a:r>
            <a:endParaRPr b="0" lang="en-US" sz="2000" spc="-1" strike="noStrike">
              <a:solidFill>
                <a:srgbClr val="000000"/>
              </a:solidFill>
              <a:latin typeface="Times New Roman"/>
            </a:endParaRPr>
          </a:p>
        </p:txBody>
      </p:sp>
      <p:sp>
        <p:nvSpPr>
          <p:cNvPr id="110" name=""/>
          <p:cNvSpPr/>
          <p:nvPr/>
        </p:nvSpPr>
        <p:spPr>
          <a:xfrm>
            <a:off x="4419720" y="646920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Rounded MT Bold"/>
              </a:rPr>
              <a:t>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785240" y="380880"/>
            <a:ext cx="5773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God the Son: His Substitutionary Death</a:t>
            </a:r>
            <a:endParaRPr b="0" lang="en-US" sz="2400" spc="-1" strike="noStrike">
              <a:solidFill>
                <a:srgbClr val="000000"/>
              </a:solidFill>
              <a:latin typeface="Times New Roman"/>
            </a:endParaRPr>
          </a:p>
        </p:txBody>
      </p:sp>
      <p:sp>
        <p:nvSpPr>
          <p:cNvPr id="112" name=""/>
          <p:cNvSpPr/>
          <p:nvPr/>
        </p:nvSpPr>
        <p:spPr>
          <a:xfrm>
            <a:off x="1143000" y="914400"/>
            <a:ext cx="7315200" cy="762120"/>
          </a:xfrm>
          <a:prstGeom prst="horizontalScroll">
            <a:avLst>
              <a:gd name="adj" fmla="val 12500"/>
            </a:avLst>
          </a:prstGeom>
          <a:solidFill>
            <a:srgbClr val="ffffcc"/>
          </a:solidFill>
          <a:ln w="93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2400" spc="-1" strike="noStrike">
                <a:solidFill>
                  <a:srgbClr val="000000"/>
                </a:solidFill>
                <a:latin typeface="Arial Rounded MT Bold"/>
              </a:rPr>
              <a:t>The Redemption/Ransom to a Holy God for sinners</a:t>
            </a:r>
            <a:endParaRPr b="0" lang="en-US" sz="2400" spc="-1" strike="noStrike">
              <a:solidFill>
                <a:srgbClr val="000000"/>
              </a:solidFill>
              <a:latin typeface="Times New Roman"/>
            </a:endParaRPr>
          </a:p>
        </p:txBody>
      </p:sp>
      <p:graphicFrame>
        <p:nvGraphicFramePr>
          <p:cNvPr id="113" name=""/>
          <p:cNvGraphicFramePr/>
          <p:nvPr/>
        </p:nvGraphicFramePr>
        <p:xfrm>
          <a:off x="1295280" y="1676520"/>
          <a:ext cx="6705720" cy="4437000"/>
        </p:xfrm>
        <a:graphic>
          <a:graphicData uri="http://schemas.openxmlformats.org/presentationml/2006/ole">
            <p:oleObj progId="Excel.Sheet.12" r:id="rId1" spid="">
              <p:embed/>
              <p:pic>
                <p:nvPicPr>
                  <p:cNvPr id="114" name="" descr=""/>
                  <p:cNvPicPr/>
                  <p:nvPr/>
                </p:nvPicPr>
                <p:blipFill>
                  <a:blip r:embed="rId2"/>
                  <a:stretch/>
                </p:blipFill>
                <p:spPr>
                  <a:xfrm>
                    <a:off x="1295280" y="1676520"/>
                    <a:ext cx="6705720" cy="4437000"/>
                  </a:xfrm>
                  <a:prstGeom prst="rect">
                    <a:avLst/>
                  </a:prstGeom>
                  <a:ln w="0">
                    <a:noFill/>
                  </a:ln>
                </p:spPr>
              </p:pic>
            </p:oleObj>
          </a:graphicData>
        </a:graphic>
      </p:graphicFrame>
      <p:sp>
        <p:nvSpPr>
          <p:cNvPr id="115" name=""/>
          <p:cNvSpPr/>
          <p:nvPr/>
        </p:nvSpPr>
        <p:spPr>
          <a:xfrm>
            <a:off x="4419720" y="654516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Rounded MT Bold"/>
              </a:rPr>
              <a:t>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785240" y="380880"/>
            <a:ext cx="5773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God the Son: His Substitutionary Death</a:t>
            </a:r>
            <a:endParaRPr b="0" lang="en-US" sz="2400" spc="-1" strike="noStrike">
              <a:solidFill>
                <a:srgbClr val="000000"/>
              </a:solidFill>
              <a:latin typeface="Times New Roman"/>
            </a:endParaRPr>
          </a:p>
        </p:txBody>
      </p:sp>
      <p:sp>
        <p:nvSpPr>
          <p:cNvPr id="117" name=""/>
          <p:cNvSpPr/>
          <p:nvPr/>
        </p:nvSpPr>
        <p:spPr>
          <a:xfrm>
            <a:off x="1143000" y="914400"/>
            <a:ext cx="7315200" cy="76212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2400" spc="-1" strike="noStrike">
                <a:solidFill>
                  <a:srgbClr val="000000"/>
                </a:solidFill>
                <a:latin typeface="Arial Rounded MT Bold"/>
              </a:rPr>
              <a:t>The Judgment or Condemnation of the Sin Nature </a:t>
            </a:r>
            <a:endParaRPr b="0" lang="en-US" sz="2400" spc="-1" strike="noStrike">
              <a:solidFill>
                <a:srgbClr val="000000"/>
              </a:solidFill>
              <a:latin typeface="Times New Roman"/>
            </a:endParaRPr>
          </a:p>
        </p:txBody>
      </p:sp>
      <p:sp>
        <p:nvSpPr>
          <p:cNvPr id="118" name=""/>
          <p:cNvSpPr/>
          <p:nvPr/>
        </p:nvSpPr>
        <p:spPr>
          <a:xfrm>
            <a:off x="7682040" y="612144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19" name=""/>
          <p:cNvGrpSpPr/>
          <p:nvPr/>
        </p:nvGrpSpPr>
        <p:grpSpPr>
          <a:xfrm>
            <a:off x="609480" y="1981080"/>
            <a:ext cx="2667240" cy="3962520"/>
            <a:chOff x="609480" y="1981080"/>
            <a:chExt cx="2667240" cy="3962520"/>
          </a:xfrm>
        </p:grpSpPr>
        <p:graphicFrame>
          <p:nvGraphicFramePr>
            <p:cNvPr id="120" name=""/>
            <p:cNvGraphicFramePr/>
            <p:nvPr/>
          </p:nvGraphicFramePr>
          <p:xfrm>
            <a:off x="609480" y="1981080"/>
            <a:ext cx="2667240" cy="3889440"/>
          </p:xfrm>
          <a:graphic>
            <a:graphicData uri="http://schemas.openxmlformats.org/presentationml/2006/ole">
              <p:oleObj r:id="rId1" spid="">
                <p:embed/>
                <p:pic>
                  <p:nvPicPr>
                    <p:cNvPr id="121" name="" descr=""/>
                    <p:cNvPicPr/>
                    <p:nvPr/>
                  </p:nvPicPr>
                  <p:blipFill>
                    <a:blip r:embed="rId2"/>
                    <a:stretch/>
                  </p:blipFill>
                  <p:spPr>
                    <a:xfrm>
                      <a:off x="609480" y="1981080"/>
                      <a:ext cx="2667240" cy="3889440"/>
                    </a:xfrm>
                    <a:prstGeom prst="rect">
                      <a:avLst/>
                    </a:prstGeom>
                    <a:ln w="0">
                      <a:noFill/>
                    </a:ln>
                  </p:spPr>
                </p:pic>
              </p:oleObj>
            </a:graphicData>
          </a:graphic>
        </p:graphicFrame>
        <p:sp>
          <p:nvSpPr>
            <p:cNvPr id="122" name=""/>
            <p:cNvSpPr/>
            <p:nvPr/>
          </p:nvSpPr>
          <p:spPr>
            <a:xfrm>
              <a:off x="1042920" y="5222880"/>
              <a:ext cx="1808280" cy="720720"/>
            </a:xfrm>
            <a:custGeom>
              <a:avLst/>
              <a:gdLst/>
              <a:ahLst/>
              <a:rect l="l" t="t" r="r" b="b"/>
              <a:pathLst>
                <a:path w="2800" h="1069">
                  <a:moveTo>
                    <a:pt x="1879" y="74"/>
                  </a:moveTo>
                  <a:lnTo>
                    <a:pt x="1899" y="86"/>
                  </a:lnTo>
                  <a:lnTo>
                    <a:pt x="1920" y="97"/>
                  </a:lnTo>
                  <a:lnTo>
                    <a:pt x="1930" y="103"/>
                  </a:lnTo>
                  <a:lnTo>
                    <a:pt x="1939" y="109"/>
                  </a:lnTo>
                  <a:lnTo>
                    <a:pt x="1951" y="115"/>
                  </a:lnTo>
                  <a:lnTo>
                    <a:pt x="1963" y="121"/>
                  </a:lnTo>
                  <a:lnTo>
                    <a:pt x="1972" y="125"/>
                  </a:lnTo>
                  <a:lnTo>
                    <a:pt x="1984" y="128"/>
                  </a:lnTo>
                  <a:lnTo>
                    <a:pt x="1996" y="132"/>
                  </a:lnTo>
                  <a:lnTo>
                    <a:pt x="2007" y="138"/>
                  </a:lnTo>
                  <a:lnTo>
                    <a:pt x="2019" y="140"/>
                  </a:lnTo>
                  <a:lnTo>
                    <a:pt x="2031" y="146"/>
                  </a:lnTo>
                  <a:lnTo>
                    <a:pt x="2042" y="148"/>
                  </a:lnTo>
                  <a:lnTo>
                    <a:pt x="2054" y="154"/>
                  </a:lnTo>
                  <a:lnTo>
                    <a:pt x="2064" y="156"/>
                  </a:lnTo>
                  <a:lnTo>
                    <a:pt x="2075" y="158"/>
                  </a:lnTo>
                  <a:lnTo>
                    <a:pt x="2087" y="159"/>
                  </a:lnTo>
                  <a:lnTo>
                    <a:pt x="2098" y="163"/>
                  </a:lnTo>
                  <a:lnTo>
                    <a:pt x="2110" y="165"/>
                  </a:lnTo>
                  <a:lnTo>
                    <a:pt x="2122" y="169"/>
                  </a:lnTo>
                  <a:lnTo>
                    <a:pt x="2133" y="171"/>
                  </a:lnTo>
                  <a:lnTo>
                    <a:pt x="2145" y="175"/>
                  </a:lnTo>
                  <a:lnTo>
                    <a:pt x="2157" y="175"/>
                  </a:lnTo>
                  <a:lnTo>
                    <a:pt x="2168" y="179"/>
                  </a:lnTo>
                  <a:lnTo>
                    <a:pt x="2180" y="179"/>
                  </a:lnTo>
                  <a:lnTo>
                    <a:pt x="2192" y="183"/>
                  </a:lnTo>
                  <a:lnTo>
                    <a:pt x="2203" y="183"/>
                  </a:lnTo>
                  <a:lnTo>
                    <a:pt x="2215" y="187"/>
                  </a:lnTo>
                  <a:lnTo>
                    <a:pt x="2226" y="187"/>
                  </a:lnTo>
                  <a:lnTo>
                    <a:pt x="2240" y="190"/>
                  </a:lnTo>
                  <a:lnTo>
                    <a:pt x="2252" y="190"/>
                  </a:lnTo>
                  <a:lnTo>
                    <a:pt x="2263" y="192"/>
                  </a:lnTo>
                  <a:lnTo>
                    <a:pt x="2275" y="192"/>
                  </a:lnTo>
                  <a:lnTo>
                    <a:pt x="2287" y="194"/>
                  </a:lnTo>
                  <a:lnTo>
                    <a:pt x="2298" y="194"/>
                  </a:lnTo>
                  <a:lnTo>
                    <a:pt x="2310" y="196"/>
                  </a:lnTo>
                  <a:lnTo>
                    <a:pt x="2321" y="198"/>
                  </a:lnTo>
                  <a:lnTo>
                    <a:pt x="2333" y="200"/>
                  </a:lnTo>
                  <a:lnTo>
                    <a:pt x="2345" y="200"/>
                  </a:lnTo>
                  <a:lnTo>
                    <a:pt x="2356" y="200"/>
                  </a:lnTo>
                  <a:lnTo>
                    <a:pt x="2368" y="202"/>
                  </a:lnTo>
                  <a:lnTo>
                    <a:pt x="2382" y="204"/>
                  </a:lnTo>
                  <a:lnTo>
                    <a:pt x="2393" y="204"/>
                  </a:lnTo>
                  <a:lnTo>
                    <a:pt x="2405" y="206"/>
                  </a:lnTo>
                  <a:lnTo>
                    <a:pt x="2416" y="208"/>
                  </a:lnTo>
                  <a:lnTo>
                    <a:pt x="2430" y="210"/>
                  </a:lnTo>
                  <a:lnTo>
                    <a:pt x="2442" y="210"/>
                  </a:lnTo>
                  <a:lnTo>
                    <a:pt x="2453" y="210"/>
                  </a:lnTo>
                  <a:lnTo>
                    <a:pt x="2465" y="212"/>
                  </a:lnTo>
                  <a:lnTo>
                    <a:pt x="2477" y="214"/>
                  </a:lnTo>
                  <a:lnTo>
                    <a:pt x="2488" y="214"/>
                  </a:lnTo>
                  <a:lnTo>
                    <a:pt x="2500" y="216"/>
                  </a:lnTo>
                  <a:lnTo>
                    <a:pt x="2512" y="218"/>
                  </a:lnTo>
                  <a:lnTo>
                    <a:pt x="2523" y="221"/>
                  </a:lnTo>
                  <a:lnTo>
                    <a:pt x="2535" y="221"/>
                  </a:lnTo>
                  <a:lnTo>
                    <a:pt x="2546" y="223"/>
                  </a:lnTo>
                  <a:lnTo>
                    <a:pt x="2558" y="225"/>
                  </a:lnTo>
                  <a:lnTo>
                    <a:pt x="2570" y="227"/>
                  </a:lnTo>
                  <a:lnTo>
                    <a:pt x="2581" y="229"/>
                  </a:lnTo>
                  <a:lnTo>
                    <a:pt x="2593" y="233"/>
                  </a:lnTo>
                  <a:lnTo>
                    <a:pt x="2605" y="235"/>
                  </a:lnTo>
                  <a:lnTo>
                    <a:pt x="2616" y="239"/>
                  </a:lnTo>
                  <a:lnTo>
                    <a:pt x="2628" y="241"/>
                  </a:lnTo>
                  <a:lnTo>
                    <a:pt x="2640" y="245"/>
                  </a:lnTo>
                  <a:lnTo>
                    <a:pt x="2651" y="247"/>
                  </a:lnTo>
                  <a:lnTo>
                    <a:pt x="2663" y="253"/>
                  </a:lnTo>
                  <a:lnTo>
                    <a:pt x="2674" y="254"/>
                  </a:lnTo>
                  <a:lnTo>
                    <a:pt x="2686" y="258"/>
                  </a:lnTo>
                  <a:lnTo>
                    <a:pt x="2698" y="262"/>
                  </a:lnTo>
                  <a:lnTo>
                    <a:pt x="2711" y="268"/>
                  </a:lnTo>
                  <a:lnTo>
                    <a:pt x="2721" y="270"/>
                  </a:lnTo>
                  <a:lnTo>
                    <a:pt x="2733" y="274"/>
                  </a:lnTo>
                  <a:lnTo>
                    <a:pt x="2744" y="278"/>
                  </a:lnTo>
                  <a:lnTo>
                    <a:pt x="2756" y="284"/>
                  </a:lnTo>
                  <a:lnTo>
                    <a:pt x="2766" y="287"/>
                  </a:lnTo>
                  <a:lnTo>
                    <a:pt x="2777" y="293"/>
                  </a:lnTo>
                  <a:lnTo>
                    <a:pt x="2789" y="299"/>
                  </a:lnTo>
                  <a:lnTo>
                    <a:pt x="2800" y="305"/>
                  </a:lnTo>
                  <a:lnTo>
                    <a:pt x="2779" y="299"/>
                  </a:lnTo>
                  <a:lnTo>
                    <a:pt x="2760" y="297"/>
                  </a:lnTo>
                  <a:lnTo>
                    <a:pt x="2748" y="295"/>
                  </a:lnTo>
                  <a:lnTo>
                    <a:pt x="2736" y="295"/>
                  </a:lnTo>
                  <a:lnTo>
                    <a:pt x="2725" y="295"/>
                  </a:lnTo>
                  <a:lnTo>
                    <a:pt x="2715" y="295"/>
                  </a:lnTo>
                  <a:lnTo>
                    <a:pt x="2702" y="293"/>
                  </a:lnTo>
                  <a:lnTo>
                    <a:pt x="2690" y="293"/>
                  </a:lnTo>
                  <a:lnTo>
                    <a:pt x="2678" y="293"/>
                  </a:lnTo>
                  <a:lnTo>
                    <a:pt x="2667" y="293"/>
                  </a:lnTo>
                  <a:lnTo>
                    <a:pt x="2655" y="293"/>
                  </a:lnTo>
                  <a:lnTo>
                    <a:pt x="2643" y="293"/>
                  </a:lnTo>
                  <a:lnTo>
                    <a:pt x="2632" y="293"/>
                  </a:lnTo>
                  <a:lnTo>
                    <a:pt x="2620" y="293"/>
                  </a:lnTo>
                  <a:lnTo>
                    <a:pt x="2607" y="291"/>
                  </a:lnTo>
                  <a:lnTo>
                    <a:pt x="2595" y="291"/>
                  </a:lnTo>
                  <a:lnTo>
                    <a:pt x="2583" y="289"/>
                  </a:lnTo>
                  <a:lnTo>
                    <a:pt x="2572" y="289"/>
                  </a:lnTo>
                  <a:lnTo>
                    <a:pt x="2560" y="287"/>
                  </a:lnTo>
                  <a:lnTo>
                    <a:pt x="2548" y="285"/>
                  </a:lnTo>
                  <a:lnTo>
                    <a:pt x="2537" y="284"/>
                  </a:lnTo>
                  <a:lnTo>
                    <a:pt x="2525" y="284"/>
                  </a:lnTo>
                  <a:lnTo>
                    <a:pt x="2513" y="280"/>
                  </a:lnTo>
                  <a:lnTo>
                    <a:pt x="2502" y="278"/>
                  </a:lnTo>
                  <a:lnTo>
                    <a:pt x="2490" y="276"/>
                  </a:lnTo>
                  <a:lnTo>
                    <a:pt x="2480" y="274"/>
                  </a:lnTo>
                  <a:lnTo>
                    <a:pt x="2459" y="266"/>
                  </a:lnTo>
                  <a:lnTo>
                    <a:pt x="2442" y="258"/>
                  </a:lnTo>
                  <a:lnTo>
                    <a:pt x="2428" y="258"/>
                  </a:lnTo>
                  <a:lnTo>
                    <a:pt x="2422" y="264"/>
                  </a:lnTo>
                  <a:lnTo>
                    <a:pt x="2416" y="268"/>
                  </a:lnTo>
                  <a:lnTo>
                    <a:pt x="2413" y="276"/>
                  </a:lnTo>
                  <a:lnTo>
                    <a:pt x="2422" y="305"/>
                  </a:lnTo>
                  <a:lnTo>
                    <a:pt x="2436" y="318"/>
                  </a:lnTo>
                  <a:lnTo>
                    <a:pt x="2451" y="332"/>
                  </a:lnTo>
                  <a:lnTo>
                    <a:pt x="2469" y="346"/>
                  </a:lnTo>
                  <a:lnTo>
                    <a:pt x="2486" y="359"/>
                  </a:lnTo>
                  <a:lnTo>
                    <a:pt x="2504" y="371"/>
                  </a:lnTo>
                  <a:lnTo>
                    <a:pt x="2521" y="384"/>
                  </a:lnTo>
                  <a:lnTo>
                    <a:pt x="2539" y="396"/>
                  </a:lnTo>
                  <a:lnTo>
                    <a:pt x="2556" y="410"/>
                  </a:lnTo>
                  <a:lnTo>
                    <a:pt x="2574" y="419"/>
                  </a:lnTo>
                  <a:lnTo>
                    <a:pt x="2591" y="429"/>
                  </a:lnTo>
                  <a:lnTo>
                    <a:pt x="2608" y="439"/>
                  </a:lnTo>
                  <a:lnTo>
                    <a:pt x="2628" y="450"/>
                  </a:lnTo>
                  <a:lnTo>
                    <a:pt x="2645" y="460"/>
                  </a:lnTo>
                  <a:lnTo>
                    <a:pt x="2663" y="470"/>
                  </a:lnTo>
                  <a:lnTo>
                    <a:pt x="2680" y="479"/>
                  </a:lnTo>
                  <a:lnTo>
                    <a:pt x="2700" y="489"/>
                  </a:lnTo>
                  <a:lnTo>
                    <a:pt x="2682" y="487"/>
                  </a:lnTo>
                  <a:lnTo>
                    <a:pt x="2665" y="485"/>
                  </a:lnTo>
                  <a:lnTo>
                    <a:pt x="2647" y="481"/>
                  </a:lnTo>
                  <a:lnTo>
                    <a:pt x="2630" y="479"/>
                  </a:lnTo>
                  <a:lnTo>
                    <a:pt x="2612" y="474"/>
                  </a:lnTo>
                  <a:lnTo>
                    <a:pt x="2597" y="468"/>
                  </a:lnTo>
                  <a:lnTo>
                    <a:pt x="2581" y="462"/>
                  </a:lnTo>
                  <a:lnTo>
                    <a:pt x="2568" y="456"/>
                  </a:lnTo>
                  <a:lnTo>
                    <a:pt x="2550" y="446"/>
                  </a:lnTo>
                  <a:lnTo>
                    <a:pt x="2537" y="439"/>
                  </a:lnTo>
                  <a:lnTo>
                    <a:pt x="2521" y="429"/>
                  </a:lnTo>
                  <a:lnTo>
                    <a:pt x="2510" y="421"/>
                  </a:lnTo>
                  <a:lnTo>
                    <a:pt x="2494" y="410"/>
                  </a:lnTo>
                  <a:lnTo>
                    <a:pt x="2482" y="400"/>
                  </a:lnTo>
                  <a:lnTo>
                    <a:pt x="2471" y="388"/>
                  </a:lnTo>
                  <a:lnTo>
                    <a:pt x="2459" y="379"/>
                  </a:lnTo>
                  <a:lnTo>
                    <a:pt x="2442" y="371"/>
                  </a:lnTo>
                  <a:lnTo>
                    <a:pt x="2424" y="365"/>
                  </a:lnTo>
                  <a:lnTo>
                    <a:pt x="2407" y="359"/>
                  </a:lnTo>
                  <a:lnTo>
                    <a:pt x="2391" y="353"/>
                  </a:lnTo>
                  <a:lnTo>
                    <a:pt x="2374" y="348"/>
                  </a:lnTo>
                  <a:lnTo>
                    <a:pt x="2358" y="344"/>
                  </a:lnTo>
                  <a:lnTo>
                    <a:pt x="2341" y="340"/>
                  </a:lnTo>
                  <a:lnTo>
                    <a:pt x="2325" y="336"/>
                  </a:lnTo>
                  <a:lnTo>
                    <a:pt x="2308" y="330"/>
                  </a:lnTo>
                  <a:lnTo>
                    <a:pt x="2290" y="326"/>
                  </a:lnTo>
                  <a:lnTo>
                    <a:pt x="2273" y="320"/>
                  </a:lnTo>
                  <a:lnTo>
                    <a:pt x="2256" y="317"/>
                  </a:lnTo>
                  <a:lnTo>
                    <a:pt x="2238" y="311"/>
                  </a:lnTo>
                  <a:lnTo>
                    <a:pt x="2221" y="305"/>
                  </a:lnTo>
                  <a:lnTo>
                    <a:pt x="2205" y="299"/>
                  </a:lnTo>
                  <a:lnTo>
                    <a:pt x="2192" y="295"/>
                  </a:lnTo>
                  <a:lnTo>
                    <a:pt x="2180" y="289"/>
                  </a:lnTo>
                  <a:lnTo>
                    <a:pt x="2168" y="285"/>
                  </a:lnTo>
                  <a:lnTo>
                    <a:pt x="2157" y="280"/>
                  </a:lnTo>
                  <a:lnTo>
                    <a:pt x="2145" y="276"/>
                  </a:lnTo>
                  <a:lnTo>
                    <a:pt x="2133" y="270"/>
                  </a:lnTo>
                  <a:lnTo>
                    <a:pt x="2122" y="266"/>
                  </a:lnTo>
                  <a:lnTo>
                    <a:pt x="2110" y="260"/>
                  </a:lnTo>
                  <a:lnTo>
                    <a:pt x="2100" y="256"/>
                  </a:lnTo>
                  <a:lnTo>
                    <a:pt x="2089" y="251"/>
                  </a:lnTo>
                  <a:lnTo>
                    <a:pt x="2077" y="245"/>
                  </a:lnTo>
                  <a:lnTo>
                    <a:pt x="2065" y="239"/>
                  </a:lnTo>
                  <a:lnTo>
                    <a:pt x="2056" y="235"/>
                  </a:lnTo>
                  <a:lnTo>
                    <a:pt x="2044" y="229"/>
                  </a:lnTo>
                  <a:lnTo>
                    <a:pt x="2034" y="225"/>
                  </a:lnTo>
                  <a:lnTo>
                    <a:pt x="2023" y="220"/>
                  </a:lnTo>
                  <a:lnTo>
                    <a:pt x="2013" y="216"/>
                  </a:lnTo>
                  <a:lnTo>
                    <a:pt x="2001" y="210"/>
                  </a:lnTo>
                  <a:lnTo>
                    <a:pt x="1990" y="204"/>
                  </a:lnTo>
                  <a:lnTo>
                    <a:pt x="1978" y="198"/>
                  </a:lnTo>
                  <a:lnTo>
                    <a:pt x="1968" y="194"/>
                  </a:lnTo>
                  <a:lnTo>
                    <a:pt x="1957" y="189"/>
                  </a:lnTo>
                  <a:lnTo>
                    <a:pt x="1947" y="185"/>
                  </a:lnTo>
                  <a:lnTo>
                    <a:pt x="1936" y="179"/>
                  </a:lnTo>
                  <a:lnTo>
                    <a:pt x="1926" y="175"/>
                  </a:lnTo>
                  <a:lnTo>
                    <a:pt x="1914" y="169"/>
                  </a:lnTo>
                  <a:lnTo>
                    <a:pt x="1903" y="163"/>
                  </a:lnTo>
                  <a:lnTo>
                    <a:pt x="1893" y="159"/>
                  </a:lnTo>
                  <a:lnTo>
                    <a:pt x="1883" y="156"/>
                  </a:lnTo>
                  <a:lnTo>
                    <a:pt x="1862" y="146"/>
                  </a:lnTo>
                  <a:lnTo>
                    <a:pt x="1842" y="138"/>
                  </a:lnTo>
                  <a:lnTo>
                    <a:pt x="1831" y="138"/>
                  </a:lnTo>
                  <a:lnTo>
                    <a:pt x="1821" y="138"/>
                  </a:lnTo>
                  <a:lnTo>
                    <a:pt x="1809" y="140"/>
                  </a:lnTo>
                  <a:lnTo>
                    <a:pt x="1804" y="144"/>
                  </a:lnTo>
                  <a:lnTo>
                    <a:pt x="1790" y="152"/>
                  </a:lnTo>
                  <a:lnTo>
                    <a:pt x="1786" y="165"/>
                  </a:lnTo>
                  <a:lnTo>
                    <a:pt x="1780" y="181"/>
                  </a:lnTo>
                  <a:lnTo>
                    <a:pt x="1782" y="194"/>
                  </a:lnTo>
                  <a:lnTo>
                    <a:pt x="1786" y="206"/>
                  </a:lnTo>
                  <a:lnTo>
                    <a:pt x="1796" y="218"/>
                  </a:lnTo>
                  <a:lnTo>
                    <a:pt x="1804" y="227"/>
                  </a:lnTo>
                  <a:lnTo>
                    <a:pt x="1813" y="237"/>
                  </a:lnTo>
                  <a:lnTo>
                    <a:pt x="1823" y="247"/>
                  </a:lnTo>
                  <a:lnTo>
                    <a:pt x="1833" y="258"/>
                  </a:lnTo>
                  <a:lnTo>
                    <a:pt x="1844" y="264"/>
                  </a:lnTo>
                  <a:lnTo>
                    <a:pt x="1858" y="270"/>
                  </a:lnTo>
                  <a:lnTo>
                    <a:pt x="1870" y="276"/>
                  </a:lnTo>
                  <a:lnTo>
                    <a:pt x="1883" y="284"/>
                  </a:lnTo>
                  <a:lnTo>
                    <a:pt x="1895" y="289"/>
                  </a:lnTo>
                  <a:lnTo>
                    <a:pt x="1906" y="297"/>
                  </a:lnTo>
                  <a:lnTo>
                    <a:pt x="1918" y="303"/>
                  </a:lnTo>
                  <a:lnTo>
                    <a:pt x="1930" y="311"/>
                  </a:lnTo>
                  <a:lnTo>
                    <a:pt x="1939" y="315"/>
                  </a:lnTo>
                  <a:lnTo>
                    <a:pt x="1951" y="320"/>
                  </a:lnTo>
                  <a:lnTo>
                    <a:pt x="1963" y="326"/>
                  </a:lnTo>
                  <a:lnTo>
                    <a:pt x="1974" y="332"/>
                  </a:lnTo>
                  <a:lnTo>
                    <a:pt x="1986" y="336"/>
                  </a:lnTo>
                  <a:lnTo>
                    <a:pt x="1998" y="340"/>
                  </a:lnTo>
                  <a:lnTo>
                    <a:pt x="2011" y="344"/>
                  </a:lnTo>
                  <a:lnTo>
                    <a:pt x="2027" y="349"/>
                  </a:lnTo>
                  <a:lnTo>
                    <a:pt x="2034" y="351"/>
                  </a:lnTo>
                  <a:lnTo>
                    <a:pt x="2044" y="359"/>
                  </a:lnTo>
                  <a:lnTo>
                    <a:pt x="2054" y="365"/>
                  </a:lnTo>
                  <a:lnTo>
                    <a:pt x="2064" y="369"/>
                  </a:lnTo>
                  <a:lnTo>
                    <a:pt x="2083" y="377"/>
                  </a:lnTo>
                  <a:lnTo>
                    <a:pt x="2104" y="384"/>
                  </a:lnTo>
                  <a:lnTo>
                    <a:pt x="2114" y="388"/>
                  </a:lnTo>
                  <a:lnTo>
                    <a:pt x="2126" y="392"/>
                  </a:lnTo>
                  <a:lnTo>
                    <a:pt x="2137" y="398"/>
                  </a:lnTo>
                  <a:lnTo>
                    <a:pt x="2149" y="404"/>
                  </a:lnTo>
                  <a:lnTo>
                    <a:pt x="2159" y="408"/>
                  </a:lnTo>
                  <a:lnTo>
                    <a:pt x="2170" y="412"/>
                  </a:lnTo>
                  <a:lnTo>
                    <a:pt x="2182" y="415"/>
                  </a:lnTo>
                  <a:lnTo>
                    <a:pt x="2193" y="421"/>
                  </a:lnTo>
                  <a:lnTo>
                    <a:pt x="2203" y="427"/>
                  </a:lnTo>
                  <a:lnTo>
                    <a:pt x="2215" y="433"/>
                  </a:lnTo>
                  <a:lnTo>
                    <a:pt x="2226" y="439"/>
                  </a:lnTo>
                  <a:lnTo>
                    <a:pt x="2238" y="444"/>
                  </a:lnTo>
                  <a:lnTo>
                    <a:pt x="2257" y="456"/>
                  </a:lnTo>
                  <a:lnTo>
                    <a:pt x="2277" y="468"/>
                  </a:lnTo>
                  <a:lnTo>
                    <a:pt x="2296" y="481"/>
                  </a:lnTo>
                  <a:lnTo>
                    <a:pt x="2318" y="497"/>
                  </a:lnTo>
                  <a:lnTo>
                    <a:pt x="2335" y="512"/>
                  </a:lnTo>
                  <a:lnTo>
                    <a:pt x="2352" y="530"/>
                  </a:lnTo>
                  <a:lnTo>
                    <a:pt x="2360" y="538"/>
                  </a:lnTo>
                  <a:lnTo>
                    <a:pt x="2368" y="547"/>
                  </a:lnTo>
                  <a:lnTo>
                    <a:pt x="2376" y="559"/>
                  </a:lnTo>
                  <a:lnTo>
                    <a:pt x="2385" y="571"/>
                  </a:lnTo>
                  <a:lnTo>
                    <a:pt x="2364" y="553"/>
                  </a:lnTo>
                  <a:lnTo>
                    <a:pt x="2345" y="541"/>
                  </a:lnTo>
                  <a:lnTo>
                    <a:pt x="2323" y="530"/>
                  </a:lnTo>
                  <a:lnTo>
                    <a:pt x="2304" y="520"/>
                  </a:lnTo>
                  <a:lnTo>
                    <a:pt x="2292" y="514"/>
                  </a:lnTo>
                  <a:lnTo>
                    <a:pt x="2281" y="508"/>
                  </a:lnTo>
                  <a:lnTo>
                    <a:pt x="2269" y="505"/>
                  </a:lnTo>
                  <a:lnTo>
                    <a:pt x="2259" y="501"/>
                  </a:lnTo>
                  <a:lnTo>
                    <a:pt x="2248" y="495"/>
                  </a:lnTo>
                  <a:lnTo>
                    <a:pt x="2238" y="491"/>
                  </a:lnTo>
                  <a:lnTo>
                    <a:pt x="2226" y="487"/>
                  </a:lnTo>
                  <a:lnTo>
                    <a:pt x="2217" y="483"/>
                  </a:lnTo>
                  <a:lnTo>
                    <a:pt x="2205" y="477"/>
                  </a:lnTo>
                  <a:lnTo>
                    <a:pt x="2193" y="474"/>
                  </a:lnTo>
                  <a:lnTo>
                    <a:pt x="2182" y="468"/>
                  </a:lnTo>
                  <a:lnTo>
                    <a:pt x="2172" y="464"/>
                  </a:lnTo>
                  <a:lnTo>
                    <a:pt x="2160" y="458"/>
                  </a:lnTo>
                  <a:lnTo>
                    <a:pt x="2149" y="454"/>
                  </a:lnTo>
                  <a:lnTo>
                    <a:pt x="2137" y="448"/>
                  </a:lnTo>
                  <a:lnTo>
                    <a:pt x="2128" y="444"/>
                  </a:lnTo>
                  <a:lnTo>
                    <a:pt x="2116" y="439"/>
                  </a:lnTo>
                  <a:lnTo>
                    <a:pt x="2104" y="433"/>
                  </a:lnTo>
                  <a:lnTo>
                    <a:pt x="2095" y="427"/>
                  </a:lnTo>
                  <a:lnTo>
                    <a:pt x="2085" y="421"/>
                  </a:lnTo>
                  <a:lnTo>
                    <a:pt x="2064" y="408"/>
                  </a:lnTo>
                  <a:lnTo>
                    <a:pt x="2044" y="396"/>
                  </a:lnTo>
                  <a:lnTo>
                    <a:pt x="2031" y="396"/>
                  </a:lnTo>
                  <a:lnTo>
                    <a:pt x="2023" y="402"/>
                  </a:lnTo>
                  <a:lnTo>
                    <a:pt x="2017" y="410"/>
                  </a:lnTo>
                  <a:lnTo>
                    <a:pt x="2017" y="423"/>
                  </a:lnTo>
                  <a:lnTo>
                    <a:pt x="2021" y="439"/>
                  </a:lnTo>
                  <a:lnTo>
                    <a:pt x="2036" y="450"/>
                  </a:lnTo>
                  <a:lnTo>
                    <a:pt x="2050" y="462"/>
                  </a:lnTo>
                  <a:lnTo>
                    <a:pt x="2064" y="479"/>
                  </a:lnTo>
                  <a:lnTo>
                    <a:pt x="2083" y="491"/>
                  </a:lnTo>
                  <a:lnTo>
                    <a:pt x="2104" y="503"/>
                  </a:lnTo>
                  <a:lnTo>
                    <a:pt x="2124" y="516"/>
                  </a:lnTo>
                  <a:lnTo>
                    <a:pt x="2145" y="534"/>
                  </a:lnTo>
                  <a:lnTo>
                    <a:pt x="2164" y="549"/>
                  </a:lnTo>
                  <a:lnTo>
                    <a:pt x="2184" y="567"/>
                  </a:lnTo>
                  <a:lnTo>
                    <a:pt x="2203" y="586"/>
                  </a:lnTo>
                  <a:lnTo>
                    <a:pt x="2223" y="605"/>
                  </a:lnTo>
                  <a:lnTo>
                    <a:pt x="2236" y="623"/>
                  </a:lnTo>
                  <a:lnTo>
                    <a:pt x="2252" y="644"/>
                  </a:lnTo>
                  <a:lnTo>
                    <a:pt x="2257" y="654"/>
                  </a:lnTo>
                  <a:lnTo>
                    <a:pt x="2265" y="666"/>
                  </a:lnTo>
                  <a:lnTo>
                    <a:pt x="2271" y="677"/>
                  </a:lnTo>
                  <a:lnTo>
                    <a:pt x="2279" y="689"/>
                  </a:lnTo>
                  <a:lnTo>
                    <a:pt x="2283" y="698"/>
                  </a:lnTo>
                  <a:lnTo>
                    <a:pt x="2288" y="710"/>
                  </a:lnTo>
                  <a:lnTo>
                    <a:pt x="2292" y="722"/>
                  </a:lnTo>
                  <a:lnTo>
                    <a:pt x="2298" y="733"/>
                  </a:lnTo>
                  <a:lnTo>
                    <a:pt x="2300" y="745"/>
                  </a:lnTo>
                  <a:lnTo>
                    <a:pt x="2304" y="759"/>
                  </a:lnTo>
                  <a:lnTo>
                    <a:pt x="2308" y="770"/>
                  </a:lnTo>
                  <a:lnTo>
                    <a:pt x="2312" y="784"/>
                  </a:lnTo>
                  <a:lnTo>
                    <a:pt x="2290" y="766"/>
                  </a:lnTo>
                  <a:lnTo>
                    <a:pt x="2275" y="747"/>
                  </a:lnTo>
                  <a:lnTo>
                    <a:pt x="2265" y="735"/>
                  </a:lnTo>
                  <a:lnTo>
                    <a:pt x="2257" y="724"/>
                  </a:lnTo>
                  <a:lnTo>
                    <a:pt x="2250" y="712"/>
                  </a:lnTo>
                  <a:lnTo>
                    <a:pt x="2244" y="702"/>
                  </a:lnTo>
                  <a:lnTo>
                    <a:pt x="2236" y="689"/>
                  </a:lnTo>
                  <a:lnTo>
                    <a:pt x="2228" y="675"/>
                  </a:lnTo>
                  <a:lnTo>
                    <a:pt x="2221" y="664"/>
                  </a:lnTo>
                  <a:lnTo>
                    <a:pt x="2213" y="652"/>
                  </a:lnTo>
                  <a:lnTo>
                    <a:pt x="2205" y="640"/>
                  </a:lnTo>
                  <a:lnTo>
                    <a:pt x="2197" y="629"/>
                  </a:lnTo>
                  <a:lnTo>
                    <a:pt x="2190" y="617"/>
                  </a:lnTo>
                  <a:lnTo>
                    <a:pt x="2184" y="607"/>
                  </a:lnTo>
                  <a:lnTo>
                    <a:pt x="2170" y="594"/>
                  </a:lnTo>
                  <a:lnTo>
                    <a:pt x="2157" y="582"/>
                  </a:lnTo>
                  <a:lnTo>
                    <a:pt x="2143" y="571"/>
                  </a:lnTo>
                  <a:lnTo>
                    <a:pt x="2131" y="561"/>
                  </a:lnTo>
                  <a:lnTo>
                    <a:pt x="2118" y="549"/>
                  </a:lnTo>
                  <a:lnTo>
                    <a:pt x="2104" y="539"/>
                  </a:lnTo>
                  <a:lnTo>
                    <a:pt x="2091" y="530"/>
                  </a:lnTo>
                  <a:lnTo>
                    <a:pt x="2079" y="522"/>
                  </a:lnTo>
                  <a:lnTo>
                    <a:pt x="2064" y="512"/>
                  </a:lnTo>
                  <a:lnTo>
                    <a:pt x="2052" y="505"/>
                  </a:lnTo>
                  <a:lnTo>
                    <a:pt x="2036" y="499"/>
                  </a:lnTo>
                  <a:lnTo>
                    <a:pt x="2025" y="493"/>
                  </a:lnTo>
                  <a:lnTo>
                    <a:pt x="2009" y="487"/>
                  </a:lnTo>
                  <a:lnTo>
                    <a:pt x="1998" y="483"/>
                  </a:lnTo>
                  <a:lnTo>
                    <a:pt x="1982" y="479"/>
                  </a:lnTo>
                  <a:lnTo>
                    <a:pt x="1970" y="479"/>
                  </a:lnTo>
                  <a:lnTo>
                    <a:pt x="1957" y="470"/>
                  </a:lnTo>
                  <a:lnTo>
                    <a:pt x="1947" y="462"/>
                  </a:lnTo>
                  <a:lnTo>
                    <a:pt x="1937" y="454"/>
                  </a:lnTo>
                  <a:lnTo>
                    <a:pt x="1930" y="446"/>
                  </a:lnTo>
                  <a:lnTo>
                    <a:pt x="1914" y="427"/>
                  </a:lnTo>
                  <a:lnTo>
                    <a:pt x="1903" y="408"/>
                  </a:lnTo>
                  <a:lnTo>
                    <a:pt x="1891" y="386"/>
                  </a:lnTo>
                  <a:lnTo>
                    <a:pt x="1879" y="369"/>
                  </a:lnTo>
                  <a:lnTo>
                    <a:pt x="1866" y="349"/>
                  </a:lnTo>
                  <a:lnTo>
                    <a:pt x="1852" y="332"/>
                  </a:lnTo>
                  <a:lnTo>
                    <a:pt x="1839" y="320"/>
                  </a:lnTo>
                  <a:lnTo>
                    <a:pt x="1827" y="309"/>
                  </a:lnTo>
                  <a:lnTo>
                    <a:pt x="1815" y="297"/>
                  </a:lnTo>
                  <a:lnTo>
                    <a:pt x="1804" y="289"/>
                  </a:lnTo>
                  <a:lnTo>
                    <a:pt x="1790" y="278"/>
                  </a:lnTo>
                  <a:lnTo>
                    <a:pt x="1778" y="270"/>
                  </a:lnTo>
                  <a:lnTo>
                    <a:pt x="1767" y="260"/>
                  </a:lnTo>
                  <a:lnTo>
                    <a:pt x="1755" y="253"/>
                  </a:lnTo>
                  <a:lnTo>
                    <a:pt x="1742" y="243"/>
                  </a:lnTo>
                  <a:lnTo>
                    <a:pt x="1728" y="235"/>
                  </a:lnTo>
                  <a:lnTo>
                    <a:pt x="1714" y="225"/>
                  </a:lnTo>
                  <a:lnTo>
                    <a:pt x="1703" y="220"/>
                  </a:lnTo>
                  <a:lnTo>
                    <a:pt x="1689" y="212"/>
                  </a:lnTo>
                  <a:lnTo>
                    <a:pt x="1678" y="206"/>
                  </a:lnTo>
                  <a:lnTo>
                    <a:pt x="1664" y="200"/>
                  </a:lnTo>
                  <a:lnTo>
                    <a:pt x="1652" y="194"/>
                  </a:lnTo>
                  <a:lnTo>
                    <a:pt x="1637" y="187"/>
                  </a:lnTo>
                  <a:lnTo>
                    <a:pt x="1623" y="181"/>
                  </a:lnTo>
                  <a:lnTo>
                    <a:pt x="1610" y="175"/>
                  </a:lnTo>
                  <a:lnTo>
                    <a:pt x="1596" y="169"/>
                  </a:lnTo>
                  <a:lnTo>
                    <a:pt x="1581" y="163"/>
                  </a:lnTo>
                  <a:lnTo>
                    <a:pt x="1569" y="159"/>
                  </a:lnTo>
                  <a:lnTo>
                    <a:pt x="1553" y="156"/>
                  </a:lnTo>
                  <a:lnTo>
                    <a:pt x="1542" y="152"/>
                  </a:lnTo>
                  <a:lnTo>
                    <a:pt x="1526" y="146"/>
                  </a:lnTo>
                  <a:lnTo>
                    <a:pt x="1513" y="140"/>
                  </a:lnTo>
                  <a:lnTo>
                    <a:pt x="1497" y="136"/>
                  </a:lnTo>
                  <a:lnTo>
                    <a:pt x="1484" y="132"/>
                  </a:lnTo>
                  <a:lnTo>
                    <a:pt x="1468" y="128"/>
                  </a:lnTo>
                  <a:lnTo>
                    <a:pt x="1455" y="126"/>
                  </a:lnTo>
                  <a:lnTo>
                    <a:pt x="1441" y="123"/>
                  </a:lnTo>
                  <a:lnTo>
                    <a:pt x="1427" y="121"/>
                  </a:lnTo>
                  <a:lnTo>
                    <a:pt x="1422" y="125"/>
                  </a:lnTo>
                  <a:lnTo>
                    <a:pt x="1418" y="138"/>
                  </a:lnTo>
                  <a:lnTo>
                    <a:pt x="1422" y="154"/>
                  </a:lnTo>
                  <a:lnTo>
                    <a:pt x="1427" y="171"/>
                  </a:lnTo>
                  <a:lnTo>
                    <a:pt x="1433" y="187"/>
                  </a:lnTo>
                  <a:lnTo>
                    <a:pt x="1439" y="204"/>
                  </a:lnTo>
                  <a:lnTo>
                    <a:pt x="1445" y="220"/>
                  </a:lnTo>
                  <a:lnTo>
                    <a:pt x="1451" y="235"/>
                  </a:lnTo>
                  <a:lnTo>
                    <a:pt x="1456" y="251"/>
                  </a:lnTo>
                  <a:lnTo>
                    <a:pt x="1466" y="266"/>
                  </a:lnTo>
                  <a:lnTo>
                    <a:pt x="1472" y="280"/>
                  </a:lnTo>
                  <a:lnTo>
                    <a:pt x="1482" y="293"/>
                  </a:lnTo>
                  <a:lnTo>
                    <a:pt x="1491" y="307"/>
                  </a:lnTo>
                  <a:lnTo>
                    <a:pt x="1503" y="320"/>
                  </a:lnTo>
                  <a:lnTo>
                    <a:pt x="1515" y="332"/>
                  </a:lnTo>
                  <a:lnTo>
                    <a:pt x="1526" y="344"/>
                  </a:lnTo>
                  <a:lnTo>
                    <a:pt x="1540" y="355"/>
                  </a:lnTo>
                  <a:lnTo>
                    <a:pt x="1557" y="369"/>
                  </a:lnTo>
                  <a:lnTo>
                    <a:pt x="1573" y="375"/>
                  </a:lnTo>
                  <a:lnTo>
                    <a:pt x="1592" y="382"/>
                  </a:lnTo>
                  <a:lnTo>
                    <a:pt x="1610" y="388"/>
                  </a:lnTo>
                  <a:lnTo>
                    <a:pt x="1631" y="394"/>
                  </a:lnTo>
                  <a:lnTo>
                    <a:pt x="1648" y="400"/>
                  </a:lnTo>
                  <a:lnTo>
                    <a:pt x="1668" y="410"/>
                  </a:lnTo>
                  <a:lnTo>
                    <a:pt x="1674" y="415"/>
                  </a:lnTo>
                  <a:lnTo>
                    <a:pt x="1681" y="423"/>
                  </a:lnTo>
                  <a:lnTo>
                    <a:pt x="1687" y="431"/>
                  </a:lnTo>
                  <a:lnTo>
                    <a:pt x="1695" y="443"/>
                  </a:lnTo>
                  <a:lnTo>
                    <a:pt x="1699" y="460"/>
                  </a:lnTo>
                  <a:lnTo>
                    <a:pt x="1709" y="477"/>
                  </a:lnTo>
                  <a:lnTo>
                    <a:pt x="1718" y="491"/>
                  </a:lnTo>
                  <a:lnTo>
                    <a:pt x="1730" y="505"/>
                  </a:lnTo>
                  <a:lnTo>
                    <a:pt x="1742" y="514"/>
                  </a:lnTo>
                  <a:lnTo>
                    <a:pt x="1755" y="524"/>
                  </a:lnTo>
                  <a:lnTo>
                    <a:pt x="1771" y="534"/>
                  </a:lnTo>
                  <a:lnTo>
                    <a:pt x="1788" y="543"/>
                  </a:lnTo>
                  <a:lnTo>
                    <a:pt x="1804" y="549"/>
                  </a:lnTo>
                  <a:lnTo>
                    <a:pt x="1819" y="557"/>
                  </a:lnTo>
                  <a:lnTo>
                    <a:pt x="1837" y="563"/>
                  </a:lnTo>
                  <a:lnTo>
                    <a:pt x="1854" y="572"/>
                  </a:lnTo>
                  <a:lnTo>
                    <a:pt x="1870" y="580"/>
                  </a:lnTo>
                  <a:lnTo>
                    <a:pt x="1885" y="592"/>
                  </a:lnTo>
                  <a:lnTo>
                    <a:pt x="1901" y="602"/>
                  </a:lnTo>
                  <a:lnTo>
                    <a:pt x="1916" y="617"/>
                  </a:lnTo>
                  <a:lnTo>
                    <a:pt x="1928" y="634"/>
                  </a:lnTo>
                  <a:lnTo>
                    <a:pt x="1939" y="654"/>
                  </a:lnTo>
                  <a:lnTo>
                    <a:pt x="1953" y="673"/>
                  </a:lnTo>
                  <a:lnTo>
                    <a:pt x="1968" y="693"/>
                  </a:lnTo>
                  <a:lnTo>
                    <a:pt x="1982" y="710"/>
                  </a:lnTo>
                  <a:lnTo>
                    <a:pt x="1998" y="731"/>
                  </a:lnTo>
                  <a:lnTo>
                    <a:pt x="2013" y="751"/>
                  </a:lnTo>
                  <a:lnTo>
                    <a:pt x="2029" y="772"/>
                  </a:lnTo>
                  <a:lnTo>
                    <a:pt x="2040" y="792"/>
                  </a:lnTo>
                  <a:lnTo>
                    <a:pt x="2054" y="813"/>
                  </a:lnTo>
                  <a:lnTo>
                    <a:pt x="2058" y="823"/>
                  </a:lnTo>
                  <a:lnTo>
                    <a:pt x="2064" y="832"/>
                  </a:lnTo>
                  <a:lnTo>
                    <a:pt x="2069" y="844"/>
                  </a:lnTo>
                  <a:lnTo>
                    <a:pt x="2075" y="856"/>
                  </a:lnTo>
                  <a:lnTo>
                    <a:pt x="2079" y="865"/>
                  </a:lnTo>
                  <a:lnTo>
                    <a:pt x="2083" y="877"/>
                  </a:lnTo>
                  <a:lnTo>
                    <a:pt x="2087" y="889"/>
                  </a:lnTo>
                  <a:lnTo>
                    <a:pt x="2091" y="900"/>
                  </a:lnTo>
                  <a:lnTo>
                    <a:pt x="2093" y="912"/>
                  </a:lnTo>
                  <a:lnTo>
                    <a:pt x="2095" y="923"/>
                  </a:lnTo>
                  <a:lnTo>
                    <a:pt x="2096" y="935"/>
                  </a:lnTo>
                  <a:lnTo>
                    <a:pt x="2100" y="949"/>
                  </a:lnTo>
                  <a:lnTo>
                    <a:pt x="2087" y="935"/>
                  </a:lnTo>
                  <a:lnTo>
                    <a:pt x="2075" y="923"/>
                  </a:lnTo>
                  <a:lnTo>
                    <a:pt x="2064" y="910"/>
                  </a:lnTo>
                  <a:lnTo>
                    <a:pt x="2052" y="898"/>
                  </a:lnTo>
                  <a:lnTo>
                    <a:pt x="2040" y="885"/>
                  </a:lnTo>
                  <a:lnTo>
                    <a:pt x="2031" y="873"/>
                  </a:lnTo>
                  <a:lnTo>
                    <a:pt x="2021" y="861"/>
                  </a:lnTo>
                  <a:lnTo>
                    <a:pt x="2011" y="850"/>
                  </a:lnTo>
                  <a:lnTo>
                    <a:pt x="2000" y="836"/>
                  </a:lnTo>
                  <a:lnTo>
                    <a:pt x="1992" y="825"/>
                  </a:lnTo>
                  <a:lnTo>
                    <a:pt x="1982" y="811"/>
                  </a:lnTo>
                  <a:lnTo>
                    <a:pt x="1976" y="799"/>
                  </a:lnTo>
                  <a:lnTo>
                    <a:pt x="1968" y="786"/>
                  </a:lnTo>
                  <a:lnTo>
                    <a:pt x="1963" y="772"/>
                  </a:lnTo>
                  <a:lnTo>
                    <a:pt x="1957" y="759"/>
                  </a:lnTo>
                  <a:lnTo>
                    <a:pt x="1953" y="747"/>
                  </a:lnTo>
                  <a:lnTo>
                    <a:pt x="1937" y="747"/>
                  </a:lnTo>
                  <a:lnTo>
                    <a:pt x="1926" y="747"/>
                  </a:lnTo>
                  <a:lnTo>
                    <a:pt x="1916" y="755"/>
                  </a:lnTo>
                  <a:lnTo>
                    <a:pt x="1914" y="772"/>
                  </a:lnTo>
                  <a:lnTo>
                    <a:pt x="1914" y="792"/>
                  </a:lnTo>
                  <a:lnTo>
                    <a:pt x="1912" y="811"/>
                  </a:lnTo>
                  <a:lnTo>
                    <a:pt x="1912" y="832"/>
                  </a:lnTo>
                  <a:lnTo>
                    <a:pt x="1912" y="852"/>
                  </a:lnTo>
                  <a:lnTo>
                    <a:pt x="1914" y="873"/>
                  </a:lnTo>
                  <a:lnTo>
                    <a:pt x="1918" y="892"/>
                  </a:lnTo>
                  <a:lnTo>
                    <a:pt x="1926" y="912"/>
                  </a:lnTo>
                  <a:lnTo>
                    <a:pt x="1912" y="892"/>
                  </a:lnTo>
                  <a:lnTo>
                    <a:pt x="1904" y="875"/>
                  </a:lnTo>
                  <a:lnTo>
                    <a:pt x="1897" y="856"/>
                  </a:lnTo>
                  <a:lnTo>
                    <a:pt x="1893" y="836"/>
                  </a:lnTo>
                  <a:lnTo>
                    <a:pt x="1887" y="815"/>
                  </a:lnTo>
                  <a:lnTo>
                    <a:pt x="1883" y="795"/>
                  </a:lnTo>
                  <a:lnTo>
                    <a:pt x="1881" y="776"/>
                  </a:lnTo>
                  <a:lnTo>
                    <a:pt x="1879" y="757"/>
                  </a:lnTo>
                  <a:lnTo>
                    <a:pt x="1875" y="735"/>
                  </a:lnTo>
                  <a:lnTo>
                    <a:pt x="1872" y="716"/>
                  </a:lnTo>
                  <a:lnTo>
                    <a:pt x="1868" y="695"/>
                  </a:lnTo>
                  <a:lnTo>
                    <a:pt x="1864" y="675"/>
                  </a:lnTo>
                  <a:lnTo>
                    <a:pt x="1856" y="656"/>
                  </a:lnTo>
                  <a:lnTo>
                    <a:pt x="1846" y="638"/>
                  </a:lnTo>
                  <a:lnTo>
                    <a:pt x="1835" y="621"/>
                  </a:lnTo>
                  <a:lnTo>
                    <a:pt x="1823" y="607"/>
                  </a:lnTo>
                  <a:lnTo>
                    <a:pt x="1809" y="600"/>
                  </a:lnTo>
                  <a:lnTo>
                    <a:pt x="1798" y="592"/>
                  </a:lnTo>
                  <a:lnTo>
                    <a:pt x="1786" y="586"/>
                  </a:lnTo>
                  <a:lnTo>
                    <a:pt x="1775" y="580"/>
                  </a:lnTo>
                  <a:lnTo>
                    <a:pt x="1761" y="574"/>
                  </a:lnTo>
                  <a:lnTo>
                    <a:pt x="1749" y="569"/>
                  </a:lnTo>
                  <a:lnTo>
                    <a:pt x="1738" y="563"/>
                  </a:lnTo>
                  <a:lnTo>
                    <a:pt x="1726" y="557"/>
                  </a:lnTo>
                  <a:lnTo>
                    <a:pt x="1712" y="549"/>
                  </a:lnTo>
                  <a:lnTo>
                    <a:pt x="1701" y="543"/>
                  </a:lnTo>
                  <a:lnTo>
                    <a:pt x="1689" y="538"/>
                  </a:lnTo>
                  <a:lnTo>
                    <a:pt x="1678" y="532"/>
                  </a:lnTo>
                  <a:lnTo>
                    <a:pt x="1666" y="524"/>
                  </a:lnTo>
                  <a:lnTo>
                    <a:pt x="1654" y="518"/>
                  </a:lnTo>
                  <a:lnTo>
                    <a:pt x="1643" y="512"/>
                  </a:lnTo>
                  <a:lnTo>
                    <a:pt x="1631" y="507"/>
                  </a:lnTo>
                  <a:lnTo>
                    <a:pt x="1623" y="508"/>
                  </a:lnTo>
                  <a:lnTo>
                    <a:pt x="1617" y="516"/>
                  </a:lnTo>
                  <a:lnTo>
                    <a:pt x="1612" y="522"/>
                  </a:lnTo>
                  <a:lnTo>
                    <a:pt x="1612" y="526"/>
                  </a:lnTo>
                  <a:lnTo>
                    <a:pt x="1616" y="543"/>
                  </a:lnTo>
                  <a:lnTo>
                    <a:pt x="1623" y="561"/>
                  </a:lnTo>
                  <a:lnTo>
                    <a:pt x="1631" y="576"/>
                  </a:lnTo>
                  <a:lnTo>
                    <a:pt x="1641" y="594"/>
                  </a:lnTo>
                  <a:lnTo>
                    <a:pt x="1648" y="607"/>
                  </a:lnTo>
                  <a:lnTo>
                    <a:pt x="1660" y="623"/>
                  </a:lnTo>
                  <a:lnTo>
                    <a:pt x="1670" y="638"/>
                  </a:lnTo>
                  <a:lnTo>
                    <a:pt x="1681" y="654"/>
                  </a:lnTo>
                  <a:lnTo>
                    <a:pt x="1691" y="667"/>
                  </a:lnTo>
                  <a:lnTo>
                    <a:pt x="1701" y="683"/>
                  </a:lnTo>
                  <a:lnTo>
                    <a:pt x="1711" y="697"/>
                  </a:lnTo>
                  <a:lnTo>
                    <a:pt x="1720" y="712"/>
                  </a:lnTo>
                  <a:lnTo>
                    <a:pt x="1726" y="728"/>
                  </a:lnTo>
                  <a:lnTo>
                    <a:pt x="1732" y="745"/>
                  </a:lnTo>
                  <a:lnTo>
                    <a:pt x="1736" y="762"/>
                  </a:lnTo>
                  <a:lnTo>
                    <a:pt x="1742" y="784"/>
                  </a:lnTo>
                  <a:lnTo>
                    <a:pt x="1740" y="797"/>
                  </a:lnTo>
                  <a:lnTo>
                    <a:pt x="1740" y="813"/>
                  </a:lnTo>
                  <a:lnTo>
                    <a:pt x="1738" y="826"/>
                  </a:lnTo>
                  <a:lnTo>
                    <a:pt x="1736" y="842"/>
                  </a:lnTo>
                  <a:lnTo>
                    <a:pt x="1732" y="854"/>
                  </a:lnTo>
                  <a:lnTo>
                    <a:pt x="1732" y="869"/>
                  </a:lnTo>
                  <a:lnTo>
                    <a:pt x="1728" y="881"/>
                  </a:lnTo>
                  <a:lnTo>
                    <a:pt x="1728" y="896"/>
                  </a:lnTo>
                  <a:lnTo>
                    <a:pt x="1724" y="908"/>
                  </a:lnTo>
                  <a:lnTo>
                    <a:pt x="1722" y="921"/>
                  </a:lnTo>
                  <a:lnTo>
                    <a:pt x="1720" y="935"/>
                  </a:lnTo>
                  <a:lnTo>
                    <a:pt x="1720" y="951"/>
                  </a:lnTo>
                  <a:lnTo>
                    <a:pt x="1718" y="962"/>
                  </a:lnTo>
                  <a:lnTo>
                    <a:pt x="1718" y="976"/>
                  </a:lnTo>
                  <a:lnTo>
                    <a:pt x="1718" y="989"/>
                  </a:lnTo>
                  <a:lnTo>
                    <a:pt x="1722" y="1005"/>
                  </a:lnTo>
                  <a:lnTo>
                    <a:pt x="1716" y="991"/>
                  </a:lnTo>
                  <a:lnTo>
                    <a:pt x="1712" y="978"/>
                  </a:lnTo>
                  <a:lnTo>
                    <a:pt x="1709" y="964"/>
                  </a:lnTo>
                  <a:lnTo>
                    <a:pt x="1705" y="952"/>
                  </a:lnTo>
                  <a:lnTo>
                    <a:pt x="1701" y="937"/>
                  </a:lnTo>
                  <a:lnTo>
                    <a:pt x="1699" y="925"/>
                  </a:lnTo>
                  <a:lnTo>
                    <a:pt x="1695" y="910"/>
                  </a:lnTo>
                  <a:lnTo>
                    <a:pt x="1693" y="898"/>
                  </a:lnTo>
                  <a:lnTo>
                    <a:pt x="1689" y="883"/>
                  </a:lnTo>
                  <a:lnTo>
                    <a:pt x="1687" y="869"/>
                  </a:lnTo>
                  <a:lnTo>
                    <a:pt x="1683" y="854"/>
                  </a:lnTo>
                  <a:lnTo>
                    <a:pt x="1681" y="840"/>
                  </a:lnTo>
                  <a:lnTo>
                    <a:pt x="1678" y="825"/>
                  </a:lnTo>
                  <a:lnTo>
                    <a:pt x="1676" y="811"/>
                  </a:lnTo>
                  <a:lnTo>
                    <a:pt x="1674" y="797"/>
                  </a:lnTo>
                  <a:lnTo>
                    <a:pt x="1672" y="784"/>
                  </a:lnTo>
                  <a:lnTo>
                    <a:pt x="1666" y="768"/>
                  </a:lnTo>
                  <a:lnTo>
                    <a:pt x="1664" y="755"/>
                  </a:lnTo>
                  <a:lnTo>
                    <a:pt x="1658" y="739"/>
                  </a:lnTo>
                  <a:lnTo>
                    <a:pt x="1656" y="726"/>
                  </a:lnTo>
                  <a:lnTo>
                    <a:pt x="1650" y="710"/>
                  </a:lnTo>
                  <a:lnTo>
                    <a:pt x="1647" y="697"/>
                  </a:lnTo>
                  <a:lnTo>
                    <a:pt x="1641" y="681"/>
                  </a:lnTo>
                  <a:lnTo>
                    <a:pt x="1637" y="669"/>
                  </a:lnTo>
                  <a:lnTo>
                    <a:pt x="1629" y="656"/>
                  </a:lnTo>
                  <a:lnTo>
                    <a:pt x="1623" y="642"/>
                  </a:lnTo>
                  <a:lnTo>
                    <a:pt x="1616" y="629"/>
                  </a:lnTo>
                  <a:lnTo>
                    <a:pt x="1610" y="617"/>
                  </a:lnTo>
                  <a:lnTo>
                    <a:pt x="1600" y="603"/>
                  </a:lnTo>
                  <a:lnTo>
                    <a:pt x="1592" y="592"/>
                  </a:lnTo>
                  <a:lnTo>
                    <a:pt x="1583" y="580"/>
                  </a:lnTo>
                  <a:lnTo>
                    <a:pt x="1575" y="571"/>
                  </a:lnTo>
                  <a:lnTo>
                    <a:pt x="1563" y="559"/>
                  </a:lnTo>
                  <a:lnTo>
                    <a:pt x="1553" y="547"/>
                  </a:lnTo>
                  <a:lnTo>
                    <a:pt x="1544" y="536"/>
                  </a:lnTo>
                  <a:lnTo>
                    <a:pt x="1536" y="526"/>
                  </a:lnTo>
                  <a:lnTo>
                    <a:pt x="1526" y="514"/>
                  </a:lnTo>
                  <a:lnTo>
                    <a:pt x="1519" y="503"/>
                  </a:lnTo>
                  <a:lnTo>
                    <a:pt x="1509" y="491"/>
                  </a:lnTo>
                  <a:lnTo>
                    <a:pt x="1503" y="481"/>
                  </a:lnTo>
                  <a:lnTo>
                    <a:pt x="1495" y="468"/>
                  </a:lnTo>
                  <a:lnTo>
                    <a:pt x="1488" y="456"/>
                  </a:lnTo>
                  <a:lnTo>
                    <a:pt x="1480" y="443"/>
                  </a:lnTo>
                  <a:lnTo>
                    <a:pt x="1474" y="431"/>
                  </a:lnTo>
                  <a:lnTo>
                    <a:pt x="1466" y="417"/>
                  </a:lnTo>
                  <a:lnTo>
                    <a:pt x="1458" y="404"/>
                  </a:lnTo>
                  <a:lnTo>
                    <a:pt x="1453" y="390"/>
                  </a:lnTo>
                  <a:lnTo>
                    <a:pt x="1447" y="379"/>
                  </a:lnTo>
                  <a:lnTo>
                    <a:pt x="1443" y="371"/>
                  </a:lnTo>
                  <a:lnTo>
                    <a:pt x="1435" y="371"/>
                  </a:lnTo>
                  <a:lnTo>
                    <a:pt x="1425" y="371"/>
                  </a:lnTo>
                  <a:lnTo>
                    <a:pt x="1418" y="379"/>
                  </a:lnTo>
                  <a:lnTo>
                    <a:pt x="1410" y="394"/>
                  </a:lnTo>
                  <a:lnTo>
                    <a:pt x="1406" y="412"/>
                  </a:lnTo>
                  <a:lnTo>
                    <a:pt x="1402" y="427"/>
                  </a:lnTo>
                  <a:lnTo>
                    <a:pt x="1402" y="444"/>
                  </a:lnTo>
                  <a:lnTo>
                    <a:pt x="1402" y="460"/>
                  </a:lnTo>
                  <a:lnTo>
                    <a:pt x="1402" y="477"/>
                  </a:lnTo>
                  <a:lnTo>
                    <a:pt x="1404" y="493"/>
                  </a:lnTo>
                  <a:lnTo>
                    <a:pt x="1410" y="510"/>
                  </a:lnTo>
                  <a:lnTo>
                    <a:pt x="1412" y="524"/>
                  </a:lnTo>
                  <a:lnTo>
                    <a:pt x="1418" y="541"/>
                  </a:lnTo>
                  <a:lnTo>
                    <a:pt x="1424" y="555"/>
                  </a:lnTo>
                  <a:lnTo>
                    <a:pt x="1429" y="572"/>
                  </a:lnTo>
                  <a:lnTo>
                    <a:pt x="1435" y="588"/>
                  </a:lnTo>
                  <a:lnTo>
                    <a:pt x="1443" y="603"/>
                  </a:lnTo>
                  <a:lnTo>
                    <a:pt x="1451" y="619"/>
                  </a:lnTo>
                  <a:lnTo>
                    <a:pt x="1458" y="636"/>
                  </a:lnTo>
                  <a:lnTo>
                    <a:pt x="1464" y="650"/>
                  </a:lnTo>
                  <a:lnTo>
                    <a:pt x="1472" y="666"/>
                  </a:lnTo>
                  <a:lnTo>
                    <a:pt x="1478" y="681"/>
                  </a:lnTo>
                  <a:lnTo>
                    <a:pt x="1486" y="697"/>
                  </a:lnTo>
                  <a:lnTo>
                    <a:pt x="1491" y="712"/>
                  </a:lnTo>
                  <a:lnTo>
                    <a:pt x="1497" y="728"/>
                  </a:lnTo>
                  <a:lnTo>
                    <a:pt x="1503" y="743"/>
                  </a:lnTo>
                  <a:lnTo>
                    <a:pt x="1509" y="761"/>
                  </a:lnTo>
                  <a:lnTo>
                    <a:pt x="1513" y="776"/>
                  </a:lnTo>
                  <a:lnTo>
                    <a:pt x="1517" y="792"/>
                  </a:lnTo>
                  <a:lnTo>
                    <a:pt x="1519" y="807"/>
                  </a:lnTo>
                  <a:lnTo>
                    <a:pt x="1522" y="825"/>
                  </a:lnTo>
                  <a:lnTo>
                    <a:pt x="1522" y="842"/>
                  </a:lnTo>
                  <a:lnTo>
                    <a:pt x="1522" y="859"/>
                  </a:lnTo>
                  <a:lnTo>
                    <a:pt x="1520" y="877"/>
                  </a:lnTo>
                  <a:lnTo>
                    <a:pt x="1520" y="894"/>
                  </a:lnTo>
                  <a:lnTo>
                    <a:pt x="1519" y="914"/>
                  </a:lnTo>
                  <a:lnTo>
                    <a:pt x="1519" y="933"/>
                  </a:lnTo>
                  <a:lnTo>
                    <a:pt x="1515" y="951"/>
                  </a:lnTo>
                  <a:lnTo>
                    <a:pt x="1511" y="968"/>
                  </a:lnTo>
                  <a:lnTo>
                    <a:pt x="1519" y="982"/>
                  </a:lnTo>
                  <a:lnTo>
                    <a:pt x="1522" y="999"/>
                  </a:lnTo>
                  <a:lnTo>
                    <a:pt x="1524" y="1015"/>
                  </a:lnTo>
                  <a:lnTo>
                    <a:pt x="1528" y="1032"/>
                  </a:lnTo>
                  <a:lnTo>
                    <a:pt x="1522" y="1018"/>
                  </a:lnTo>
                  <a:lnTo>
                    <a:pt x="1520" y="1007"/>
                  </a:lnTo>
                  <a:lnTo>
                    <a:pt x="1517" y="993"/>
                  </a:lnTo>
                  <a:lnTo>
                    <a:pt x="1515" y="982"/>
                  </a:lnTo>
                  <a:lnTo>
                    <a:pt x="1511" y="968"/>
                  </a:lnTo>
                  <a:lnTo>
                    <a:pt x="1509" y="956"/>
                  </a:lnTo>
                  <a:lnTo>
                    <a:pt x="1505" y="945"/>
                  </a:lnTo>
                  <a:lnTo>
                    <a:pt x="1505" y="933"/>
                  </a:lnTo>
                  <a:lnTo>
                    <a:pt x="1501" y="921"/>
                  </a:lnTo>
                  <a:lnTo>
                    <a:pt x="1501" y="910"/>
                  </a:lnTo>
                  <a:lnTo>
                    <a:pt x="1497" y="898"/>
                  </a:lnTo>
                  <a:lnTo>
                    <a:pt x="1497" y="887"/>
                  </a:lnTo>
                  <a:lnTo>
                    <a:pt x="1493" y="875"/>
                  </a:lnTo>
                  <a:lnTo>
                    <a:pt x="1493" y="863"/>
                  </a:lnTo>
                  <a:lnTo>
                    <a:pt x="1489" y="852"/>
                  </a:lnTo>
                  <a:lnTo>
                    <a:pt x="1489" y="840"/>
                  </a:lnTo>
                  <a:lnTo>
                    <a:pt x="1486" y="828"/>
                  </a:lnTo>
                  <a:lnTo>
                    <a:pt x="1482" y="817"/>
                  </a:lnTo>
                  <a:lnTo>
                    <a:pt x="1478" y="805"/>
                  </a:lnTo>
                  <a:lnTo>
                    <a:pt x="1476" y="793"/>
                  </a:lnTo>
                  <a:lnTo>
                    <a:pt x="1472" y="782"/>
                  </a:lnTo>
                  <a:lnTo>
                    <a:pt x="1468" y="770"/>
                  </a:lnTo>
                  <a:lnTo>
                    <a:pt x="1464" y="759"/>
                  </a:lnTo>
                  <a:lnTo>
                    <a:pt x="1460" y="749"/>
                  </a:lnTo>
                  <a:lnTo>
                    <a:pt x="1455" y="737"/>
                  </a:lnTo>
                  <a:lnTo>
                    <a:pt x="1449" y="726"/>
                  </a:lnTo>
                  <a:lnTo>
                    <a:pt x="1443" y="714"/>
                  </a:lnTo>
                  <a:lnTo>
                    <a:pt x="1437" y="704"/>
                  </a:lnTo>
                  <a:lnTo>
                    <a:pt x="1424" y="683"/>
                  </a:lnTo>
                  <a:lnTo>
                    <a:pt x="1410" y="664"/>
                  </a:lnTo>
                  <a:lnTo>
                    <a:pt x="1396" y="648"/>
                  </a:lnTo>
                  <a:lnTo>
                    <a:pt x="1389" y="633"/>
                  </a:lnTo>
                  <a:lnTo>
                    <a:pt x="1381" y="617"/>
                  </a:lnTo>
                  <a:lnTo>
                    <a:pt x="1379" y="602"/>
                  </a:lnTo>
                  <a:lnTo>
                    <a:pt x="1375" y="584"/>
                  </a:lnTo>
                  <a:lnTo>
                    <a:pt x="1375" y="567"/>
                  </a:lnTo>
                  <a:lnTo>
                    <a:pt x="1375" y="549"/>
                  </a:lnTo>
                  <a:lnTo>
                    <a:pt x="1377" y="532"/>
                  </a:lnTo>
                  <a:lnTo>
                    <a:pt x="1377" y="512"/>
                  </a:lnTo>
                  <a:lnTo>
                    <a:pt x="1379" y="495"/>
                  </a:lnTo>
                  <a:lnTo>
                    <a:pt x="1381" y="477"/>
                  </a:lnTo>
                  <a:lnTo>
                    <a:pt x="1383" y="460"/>
                  </a:lnTo>
                  <a:lnTo>
                    <a:pt x="1383" y="443"/>
                  </a:lnTo>
                  <a:lnTo>
                    <a:pt x="1383" y="427"/>
                  </a:lnTo>
                  <a:lnTo>
                    <a:pt x="1381" y="410"/>
                  </a:lnTo>
                  <a:lnTo>
                    <a:pt x="1381" y="396"/>
                  </a:lnTo>
                  <a:lnTo>
                    <a:pt x="1371" y="379"/>
                  </a:lnTo>
                  <a:lnTo>
                    <a:pt x="1363" y="361"/>
                  </a:lnTo>
                  <a:lnTo>
                    <a:pt x="1354" y="344"/>
                  </a:lnTo>
                  <a:lnTo>
                    <a:pt x="1346" y="328"/>
                  </a:lnTo>
                  <a:lnTo>
                    <a:pt x="1336" y="311"/>
                  </a:lnTo>
                  <a:lnTo>
                    <a:pt x="1327" y="297"/>
                  </a:lnTo>
                  <a:lnTo>
                    <a:pt x="1317" y="280"/>
                  </a:lnTo>
                  <a:lnTo>
                    <a:pt x="1309" y="266"/>
                  </a:lnTo>
                  <a:lnTo>
                    <a:pt x="1299" y="249"/>
                  </a:lnTo>
                  <a:lnTo>
                    <a:pt x="1292" y="233"/>
                  </a:lnTo>
                  <a:lnTo>
                    <a:pt x="1284" y="216"/>
                  </a:lnTo>
                  <a:lnTo>
                    <a:pt x="1278" y="200"/>
                  </a:lnTo>
                  <a:lnTo>
                    <a:pt x="1272" y="181"/>
                  </a:lnTo>
                  <a:lnTo>
                    <a:pt x="1266" y="163"/>
                  </a:lnTo>
                  <a:lnTo>
                    <a:pt x="1263" y="146"/>
                  </a:lnTo>
                  <a:lnTo>
                    <a:pt x="1263" y="128"/>
                  </a:lnTo>
                  <a:lnTo>
                    <a:pt x="1253" y="115"/>
                  </a:lnTo>
                  <a:lnTo>
                    <a:pt x="1243" y="109"/>
                  </a:lnTo>
                  <a:lnTo>
                    <a:pt x="1232" y="109"/>
                  </a:lnTo>
                  <a:lnTo>
                    <a:pt x="1226" y="121"/>
                  </a:lnTo>
                  <a:lnTo>
                    <a:pt x="1218" y="130"/>
                  </a:lnTo>
                  <a:lnTo>
                    <a:pt x="1218" y="142"/>
                  </a:lnTo>
                  <a:lnTo>
                    <a:pt x="1218" y="154"/>
                  </a:lnTo>
                  <a:lnTo>
                    <a:pt x="1220" y="165"/>
                  </a:lnTo>
                  <a:lnTo>
                    <a:pt x="1222" y="177"/>
                  </a:lnTo>
                  <a:lnTo>
                    <a:pt x="1226" y="189"/>
                  </a:lnTo>
                  <a:lnTo>
                    <a:pt x="1226" y="200"/>
                  </a:lnTo>
                  <a:lnTo>
                    <a:pt x="1226" y="212"/>
                  </a:lnTo>
                  <a:lnTo>
                    <a:pt x="1224" y="231"/>
                  </a:lnTo>
                  <a:lnTo>
                    <a:pt x="1222" y="251"/>
                  </a:lnTo>
                  <a:lnTo>
                    <a:pt x="1218" y="270"/>
                  </a:lnTo>
                  <a:lnTo>
                    <a:pt x="1214" y="289"/>
                  </a:lnTo>
                  <a:lnTo>
                    <a:pt x="1208" y="309"/>
                  </a:lnTo>
                  <a:lnTo>
                    <a:pt x="1202" y="328"/>
                  </a:lnTo>
                  <a:lnTo>
                    <a:pt x="1197" y="348"/>
                  </a:lnTo>
                  <a:lnTo>
                    <a:pt x="1193" y="367"/>
                  </a:lnTo>
                  <a:lnTo>
                    <a:pt x="1185" y="384"/>
                  </a:lnTo>
                  <a:lnTo>
                    <a:pt x="1177" y="404"/>
                  </a:lnTo>
                  <a:lnTo>
                    <a:pt x="1171" y="421"/>
                  </a:lnTo>
                  <a:lnTo>
                    <a:pt x="1166" y="441"/>
                  </a:lnTo>
                  <a:lnTo>
                    <a:pt x="1158" y="458"/>
                  </a:lnTo>
                  <a:lnTo>
                    <a:pt x="1152" y="477"/>
                  </a:lnTo>
                  <a:lnTo>
                    <a:pt x="1146" y="497"/>
                  </a:lnTo>
                  <a:lnTo>
                    <a:pt x="1142" y="516"/>
                  </a:lnTo>
                  <a:lnTo>
                    <a:pt x="1135" y="524"/>
                  </a:lnTo>
                  <a:lnTo>
                    <a:pt x="1129" y="532"/>
                  </a:lnTo>
                  <a:lnTo>
                    <a:pt x="1123" y="539"/>
                  </a:lnTo>
                  <a:lnTo>
                    <a:pt x="1123" y="543"/>
                  </a:lnTo>
                  <a:lnTo>
                    <a:pt x="1119" y="553"/>
                  </a:lnTo>
                  <a:lnTo>
                    <a:pt x="1117" y="565"/>
                  </a:lnTo>
                  <a:lnTo>
                    <a:pt x="1115" y="574"/>
                  </a:lnTo>
                  <a:lnTo>
                    <a:pt x="1115" y="586"/>
                  </a:lnTo>
                  <a:lnTo>
                    <a:pt x="1113" y="596"/>
                  </a:lnTo>
                  <a:lnTo>
                    <a:pt x="1113" y="607"/>
                  </a:lnTo>
                  <a:lnTo>
                    <a:pt x="1113" y="617"/>
                  </a:lnTo>
                  <a:lnTo>
                    <a:pt x="1115" y="629"/>
                  </a:lnTo>
                  <a:lnTo>
                    <a:pt x="1115" y="638"/>
                  </a:lnTo>
                  <a:lnTo>
                    <a:pt x="1115" y="648"/>
                  </a:lnTo>
                  <a:lnTo>
                    <a:pt x="1117" y="660"/>
                  </a:lnTo>
                  <a:lnTo>
                    <a:pt x="1119" y="671"/>
                  </a:lnTo>
                  <a:lnTo>
                    <a:pt x="1121" y="681"/>
                  </a:lnTo>
                  <a:lnTo>
                    <a:pt x="1125" y="691"/>
                  </a:lnTo>
                  <a:lnTo>
                    <a:pt x="1127" y="702"/>
                  </a:lnTo>
                  <a:lnTo>
                    <a:pt x="1131" y="714"/>
                  </a:lnTo>
                  <a:lnTo>
                    <a:pt x="1135" y="733"/>
                  </a:lnTo>
                  <a:lnTo>
                    <a:pt x="1140" y="755"/>
                  </a:lnTo>
                  <a:lnTo>
                    <a:pt x="1146" y="774"/>
                  </a:lnTo>
                  <a:lnTo>
                    <a:pt x="1152" y="795"/>
                  </a:lnTo>
                  <a:lnTo>
                    <a:pt x="1154" y="805"/>
                  </a:lnTo>
                  <a:lnTo>
                    <a:pt x="1156" y="817"/>
                  </a:lnTo>
                  <a:lnTo>
                    <a:pt x="1158" y="826"/>
                  </a:lnTo>
                  <a:lnTo>
                    <a:pt x="1162" y="838"/>
                  </a:lnTo>
                  <a:lnTo>
                    <a:pt x="1162" y="850"/>
                  </a:lnTo>
                  <a:lnTo>
                    <a:pt x="1166" y="861"/>
                  </a:lnTo>
                  <a:lnTo>
                    <a:pt x="1166" y="873"/>
                  </a:lnTo>
                  <a:lnTo>
                    <a:pt x="1169" y="885"/>
                  </a:lnTo>
                  <a:lnTo>
                    <a:pt x="1162" y="896"/>
                  </a:lnTo>
                  <a:lnTo>
                    <a:pt x="1156" y="908"/>
                  </a:lnTo>
                  <a:lnTo>
                    <a:pt x="1148" y="920"/>
                  </a:lnTo>
                  <a:lnTo>
                    <a:pt x="1142" y="931"/>
                  </a:lnTo>
                  <a:lnTo>
                    <a:pt x="1133" y="943"/>
                  </a:lnTo>
                  <a:lnTo>
                    <a:pt x="1125" y="954"/>
                  </a:lnTo>
                  <a:lnTo>
                    <a:pt x="1117" y="966"/>
                  </a:lnTo>
                  <a:lnTo>
                    <a:pt x="1109" y="980"/>
                  </a:lnTo>
                  <a:lnTo>
                    <a:pt x="1100" y="989"/>
                  </a:lnTo>
                  <a:lnTo>
                    <a:pt x="1092" y="1001"/>
                  </a:lnTo>
                  <a:lnTo>
                    <a:pt x="1082" y="1013"/>
                  </a:lnTo>
                  <a:lnTo>
                    <a:pt x="1074" y="1024"/>
                  </a:lnTo>
                  <a:lnTo>
                    <a:pt x="1067" y="1034"/>
                  </a:lnTo>
                  <a:lnTo>
                    <a:pt x="1059" y="1046"/>
                  </a:lnTo>
                  <a:lnTo>
                    <a:pt x="1053" y="1057"/>
                  </a:lnTo>
                  <a:lnTo>
                    <a:pt x="1049" y="1069"/>
                  </a:lnTo>
                  <a:lnTo>
                    <a:pt x="1049" y="1055"/>
                  </a:lnTo>
                  <a:lnTo>
                    <a:pt x="1049" y="1044"/>
                  </a:lnTo>
                  <a:lnTo>
                    <a:pt x="1051" y="1032"/>
                  </a:lnTo>
                  <a:lnTo>
                    <a:pt x="1055" y="1020"/>
                  </a:lnTo>
                  <a:lnTo>
                    <a:pt x="1059" y="1009"/>
                  </a:lnTo>
                  <a:lnTo>
                    <a:pt x="1063" y="997"/>
                  </a:lnTo>
                  <a:lnTo>
                    <a:pt x="1067" y="985"/>
                  </a:lnTo>
                  <a:lnTo>
                    <a:pt x="1072" y="976"/>
                  </a:lnTo>
                  <a:lnTo>
                    <a:pt x="1076" y="964"/>
                  </a:lnTo>
                  <a:lnTo>
                    <a:pt x="1080" y="952"/>
                  </a:lnTo>
                  <a:lnTo>
                    <a:pt x="1084" y="941"/>
                  </a:lnTo>
                  <a:lnTo>
                    <a:pt x="1088" y="929"/>
                  </a:lnTo>
                  <a:lnTo>
                    <a:pt x="1090" y="918"/>
                  </a:lnTo>
                  <a:lnTo>
                    <a:pt x="1092" y="906"/>
                  </a:lnTo>
                  <a:lnTo>
                    <a:pt x="1094" y="894"/>
                  </a:lnTo>
                  <a:lnTo>
                    <a:pt x="1096" y="885"/>
                  </a:lnTo>
                  <a:lnTo>
                    <a:pt x="1086" y="875"/>
                  </a:lnTo>
                  <a:lnTo>
                    <a:pt x="1096" y="875"/>
                  </a:lnTo>
                  <a:lnTo>
                    <a:pt x="1096" y="856"/>
                  </a:lnTo>
                  <a:lnTo>
                    <a:pt x="1096" y="836"/>
                  </a:lnTo>
                  <a:lnTo>
                    <a:pt x="1094" y="817"/>
                  </a:lnTo>
                  <a:lnTo>
                    <a:pt x="1092" y="799"/>
                  </a:lnTo>
                  <a:lnTo>
                    <a:pt x="1086" y="780"/>
                  </a:lnTo>
                  <a:lnTo>
                    <a:pt x="1082" y="762"/>
                  </a:lnTo>
                  <a:lnTo>
                    <a:pt x="1076" y="743"/>
                  </a:lnTo>
                  <a:lnTo>
                    <a:pt x="1072" y="726"/>
                  </a:lnTo>
                  <a:lnTo>
                    <a:pt x="1065" y="706"/>
                  </a:lnTo>
                  <a:lnTo>
                    <a:pt x="1059" y="687"/>
                  </a:lnTo>
                  <a:lnTo>
                    <a:pt x="1053" y="667"/>
                  </a:lnTo>
                  <a:lnTo>
                    <a:pt x="1051" y="648"/>
                  </a:lnTo>
                  <a:lnTo>
                    <a:pt x="1045" y="629"/>
                  </a:lnTo>
                  <a:lnTo>
                    <a:pt x="1045" y="609"/>
                  </a:lnTo>
                  <a:lnTo>
                    <a:pt x="1045" y="590"/>
                  </a:lnTo>
                  <a:lnTo>
                    <a:pt x="1049" y="571"/>
                  </a:lnTo>
                  <a:lnTo>
                    <a:pt x="1036" y="563"/>
                  </a:lnTo>
                  <a:lnTo>
                    <a:pt x="1022" y="563"/>
                  </a:lnTo>
                  <a:lnTo>
                    <a:pt x="1005" y="574"/>
                  </a:lnTo>
                  <a:lnTo>
                    <a:pt x="987" y="586"/>
                  </a:lnTo>
                  <a:lnTo>
                    <a:pt x="972" y="600"/>
                  </a:lnTo>
                  <a:lnTo>
                    <a:pt x="960" y="617"/>
                  </a:lnTo>
                  <a:lnTo>
                    <a:pt x="948" y="633"/>
                  </a:lnTo>
                  <a:lnTo>
                    <a:pt x="937" y="650"/>
                  </a:lnTo>
                  <a:lnTo>
                    <a:pt x="927" y="667"/>
                  </a:lnTo>
                  <a:lnTo>
                    <a:pt x="921" y="687"/>
                  </a:lnTo>
                  <a:lnTo>
                    <a:pt x="912" y="704"/>
                  </a:lnTo>
                  <a:lnTo>
                    <a:pt x="906" y="724"/>
                  </a:lnTo>
                  <a:lnTo>
                    <a:pt x="900" y="743"/>
                  </a:lnTo>
                  <a:lnTo>
                    <a:pt x="900" y="764"/>
                  </a:lnTo>
                  <a:lnTo>
                    <a:pt x="896" y="784"/>
                  </a:lnTo>
                  <a:lnTo>
                    <a:pt x="896" y="805"/>
                  </a:lnTo>
                  <a:lnTo>
                    <a:pt x="896" y="815"/>
                  </a:lnTo>
                  <a:lnTo>
                    <a:pt x="896" y="825"/>
                  </a:lnTo>
                  <a:lnTo>
                    <a:pt x="898" y="836"/>
                  </a:lnTo>
                  <a:lnTo>
                    <a:pt x="902" y="848"/>
                  </a:lnTo>
                  <a:lnTo>
                    <a:pt x="875" y="912"/>
                  </a:lnTo>
                  <a:lnTo>
                    <a:pt x="863" y="921"/>
                  </a:lnTo>
                  <a:lnTo>
                    <a:pt x="855" y="933"/>
                  </a:lnTo>
                  <a:lnTo>
                    <a:pt x="848" y="945"/>
                  </a:lnTo>
                  <a:lnTo>
                    <a:pt x="840" y="956"/>
                  </a:lnTo>
                  <a:lnTo>
                    <a:pt x="830" y="966"/>
                  </a:lnTo>
                  <a:lnTo>
                    <a:pt x="822" y="976"/>
                  </a:lnTo>
                  <a:lnTo>
                    <a:pt x="811" y="985"/>
                  </a:lnTo>
                  <a:lnTo>
                    <a:pt x="801" y="995"/>
                  </a:lnTo>
                  <a:lnTo>
                    <a:pt x="799" y="989"/>
                  </a:lnTo>
                  <a:lnTo>
                    <a:pt x="807" y="980"/>
                  </a:lnTo>
                  <a:lnTo>
                    <a:pt x="815" y="966"/>
                  </a:lnTo>
                  <a:lnTo>
                    <a:pt x="820" y="958"/>
                  </a:lnTo>
                  <a:lnTo>
                    <a:pt x="824" y="949"/>
                  </a:lnTo>
                  <a:lnTo>
                    <a:pt x="828" y="939"/>
                  </a:lnTo>
                  <a:lnTo>
                    <a:pt x="830" y="929"/>
                  </a:lnTo>
                  <a:lnTo>
                    <a:pt x="838" y="921"/>
                  </a:lnTo>
                  <a:lnTo>
                    <a:pt x="820" y="902"/>
                  </a:lnTo>
                  <a:lnTo>
                    <a:pt x="826" y="902"/>
                  </a:lnTo>
                  <a:lnTo>
                    <a:pt x="828" y="912"/>
                  </a:lnTo>
                  <a:lnTo>
                    <a:pt x="828" y="902"/>
                  </a:lnTo>
                  <a:lnTo>
                    <a:pt x="838" y="902"/>
                  </a:lnTo>
                  <a:lnTo>
                    <a:pt x="838" y="881"/>
                  </a:lnTo>
                  <a:lnTo>
                    <a:pt x="840" y="863"/>
                  </a:lnTo>
                  <a:lnTo>
                    <a:pt x="840" y="846"/>
                  </a:lnTo>
                  <a:lnTo>
                    <a:pt x="842" y="828"/>
                  </a:lnTo>
                  <a:lnTo>
                    <a:pt x="842" y="809"/>
                  </a:lnTo>
                  <a:lnTo>
                    <a:pt x="842" y="792"/>
                  </a:lnTo>
                  <a:lnTo>
                    <a:pt x="842" y="772"/>
                  </a:lnTo>
                  <a:lnTo>
                    <a:pt x="848" y="755"/>
                  </a:lnTo>
                  <a:lnTo>
                    <a:pt x="838" y="747"/>
                  </a:lnTo>
                  <a:lnTo>
                    <a:pt x="840" y="730"/>
                  </a:lnTo>
                  <a:lnTo>
                    <a:pt x="846" y="712"/>
                  </a:lnTo>
                  <a:lnTo>
                    <a:pt x="851" y="695"/>
                  </a:lnTo>
                  <a:lnTo>
                    <a:pt x="857" y="677"/>
                  </a:lnTo>
                  <a:lnTo>
                    <a:pt x="863" y="660"/>
                  </a:lnTo>
                  <a:lnTo>
                    <a:pt x="873" y="644"/>
                  </a:lnTo>
                  <a:lnTo>
                    <a:pt x="882" y="629"/>
                  </a:lnTo>
                  <a:lnTo>
                    <a:pt x="894" y="617"/>
                  </a:lnTo>
                  <a:lnTo>
                    <a:pt x="890" y="607"/>
                  </a:lnTo>
                  <a:lnTo>
                    <a:pt x="886" y="600"/>
                  </a:lnTo>
                  <a:lnTo>
                    <a:pt x="880" y="592"/>
                  </a:lnTo>
                  <a:lnTo>
                    <a:pt x="875" y="590"/>
                  </a:lnTo>
                  <a:lnTo>
                    <a:pt x="857" y="594"/>
                  </a:lnTo>
                  <a:lnTo>
                    <a:pt x="842" y="600"/>
                  </a:lnTo>
                  <a:lnTo>
                    <a:pt x="828" y="605"/>
                  </a:lnTo>
                  <a:lnTo>
                    <a:pt x="816" y="615"/>
                  </a:lnTo>
                  <a:lnTo>
                    <a:pt x="805" y="621"/>
                  </a:lnTo>
                  <a:lnTo>
                    <a:pt x="795" y="631"/>
                  </a:lnTo>
                  <a:lnTo>
                    <a:pt x="785" y="642"/>
                  </a:lnTo>
                  <a:lnTo>
                    <a:pt x="778" y="654"/>
                  </a:lnTo>
                  <a:lnTo>
                    <a:pt x="768" y="664"/>
                  </a:lnTo>
                  <a:lnTo>
                    <a:pt x="760" y="675"/>
                  </a:lnTo>
                  <a:lnTo>
                    <a:pt x="752" y="687"/>
                  </a:lnTo>
                  <a:lnTo>
                    <a:pt x="747" y="700"/>
                  </a:lnTo>
                  <a:lnTo>
                    <a:pt x="739" y="712"/>
                  </a:lnTo>
                  <a:lnTo>
                    <a:pt x="733" y="726"/>
                  </a:lnTo>
                  <a:lnTo>
                    <a:pt x="727" y="739"/>
                  </a:lnTo>
                  <a:lnTo>
                    <a:pt x="721" y="755"/>
                  </a:lnTo>
                  <a:lnTo>
                    <a:pt x="714" y="766"/>
                  </a:lnTo>
                  <a:lnTo>
                    <a:pt x="708" y="780"/>
                  </a:lnTo>
                  <a:lnTo>
                    <a:pt x="702" y="793"/>
                  </a:lnTo>
                  <a:lnTo>
                    <a:pt x="696" y="807"/>
                  </a:lnTo>
                  <a:lnTo>
                    <a:pt x="688" y="819"/>
                  </a:lnTo>
                  <a:lnTo>
                    <a:pt x="681" y="830"/>
                  </a:lnTo>
                  <a:lnTo>
                    <a:pt x="673" y="842"/>
                  </a:lnTo>
                  <a:lnTo>
                    <a:pt x="665" y="856"/>
                  </a:lnTo>
                  <a:lnTo>
                    <a:pt x="656" y="865"/>
                  </a:lnTo>
                  <a:lnTo>
                    <a:pt x="646" y="875"/>
                  </a:lnTo>
                  <a:lnTo>
                    <a:pt x="634" y="885"/>
                  </a:lnTo>
                  <a:lnTo>
                    <a:pt x="624" y="894"/>
                  </a:lnTo>
                  <a:lnTo>
                    <a:pt x="611" y="902"/>
                  </a:lnTo>
                  <a:lnTo>
                    <a:pt x="599" y="910"/>
                  </a:lnTo>
                  <a:lnTo>
                    <a:pt x="584" y="916"/>
                  </a:lnTo>
                  <a:lnTo>
                    <a:pt x="570" y="921"/>
                  </a:lnTo>
                  <a:lnTo>
                    <a:pt x="582" y="912"/>
                  </a:lnTo>
                  <a:lnTo>
                    <a:pt x="593" y="902"/>
                  </a:lnTo>
                  <a:lnTo>
                    <a:pt x="603" y="890"/>
                  </a:lnTo>
                  <a:lnTo>
                    <a:pt x="613" y="881"/>
                  </a:lnTo>
                  <a:lnTo>
                    <a:pt x="621" y="867"/>
                  </a:lnTo>
                  <a:lnTo>
                    <a:pt x="628" y="856"/>
                  </a:lnTo>
                  <a:lnTo>
                    <a:pt x="636" y="844"/>
                  </a:lnTo>
                  <a:lnTo>
                    <a:pt x="644" y="832"/>
                  </a:lnTo>
                  <a:lnTo>
                    <a:pt x="648" y="819"/>
                  </a:lnTo>
                  <a:lnTo>
                    <a:pt x="654" y="805"/>
                  </a:lnTo>
                  <a:lnTo>
                    <a:pt x="657" y="792"/>
                  </a:lnTo>
                  <a:lnTo>
                    <a:pt x="663" y="780"/>
                  </a:lnTo>
                  <a:lnTo>
                    <a:pt x="667" y="766"/>
                  </a:lnTo>
                  <a:lnTo>
                    <a:pt x="673" y="753"/>
                  </a:lnTo>
                  <a:lnTo>
                    <a:pt x="679" y="739"/>
                  </a:lnTo>
                  <a:lnTo>
                    <a:pt x="685" y="728"/>
                  </a:lnTo>
                  <a:lnTo>
                    <a:pt x="688" y="712"/>
                  </a:lnTo>
                  <a:lnTo>
                    <a:pt x="692" y="698"/>
                  </a:lnTo>
                  <a:lnTo>
                    <a:pt x="696" y="685"/>
                  </a:lnTo>
                  <a:lnTo>
                    <a:pt x="702" y="673"/>
                  </a:lnTo>
                  <a:lnTo>
                    <a:pt x="708" y="660"/>
                  </a:lnTo>
                  <a:lnTo>
                    <a:pt x="714" y="648"/>
                  </a:lnTo>
                  <a:lnTo>
                    <a:pt x="720" y="636"/>
                  </a:lnTo>
                  <a:lnTo>
                    <a:pt x="729" y="627"/>
                  </a:lnTo>
                  <a:lnTo>
                    <a:pt x="735" y="615"/>
                  </a:lnTo>
                  <a:lnTo>
                    <a:pt x="745" y="605"/>
                  </a:lnTo>
                  <a:lnTo>
                    <a:pt x="754" y="596"/>
                  </a:lnTo>
                  <a:lnTo>
                    <a:pt x="766" y="588"/>
                  </a:lnTo>
                  <a:lnTo>
                    <a:pt x="778" y="580"/>
                  </a:lnTo>
                  <a:lnTo>
                    <a:pt x="789" y="572"/>
                  </a:lnTo>
                  <a:lnTo>
                    <a:pt x="803" y="567"/>
                  </a:lnTo>
                  <a:lnTo>
                    <a:pt x="820" y="563"/>
                  </a:lnTo>
                  <a:lnTo>
                    <a:pt x="834" y="555"/>
                  </a:lnTo>
                  <a:lnTo>
                    <a:pt x="849" y="549"/>
                  </a:lnTo>
                  <a:lnTo>
                    <a:pt x="863" y="541"/>
                  </a:lnTo>
                  <a:lnTo>
                    <a:pt x="879" y="534"/>
                  </a:lnTo>
                  <a:lnTo>
                    <a:pt x="892" y="524"/>
                  </a:lnTo>
                  <a:lnTo>
                    <a:pt x="906" y="516"/>
                  </a:lnTo>
                  <a:lnTo>
                    <a:pt x="919" y="508"/>
                  </a:lnTo>
                  <a:lnTo>
                    <a:pt x="933" y="501"/>
                  </a:lnTo>
                  <a:lnTo>
                    <a:pt x="944" y="489"/>
                  </a:lnTo>
                  <a:lnTo>
                    <a:pt x="956" y="477"/>
                  </a:lnTo>
                  <a:lnTo>
                    <a:pt x="968" y="466"/>
                  </a:lnTo>
                  <a:lnTo>
                    <a:pt x="981" y="456"/>
                  </a:lnTo>
                  <a:lnTo>
                    <a:pt x="991" y="443"/>
                  </a:lnTo>
                  <a:lnTo>
                    <a:pt x="1003" y="431"/>
                  </a:lnTo>
                  <a:lnTo>
                    <a:pt x="1012" y="417"/>
                  </a:lnTo>
                  <a:lnTo>
                    <a:pt x="1022" y="406"/>
                  </a:lnTo>
                  <a:lnTo>
                    <a:pt x="1026" y="386"/>
                  </a:lnTo>
                  <a:lnTo>
                    <a:pt x="1032" y="369"/>
                  </a:lnTo>
                  <a:lnTo>
                    <a:pt x="1036" y="349"/>
                  </a:lnTo>
                  <a:lnTo>
                    <a:pt x="1040" y="330"/>
                  </a:lnTo>
                  <a:lnTo>
                    <a:pt x="1041" y="311"/>
                  </a:lnTo>
                  <a:lnTo>
                    <a:pt x="1045" y="291"/>
                  </a:lnTo>
                  <a:lnTo>
                    <a:pt x="1047" y="272"/>
                  </a:lnTo>
                  <a:lnTo>
                    <a:pt x="1051" y="254"/>
                  </a:lnTo>
                  <a:lnTo>
                    <a:pt x="1051" y="233"/>
                  </a:lnTo>
                  <a:lnTo>
                    <a:pt x="1055" y="214"/>
                  </a:lnTo>
                  <a:lnTo>
                    <a:pt x="1057" y="194"/>
                  </a:lnTo>
                  <a:lnTo>
                    <a:pt x="1061" y="177"/>
                  </a:lnTo>
                  <a:lnTo>
                    <a:pt x="1065" y="159"/>
                  </a:lnTo>
                  <a:lnTo>
                    <a:pt x="1071" y="142"/>
                  </a:lnTo>
                  <a:lnTo>
                    <a:pt x="1076" y="125"/>
                  </a:lnTo>
                  <a:lnTo>
                    <a:pt x="1086" y="111"/>
                  </a:lnTo>
                  <a:lnTo>
                    <a:pt x="1088" y="97"/>
                  </a:lnTo>
                  <a:lnTo>
                    <a:pt x="1084" y="92"/>
                  </a:lnTo>
                  <a:lnTo>
                    <a:pt x="1080" y="88"/>
                  </a:lnTo>
                  <a:lnTo>
                    <a:pt x="1078" y="84"/>
                  </a:lnTo>
                  <a:lnTo>
                    <a:pt x="1061" y="84"/>
                  </a:lnTo>
                  <a:lnTo>
                    <a:pt x="1043" y="84"/>
                  </a:lnTo>
                  <a:lnTo>
                    <a:pt x="1028" y="86"/>
                  </a:lnTo>
                  <a:lnTo>
                    <a:pt x="1014" y="90"/>
                  </a:lnTo>
                  <a:lnTo>
                    <a:pt x="999" y="94"/>
                  </a:lnTo>
                  <a:lnTo>
                    <a:pt x="985" y="97"/>
                  </a:lnTo>
                  <a:lnTo>
                    <a:pt x="970" y="103"/>
                  </a:lnTo>
                  <a:lnTo>
                    <a:pt x="958" y="111"/>
                  </a:lnTo>
                  <a:lnTo>
                    <a:pt x="944" y="117"/>
                  </a:lnTo>
                  <a:lnTo>
                    <a:pt x="931" y="123"/>
                  </a:lnTo>
                  <a:lnTo>
                    <a:pt x="917" y="130"/>
                  </a:lnTo>
                  <a:lnTo>
                    <a:pt x="906" y="138"/>
                  </a:lnTo>
                  <a:lnTo>
                    <a:pt x="892" y="146"/>
                  </a:lnTo>
                  <a:lnTo>
                    <a:pt x="880" y="156"/>
                  </a:lnTo>
                  <a:lnTo>
                    <a:pt x="869" y="163"/>
                  </a:lnTo>
                  <a:lnTo>
                    <a:pt x="857" y="175"/>
                  </a:lnTo>
                  <a:lnTo>
                    <a:pt x="844" y="183"/>
                  </a:lnTo>
                  <a:lnTo>
                    <a:pt x="832" y="192"/>
                  </a:lnTo>
                  <a:lnTo>
                    <a:pt x="820" y="200"/>
                  </a:lnTo>
                  <a:lnTo>
                    <a:pt x="809" y="210"/>
                  </a:lnTo>
                  <a:lnTo>
                    <a:pt x="795" y="218"/>
                  </a:lnTo>
                  <a:lnTo>
                    <a:pt x="784" y="227"/>
                  </a:lnTo>
                  <a:lnTo>
                    <a:pt x="772" y="235"/>
                  </a:lnTo>
                  <a:lnTo>
                    <a:pt x="760" y="245"/>
                  </a:lnTo>
                  <a:lnTo>
                    <a:pt x="747" y="251"/>
                  </a:lnTo>
                  <a:lnTo>
                    <a:pt x="733" y="258"/>
                  </a:lnTo>
                  <a:lnTo>
                    <a:pt x="720" y="266"/>
                  </a:lnTo>
                  <a:lnTo>
                    <a:pt x="708" y="274"/>
                  </a:lnTo>
                  <a:lnTo>
                    <a:pt x="694" y="278"/>
                  </a:lnTo>
                  <a:lnTo>
                    <a:pt x="681" y="284"/>
                  </a:lnTo>
                  <a:lnTo>
                    <a:pt x="667" y="289"/>
                  </a:lnTo>
                  <a:lnTo>
                    <a:pt x="654" y="295"/>
                  </a:lnTo>
                  <a:lnTo>
                    <a:pt x="638" y="293"/>
                  </a:lnTo>
                  <a:lnTo>
                    <a:pt x="624" y="293"/>
                  </a:lnTo>
                  <a:lnTo>
                    <a:pt x="613" y="293"/>
                  </a:lnTo>
                  <a:lnTo>
                    <a:pt x="601" y="297"/>
                  </a:lnTo>
                  <a:lnTo>
                    <a:pt x="590" y="299"/>
                  </a:lnTo>
                  <a:lnTo>
                    <a:pt x="578" y="305"/>
                  </a:lnTo>
                  <a:lnTo>
                    <a:pt x="568" y="311"/>
                  </a:lnTo>
                  <a:lnTo>
                    <a:pt x="560" y="317"/>
                  </a:lnTo>
                  <a:lnTo>
                    <a:pt x="541" y="328"/>
                  </a:lnTo>
                  <a:lnTo>
                    <a:pt x="524" y="344"/>
                  </a:lnTo>
                  <a:lnTo>
                    <a:pt x="508" y="359"/>
                  </a:lnTo>
                  <a:lnTo>
                    <a:pt x="495" y="379"/>
                  </a:lnTo>
                  <a:lnTo>
                    <a:pt x="479" y="394"/>
                  </a:lnTo>
                  <a:lnTo>
                    <a:pt x="464" y="412"/>
                  </a:lnTo>
                  <a:lnTo>
                    <a:pt x="448" y="429"/>
                  </a:lnTo>
                  <a:lnTo>
                    <a:pt x="434" y="446"/>
                  </a:lnTo>
                  <a:lnTo>
                    <a:pt x="417" y="460"/>
                  </a:lnTo>
                  <a:lnTo>
                    <a:pt x="400" y="476"/>
                  </a:lnTo>
                  <a:lnTo>
                    <a:pt x="378" y="485"/>
                  </a:lnTo>
                  <a:lnTo>
                    <a:pt x="359" y="497"/>
                  </a:lnTo>
                  <a:lnTo>
                    <a:pt x="345" y="499"/>
                  </a:lnTo>
                  <a:lnTo>
                    <a:pt x="332" y="503"/>
                  </a:lnTo>
                  <a:lnTo>
                    <a:pt x="320" y="505"/>
                  </a:lnTo>
                  <a:lnTo>
                    <a:pt x="308" y="510"/>
                  </a:lnTo>
                  <a:lnTo>
                    <a:pt x="295" y="512"/>
                  </a:lnTo>
                  <a:lnTo>
                    <a:pt x="281" y="516"/>
                  </a:lnTo>
                  <a:lnTo>
                    <a:pt x="270" y="522"/>
                  </a:lnTo>
                  <a:lnTo>
                    <a:pt x="258" y="528"/>
                  </a:lnTo>
                  <a:lnTo>
                    <a:pt x="244" y="532"/>
                  </a:lnTo>
                  <a:lnTo>
                    <a:pt x="233" y="536"/>
                  </a:lnTo>
                  <a:lnTo>
                    <a:pt x="219" y="541"/>
                  </a:lnTo>
                  <a:lnTo>
                    <a:pt x="208" y="549"/>
                  </a:lnTo>
                  <a:lnTo>
                    <a:pt x="196" y="555"/>
                  </a:lnTo>
                  <a:lnTo>
                    <a:pt x="184" y="563"/>
                  </a:lnTo>
                  <a:lnTo>
                    <a:pt x="175" y="571"/>
                  </a:lnTo>
                  <a:lnTo>
                    <a:pt x="165" y="580"/>
                  </a:lnTo>
                  <a:lnTo>
                    <a:pt x="171" y="567"/>
                  </a:lnTo>
                  <a:lnTo>
                    <a:pt x="176" y="555"/>
                  </a:lnTo>
                  <a:lnTo>
                    <a:pt x="182" y="545"/>
                  </a:lnTo>
                  <a:lnTo>
                    <a:pt x="192" y="536"/>
                  </a:lnTo>
                  <a:lnTo>
                    <a:pt x="208" y="518"/>
                  </a:lnTo>
                  <a:lnTo>
                    <a:pt x="225" y="503"/>
                  </a:lnTo>
                  <a:lnTo>
                    <a:pt x="242" y="487"/>
                  </a:lnTo>
                  <a:lnTo>
                    <a:pt x="264" y="476"/>
                  </a:lnTo>
                  <a:lnTo>
                    <a:pt x="283" y="464"/>
                  </a:lnTo>
                  <a:lnTo>
                    <a:pt x="304" y="454"/>
                  </a:lnTo>
                  <a:lnTo>
                    <a:pt x="324" y="441"/>
                  </a:lnTo>
                  <a:lnTo>
                    <a:pt x="343" y="429"/>
                  </a:lnTo>
                  <a:lnTo>
                    <a:pt x="363" y="417"/>
                  </a:lnTo>
                  <a:lnTo>
                    <a:pt x="384" y="406"/>
                  </a:lnTo>
                  <a:lnTo>
                    <a:pt x="401" y="390"/>
                  </a:lnTo>
                  <a:lnTo>
                    <a:pt x="419" y="377"/>
                  </a:lnTo>
                  <a:lnTo>
                    <a:pt x="434" y="359"/>
                  </a:lnTo>
                  <a:lnTo>
                    <a:pt x="452" y="342"/>
                  </a:lnTo>
                  <a:lnTo>
                    <a:pt x="464" y="330"/>
                  </a:lnTo>
                  <a:lnTo>
                    <a:pt x="479" y="318"/>
                  </a:lnTo>
                  <a:lnTo>
                    <a:pt x="495" y="307"/>
                  </a:lnTo>
                  <a:lnTo>
                    <a:pt x="510" y="297"/>
                  </a:lnTo>
                  <a:lnTo>
                    <a:pt x="524" y="284"/>
                  </a:lnTo>
                  <a:lnTo>
                    <a:pt x="537" y="272"/>
                  </a:lnTo>
                  <a:lnTo>
                    <a:pt x="549" y="260"/>
                  </a:lnTo>
                  <a:lnTo>
                    <a:pt x="562" y="249"/>
                  </a:lnTo>
                  <a:lnTo>
                    <a:pt x="555" y="233"/>
                  </a:lnTo>
                  <a:lnTo>
                    <a:pt x="545" y="225"/>
                  </a:lnTo>
                  <a:lnTo>
                    <a:pt x="531" y="220"/>
                  </a:lnTo>
                  <a:lnTo>
                    <a:pt x="516" y="220"/>
                  </a:lnTo>
                  <a:lnTo>
                    <a:pt x="498" y="220"/>
                  </a:lnTo>
                  <a:lnTo>
                    <a:pt x="481" y="221"/>
                  </a:lnTo>
                  <a:lnTo>
                    <a:pt x="465" y="221"/>
                  </a:lnTo>
                  <a:lnTo>
                    <a:pt x="452" y="221"/>
                  </a:lnTo>
                  <a:lnTo>
                    <a:pt x="434" y="221"/>
                  </a:lnTo>
                  <a:lnTo>
                    <a:pt x="417" y="223"/>
                  </a:lnTo>
                  <a:lnTo>
                    <a:pt x="401" y="225"/>
                  </a:lnTo>
                  <a:lnTo>
                    <a:pt x="388" y="231"/>
                  </a:lnTo>
                  <a:lnTo>
                    <a:pt x="372" y="237"/>
                  </a:lnTo>
                  <a:lnTo>
                    <a:pt x="359" y="243"/>
                  </a:lnTo>
                  <a:lnTo>
                    <a:pt x="345" y="251"/>
                  </a:lnTo>
                  <a:lnTo>
                    <a:pt x="334" y="260"/>
                  </a:lnTo>
                  <a:lnTo>
                    <a:pt x="320" y="268"/>
                  </a:lnTo>
                  <a:lnTo>
                    <a:pt x="306" y="278"/>
                  </a:lnTo>
                  <a:lnTo>
                    <a:pt x="295" y="289"/>
                  </a:lnTo>
                  <a:lnTo>
                    <a:pt x="283" y="301"/>
                  </a:lnTo>
                  <a:lnTo>
                    <a:pt x="270" y="311"/>
                  </a:lnTo>
                  <a:lnTo>
                    <a:pt x="258" y="322"/>
                  </a:lnTo>
                  <a:lnTo>
                    <a:pt x="246" y="334"/>
                  </a:lnTo>
                  <a:lnTo>
                    <a:pt x="235" y="346"/>
                  </a:lnTo>
                  <a:lnTo>
                    <a:pt x="221" y="355"/>
                  </a:lnTo>
                  <a:lnTo>
                    <a:pt x="208" y="365"/>
                  </a:lnTo>
                  <a:lnTo>
                    <a:pt x="194" y="375"/>
                  </a:lnTo>
                  <a:lnTo>
                    <a:pt x="182" y="384"/>
                  </a:lnTo>
                  <a:lnTo>
                    <a:pt x="169" y="392"/>
                  </a:lnTo>
                  <a:lnTo>
                    <a:pt x="155" y="400"/>
                  </a:lnTo>
                  <a:lnTo>
                    <a:pt x="142" y="408"/>
                  </a:lnTo>
                  <a:lnTo>
                    <a:pt x="130" y="415"/>
                  </a:lnTo>
                  <a:lnTo>
                    <a:pt x="114" y="419"/>
                  </a:lnTo>
                  <a:lnTo>
                    <a:pt x="99" y="423"/>
                  </a:lnTo>
                  <a:lnTo>
                    <a:pt x="83" y="425"/>
                  </a:lnTo>
                  <a:lnTo>
                    <a:pt x="68" y="427"/>
                  </a:lnTo>
                  <a:lnTo>
                    <a:pt x="50" y="425"/>
                  </a:lnTo>
                  <a:lnTo>
                    <a:pt x="35" y="423"/>
                  </a:lnTo>
                  <a:lnTo>
                    <a:pt x="17" y="419"/>
                  </a:lnTo>
                  <a:lnTo>
                    <a:pt x="0" y="415"/>
                  </a:lnTo>
                  <a:lnTo>
                    <a:pt x="12" y="408"/>
                  </a:lnTo>
                  <a:lnTo>
                    <a:pt x="27" y="402"/>
                  </a:lnTo>
                  <a:lnTo>
                    <a:pt x="41" y="398"/>
                  </a:lnTo>
                  <a:lnTo>
                    <a:pt x="56" y="396"/>
                  </a:lnTo>
                  <a:lnTo>
                    <a:pt x="70" y="390"/>
                  </a:lnTo>
                  <a:lnTo>
                    <a:pt x="85" y="386"/>
                  </a:lnTo>
                  <a:lnTo>
                    <a:pt x="103" y="382"/>
                  </a:lnTo>
                  <a:lnTo>
                    <a:pt x="120" y="379"/>
                  </a:lnTo>
                  <a:lnTo>
                    <a:pt x="140" y="361"/>
                  </a:lnTo>
                  <a:lnTo>
                    <a:pt x="161" y="344"/>
                  </a:lnTo>
                  <a:lnTo>
                    <a:pt x="171" y="334"/>
                  </a:lnTo>
                  <a:lnTo>
                    <a:pt x="182" y="324"/>
                  </a:lnTo>
                  <a:lnTo>
                    <a:pt x="192" y="315"/>
                  </a:lnTo>
                  <a:lnTo>
                    <a:pt x="204" y="305"/>
                  </a:lnTo>
                  <a:lnTo>
                    <a:pt x="211" y="293"/>
                  </a:lnTo>
                  <a:lnTo>
                    <a:pt x="223" y="282"/>
                  </a:lnTo>
                  <a:lnTo>
                    <a:pt x="231" y="270"/>
                  </a:lnTo>
                  <a:lnTo>
                    <a:pt x="242" y="258"/>
                  </a:lnTo>
                  <a:lnTo>
                    <a:pt x="250" y="247"/>
                  </a:lnTo>
                  <a:lnTo>
                    <a:pt x="258" y="235"/>
                  </a:lnTo>
                  <a:lnTo>
                    <a:pt x="266" y="223"/>
                  </a:lnTo>
                  <a:lnTo>
                    <a:pt x="275" y="212"/>
                  </a:lnTo>
                  <a:lnTo>
                    <a:pt x="293" y="200"/>
                  </a:lnTo>
                  <a:lnTo>
                    <a:pt x="312" y="190"/>
                  </a:lnTo>
                  <a:lnTo>
                    <a:pt x="322" y="185"/>
                  </a:lnTo>
                  <a:lnTo>
                    <a:pt x="332" y="181"/>
                  </a:lnTo>
                  <a:lnTo>
                    <a:pt x="343" y="177"/>
                  </a:lnTo>
                  <a:lnTo>
                    <a:pt x="355" y="175"/>
                  </a:lnTo>
                  <a:lnTo>
                    <a:pt x="367" y="171"/>
                  </a:lnTo>
                  <a:lnTo>
                    <a:pt x="378" y="169"/>
                  </a:lnTo>
                  <a:lnTo>
                    <a:pt x="390" y="167"/>
                  </a:lnTo>
                  <a:lnTo>
                    <a:pt x="401" y="167"/>
                  </a:lnTo>
                  <a:lnTo>
                    <a:pt x="413" y="167"/>
                  </a:lnTo>
                  <a:lnTo>
                    <a:pt x="427" y="167"/>
                  </a:lnTo>
                  <a:lnTo>
                    <a:pt x="438" y="169"/>
                  </a:lnTo>
                  <a:lnTo>
                    <a:pt x="452" y="175"/>
                  </a:lnTo>
                  <a:lnTo>
                    <a:pt x="467" y="175"/>
                  </a:lnTo>
                  <a:lnTo>
                    <a:pt x="485" y="177"/>
                  </a:lnTo>
                  <a:lnTo>
                    <a:pt x="502" y="177"/>
                  </a:lnTo>
                  <a:lnTo>
                    <a:pt x="520" y="179"/>
                  </a:lnTo>
                  <a:lnTo>
                    <a:pt x="535" y="179"/>
                  </a:lnTo>
                  <a:lnTo>
                    <a:pt x="553" y="179"/>
                  </a:lnTo>
                  <a:lnTo>
                    <a:pt x="570" y="179"/>
                  </a:lnTo>
                  <a:lnTo>
                    <a:pt x="588" y="179"/>
                  </a:lnTo>
                  <a:lnTo>
                    <a:pt x="603" y="175"/>
                  </a:lnTo>
                  <a:lnTo>
                    <a:pt x="621" y="173"/>
                  </a:lnTo>
                  <a:lnTo>
                    <a:pt x="636" y="169"/>
                  </a:lnTo>
                  <a:lnTo>
                    <a:pt x="654" y="167"/>
                  </a:lnTo>
                  <a:lnTo>
                    <a:pt x="669" y="161"/>
                  </a:lnTo>
                  <a:lnTo>
                    <a:pt x="685" y="158"/>
                  </a:lnTo>
                  <a:lnTo>
                    <a:pt x="700" y="152"/>
                  </a:lnTo>
                  <a:lnTo>
                    <a:pt x="718" y="148"/>
                  </a:lnTo>
                  <a:lnTo>
                    <a:pt x="727" y="140"/>
                  </a:lnTo>
                  <a:lnTo>
                    <a:pt x="737" y="132"/>
                  </a:lnTo>
                  <a:lnTo>
                    <a:pt x="749" y="126"/>
                  </a:lnTo>
                  <a:lnTo>
                    <a:pt x="760" y="121"/>
                  </a:lnTo>
                  <a:lnTo>
                    <a:pt x="770" y="113"/>
                  </a:lnTo>
                  <a:lnTo>
                    <a:pt x="782" y="107"/>
                  </a:lnTo>
                  <a:lnTo>
                    <a:pt x="791" y="99"/>
                  </a:lnTo>
                  <a:lnTo>
                    <a:pt x="803" y="94"/>
                  </a:lnTo>
                  <a:lnTo>
                    <a:pt x="813" y="86"/>
                  </a:lnTo>
                  <a:lnTo>
                    <a:pt x="824" y="78"/>
                  </a:lnTo>
                  <a:lnTo>
                    <a:pt x="834" y="70"/>
                  </a:lnTo>
                  <a:lnTo>
                    <a:pt x="846" y="63"/>
                  </a:lnTo>
                  <a:lnTo>
                    <a:pt x="865" y="45"/>
                  </a:lnTo>
                  <a:lnTo>
                    <a:pt x="884" y="28"/>
                  </a:lnTo>
                  <a:lnTo>
                    <a:pt x="1022" y="47"/>
                  </a:lnTo>
                  <a:lnTo>
                    <a:pt x="1040" y="47"/>
                  </a:lnTo>
                  <a:lnTo>
                    <a:pt x="1057" y="49"/>
                  </a:lnTo>
                  <a:lnTo>
                    <a:pt x="1074" y="49"/>
                  </a:lnTo>
                  <a:lnTo>
                    <a:pt x="1092" y="51"/>
                  </a:lnTo>
                  <a:lnTo>
                    <a:pt x="1109" y="51"/>
                  </a:lnTo>
                  <a:lnTo>
                    <a:pt x="1127" y="51"/>
                  </a:lnTo>
                  <a:lnTo>
                    <a:pt x="1144" y="51"/>
                  </a:lnTo>
                  <a:lnTo>
                    <a:pt x="1164" y="53"/>
                  </a:lnTo>
                  <a:lnTo>
                    <a:pt x="1181" y="51"/>
                  </a:lnTo>
                  <a:lnTo>
                    <a:pt x="1199" y="51"/>
                  </a:lnTo>
                  <a:lnTo>
                    <a:pt x="1216" y="51"/>
                  </a:lnTo>
                  <a:lnTo>
                    <a:pt x="1233" y="51"/>
                  </a:lnTo>
                  <a:lnTo>
                    <a:pt x="1251" y="49"/>
                  </a:lnTo>
                  <a:lnTo>
                    <a:pt x="1268" y="49"/>
                  </a:lnTo>
                  <a:lnTo>
                    <a:pt x="1286" y="47"/>
                  </a:lnTo>
                  <a:lnTo>
                    <a:pt x="1305" y="47"/>
                  </a:lnTo>
                  <a:lnTo>
                    <a:pt x="1323" y="43"/>
                  </a:lnTo>
                  <a:lnTo>
                    <a:pt x="1340" y="43"/>
                  </a:lnTo>
                  <a:lnTo>
                    <a:pt x="1358" y="39"/>
                  </a:lnTo>
                  <a:lnTo>
                    <a:pt x="1375" y="39"/>
                  </a:lnTo>
                  <a:lnTo>
                    <a:pt x="1392" y="35"/>
                  </a:lnTo>
                  <a:lnTo>
                    <a:pt x="1410" y="33"/>
                  </a:lnTo>
                  <a:lnTo>
                    <a:pt x="1427" y="31"/>
                  </a:lnTo>
                  <a:lnTo>
                    <a:pt x="1445" y="30"/>
                  </a:lnTo>
                  <a:lnTo>
                    <a:pt x="1462" y="26"/>
                  </a:lnTo>
                  <a:lnTo>
                    <a:pt x="1480" y="22"/>
                  </a:lnTo>
                  <a:lnTo>
                    <a:pt x="1497" y="18"/>
                  </a:lnTo>
                  <a:lnTo>
                    <a:pt x="1515" y="16"/>
                  </a:lnTo>
                  <a:lnTo>
                    <a:pt x="1532" y="10"/>
                  </a:lnTo>
                  <a:lnTo>
                    <a:pt x="1550" y="8"/>
                  </a:lnTo>
                  <a:lnTo>
                    <a:pt x="1567" y="2"/>
                  </a:lnTo>
                  <a:lnTo>
                    <a:pt x="1584" y="0"/>
                  </a:lnTo>
                  <a:lnTo>
                    <a:pt x="1598" y="12"/>
                  </a:lnTo>
                  <a:lnTo>
                    <a:pt x="1616" y="26"/>
                  </a:lnTo>
                  <a:lnTo>
                    <a:pt x="1633" y="31"/>
                  </a:lnTo>
                  <a:lnTo>
                    <a:pt x="1650" y="39"/>
                  </a:lnTo>
                  <a:lnTo>
                    <a:pt x="1668" y="41"/>
                  </a:lnTo>
                  <a:lnTo>
                    <a:pt x="1687" y="45"/>
                  </a:lnTo>
                  <a:lnTo>
                    <a:pt x="1707" y="45"/>
                  </a:lnTo>
                  <a:lnTo>
                    <a:pt x="1728" y="47"/>
                  </a:lnTo>
                  <a:lnTo>
                    <a:pt x="1745" y="45"/>
                  </a:lnTo>
                  <a:lnTo>
                    <a:pt x="1765" y="43"/>
                  </a:lnTo>
                  <a:lnTo>
                    <a:pt x="1784" y="43"/>
                  </a:lnTo>
                  <a:lnTo>
                    <a:pt x="1804" y="47"/>
                  </a:lnTo>
                  <a:lnTo>
                    <a:pt x="1823" y="47"/>
                  </a:lnTo>
                  <a:lnTo>
                    <a:pt x="1842" y="55"/>
                  </a:lnTo>
                  <a:lnTo>
                    <a:pt x="1860" y="61"/>
                  </a:lnTo>
                  <a:lnTo>
                    <a:pt x="1879" y="7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 name=""/>
          <p:cNvSpPr/>
          <p:nvPr/>
        </p:nvSpPr>
        <p:spPr>
          <a:xfrm>
            <a:off x="3352680" y="1828800"/>
            <a:ext cx="4800600" cy="990720"/>
          </a:xfrm>
          <a:prstGeom prst="wedgeRoundRectCallout">
            <a:avLst>
              <a:gd name="adj1" fmla="val -72819"/>
              <a:gd name="adj2" fmla="val 8652"/>
              <a:gd name="adj3" fmla="val 16667"/>
            </a:avLst>
          </a:prstGeom>
          <a:solidFill>
            <a:srgbClr val="fefdc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505320" y="1905120"/>
            <a:ext cx="451800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Fruit = personal si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1 Cor. 15:3 --- Christ died for </a:t>
            </a:r>
            <a:r>
              <a:rPr b="0" lang="en-US" sz="2000" spc="-1" strike="noStrike" u="sng">
                <a:solidFill>
                  <a:srgbClr val="000000"/>
                </a:solidFill>
                <a:uFillTx/>
                <a:latin typeface="Arial Rounded MT Bold"/>
              </a:rPr>
              <a:t>our sins</a:t>
            </a:r>
            <a:endParaRPr b="0" lang="en-US" sz="2000" spc="-1" strike="noStrike">
              <a:solidFill>
                <a:srgbClr val="000000"/>
              </a:solidFill>
              <a:latin typeface="Times New Roman"/>
            </a:endParaRPr>
          </a:p>
        </p:txBody>
      </p:sp>
      <p:sp>
        <p:nvSpPr>
          <p:cNvPr id="125" name=""/>
          <p:cNvSpPr/>
          <p:nvPr/>
        </p:nvSpPr>
        <p:spPr>
          <a:xfrm>
            <a:off x="3429000" y="4952880"/>
            <a:ext cx="3809880" cy="1067040"/>
          </a:xfrm>
          <a:prstGeom prst="wedgeRoundRectCallout">
            <a:avLst>
              <a:gd name="adj1" fmla="val -77250"/>
              <a:gd name="adj2" fmla="val 1486"/>
              <a:gd name="adj3"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3519360" y="5105520"/>
            <a:ext cx="3705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Root = Sin (Sin Natur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Rom. 6:10 --- He died unto </a:t>
            </a:r>
            <a:r>
              <a:rPr b="0" lang="en-US" sz="2000" spc="-1" strike="noStrike" u="sng">
                <a:solidFill>
                  <a:srgbClr val="000000"/>
                </a:solidFill>
                <a:uFillTx/>
                <a:latin typeface="Arial Rounded MT Bold"/>
              </a:rPr>
              <a:t>sin</a:t>
            </a:r>
            <a:endParaRPr b="0" lang="en-US" sz="2000" spc="-1" strike="noStrike">
              <a:solidFill>
                <a:srgbClr val="000000"/>
              </a:solidFill>
              <a:latin typeface="Times New Roman"/>
            </a:endParaRPr>
          </a:p>
        </p:txBody>
      </p:sp>
      <p:sp>
        <p:nvSpPr>
          <p:cNvPr id="127" name=""/>
          <p:cNvSpPr/>
          <p:nvPr/>
        </p:nvSpPr>
        <p:spPr>
          <a:xfrm>
            <a:off x="3565800" y="3276720"/>
            <a:ext cx="418248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Sins which are personal failure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or transgress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Rounded MT Bold"/>
              </a:rPr>
              <a:t>vs.</a:t>
            </a:r>
            <a:endParaRPr b="0" lang="en-US" sz="2000" spc="-1" strike="noStrike">
              <a:solidFill>
                <a:srgbClr val="000000"/>
              </a:solidFill>
              <a:latin typeface="Times New Roman"/>
            </a:endParaRPr>
          </a:p>
          <a:p>
            <a:pPr algn="ct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Sin which is a nature</a:t>
            </a:r>
            <a:endParaRPr b="0" lang="en-US" sz="2000" spc="-1" strike="noStrike">
              <a:solidFill>
                <a:srgbClr val="000000"/>
              </a:solidFill>
              <a:latin typeface="Times New Roman"/>
            </a:endParaRPr>
          </a:p>
        </p:txBody>
      </p:sp>
      <p:sp>
        <p:nvSpPr>
          <p:cNvPr id="128" name=""/>
          <p:cNvSpPr/>
          <p:nvPr/>
        </p:nvSpPr>
        <p:spPr>
          <a:xfrm>
            <a:off x="4572000" y="6469200"/>
            <a:ext cx="457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Rounded MT Bold"/>
              </a:rPr>
              <a:t>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143000" y="914400"/>
            <a:ext cx="7315200" cy="762120"/>
          </a:xfrm>
          <a:prstGeom prst="horizontalScroll">
            <a:avLst>
              <a:gd name="adj" fmla="val 12500"/>
            </a:avLst>
          </a:prstGeom>
          <a:solidFill>
            <a:srgbClr val="ffffcc"/>
          </a:solidFill>
          <a:ln w="93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0" lang="en-US" sz="2400" spc="-1" strike="noStrike">
                <a:solidFill>
                  <a:srgbClr val="000000"/>
                </a:solidFill>
                <a:latin typeface="Arial Rounded MT Bold"/>
              </a:rPr>
              <a:t>The Substitute bearing the penalty of the sinner </a:t>
            </a:r>
            <a:endParaRPr b="0" lang="en-US" sz="2400" spc="-1" strike="noStrike">
              <a:solidFill>
                <a:srgbClr val="000000"/>
              </a:solidFill>
              <a:latin typeface="Times New Roman"/>
            </a:endParaRPr>
          </a:p>
        </p:txBody>
      </p:sp>
      <p:sp>
        <p:nvSpPr>
          <p:cNvPr id="130" name=""/>
          <p:cNvSpPr/>
          <p:nvPr/>
        </p:nvSpPr>
        <p:spPr>
          <a:xfrm>
            <a:off x="1785240" y="380880"/>
            <a:ext cx="5773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God the Son: His Substitutionary Death</a:t>
            </a:r>
            <a:endParaRPr b="0" lang="en-US" sz="2400" spc="-1" strike="noStrike">
              <a:solidFill>
                <a:srgbClr val="000000"/>
              </a:solidFill>
              <a:latin typeface="Times New Roman"/>
            </a:endParaRPr>
          </a:p>
        </p:txBody>
      </p:sp>
      <p:sp>
        <p:nvSpPr>
          <p:cNvPr id="131" name=""/>
          <p:cNvSpPr/>
          <p:nvPr/>
        </p:nvSpPr>
        <p:spPr>
          <a:xfrm>
            <a:off x="1143000" y="1752480"/>
            <a:ext cx="6873840" cy="4045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John 10:11 </a:t>
            </a:r>
            <a:endParaRPr b="0" lang="en-US" sz="2000" spc="-1" strike="noStrike">
              <a:solidFill>
                <a:srgbClr val="000000"/>
              </a:solidFill>
              <a:latin typeface="Times New Roman"/>
            </a:endParaRPr>
          </a:p>
          <a:p>
            <a:pPr lvl="1" marL="45720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the good shepherd lays down His life for the shee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Romans 5:6 &amp; 8</a:t>
            </a:r>
            <a:endParaRPr b="0" lang="en-US" sz="2000" spc="-1" strike="noStrike">
              <a:solidFill>
                <a:srgbClr val="000000"/>
              </a:solidFill>
              <a:latin typeface="Times New Roman"/>
            </a:endParaRPr>
          </a:p>
          <a:p>
            <a:pPr lvl="1" marL="45720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For while we were still helpless</a:t>
            </a:r>
            <a:endParaRPr b="0" lang="en-US" sz="2000" spc="-1" strike="noStrike">
              <a:solidFill>
                <a:srgbClr val="000000"/>
              </a:solidFill>
              <a:latin typeface="Times New Roman"/>
            </a:endParaRPr>
          </a:p>
          <a:p>
            <a:pPr lvl="1" marL="45720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Christ died for the ungodly</a:t>
            </a:r>
            <a:endParaRPr b="0" lang="en-US" sz="2000" spc="-1" strike="noStrike">
              <a:solidFill>
                <a:srgbClr val="000000"/>
              </a:solidFill>
              <a:latin typeface="Times New Roman"/>
            </a:endParaRPr>
          </a:p>
          <a:p>
            <a:pPr lvl="1" marL="45720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God demonstrates His own love toward us</a:t>
            </a:r>
            <a:endParaRPr b="0" lang="en-US" sz="2000" spc="-1" strike="noStrike">
              <a:solidFill>
                <a:srgbClr val="000000"/>
              </a:solidFill>
              <a:latin typeface="Times New Roman"/>
            </a:endParaRPr>
          </a:p>
          <a:p>
            <a:pPr lvl="2" marL="914400">
              <a:lnSpc>
                <a:spcPct val="10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while we were yet sinners</a:t>
            </a:r>
            <a:endParaRPr b="0" lang="en-US" sz="2000" spc="-1" strike="noStrike">
              <a:solidFill>
                <a:srgbClr val="000000"/>
              </a:solidFill>
              <a:latin typeface="Times New Roman"/>
            </a:endParaRPr>
          </a:p>
          <a:p>
            <a:pPr lvl="2" marL="914400">
              <a:lnSpc>
                <a:spcPct val="10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Christ died for us</a:t>
            </a:r>
            <a:endParaRPr b="0" lang="en-US" sz="2000" spc="-1" strike="noStrike">
              <a:solidFill>
                <a:srgbClr val="000000"/>
              </a:solidFill>
              <a:latin typeface="Times New Roman"/>
            </a:endParaRPr>
          </a:p>
          <a:p>
            <a:pPr lvl="2" marL="914400">
              <a:lnSpc>
                <a:spcPct val="10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1 Pete 3:18 </a:t>
            </a:r>
            <a:endParaRPr b="0" lang="en-US" sz="2000" spc="-1" strike="noStrike">
              <a:solidFill>
                <a:srgbClr val="000000"/>
              </a:solidFill>
              <a:latin typeface="Times New Roman"/>
            </a:endParaRPr>
          </a:p>
          <a:p>
            <a:pPr lvl="1" marL="45720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For Christ also died for sins once for all,</a:t>
            </a:r>
            <a:endParaRPr b="0" lang="en-US" sz="2000" spc="-1" strike="noStrike">
              <a:solidFill>
                <a:srgbClr val="000000"/>
              </a:solidFill>
              <a:latin typeface="Times New Roman"/>
            </a:endParaRPr>
          </a:p>
          <a:p>
            <a:pPr lvl="1" marL="45720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the just for the unjust, </a:t>
            </a:r>
            <a:endParaRPr b="0" lang="en-US" sz="2000" spc="-1" strike="noStrike">
              <a:solidFill>
                <a:srgbClr val="000000"/>
              </a:solidFill>
              <a:latin typeface="Times New Roman"/>
            </a:endParaRPr>
          </a:p>
          <a:p>
            <a:pPr lvl="1" marL="45720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in order that He might bring us to God</a:t>
            </a:r>
            <a:endParaRPr b="0" lang="en-US" sz="2000" spc="-1" strike="noStrike">
              <a:solidFill>
                <a:srgbClr val="000000"/>
              </a:solidFill>
              <a:latin typeface="Times New Roman"/>
            </a:endParaRPr>
          </a:p>
        </p:txBody>
      </p:sp>
      <p:sp>
        <p:nvSpPr>
          <p:cNvPr id="132" name=""/>
          <p:cNvSpPr/>
          <p:nvPr/>
        </p:nvSpPr>
        <p:spPr>
          <a:xfrm>
            <a:off x="4419720" y="654516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Rounded MT Bold"/>
              </a:rPr>
              <a:t>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3T02:21:06Z</dcterms:created>
  <dc:creator>Roger Henderson</dc:creator>
  <dc:description/>
  <dc:language>en-US</dc:language>
  <cp:lastModifiedBy>Hal Molloy</cp:lastModifiedBy>
  <cp:lastPrinted>2002-09-07T21:53:07Z</cp:lastPrinted>
  <dcterms:modified xsi:type="dcterms:W3CDTF">2003-11-15T22:54:06Z</dcterms:modified>
  <cp:revision>123</cp:revision>
  <dc:subject/>
  <dc:title>No Slide Title</dc:title>
</cp:coreProperties>
</file>