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99280" cy="60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28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52480" y="2971800"/>
            <a:ext cx="39625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39960" y="99072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81720" y="38088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enalty of 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83560" y="3322800"/>
            <a:ext cx="7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2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654516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9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1720" y="38088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enalty of 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990720"/>
            <a:ext cx="2362320" cy="2286000"/>
          </a:xfrm>
          <a:prstGeom prst="horizontalScrol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mea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2438280"/>
            <a:ext cx="2362320" cy="2286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th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ens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4038480"/>
            <a:ext cx="2514600" cy="2286000"/>
          </a:xfrm>
          <a:prstGeom prst="horizontalScrol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lvation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ditio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pon Faith al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66214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9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62920" y="-152280"/>
            <a:ext cx="1752480" cy="1600200"/>
          </a:xfrm>
          <a:prstGeom prst="horizontalScrol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mean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nd scop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81720" y="38088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enalty of 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381880" cy="56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Salvation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rived from the word for savior, the Greek word i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oteria” - deliverance, pre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How “soteria”  is used in the New Test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material and temporal deliveranc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cts7:25, Acts 27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spiritual and eternal deliveranc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cts 4:12, Rom1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the present experience of God’s power to delive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next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the future deliverance of the believer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xt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the deliverance of the nation of Israel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Luke 1:69-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sum up all the blessings of God for the believe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1 Pet. 1: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Old Testament verses on sal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salm 3:8 --- salvation belongs to the L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nah 2:9 --- salvation is of the L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66214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9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391520" y="0"/>
            <a:ext cx="1752480" cy="1600200"/>
          </a:xfrm>
          <a:prstGeom prst="horizontalScrol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mean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nd scop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830592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Scope of  Salvation includes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ubstitution, redemption, reconciliation, propitiation, convic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pentance, faith, regeneration, forgiveness, justific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nctification, preservation, glo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word salvation represent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whole work of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y which He rescues man from the eternal ruin and doom of 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bestows on him the riches of His grace, including eternal l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ow and eternal glory in heave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Salvation is the saving work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de fit to be partakers of the inheritance of the saint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Col1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de accepted in the belove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Eph. 1: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de the righteousness of Go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2 Cor. 5: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de near to Go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Eph. 2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de sons of Go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John 1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de citizens of heave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Phil. 3: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de a new creat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2 Cor 5: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de members of the family and household of Go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Eph. 2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de complete in Chris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Col. 2: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81720" y="38088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enalty of 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66373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9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81720" y="38088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enalty of 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0"/>
            <a:ext cx="1444680" cy="16002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thr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ense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133720"/>
            <a:ext cx="1524240" cy="6858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ast 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0520" y="3048120"/>
            <a:ext cx="26816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fers to 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s being wholly 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mpleted (unchang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or one who has believ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2133720"/>
            <a:ext cx="1523880" cy="68580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esent 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93640" y="3048120"/>
            <a:ext cx="23612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lvation from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igning power of 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e are to walk in 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y fa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2133720"/>
            <a:ext cx="1524240" cy="685800"/>
          </a:xfrm>
          <a:prstGeom prst="flowChartAlternateProcess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uture 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64480" y="3048120"/>
            <a:ext cx="226836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ved into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nformity to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et to be sav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presence of 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429000" y="990720"/>
            <a:ext cx="1600200" cy="838080"/>
            <a:chOff x="3429000" y="990720"/>
            <a:chExt cx="1600200" cy="838080"/>
          </a:xfrm>
        </p:grpSpPr>
        <p:sp>
          <p:nvSpPr>
            <p:cNvPr id="73" name=""/>
            <p:cNvSpPr/>
            <p:nvPr/>
          </p:nvSpPr>
          <p:spPr>
            <a:xfrm>
              <a:off x="3429000" y="990720"/>
              <a:ext cx="1600200" cy="838080"/>
            </a:xfrm>
            <a:prstGeom prst="wedgeEllipseCallout">
              <a:avLst>
                <a:gd name="adj1" fmla="val -4365"/>
                <a:gd name="adj2" fmla="val 8844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20440" y="1067040"/>
              <a:ext cx="143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Rounded MT Bold"/>
                </a:rPr>
                <a:t>from the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Rounded MT Bold"/>
                </a:rPr>
                <a:t>power of S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791320" y="1066680"/>
            <a:ext cx="1676160" cy="838440"/>
          </a:xfrm>
          <a:prstGeom prst="wedgeEllipseCallout">
            <a:avLst>
              <a:gd name="adj1" fmla="val 16287"/>
              <a:gd name="adj2" fmla="val 76324"/>
            </a:avLst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38080" y="914400"/>
            <a:ext cx="1600200" cy="838080"/>
            <a:chOff x="838080" y="914400"/>
            <a:chExt cx="1600200" cy="838080"/>
          </a:xfrm>
        </p:grpSpPr>
        <p:sp>
          <p:nvSpPr>
            <p:cNvPr id="77" name=""/>
            <p:cNvSpPr/>
            <p:nvPr/>
          </p:nvSpPr>
          <p:spPr>
            <a:xfrm>
              <a:off x="838080" y="914400"/>
              <a:ext cx="1600200" cy="838080"/>
            </a:xfrm>
            <a:prstGeom prst="wedgeEllipseCallout">
              <a:avLst>
                <a:gd name="adj1" fmla="val -13888"/>
                <a:gd name="adj2" fmla="val 96023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9160" y="990360"/>
              <a:ext cx="156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Rounded MT Bold"/>
                </a:rPr>
                <a:t>from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Rounded MT Bold"/>
                </a:rPr>
                <a:t>penalty of S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808240" y="1143000"/>
            <a:ext cx="171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from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presence of 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4875120" y="2287440"/>
            <a:ext cx="1981080" cy="6245280"/>
          </a:xfrm>
          <a:prstGeom prst="wedgeRoundRectCallout">
            <a:avLst>
              <a:gd name="adj1" fmla="val -52967"/>
              <a:gd name="adj2" fmla="val 6466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75880" y="4495680"/>
            <a:ext cx="63799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from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: the penalty of sin (eternal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to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: eternal l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Eph. 2:8 For by grace you have been saved through fa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Jn. 5:24 - he who believes - has passed out of death into l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Jn. 10:28 - shall never perish - no one shall snatch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ut of My h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om. 8:1 no condemnation for those who are in Christ Jes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66214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9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81720" y="38088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enalty of 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0"/>
            <a:ext cx="1600200" cy="16002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thr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ense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133720"/>
            <a:ext cx="1524240" cy="6858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ast 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0520" y="3048120"/>
            <a:ext cx="26816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fers to 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s being wholly 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mpleted (unchang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or one who has believ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133720"/>
            <a:ext cx="1523880" cy="68580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esent 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93640" y="3048120"/>
            <a:ext cx="23612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lvation from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igning power of 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e are to walk in 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y fa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2133720"/>
            <a:ext cx="1524240" cy="685800"/>
          </a:xfrm>
          <a:prstGeom prst="flowChartAlternateProcess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uture 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64480" y="3048120"/>
            <a:ext cx="226836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ved into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nformity to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et to be sav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presence of 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6629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29000" y="990720"/>
            <a:ext cx="1600200" cy="838080"/>
            <a:chOff x="3429000" y="990720"/>
            <a:chExt cx="1600200" cy="838080"/>
          </a:xfrm>
        </p:grpSpPr>
        <p:sp>
          <p:nvSpPr>
            <p:cNvPr id="93" name=""/>
            <p:cNvSpPr/>
            <p:nvPr/>
          </p:nvSpPr>
          <p:spPr>
            <a:xfrm>
              <a:off x="3429000" y="990720"/>
              <a:ext cx="1600200" cy="838080"/>
            </a:xfrm>
            <a:prstGeom prst="wedgeEllipseCallout">
              <a:avLst>
                <a:gd name="adj1" fmla="val -4365"/>
                <a:gd name="adj2" fmla="val 8844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0440" y="1067040"/>
              <a:ext cx="143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Rounded MT Bold"/>
                </a:rPr>
                <a:t>from the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Rounded MT Bold"/>
                </a:rPr>
                <a:t>power of S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791320" y="1066680"/>
            <a:ext cx="1676160" cy="838440"/>
          </a:xfrm>
          <a:prstGeom prst="wedgeEllipseCallout">
            <a:avLst>
              <a:gd name="adj1" fmla="val 16287"/>
              <a:gd name="adj2" fmla="val 76324"/>
            </a:avLst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38080" y="914400"/>
            <a:ext cx="1600200" cy="838080"/>
            <a:chOff x="838080" y="914400"/>
            <a:chExt cx="1600200" cy="838080"/>
          </a:xfrm>
        </p:grpSpPr>
        <p:sp>
          <p:nvSpPr>
            <p:cNvPr id="97" name=""/>
            <p:cNvSpPr/>
            <p:nvPr/>
          </p:nvSpPr>
          <p:spPr>
            <a:xfrm>
              <a:off x="838080" y="914400"/>
              <a:ext cx="1600200" cy="838080"/>
            </a:xfrm>
            <a:prstGeom prst="wedgeEllipseCallout">
              <a:avLst>
                <a:gd name="adj1" fmla="val -13888"/>
                <a:gd name="adj2" fmla="val 96023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9160" y="990360"/>
              <a:ext cx="156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Rounded MT Bold"/>
                </a:rPr>
                <a:t>from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Rounded MT Bold"/>
                </a:rPr>
                <a:t>penalty of S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808240" y="1143000"/>
            <a:ext cx="171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from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presence of 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698560" y="2177640"/>
            <a:ext cx="1981440" cy="6616800"/>
          </a:xfrm>
          <a:prstGeom prst="wedgeRoundRectCallout">
            <a:avLst>
              <a:gd name="adj1" fmla="val -70513"/>
              <a:gd name="adj2" fmla="val -8375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7080" y="4572000"/>
            <a:ext cx="6755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from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: power of sin (sin n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to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: being alive to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om. 6:6 Knowing this, that our old self was crucified with Hi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at our body of sin might be done away with, 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om 6:11 Even so consider yourselves to be dead to sin, 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live to God in Christ Je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alled the “Identification Truths”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65833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9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81720" y="38088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enalty of 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0"/>
            <a:ext cx="1447920" cy="16002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thr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ense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133720"/>
            <a:ext cx="1524240" cy="6858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ast 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0520" y="3048120"/>
            <a:ext cx="2681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fers to sal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s being wholly 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mpleted (unchang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or one who has believ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133720"/>
            <a:ext cx="1523880" cy="68580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esent 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93640" y="3048120"/>
            <a:ext cx="2361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lvation from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igning power of 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e are to walk in 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y fa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2133720"/>
            <a:ext cx="1524240" cy="685800"/>
          </a:xfrm>
          <a:prstGeom prst="flowChartAlternateProcess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uture 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64480" y="3048120"/>
            <a:ext cx="226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ved into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nformity to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et to be sav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presence of 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6629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29000" y="990720"/>
            <a:ext cx="1600200" cy="838080"/>
            <a:chOff x="3429000" y="990720"/>
            <a:chExt cx="1600200" cy="838080"/>
          </a:xfrm>
        </p:grpSpPr>
        <p:sp>
          <p:nvSpPr>
            <p:cNvPr id="113" name=""/>
            <p:cNvSpPr/>
            <p:nvPr/>
          </p:nvSpPr>
          <p:spPr>
            <a:xfrm>
              <a:off x="3429000" y="990720"/>
              <a:ext cx="1600200" cy="838080"/>
            </a:xfrm>
            <a:prstGeom prst="wedgeEllipseCallout">
              <a:avLst>
                <a:gd name="adj1" fmla="val -4365"/>
                <a:gd name="adj2" fmla="val 88449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440" y="1067040"/>
              <a:ext cx="143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Rounded MT Bold"/>
                </a:rPr>
                <a:t>from the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Rounded MT Bold"/>
                </a:rPr>
                <a:t>power of S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791320" y="1066680"/>
            <a:ext cx="1676160" cy="838440"/>
          </a:xfrm>
          <a:prstGeom prst="wedgeEllipseCallout">
            <a:avLst>
              <a:gd name="adj1" fmla="val 16287"/>
              <a:gd name="adj2" fmla="val 76324"/>
            </a:avLst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080" y="914400"/>
            <a:ext cx="1600200" cy="838080"/>
            <a:chOff x="838080" y="914400"/>
            <a:chExt cx="1600200" cy="838080"/>
          </a:xfrm>
        </p:grpSpPr>
        <p:sp>
          <p:nvSpPr>
            <p:cNvPr id="117" name=""/>
            <p:cNvSpPr/>
            <p:nvPr/>
          </p:nvSpPr>
          <p:spPr>
            <a:xfrm>
              <a:off x="838080" y="914400"/>
              <a:ext cx="1600200" cy="838080"/>
            </a:xfrm>
            <a:prstGeom prst="wedgeEllipseCallout">
              <a:avLst>
                <a:gd name="adj1" fmla="val -13888"/>
                <a:gd name="adj2" fmla="val 96023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9160" y="990360"/>
              <a:ext cx="156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Rounded MT Bold"/>
                </a:rPr>
                <a:t>from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Rounded MT Bold"/>
                </a:rPr>
                <a:t>penalty of S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808240" y="1143000"/>
            <a:ext cx="171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from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presence of 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2459160" y="2493720"/>
            <a:ext cx="2209680" cy="6060960"/>
          </a:xfrm>
          <a:prstGeom prst="wedgeRoundRectCallout">
            <a:avLst>
              <a:gd name="adj1" fmla="val -53449"/>
              <a:gd name="adj2" fmla="val -5639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720" y="4581360"/>
            <a:ext cx="5985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from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:  presence of sin (sin n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to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:  absence of 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1 Jn. 3:2 --- it has not appeared as yet what we shall be 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when He appears, we shall be like 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1 Pet 1:5 -- protected -- for a salvation ready to be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evealed in the last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hil 1:6 --- will perfect it (a good work in you) until the d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f Christ Je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66214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9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81720" y="38088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lvation From the Penalty of 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04160" y="133200"/>
            <a:ext cx="1987560" cy="1408320"/>
          </a:xfrm>
          <a:prstGeom prst="horizontalScrol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alvation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onditio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upon Faith a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4080" y="1407960"/>
            <a:ext cx="80791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115 passages of the NT, salvation of a sinner is declare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pend only up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believing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 In 35 passages it is declare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pend up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Belief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(Greek - pisteuo) and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Faith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(Greek - pistis) are synonym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alone can save - only through the sacrifice of His 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n is to believe God’s message concerning His 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lieving is the opposite of doing anything - it’s trusting another inst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lvation depends only upon belie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salvation i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is no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required tha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lieve and p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lieve and confess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lieve and confess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lieve and rep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lieve and make restit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66214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9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1-19T02:21:41Z</cp:lastPrinted>
  <dcterms:modified xsi:type="dcterms:W3CDTF">2003-11-15T23:20:30Z</dcterms:modified>
  <cp:revision>104</cp:revision>
  <dc:subject/>
  <dc:title>No Slide Title</dc:title>
</cp:coreProperties>
</file>