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3124080"/>
            <a:ext cx="41911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905120" y="114300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7800" y="37620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63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752480"/>
            <a:ext cx="28954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1,3, 7, 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0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76800" y="45720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990720"/>
            <a:ext cx="4724280" cy="76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cc"/>
              </a:gs>
              <a:gs pos="50000">
                <a:srgbClr val="feeef6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143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28800"/>
            <a:ext cx="8763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822960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.  WHAT  IS  THE  INCARNA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2.  WHAT  DOES  FLESH  MEA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3.  WHAT  IS  THE  NATURE  OF  CHRIST’S  INCARNA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4.  WHAT  IS  THE  PURPOSE  OF CHRIST’S INCARNATION ?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6324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295280" y="990720"/>
            <a:ext cx="6476760" cy="711000"/>
            <a:chOff x="1295280" y="990720"/>
            <a:chExt cx="6476760" cy="711000"/>
          </a:xfrm>
        </p:grpSpPr>
        <p:sp>
          <p:nvSpPr>
            <p:cNvPr id="54" name=""/>
            <p:cNvSpPr/>
            <p:nvPr/>
          </p:nvSpPr>
          <p:spPr>
            <a:xfrm>
              <a:off x="1295280" y="990720"/>
              <a:ext cx="6261120" cy="711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d8fed8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42920" y="1143000"/>
              <a:ext cx="58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1.  WHAT  IS  THE  INCARNATION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97080"/>
                <a:tab algn="l" pos="2593800"/>
                <a:tab algn="l" pos="3890880"/>
                <a:tab algn="l" pos="5187960"/>
                <a:tab algn="l" pos="6485040"/>
                <a:tab algn="l" pos="7781760"/>
                <a:tab algn="l" pos="9078840"/>
                <a:tab algn="l" pos="10375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905120"/>
            <a:ext cx="883944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ITHER THE NOUN ( INCARNATION ) OR THE ADJECTIVE ( INCARNATE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PPEAR  IN THE NEW TESTAMENT ( N.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‘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CARNATION’ IS A LATIN TERM - THE GREEK EQUIVALENT IS FOUND IN THE N.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XAMPLE: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LATIN :  “IN CARNE”= IN FLES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-  ( INCARNATION / INCARNAT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GREEK:  “EN SARKI” = IN FL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INCARNATION IS DEFINED AS THE LORD JESUS CHRIST( WHO IS ETER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HO IS GOD, WHO IS THE SECOND PERSON OF THE TRINITY) BECOMING FLE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D IN THE FLESH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-  JN 1:1,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100% MAN &amp; 100% GOD ( HYPOSTATIC UNION )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HEB 1: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SON BECAME FLESH FOR ALL ETERNITY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- ACTS 1:9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632448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324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752480"/>
            <a:ext cx="8839080" cy="478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LESH” HAS SEVERAL USAGES, IT MAY BE POSITIVE OR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&amp; CAN BE SUMMARIZED IN 3 MAJOR CATEGOR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1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 WITH REFERENCE TO THE MATERIAL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 ( THE BOD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PHYSICAL BODY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-  ACTS 2:30-31; EPH 5:28-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FLESH THAT IS ATTACHED TO THE BONE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-  GEN 17:11; LU 24: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2.  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WITH REFERENCE TO THE MATERIAL &amp; IM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FIRMITY OF THE FLESH”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-  ROM 6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LESH &amp; BLOOD” (FRAIL &amp; FEEBLE MAN)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-  GAL 1:16; EPH 6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WORD BECAME FLESH”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-  JN 1:1,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LIFE I NOW  LIVE IN THE FLESH”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-  GAL 2: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3. 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WITH REFERENCE TO THE IM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USTS OF THE FLESH”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-  GAL 5:16-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5760" indent="-22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N THE FLESH - CANNOT PLEASE GOD”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-  ROM 8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914400"/>
            <a:ext cx="4876920" cy="762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f5fbfe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1066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WHAT  DOES  FLESH  MEA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64771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586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 TH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O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CAR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90720" y="990720"/>
            <a:ext cx="7315200" cy="609480"/>
            <a:chOff x="990720" y="990720"/>
            <a:chExt cx="7315200" cy="609480"/>
          </a:xfrm>
        </p:grpSpPr>
        <p:sp>
          <p:nvSpPr>
            <p:cNvPr id="68" name=""/>
            <p:cNvSpPr/>
            <p:nvPr/>
          </p:nvSpPr>
          <p:spPr>
            <a:xfrm>
              <a:off x="990720" y="990720"/>
              <a:ext cx="731520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e7f9f4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114300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3.  WHAT  IS  THE  NATURE  OF  CHRIST’S   INCARNATION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1752480"/>
            <a:ext cx="91440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WHEN  THE  WORD  BECAME  FLESH: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   JN 1:1,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IS DEITY WAS NOT ABANDONED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-  HEB 1: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IS DEITY WAS NOT REDUCED OR DIMINISHED IN ANY WAY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-  HEB 1: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EMPTIED HIMSELF (NOT OF HIS DEITY BUT OF HIS OUTWARD GLORY)           - PHIL 2:7; MT17:1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BECAME POOR  ( IMPOVERISHED HIMSELF - OF HIS OUTWARD GLORY )                       -  2 COR 3: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WAS MADE LOWER THAN THE ANGELS ( PRE-CROSS HUMANITY )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-  HEB 2: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BECAME SO MUCH BETTER THAN THE ANGELS( POST-RESURRECTION HUMANITY) - HEB 1:4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“ANGEL OF THE LORD” (0.T)  NEVER  APPEARS  IN N.T - CHRIST IS THE ANGEL OF THE L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NEVER CEASED TO EXERCISE HIS DIVINE FUN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Y HIM ALL THINGS CONSIST ( STAND OR  HELD TOGETHER )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-  COL 1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UPHOLDS ( BEARS ) ALL THINGS BY THE WORD OF HIS POWE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-  HEB 1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IS THE OUTRAYING OF THE FATHER’S GLORY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-  HEB 1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IS THE EXPRESS IMAGE OF THE FATHER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-  HEB 1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6324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6400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1981080"/>
            <a:ext cx="17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76520"/>
            <a:ext cx="82296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WHEN  THE  WORD  BECAME  FLESH: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     JN 1:1,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CAME IN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THE LIKENESS OF SINFUL FLESH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-  ROM 8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THE LIKENESS ( RESEMBLANCE ) :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HE IS TRUE HUMA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WAS BORN OF A WOMAN  -  GAL 4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WAS BORN UNDER THE LAW  -  GAL 4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PARTOOK OF FLESH AND BLOOD  -  HEB 2:14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WAS FULLY MAN - BODY, SOUL &amp; SPIRIT  -  MT 26:38; JN 13:21; 1 JN 4: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BECAME THE MAN CHRIST JESUS  -  1 TIM 2: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THE DIFFERENCE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:  HE WAS SINLESS HUMANIT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KNEW (EXPERIENCED) NO SIN  -  2 COR 5: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DID NOT SIN ( THOUGHT, WORD OR  DEED )  -  1 PET 2: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WAS TEMPTED BUT WITHOUT SIN  -  HEB 4: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JUST ( RIGHTEOUS ONE )  -  1 PET 3: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COULD NOT SIN  -  1 JN 3:5; JAS 1: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CONTINUED FELLOWSHIP WITH THE FATHER AND DID HIS WILL  -  JN 5:19,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31436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FULLNESS OF THE GODHEAD DWELT IN HIM BODILY  -  COL 2: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90720" y="914400"/>
            <a:ext cx="7315200" cy="609480"/>
            <a:chOff x="990720" y="914400"/>
            <a:chExt cx="7315200" cy="609480"/>
          </a:xfrm>
        </p:grpSpPr>
        <p:sp>
          <p:nvSpPr>
            <p:cNvPr id="76" name=""/>
            <p:cNvSpPr/>
            <p:nvPr/>
          </p:nvSpPr>
          <p:spPr>
            <a:xfrm>
              <a:off x="990720" y="914400"/>
              <a:ext cx="731520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e7f9f4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3000" y="106668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3.  WHAT  IS  THE  NATURE  OF  CHRIST’S   INCARNATION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476800" y="45720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6324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63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5639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6324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2002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The%20God%20Man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42040" cy="535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19720" y="6324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ransfiguration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42040" cy="5352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81680" y="1371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-  MT 17:1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64310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6324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[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THE  SON: HIS INCA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990720"/>
            <a:ext cx="7543800" cy="533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ee8dd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066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HAT  IS  THE  PURPOSE  OF  THE  INCARNA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05120"/>
            <a:ext cx="891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388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IS CAN ONLY BE ANSWERED BY UNDERSTANDING GOD’S ETERNAL 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GOD’S ETERNAL PURPO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1.  TO DECLARE HIS GLORY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2.  TO SHARE HIS GLORY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CREATED MAN TO SHARE HIS GLORY FOR  ETERNAL FELLOWSHIP                  - GEN 1:26,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DAM’S SIN CAUSED SEPARATION &amp; CONDEMNATION FOR ALL MANKIND             - ROM 5:12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N’S SIN COULD ONLY BE PAID FOR BY A SINLESS MAN ( CHRIST)                          - HEB 10: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IS SATISFIED  WITH CHRIST’S EFFICATIOUS WORK ON THE CROSS               - 1 JN 2:2; 4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OUR  DELIVERENCE FROM SEPARATION &amp; CONDEMNATION IS BY FAITH IN THE 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&amp; WORK OF CHRIST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- ACTS 16:30,31; EPH 2:8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T THE MOMENT OF BELIEF GOD MAKES US ALIVE TO HIM &amp; RECREATES US IN CHR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O SHARES HIS  GLORY WITH US (OUR  POSITION IN HIM)        -1 JN 4:9; 2 COR 5:17; JN 17: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E SHARE CHRIST’S VERY LIFE &amp; GLORY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Rounded MT Bold"/>
              </a:rPr>
              <a:t>NOW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S WE ABIDE IN HIM             -  COL 3:1-4; JN 15: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1448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14480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3.  TO REVEAL HIS GL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14480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14480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4.  TO BE GLOR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114480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QUESTION: ISN’T THE LORD WONDROUS &amp; MAGNIFICENT IN HOW HE HAS PURPOS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HARE CHRIST’S VERY GLORY WITH YOU &amp; ME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6324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6324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 SEP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00:42:34Z</dcterms:created>
  <dc:creator>Hal Molloy</dc:creator>
  <dc:description/>
  <dc:language>en-US</dc:language>
  <cp:lastModifiedBy>Hal Molloy</cp:lastModifiedBy>
  <dcterms:modified xsi:type="dcterms:W3CDTF">2003-11-15T22:35:35Z</dcterms:modified>
  <cp:revision>23</cp:revision>
  <dc:subject/>
  <dc:title>PowerPoint Presentation</dc:title>
</cp:coreProperties>
</file>