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582560" y="4343400"/>
            <a:ext cx="458964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82560" y="3581280"/>
            <a:ext cx="44197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129384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5700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2560" y="349200"/>
            <a:ext cx="67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49200"/>
            <a:ext cx="67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685800"/>
            <a:ext cx="27432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676520"/>
            <a:ext cx="3124080" cy="2209680"/>
          </a:xfrm>
          <a:prstGeom prst="cloudCallout">
            <a:avLst>
              <a:gd name="adj1" fmla="val -44814"/>
              <a:gd name="adj2" fmla="val 45185"/>
            </a:avLst>
          </a:prstGeom>
          <a:gradFill rotWithShape="0">
            <a:gsLst>
              <a:gs pos="0">
                <a:srgbClr val="99ccff"/>
              </a:gs>
              <a:gs pos="50000">
                <a:srgbClr val="f8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048120"/>
            <a:ext cx="3294000" cy="2438280"/>
          </a:xfrm>
          <a:prstGeom prst="cloudCallout">
            <a:avLst>
              <a:gd name="adj1" fmla="val 20458"/>
              <a:gd name="adj2" fmla="val 67513"/>
            </a:avLst>
          </a:prstGeom>
          <a:gradFill rotWithShape="0">
            <a:gsLst>
              <a:gs pos="0">
                <a:srgbClr val="66ccff"/>
              </a:gs>
              <a:gs pos="50000">
                <a:srgbClr val="cbedfe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6858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RITICAL 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42424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AT  ARE  THE  MAJ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UDGMENTS  BY  GOD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3801960"/>
            <a:ext cx="25146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IS  THE  JUDGMENT 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NATIONS  DIFFERENT 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 GREAT  WHITE  TH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JUDG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V="1">
            <a:off x="2860560" y="2057400"/>
            <a:ext cx="263520" cy="231624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49200"/>
            <a:ext cx="67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62784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62784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630864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160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1.  AT THE 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GEN 2:15- 3: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OM 5:12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011320"/>
            <a:ext cx="129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2, THE F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GEN 6:1- 7: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3386160"/>
            <a:ext cx="1871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6.  SATAN. BEAST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    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FALSE  PROP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20: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295280"/>
            <a:ext cx="182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3. THE 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OM 5:8, 15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19680" y="198108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5.  THE  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T 25:31-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43800" y="106848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8.  PURGING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     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THE 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2 PET 3:10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5561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273240" y="5439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R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078800">
            <a:off x="1219680" y="5362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NO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182600">
            <a:off x="2363040" y="54849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ENTEC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419720"/>
            <a:ext cx="8686800" cy="5331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feddf3"/>
              </a:gs>
              <a:gs pos="100000">
                <a:srgbClr val="ff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908440"/>
            <a:ext cx="60948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dam%20&amp;%20Eve" descr=""/>
          <p:cNvPicPr/>
          <p:nvPr/>
        </p:nvPicPr>
        <p:blipFill>
          <a:blip r:embed="rId2"/>
          <a:srcRect l="39335" t="6971" r="41472" b="41501"/>
          <a:stretch/>
        </p:blipFill>
        <p:spPr>
          <a:xfrm>
            <a:off x="419040" y="2603520"/>
            <a:ext cx="685800" cy="1384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2590200" y="2511360"/>
            <a:ext cx="152280" cy="1476360"/>
          </a:xfrm>
          <a:custGeom>
            <a:avLst/>
            <a:gdLst>
              <a:gd name="textAreaLeft" fmla="*/ 33480 w 152280"/>
              <a:gd name="textAreaRight" fmla="*/ 118800 w 152280"/>
              <a:gd name="textAreaTop" fmla="*/ 324720 h 1476360"/>
              <a:gd name="textAreaBottom" fmla="*/ 1151640 h 14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16280"/>
            <a:ext cx="1219320" cy="15228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0050200">
            <a:off x="2704680" y="3987720"/>
            <a:ext cx="76320" cy="385920"/>
          </a:xfrm>
          <a:custGeom>
            <a:avLst/>
            <a:gdLst>
              <a:gd name="textAreaLeft" fmla="*/ 16560 w 76320"/>
              <a:gd name="textAreaRight" fmla="*/ 59760 w 76320"/>
              <a:gd name="textAreaTop" fmla="*/ 84600 h 385920"/>
              <a:gd name="textAreaBottom" fmla="*/ 301320 h 3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34640" y="2419200"/>
            <a:ext cx="1170360" cy="1423440"/>
            <a:chOff x="4634640" y="2419200"/>
            <a:chExt cx="1170360" cy="1423440"/>
          </a:xfrm>
        </p:grpSpPr>
        <p:sp>
          <p:nvSpPr>
            <p:cNvPr id="81" name=""/>
            <p:cNvSpPr/>
            <p:nvPr/>
          </p:nvSpPr>
          <p:spPr>
            <a:xfrm rot="2220000">
              <a:off x="4819680" y="2808000"/>
              <a:ext cx="800280" cy="882720"/>
            </a:xfrm>
            <a:prstGeom prst="lightningBol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15080" y="2419200"/>
              <a:ext cx="799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443720" y="2130480"/>
            <a:ext cx="1542960" cy="839880"/>
            <a:chOff x="7443720" y="2130480"/>
            <a:chExt cx="1542960" cy="839880"/>
          </a:xfrm>
        </p:grpSpPr>
        <p:pic>
          <p:nvPicPr>
            <p:cNvPr id="84" name="BD08987_" descr=""/>
            <p:cNvPicPr/>
            <p:nvPr/>
          </p:nvPicPr>
          <p:blipFill>
            <a:blip r:embed="rId5"/>
            <a:srcRect l="16581" t="0" r="8804" b="10675"/>
            <a:stretch/>
          </p:blipFill>
          <p:spPr>
            <a:xfrm>
              <a:off x="8483760" y="2130480"/>
              <a:ext cx="5029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443720" y="2176560"/>
              <a:ext cx="11556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7.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GREAT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  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 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THR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REV 20: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352680" y="2216160"/>
            <a:ext cx="1219320" cy="2157480"/>
            <a:chOff x="3352680" y="2216160"/>
            <a:chExt cx="1219320" cy="2157480"/>
          </a:xfrm>
        </p:grpSpPr>
        <p:pic>
          <p:nvPicPr>
            <p:cNvPr id="87" name="Rapture" descr=""/>
            <p:cNvPicPr/>
            <p:nvPr/>
          </p:nvPicPr>
          <p:blipFill>
            <a:blip r:embed="rId6"/>
            <a:srcRect l="20131" t="0" r="23337" b="35818"/>
            <a:stretch/>
          </p:blipFill>
          <p:spPr>
            <a:xfrm>
              <a:off x="3352680" y="2216160"/>
              <a:ext cx="12193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flipV="1">
              <a:off x="3962520" y="3032280"/>
              <a:ext cx="0" cy="13413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977240" y="990720"/>
            <a:ext cx="1020600" cy="934920"/>
            <a:chOff x="7977240" y="990720"/>
            <a:chExt cx="1020600" cy="934920"/>
          </a:xfrm>
        </p:grpSpPr>
        <p:sp>
          <p:nvSpPr>
            <p:cNvPr id="90" name=""/>
            <p:cNvSpPr/>
            <p:nvPr/>
          </p:nvSpPr>
          <p:spPr>
            <a:xfrm>
              <a:off x="7977240" y="990720"/>
              <a:ext cx="1020600" cy="93492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52480" y="1118160"/>
              <a:ext cx="140760" cy="148320"/>
            </a:xfrm>
            <a:custGeom>
              <a:avLst/>
              <a:gdLst/>
              <a:ahLst/>
              <a:rect l="l" t="t" r="r" b="b"/>
              <a:pathLst>
                <a:path w="271" h="233">
                  <a:moveTo>
                    <a:pt x="170" y="0"/>
                  </a:moveTo>
                  <a:cubicBezTo>
                    <a:pt x="180" y="52"/>
                    <a:pt x="183" y="75"/>
                    <a:pt x="234" y="91"/>
                  </a:cubicBezTo>
                  <a:cubicBezTo>
                    <a:pt x="241" y="110"/>
                    <a:pt x="250" y="124"/>
                    <a:pt x="256" y="144"/>
                  </a:cubicBezTo>
                  <a:cubicBezTo>
                    <a:pt x="254" y="167"/>
                    <a:pt x="271" y="204"/>
                    <a:pt x="250" y="214"/>
                  </a:cubicBezTo>
                  <a:cubicBezTo>
                    <a:pt x="210" y="233"/>
                    <a:pt x="161" y="215"/>
                    <a:pt x="117" y="208"/>
                  </a:cubicBezTo>
                  <a:cubicBezTo>
                    <a:pt x="111" y="207"/>
                    <a:pt x="117" y="195"/>
                    <a:pt x="112" y="192"/>
                  </a:cubicBezTo>
                  <a:cubicBezTo>
                    <a:pt x="84" y="172"/>
                    <a:pt x="32" y="166"/>
                    <a:pt x="0" y="166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72480" y="1139040"/>
              <a:ext cx="209880" cy="269280"/>
            </a:xfrm>
            <a:custGeom>
              <a:avLst/>
              <a:gdLst/>
              <a:ahLst/>
              <a:rect l="l" t="t" r="r" b="b"/>
              <a:pathLst>
                <a:path w="370" h="701">
                  <a:moveTo>
                    <a:pt x="157" y="1"/>
                  </a:moveTo>
                  <a:cubicBezTo>
                    <a:pt x="136" y="3"/>
                    <a:pt x="113" y="0"/>
                    <a:pt x="93" y="6"/>
                  </a:cubicBezTo>
                  <a:cubicBezTo>
                    <a:pt x="88" y="8"/>
                    <a:pt x="89" y="17"/>
                    <a:pt x="87" y="22"/>
                  </a:cubicBezTo>
                  <a:cubicBezTo>
                    <a:pt x="81" y="42"/>
                    <a:pt x="71" y="81"/>
                    <a:pt x="71" y="81"/>
                  </a:cubicBezTo>
                  <a:cubicBezTo>
                    <a:pt x="45" y="67"/>
                    <a:pt x="47" y="51"/>
                    <a:pt x="18" y="44"/>
                  </a:cubicBezTo>
                  <a:cubicBezTo>
                    <a:pt x="0" y="102"/>
                    <a:pt x="2" y="166"/>
                    <a:pt x="29" y="220"/>
                  </a:cubicBezTo>
                  <a:cubicBezTo>
                    <a:pt x="34" y="243"/>
                    <a:pt x="28" y="291"/>
                    <a:pt x="50" y="305"/>
                  </a:cubicBezTo>
                  <a:cubicBezTo>
                    <a:pt x="64" y="314"/>
                    <a:pt x="82" y="316"/>
                    <a:pt x="98" y="321"/>
                  </a:cubicBezTo>
                  <a:cubicBezTo>
                    <a:pt x="103" y="323"/>
                    <a:pt x="114" y="326"/>
                    <a:pt x="114" y="326"/>
                  </a:cubicBezTo>
                  <a:cubicBezTo>
                    <a:pt x="100" y="387"/>
                    <a:pt x="122" y="316"/>
                    <a:pt x="93" y="358"/>
                  </a:cubicBezTo>
                  <a:cubicBezTo>
                    <a:pt x="65" y="399"/>
                    <a:pt x="110" y="365"/>
                    <a:pt x="71" y="390"/>
                  </a:cubicBezTo>
                  <a:cubicBezTo>
                    <a:pt x="99" y="410"/>
                    <a:pt x="81" y="410"/>
                    <a:pt x="71" y="438"/>
                  </a:cubicBezTo>
                  <a:cubicBezTo>
                    <a:pt x="62" y="489"/>
                    <a:pt x="69" y="477"/>
                    <a:pt x="109" y="497"/>
                  </a:cubicBezTo>
                  <a:cubicBezTo>
                    <a:pt x="125" y="493"/>
                    <a:pt x="141" y="490"/>
                    <a:pt x="157" y="486"/>
                  </a:cubicBezTo>
                  <a:cubicBezTo>
                    <a:pt x="168" y="483"/>
                    <a:pt x="189" y="476"/>
                    <a:pt x="189" y="476"/>
                  </a:cubicBezTo>
                  <a:cubicBezTo>
                    <a:pt x="208" y="478"/>
                    <a:pt x="229" y="475"/>
                    <a:pt x="247" y="481"/>
                  </a:cubicBezTo>
                  <a:cubicBezTo>
                    <a:pt x="253" y="483"/>
                    <a:pt x="262" y="537"/>
                    <a:pt x="269" y="556"/>
                  </a:cubicBezTo>
                  <a:cubicBezTo>
                    <a:pt x="274" y="668"/>
                    <a:pt x="249" y="701"/>
                    <a:pt x="354" y="662"/>
                  </a:cubicBezTo>
                  <a:cubicBezTo>
                    <a:pt x="366" y="645"/>
                    <a:pt x="359" y="646"/>
                    <a:pt x="370" y="646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97640" y="1866240"/>
              <a:ext cx="384480" cy="19080"/>
            </a:xfrm>
            <a:custGeom>
              <a:avLst/>
              <a:gdLst/>
              <a:ahLst/>
              <a:rect l="l" t="t" r="r" b="b"/>
              <a:pathLst>
                <a:path w="966" h="118">
                  <a:moveTo>
                    <a:pt x="0" y="116"/>
                  </a:moveTo>
                  <a:cubicBezTo>
                    <a:pt x="151" y="108"/>
                    <a:pt x="183" y="118"/>
                    <a:pt x="288" y="78"/>
                  </a:cubicBezTo>
                  <a:cubicBezTo>
                    <a:pt x="312" y="43"/>
                    <a:pt x="350" y="52"/>
                    <a:pt x="395" y="46"/>
                  </a:cubicBezTo>
                  <a:cubicBezTo>
                    <a:pt x="396" y="40"/>
                    <a:pt x="403" y="6"/>
                    <a:pt x="411" y="4"/>
                  </a:cubicBezTo>
                  <a:cubicBezTo>
                    <a:pt x="426" y="0"/>
                    <a:pt x="442" y="20"/>
                    <a:pt x="454" y="25"/>
                  </a:cubicBezTo>
                  <a:cubicBezTo>
                    <a:pt x="477" y="36"/>
                    <a:pt x="489" y="36"/>
                    <a:pt x="512" y="41"/>
                  </a:cubicBezTo>
                  <a:cubicBezTo>
                    <a:pt x="548" y="30"/>
                    <a:pt x="530" y="15"/>
                    <a:pt x="566" y="41"/>
                  </a:cubicBezTo>
                  <a:cubicBezTo>
                    <a:pt x="599" y="94"/>
                    <a:pt x="757" y="77"/>
                    <a:pt x="774" y="78"/>
                  </a:cubicBezTo>
                  <a:cubicBezTo>
                    <a:pt x="794" y="110"/>
                    <a:pt x="919" y="105"/>
                    <a:pt x="966" y="105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77560" y="1507680"/>
              <a:ext cx="293400" cy="338400"/>
            </a:xfrm>
            <a:custGeom>
              <a:avLst/>
              <a:gdLst/>
              <a:ahLst/>
              <a:rect l="l" t="t" r="r" b="b"/>
              <a:pathLst>
                <a:path w="705" h="880">
                  <a:moveTo>
                    <a:pt x="170" y="84"/>
                  </a:moveTo>
                  <a:cubicBezTo>
                    <a:pt x="108" y="90"/>
                    <a:pt x="117" y="89"/>
                    <a:pt x="76" y="106"/>
                  </a:cubicBezTo>
                  <a:cubicBezTo>
                    <a:pt x="69" y="117"/>
                    <a:pt x="63" y="127"/>
                    <a:pt x="56" y="138"/>
                  </a:cubicBezTo>
                  <a:cubicBezTo>
                    <a:pt x="40" y="165"/>
                    <a:pt x="54" y="189"/>
                    <a:pt x="21" y="202"/>
                  </a:cubicBezTo>
                  <a:cubicBezTo>
                    <a:pt x="19" y="207"/>
                    <a:pt x="20" y="214"/>
                    <a:pt x="16" y="218"/>
                  </a:cubicBezTo>
                  <a:cubicBezTo>
                    <a:pt x="12" y="223"/>
                    <a:pt x="2" y="222"/>
                    <a:pt x="1" y="228"/>
                  </a:cubicBezTo>
                  <a:cubicBezTo>
                    <a:pt x="0" y="238"/>
                    <a:pt x="8" y="246"/>
                    <a:pt x="11" y="255"/>
                  </a:cubicBezTo>
                  <a:cubicBezTo>
                    <a:pt x="13" y="262"/>
                    <a:pt x="12" y="270"/>
                    <a:pt x="16" y="276"/>
                  </a:cubicBezTo>
                  <a:cubicBezTo>
                    <a:pt x="19" y="280"/>
                    <a:pt x="26" y="280"/>
                    <a:pt x="31" y="282"/>
                  </a:cubicBezTo>
                  <a:cubicBezTo>
                    <a:pt x="34" y="291"/>
                    <a:pt x="46" y="330"/>
                    <a:pt x="50" y="335"/>
                  </a:cubicBezTo>
                  <a:cubicBezTo>
                    <a:pt x="60" y="345"/>
                    <a:pt x="98" y="351"/>
                    <a:pt x="110" y="356"/>
                  </a:cubicBezTo>
                  <a:cubicBezTo>
                    <a:pt x="119" y="385"/>
                    <a:pt x="119" y="420"/>
                    <a:pt x="131" y="448"/>
                  </a:cubicBezTo>
                  <a:cubicBezTo>
                    <a:pt x="141" y="472"/>
                    <a:pt x="159" y="493"/>
                    <a:pt x="170" y="517"/>
                  </a:cubicBezTo>
                  <a:cubicBezTo>
                    <a:pt x="164" y="550"/>
                    <a:pt x="154" y="568"/>
                    <a:pt x="140" y="597"/>
                  </a:cubicBezTo>
                  <a:cubicBezTo>
                    <a:pt x="152" y="644"/>
                    <a:pt x="135" y="602"/>
                    <a:pt x="160" y="624"/>
                  </a:cubicBezTo>
                  <a:cubicBezTo>
                    <a:pt x="192" y="651"/>
                    <a:pt x="147" y="632"/>
                    <a:pt x="185" y="645"/>
                  </a:cubicBezTo>
                  <a:cubicBezTo>
                    <a:pt x="208" y="662"/>
                    <a:pt x="194" y="673"/>
                    <a:pt x="220" y="683"/>
                  </a:cubicBezTo>
                  <a:cubicBezTo>
                    <a:pt x="241" y="755"/>
                    <a:pt x="219" y="787"/>
                    <a:pt x="289" y="805"/>
                  </a:cubicBezTo>
                  <a:cubicBezTo>
                    <a:pt x="291" y="810"/>
                    <a:pt x="291" y="817"/>
                    <a:pt x="295" y="821"/>
                  </a:cubicBezTo>
                  <a:cubicBezTo>
                    <a:pt x="299" y="825"/>
                    <a:pt x="307" y="822"/>
                    <a:pt x="310" y="827"/>
                  </a:cubicBezTo>
                  <a:cubicBezTo>
                    <a:pt x="320" y="843"/>
                    <a:pt x="321" y="863"/>
                    <a:pt x="329" y="880"/>
                  </a:cubicBezTo>
                  <a:cubicBezTo>
                    <a:pt x="332" y="861"/>
                    <a:pt x="341" y="782"/>
                    <a:pt x="355" y="768"/>
                  </a:cubicBezTo>
                  <a:cubicBezTo>
                    <a:pt x="363" y="759"/>
                    <a:pt x="384" y="747"/>
                    <a:pt x="384" y="747"/>
                  </a:cubicBezTo>
                  <a:cubicBezTo>
                    <a:pt x="396" y="696"/>
                    <a:pt x="379" y="748"/>
                    <a:pt x="404" y="715"/>
                  </a:cubicBezTo>
                  <a:cubicBezTo>
                    <a:pt x="410" y="706"/>
                    <a:pt x="412" y="693"/>
                    <a:pt x="419" y="683"/>
                  </a:cubicBezTo>
                  <a:cubicBezTo>
                    <a:pt x="431" y="627"/>
                    <a:pt x="455" y="573"/>
                    <a:pt x="464" y="517"/>
                  </a:cubicBezTo>
                  <a:cubicBezTo>
                    <a:pt x="469" y="482"/>
                    <a:pt x="460" y="434"/>
                    <a:pt x="494" y="420"/>
                  </a:cubicBezTo>
                  <a:cubicBezTo>
                    <a:pt x="504" y="386"/>
                    <a:pt x="490" y="419"/>
                    <a:pt x="513" y="399"/>
                  </a:cubicBezTo>
                  <a:cubicBezTo>
                    <a:pt x="546" y="372"/>
                    <a:pt x="501" y="390"/>
                    <a:pt x="538" y="378"/>
                  </a:cubicBezTo>
                  <a:cubicBezTo>
                    <a:pt x="566" y="358"/>
                    <a:pt x="597" y="368"/>
                    <a:pt x="628" y="356"/>
                  </a:cubicBezTo>
                  <a:cubicBezTo>
                    <a:pt x="634" y="334"/>
                    <a:pt x="645" y="337"/>
                    <a:pt x="662" y="324"/>
                  </a:cubicBezTo>
                  <a:cubicBezTo>
                    <a:pt x="674" y="290"/>
                    <a:pt x="658" y="324"/>
                    <a:pt x="688" y="303"/>
                  </a:cubicBezTo>
                  <a:cubicBezTo>
                    <a:pt x="692" y="299"/>
                    <a:pt x="663" y="287"/>
                    <a:pt x="668" y="283"/>
                  </a:cubicBezTo>
                  <a:cubicBezTo>
                    <a:pt x="673" y="278"/>
                    <a:pt x="672" y="271"/>
                    <a:pt x="678" y="267"/>
                  </a:cubicBezTo>
                  <a:cubicBezTo>
                    <a:pt x="683" y="246"/>
                    <a:pt x="679" y="237"/>
                    <a:pt x="689" y="219"/>
                  </a:cubicBezTo>
                  <a:cubicBezTo>
                    <a:pt x="678" y="157"/>
                    <a:pt x="705" y="131"/>
                    <a:pt x="646" y="107"/>
                  </a:cubicBezTo>
                  <a:cubicBezTo>
                    <a:pt x="638" y="81"/>
                    <a:pt x="636" y="71"/>
                    <a:pt x="613" y="63"/>
                  </a:cubicBezTo>
                  <a:cubicBezTo>
                    <a:pt x="598" y="58"/>
                    <a:pt x="568" y="47"/>
                    <a:pt x="568" y="47"/>
                  </a:cubicBezTo>
                  <a:cubicBezTo>
                    <a:pt x="481" y="51"/>
                    <a:pt x="355" y="0"/>
                    <a:pt x="310" y="79"/>
                  </a:cubicBezTo>
                  <a:cubicBezTo>
                    <a:pt x="303" y="75"/>
                    <a:pt x="297" y="71"/>
                    <a:pt x="289" y="68"/>
                  </a:cubicBezTo>
                  <a:cubicBezTo>
                    <a:pt x="280" y="64"/>
                    <a:pt x="259" y="58"/>
                    <a:pt x="259" y="58"/>
                  </a:cubicBezTo>
                  <a:cubicBezTo>
                    <a:pt x="184" y="64"/>
                    <a:pt x="203" y="66"/>
                    <a:pt x="150" y="84"/>
                  </a:cubicBezTo>
                  <a:cubicBezTo>
                    <a:pt x="137" y="104"/>
                    <a:pt x="146" y="100"/>
                    <a:pt x="125" y="100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17320" y="1388160"/>
              <a:ext cx="55080" cy="18360"/>
            </a:xfrm>
            <a:custGeom>
              <a:avLst/>
              <a:gdLst/>
              <a:ahLst/>
              <a:rect l="l" t="t" r="r" b="b"/>
              <a:pathLst>
                <a:path w="132" h="44">
                  <a:moveTo>
                    <a:pt x="75" y="12"/>
                  </a:moveTo>
                  <a:cubicBezTo>
                    <a:pt x="43" y="0"/>
                    <a:pt x="39" y="1"/>
                    <a:pt x="0" y="6"/>
                  </a:cubicBezTo>
                  <a:cubicBezTo>
                    <a:pt x="2" y="11"/>
                    <a:pt x="0" y="20"/>
                    <a:pt x="5" y="22"/>
                  </a:cubicBezTo>
                  <a:cubicBezTo>
                    <a:pt x="45" y="37"/>
                    <a:pt x="61" y="26"/>
                    <a:pt x="96" y="44"/>
                  </a:cubicBezTo>
                  <a:cubicBezTo>
                    <a:pt x="107" y="10"/>
                    <a:pt x="132" y="12"/>
                    <a:pt x="75" y="12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97600" y="1408320"/>
              <a:ext cx="23760" cy="1512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4" y="5"/>
                  </a:moveTo>
                  <a:cubicBezTo>
                    <a:pt x="20" y="8"/>
                    <a:pt x="45" y="0"/>
                    <a:pt x="52" y="15"/>
                  </a:cubicBezTo>
                  <a:cubicBezTo>
                    <a:pt x="58" y="27"/>
                    <a:pt x="20" y="37"/>
                    <a:pt x="20" y="37"/>
                  </a:cubicBezTo>
                  <a:cubicBezTo>
                    <a:pt x="15" y="33"/>
                    <a:pt x="5" y="32"/>
                    <a:pt x="4" y="26"/>
                  </a:cubicBezTo>
                  <a:cubicBezTo>
                    <a:pt x="0" y="2"/>
                    <a:pt x="31" y="5"/>
                    <a:pt x="4" y="5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73120" y="1085040"/>
              <a:ext cx="62640" cy="91080"/>
            </a:xfrm>
            <a:custGeom>
              <a:avLst/>
              <a:gdLst/>
              <a:ahLst/>
              <a:rect l="l" t="t" r="r" b="b"/>
              <a:pathLst>
                <a:path w="152" h="220">
                  <a:moveTo>
                    <a:pt x="102" y="32"/>
                  </a:moveTo>
                  <a:cubicBezTo>
                    <a:pt x="66" y="21"/>
                    <a:pt x="76" y="11"/>
                    <a:pt x="38" y="27"/>
                  </a:cubicBezTo>
                  <a:cubicBezTo>
                    <a:pt x="20" y="80"/>
                    <a:pt x="28" y="59"/>
                    <a:pt x="16" y="91"/>
                  </a:cubicBezTo>
                  <a:cubicBezTo>
                    <a:pt x="18" y="126"/>
                    <a:pt x="0" y="198"/>
                    <a:pt x="43" y="214"/>
                  </a:cubicBezTo>
                  <a:cubicBezTo>
                    <a:pt x="90" y="209"/>
                    <a:pt x="113" y="220"/>
                    <a:pt x="123" y="176"/>
                  </a:cubicBezTo>
                  <a:cubicBezTo>
                    <a:pt x="111" y="125"/>
                    <a:pt x="115" y="150"/>
                    <a:pt x="123" y="54"/>
                  </a:cubicBezTo>
                  <a:cubicBezTo>
                    <a:pt x="124" y="40"/>
                    <a:pt x="152" y="21"/>
                    <a:pt x="139" y="16"/>
                  </a:cubicBezTo>
                  <a:cubicBezTo>
                    <a:pt x="100" y="0"/>
                    <a:pt x="102" y="18"/>
                    <a:pt x="102" y="32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7640" y="1090080"/>
              <a:ext cx="318960" cy="377640"/>
            </a:xfrm>
            <a:custGeom>
              <a:avLst/>
              <a:gdLst/>
              <a:ahLst/>
              <a:rect l="l" t="t" r="r" b="b"/>
              <a:pathLst>
                <a:path w="862" h="827">
                  <a:moveTo>
                    <a:pt x="203" y="166"/>
                  </a:moveTo>
                  <a:cubicBezTo>
                    <a:pt x="170" y="156"/>
                    <a:pt x="169" y="155"/>
                    <a:pt x="128" y="161"/>
                  </a:cubicBezTo>
                  <a:cubicBezTo>
                    <a:pt x="123" y="163"/>
                    <a:pt x="117" y="164"/>
                    <a:pt x="112" y="166"/>
                  </a:cubicBezTo>
                  <a:cubicBezTo>
                    <a:pt x="105" y="169"/>
                    <a:pt x="99" y="175"/>
                    <a:pt x="91" y="177"/>
                  </a:cubicBezTo>
                  <a:cubicBezTo>
                    <a:pt x="77" y="182"/>
                    <a:pt x="48" y="187"/>
                    <a:pt x="48" y="187"/>
                  </a:cubicBezTo>
                  <a:cubicBezTo>
                    <a:pt x="12" y="212"/>
                    <a:pt x="15" y="201"/>
                    <a:pt x="0" y="241"/>
                  </a:cubicBezTo>
                  <a:cubicBezTo>
                    <a:pt x="6" y="269"/>
                    <a:pt x="7" y="279"/>
                    <a:pt x="27" y="299"/>
                  </a:cubicBezTo>
                  <a:cubicBezTo>
                    <a:pt x="43" y="350"/>
                    <a:pt x="58" y="342"/>
                    <a:pt x="112" y="347"/>
                  </a:cubicBezTo>
                  <a:cubicBezTo>
                    <a:pt x="133" y="362"/>
                    <a:pt x="158" y="368"/>
                    <a:pt x="182" y="379"/>
                  </a:cubicBezTo>
                  <a:cubicBezTo>
                    <a:pt x="189" y="401"/>
                    <a:pt x="198" y="399"/>
                    <a:pt x="219" y="406"/>
                  </a:cubicBezTo>
                  <a:cubicBezTo>
                    <a:pt x="224" y="427"/>
                    <a:pt x="229" y="441"/>
                    <a:pt x="240" y="459"/>
                  </a:cubicBezTo>
                  <a:cubicBezTo>
                    <a:pt x="247" y="492"/>
                    <a:pt x="246" y="524"/>
                    <a:pt x="262" y="555"/>
                  </a:cubicBezTo>
                  <a:cubicBezTo>
                    <a:pt x="267" y="578"/>
                    <a:pt x="261" y="604"/>
                    <a:pt x="272" y="625"/>
                  </a:cubicBezTo>
                  <a:cubicBezTo>
                    <a:pt x="275" y="631"/>
                    <a:pt x="278" y="613"/>
                    <a:pt x="283" y="609"/>
                  </a:cubicBezTo>
                  <a:cubicBezTo>
                    <a:pt x="287" y="605"/>
                    <a:pt x="294" y="605"/>
                    <a:pt x="299" y="603"/>
                  </a:cubicBezTo>
                  <a:cubicBezTo>
                    <a:pt x="309" y="572"/>
                    <a:pt x="291" y="536"/>
                    <a:pt x="326" y="523"/>
                  </a:cubicBezTo>
                  <a:cubicBezTo>
                    <a:pt x="358" y="473"/>
                    <a:pt x="308" y="545"/>
                    <a:pt x="358" y="497"/>
                  </a:cubicBezTo>
                  <a:cubicBezTo>
                    <a:pt x="362" y="493"/>
                    <a:pt x="360" y="485"/>
                    <a:pt x="363" y="481"/>
                  </a:cubicBezTo>
                  <a:cubicBezTo>
                    <a:pt x="367" y="476"/>
                    <a:pt x="374" y="474"/>
                    <a:pt x="379" y="470"/>
                  </a:cubicBezTo>
                  <a:cubicBezTo>
                    <a:pt x="424" y="489"/>
                    <a:pt x="411" y="503"/>
                    <a:pt x="438" y="539"/>
                  </a:cubicBezTo>
                  <a:cubicBezTo>
                    <a:pt x="444" y="558"/>
                    <a:pt x="452" y="606"/>
                    <a:pt x="464" y="619"/>
                  </a:cubicBezTo>
                  <a:cubicBezTo>
                    <a:pt x="479" y="635"/>
                    <a:pt x="523" y="639"/>
                    <a:pt x="539" y="641"/>
                  </a:cubicBezTo>
                  <a:cubicBezTo>
                    <a:pt x="572" y="651"/>
                    <a:pt x="543" y="658"/>
                    <a:pt x="582" y="667"/>
                  </a:cubicBezTo>
                  <a:cubicBezTo>
                    <a:pt x="602" y="681"/>
                    <a:pt x="602" y="697"/>
                    <a:pt x="624" y="705"/>
                  </a:cubicBezTo>
                  <a:cubicBezTo>
                    <a:pt x="628" y="730"/>
                    <a:pt x="635" y="754"/>
                    <a:pt x="635" y="779"/>
                  </a:cubicBezTo>
                  <a:cubicBezTo>
                    <a:pt x="635" y="827"/>
                    <a:pt x="608" y="778"/>
                    <a:pt x="635" y="817"/>
                  </a:cubicBezTo>
                  <a:cubicBezTo>
                    <a:pt x="711" y="800"/>
                    <a:pt x="666" y="816"/>
                    <a:pt x="699" y="769"/>
                  </a:cubicBezTo>
                  <a:cubicBezTo>
                    <a:pt x="709" y="724"/>
                    <a:pt x="731" y="710"/>
                    <a:pt x="688" y="667"/>
                  </a:cubicBezTo>
                  <a:cubicBezTo>
                    <a:pt x="675" y="614"/>
                    <a:pt x="695" y="669"/>
                    <a:pt x="667" y="641"/>
                  </a:cubicBezTo>
                  <a:cubicBezTo>
                    <a:pt x="637" y="611"/>
                    <a:pt x="691" y="636"/>
                    <a:pt x="646" y="619"/>
                  </a:cubicBezTo>
                  <a:cubicBezTo>
                    <a:pt x="621" y="582"/>
                    <a:pt x="636" y="591"/>
                    <a:pt x="608" y="582"/>
                  </a:cubicBezTo>
                  <a:cubicBezTo>
                    <a:pt x="597" y="524"/>
                    <a:pt x="603" y="526"/>
                    <a:pt x="656" y="518"/>
                  </a:cubicBezTo>
                  <a:cubicBezTo>
                    <a:pt x="660" y="513"/>
                    <a:pt x="661" y="505"/>
                    <a:pt x="667" y="502"/>
                  </a:cubicBezTo>
                  <a:cubicBezTo>
                    <a:pt x="682" y="494"/>
                    <a:pt x="715" y="486"/>
                    <a:pt x="715" y="486"/>
                  </a:cubicBezTo>
                  <a:cubicBezTo>
                    <a:pt x="723" y="460"/>
                    <a:pt x="741" y="464"/>
                    <a:pt x="768" y="459"/>
                  </a:cubicBezTo>
                  <a:cubicBezTo>
                    <a:pt x="789" y="467"/>
                    <a:pt x="793" y="476"/>
                    <a:pt x="800" y="497"/>
                  </a:cubicBezTo>
                  <a:cubicBezTo>
                    <a:pt x="802" y="532"/>
                    <a:pt x="797" y="569"/>
                    <a:pt x="806" y="603"/>
                  </a:cubicBezTo>
                  <a:cubicBezTo>
                    <a:pt x="808" y="610"/>
                    <a:pt x="822" y="603"/>
                    <a:pt x="827" y="598"/>
                  </a:cubicBezTo>
                  <a:cubicBezTo>
                    <a:pt x="844" y="578"/>
                    <a:pt x="848" y="523"/>
                    <a:pt x="848" y="523"/>
                  </a:cubicBezTo>
                  <a:cubicBezTo>
                    <a:pt x="845" y="474"/>
                    <a:pt x="860" y="418"/>
                    <a:pt x="806" y="401"/>
                  </a:cubicBezTo>
                  <a:cubicBezTo>
                    <a:pt x="809" y="344"/>
                    <a:pt x="823" y="287"/>
                    <a:pt x="816" y="230"/>
                  </a:cubicBezTo>
                  <a:cubicBezTo>
                    <a:pt x="815" y="219"/>
                    <a:pt x="793" y="231"/>
                    <a:pt x="784" y="225"/>
                  </a:cubicBezTo>
                  <a:cubicBezTo>
                    <a:pt x="773" y="217"/>
                    <a:pt x="776" y="198"/>
                    <a:pt x="768" y="187"/>
                  </a:cubicBezTo>
                  <a:cubicBezTo>
                    <a:pt x="817" y="172"/>
                    <a:pt x="791" y="185"/>
                    <a:pt x="816" y="145"/>
                  </a:cubicBezTo>
                  <a:cubicBezTo>
                    <a:pt x="818" y="138"/>
                    <a:pt x="825" y="130"/>
                    <a:pt x="822" y="123"/>
                  </a:cubicBezTo>
                  <a:cubicBezTo>
                    <a:pt x="820" y="118"/>
                    <a:pt x="807" y="124"/>
                    <a:pt x="806" y="118"/>
                  </a:cubicBezTo>
                  <a:cubicBezTo>
                    <a:pt x="804" y="104"/>
                    <a:pt x="817" y="67"/>
                    <a:pt x="822" y="49"/>
                  </a:cubicBezTo>
                  <a:cubicBezTo>
                    <a:pt x="824" y="42"/>
                    <a:pt x="822" y="32"/>
                    <a:pt x="827" y="27"/>
                  </a:cubicBezTo>
                  <a:cubicBezTo>
                    <a:pt x="832" y="22"/>
                    <a:pt x="841" y="24"/>
                    <a:pt x="848" y="22"/>
                  </a:cubicBezTo>
                  <a:cubicBezTo>
                    <a:pt x="852" y="17"/>
                    <a:pt x="862" y="12"/>
                    <a:pt x="859" y="6"/>
                  </a:cubicBezTo>
                  <a:cubicBezTo>
                    <a:pt x="856" y="0"/>
                    <a:pt x="845" y="1"/>
                    <a:pt x="838" y="1"/>
                  </a:cubicBezTo>
                  <a:cubicBezTo>
                    <a:pt x="818" y="1"/>
                    <a:pt x="799" y="4"/>
                    <a:pt x="779" y="6"/>
                  </a:cubicBezTo>
                  <a:cubicBezTo>
                    <a:pt x="754" y="14"/>
                    <a:pt x="742" y="21"/>
                    <a:pt x="715" y="27"/>
                  </a:cubicBezTo>
                  <a:cubicBezTo>
                    <a:pt x="692" y="32"/>
                    <a:pt x="646" y="43"/>
                    <a:pt x="646" y="43"/>
                  </a:cubicBezTo>
                  <a:cubicBezTo>
                    <a:pt x="416" y="36"/>
                    <a:pt x="543" y="38"/>
                    <a:pt x="427" y="22"/>
                  </a:cubicBezTo>
                  <a:cubicBezTo>
                    <a:pt x="402" y="9"/>
                    <a:pt x="396" y="5"/>
                    <a:pt x="368" y="11"/>
                  </a:cubicBezTo>
                  <a:cubicBezTo>
                    <a:pt x="340" y="26"/>
                    <a:pt x="310" y="31"/>
                    <a:pt x="283" y="49"/>
                  </a:cubicBezTo>
                  <a:cubicBezTo>
                    <a:pt x="270" y="92"/>
                    <a:pt x="290" y="42"/>
                    <a:pt x="262" y="70"/>
                  </a:cubicBezTo>
                  <a:cubicBezTo>
                    <a:pt x="240" y="92"/>
                    <a:pt x="236" y="122"/>
                    <a:pt x="208" y="139"/>
                  </a:cubicBezTo>
                  <a:cubicBezTo>
                    <a:pt x="202" y="158"/>
                    <a:pt x="203" y="149"/>
                    <a:pt x="203" y="166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52720" y="1005840"/>
              <a:ext cx="246240" cy="35640"/>
            </a:xfrm>
            <a:custGeom>
              <a:avLst/>
              <a:gdLst/>
              <a:ahLst/>
              <a:rect l="l" t="t" r="r" b="b"/>
              <a:pathLst>
                <a:path w="592" h="86">
                  <a:moveTo>
                    <a:pt x="0" y="11"/>
                  </a:moveTo>
                  <a:cubicBezTo>
                    <a:pt x="58" y="51"/>
                    <a:pt x="51" y="47"/>
                    <a:pt x="139" y="54"/>
                  </a:cubicBezTo>
                  <a:cubicBezTo>
                    <a:pt x="141" y="59"/>
                    <a:pt x="139" y="68"/>
                    <a:pt x="144" y="70"/>
                  </a:cubicBezTo>
                  <a:cubicBezTo>
                    <a:pt x="162" y="79"/>
                    <a:pt x="203" y="86"/>
                    <a:pt x="203" y="86"/>
                  </a:cubicBezTo>
                  <a:cubicBezTo>
                    <a:pt x="247" y="84"/>
                    <a:pt x="292" y="86"/>
                    <a:pt x="336" y="80"/>
                  </a:cubicBezTo>
                  <a:cubicBezTo>
                    <a:pt x="343" y="79"/>
                    <a:pt x="346" y="68"/>
                    <a:pt x="352" y="64"/>
                  </a:cubicBezTo>
                  <a:cubicBezTo>
                    <a:pt x="364" y="56"/>
                    <a:pt x="381" y="52"/>
                    <a:pt x="395" y="48"/>
                  </a:cubicBezTo>
                  <a:cubicBezTo>
                    <a:pt x="405" y="15"/>
                    <a:pt x="426" y="42"/>
                    <a:pt x="454" y="48"/>
                  </a:cubicBezTo>
                  <a:cubicBezTo>
                    <a:pt x="511" y="44"/>
                    <a:pt x="514" y="45"/>
                    <a:pt x="555" y="22"/>
                  </a:cubicBezTo>
                  <a:cubicBezTo>
                    <a:pt x="567" y="15"/>
                    <a:pt x="592" y="0"/>
                    <a:pt x="592" y="0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962520" y="4419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4419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419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60560" y="68580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AJOR  JUDGMENTS  BY  G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219320"/>
            <a:ext cx="1809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4.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TRIB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(DAN’S  70th WK,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N 9:24-27; MT 24:3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6:1-19: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763120" y="3691080"/>
            <a:ext cx="0" cy="68256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483760" y="3691080"/>
            <a:ext cx="279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839080" y="3032280"/>
            <a:ext cx="0" cy="134136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556160"/>
            <a:ext cx="110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RIB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2960" y="45561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ILLENNIAL  KING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5561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HU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49200"/>
            <a:ext cx="67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066680"/>
          <a:ext cx="8686800" cy="5477040"/>
        </p:xfrm>
        <a:graphic>
          <a:graphicData uri="http://schemas.openxmlformats.org/drawingml/2006/table">
            <a:tbl>
              <a:tblPr/>
              <a:tblGrid>
                <a:gridCol w="1143000"/>
                <a:gridCol w="3886200"/>
                <a:gridCol w="3657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N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tt. 25:31-4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reat White Thr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v. 20:11-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Tim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 Pla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 Subjec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 Basi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 Condi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 Judg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Resul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ediately after the Tribulation &amp; 2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d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. 24:29-31; 25: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 the Millennium                          – (Matt. 25:31-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When He comes in gl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He takes &amp; sits on thr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arth– Matt. 25:31; Zech. 14:3, 4, 9, 16;  Joel 3:2,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iving (all nations)                                   – Matt. 25: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ance / Rejection of Chr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 Believers – works out from fa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t. 25:34-40,46; Eph. 2:8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Unbelievers – no works out from fa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.25:41-46; John 13: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 No resurrection ment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 No books ment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 Separation is made &amp; judgment given before t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 is stated                                      – Matt 25:32-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of Man = Lord Jesus Christ                   – Matt. 25: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Believers to Kingdom                                 – Matt. 25: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 to eternal life                                        – Matt. 25: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Unbelievers to lake of fire                          – Matt. 25: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ediately after the Millennial 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. 20:7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He leaves earth &amp; earthly throne for the G.W.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where in the heavens  before the G.W.T.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. 20:11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ead (from all ages)                        - Rev. 20:12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ion of Chr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 Unbelievers – not in the Book of Li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. 20:12,15; Ex. 32:32,33; Ps. 69: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 Unbeliever – their works (self-righteousness) are judged from the Book(s) of Works &amp; not accepted by Christ                                            – Rev. 20: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 Resurrection ment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 Books ment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 Books carefully examined &amp; judgment given after the reason stated                               – Rev. 20:1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rd Jesus Christ                    – Rev. 20:11; John 5: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believers to lake of fire                     – Rev. 20:14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438280" y="68580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MPARISONS  WHICH  DISTINGUISH  THE 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371600"/>
            <a:ext cx="84582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livet Discourse is one of the toughest passages to translate.  There is more scholarly controversy on this passage than any other in the synoptic gosp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wide spectrum of views concerning when the chronological events occur. 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ome translators say that most of the events in Matt. 24 have already occu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ther translators say none of the events in Matt. 24 have occurred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hile others are somewhere in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portant key to interpreting Matt. 24 &amp; 25 is to understand the setting &amp; background of the Discourse by our L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 In Matt 23:1-36 - the Lord Jesus Christ reveals the hearts of Israel’s religious leaders (the Scribes &amp; Pharisee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mns them  by eight wo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In Matt. 23:37 - our Lord lovingly laments over the Temple, the City and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In Matt. 23:38, 29 - The Lord announces that the Temple was now being abandoned (by the physical manifes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kinah Glory of God = Jesus Christ Himself) &amp; His glory would not return until Christ comes again at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 In Matt. 24:1 - the Disciples thought Christ was saying that the Temple was being abandoned by all the beautiful gift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rations thus they missed our Lord’s point entire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 In Matt 24:2 - Christ then addresses the Temple, gifts, &amp; decorations, saying that they will be utterly destroyed (fulfill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A.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 In Matt. 24:3 The disciples ask three major questions concerning their recent discussion  &amp; previous teachings by the L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92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71604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tthew 24 &amp; 25 - Comments on Interpre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5451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6613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62320" y="304920"/>
            <a:ext cx="4495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76520"/>
          <a:ext cx="8458200" cy="3498840"/>
        </p:xfrm>
        <a:graphic>
          <a:graphicData uri="http://schemas.openxmlformats.org/drawingml/2006/table">
            <a:tbl>
              <a:tblPr/>
              <a:tblGrid>
                <a:gridCol w="1920960"/>
                <a:gridCol w="3692520"/>
                <a:gridCol w="2844720"/>
              </a:tblGrid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OR SOURCE OF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LORD’S ANS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“When shall these th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.e. destruction of t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“What shall be the 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hy coming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“What shall be the 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 (sunteleia)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ge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.e. consummation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n’s 7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e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Lord’s statement that the Temple would be destroyed                                                     – Matt. 24: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Lord said that the Jews would not see Him again until they recognize Him as their Messiah at the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ing                                                       – Matt. 23: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Lord had previously taught the disciples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steries of the Kingdom (i.e. the course of events in general between the two Advents &amp; also the consummation (sunteleia) which would occur just before His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dvent                                        – Matt. 13:1-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nteleia – Matt. 13:39, 40,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thew did not record the answer-b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ke did                              – Lu. 21:20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ey: Lu. 21:24 “they shall be led away captive into all nations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ediately after the Tribulation (Daniel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eek)                          – Mt. 24:29-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 year period prior to his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dv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re would be a multitude of sig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Matt. 24:4-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676520" y="30492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716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tthew 24:3 – The Disciples’ Thre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65451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6613560"/>
            <a:ext cx="93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49200"/>
            <a:ext cx="67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1415880"/>
          <a:ext cx="8763120" cy="280044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505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B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Length of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 Forms of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 Man’s response to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 Warning of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 Man’s response to w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 Destiny of unbelie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ediately after the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short –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– f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 to save their l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ah’s preaching for 120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 (but 8 believ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son (torment part of Sheol) – 1 Pet. 3: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long – up to 7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us – wars, famine, persecution, hail, fire, torment, cosmic catastrophes, locusts, slaughter, Satanic persecution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 to commit suicide                  – Rev. 9: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ipture’s teaching for approximately 3000 y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less number suffer     – many belie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y re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ke of fire                                       – Matt. 25:41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33520" y="434340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OOD &amp; 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OMING COMPARISON      - Matt. 24:36-4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4724280"/>
          <a:ext cx="8686800" cy="164160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4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 the day of Noah were…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hall the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ming b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M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xact tim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General tim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nd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ttitudes of 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God’s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ne knew day or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years                               – Gen. 6:1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ckedness of men               – Gen. 6:1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fference to God               – Gen. 6:1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ds judgment to earth &amp; 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. 6-Gen.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ne knows day or hour – 24: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 “these things” of tribulation – 24:32-33; 4-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ckedness of men                                 – 24:4-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fference to God                          – 2 Thess. 2:1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ds judgment to earth &amp; man  – 24:4-28;  Rev. 4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. 20; Matt. 25:31-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286000" y="685800"/>
            <a:ext cx="473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MPARISON  OF  FLOOD &amp; TRIBULATION  JUDG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4-12T23:31:14Z</cp:lastPrinted>
  <dcterms:modified xsi:type="dcterms:W3CDTF">2003-11-15T23:36:43Z</dcterms:modified>
  <cp:revision>313</cp:revision>
  <dc:subject/>
  <dc:title>The Church:</dc:title>
</cp:coreProperties>
</file>