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360" y="674280"/>
            <a:ext cx="450072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CC00-93E7-4788-ADB6-273E0A8D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74640"/>
            <a:ext cx="4500720" cy="3375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Belief in the Existence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Unity of the Divin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Names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Attributes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Sovereignty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 Rounded MT Bold"/>
              </a:rPr>
              <a:t>The Decree of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7915-81B8-43CF-BD4F-91A204DDD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5E4C-F543-4A3A-91BF-DA284A044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9620-FA51-4108-AC74-A72615097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5292-FCD5-4EFC-8C69-6C594362D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5621-4A38-4963-9030-ACE9D92ED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EA0A-1057-4148-A9CF-24EAC3B9D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9840-9CEA-4442-AE3F-BC4DC04A7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3FF9-5148-4E66-AD14-FD80C7918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1072-06F3-49C8-83F4-B52F1DDF8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E42C-E296-4954-99BD-661876BFF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8230-3EE3-44A1-9289-32495D86A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8E4F-64E4-4F7D-AF7E-FC63F20A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78E4-5728-47DB-8764-BD4CD4CA6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4880" y="6400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5080" y="-14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6008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133720"/>
            <a:ext cx="259092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9072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19. God the Holy Spirit: His Filling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1905120"/>
            <a:ext cx="2819520" cy="763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HOMEWORK:  Read Ch.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Answer questions:2,5,7 &amp; 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6469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6469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67652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Elohim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- most common word translated “God” in Old Tes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Masculine noun in plural form - 1st used in Gen. 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Used of the true God and pagan gods (Ex. 18: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Yahweh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(Jehovah) - word translated “L</a:t>
            </a:r>
            <a:r>
              <a:rPr b="0" lang="en-US" sz="1800" spc="-1" strike="noStrike">
                <a:solidFill>
                  <a:srgbClr val="3333cc"/>
                </a:solidFill>
                <a:latin typeface="Arial Rounded MT Bold"/>
              </a:rPr>
              <a:t>ORD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” in block ca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Used of true God only - 1st used in Gen. 2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Defined in Ex. 3:14 as “I AM WHO I AM” or “I AM THAT I 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Adonai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- word translated “Lord” in lowercase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st used in Gen. 15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Frequently joined to Elohim - Adonai Elohim  or “Lord God”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28800" y="838080"/>
            <a:ext cx="5866560" cy="762120"/>
            <a:chOff x="1828800" y="838080"/>
            <a:chExt cx="5866560" cy="762120"/>
          </a:xfrm>
        </p:grpSpPr>
        <p:sp>
          <p:nvSpPr>
            <p:cNvPr id="60" name=""/>
            <p:cNvSpPr/>
            <p:nvPr/>
          </p:nvSpPr>
          <p:spPr>
            <a:xfrm>
              <a:off x="1828800" y="838080"/>
              <a:ext cx="5866560" cy="76212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4840" y="990720"/>
              <a:ext cx="496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 Rounded MT Bold"/>
                </a:rPr>
                <a:t>The Names of God in the Old Testa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315200" y="654516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914400"/>
            <a:ext cx="4572000" cy="91440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Unity of the Divine Tr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9320" y="1944720"/>
            <a:ext cx="453132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Unity of God in Scri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Triune God in Scri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he Son is called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he Spirit is called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Christ and the Fa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Christ and the Spi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The Procession of the God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Angel of the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Spirit of the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65451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1066680"/>
            <a:ext cx="76197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ity of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ut. 6:14  “--- the Lord is our God, the Lord is 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a. 44:6  “--- I am the first, and I am the last, and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 no other beside M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i-unity of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on is called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1  “--- the Word was G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omans 9:5  “--- God blessed forev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itus 2:13   “--- our great G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pirit is called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ts 5:3-9  “ --- not lied to men, but to G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 Cor. 3:17   “--- the Lord is the Spirit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2840" y="1667520"/>
            <a:ext cx="1459440" cy="1017720"/>
            <a:chOff x="222840" y="1667520"/>
            <a:chExt cx="1459440" cy="1017720"/>
          </a:xfrm>
        </p:grpSpPr>
        <p:sp>
          <p:nvSpPr>
            <p:cNvPr id="72" name=""/>
            <p:cNvSpPr/>
            <p:nvPr/>
          </p:nvSpPr>
          <p:spPr>
            <a:xfrm rot="10759200">
              <a:off x="228240" y="1675800"/>
              <a:ext cx="1447920" cy="990360"/>
            </a:xfrm>
            <a:prstGeom prst="wedgeRoundRectCallout">
              <a:avLst>
                <a:gd name="adj1" fmla="val -47435"/>
                <a:gd name="adj2" fmla="val 7027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520" y="1676520"/>
              <a:ext cx="1387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Wha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wo id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are her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620120" y="64771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9200" y="838080"/>
            <a:ext cx="7975800" cy="61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i-unity of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rist and 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0:30 “I and the Father are 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inuously one with the Fa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ne in essence (Weu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4:9 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 who has seen Me has seen the Fath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 am in the Father and the Father in 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so see 2 Cor. 5:19 and Col. 2: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rist and Th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4:16 “ I (Christ) will ask the Father and He will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other Helper (the Spirit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other (allos) of the same k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bide with you forever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64008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639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5000" y="91440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Procession of the God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1676520"/>
            <a:ext cx="6095880" cy="1282320"/>
            <a:chOff x="914400" y="1676520"/>
            <a:chExt cx="6095880" cy="1282320"/>
          </a:xfrm>
        </p:grpSpPr>
        <p:grpSp>
          <p:nvGrpSpPr>
            <p:cNvPr id="83" name=""/>
            <p:cNvGrpSpPr/>
            <p:nvPr/>
          </p:nvGrpSpPr>
          <p:grpSpPr>
            <a:xfrm>
              <a:off x="914400" y="1676520"/>
              <a:ext cx="6095880" cy="990360"/>
              <a:chOff x="914400" y="1676520"/>
              <a:chExt cx="6095880" cy="990360"/>
            </a:xfrm>
          </p:grpSpPr>
          <p:sp>
            <p:nvSpPr>
              <p:cNvPr id="84" name=""/>
              <p:cNvSpPr/>
              <p:nvPr/>
            </p:nvSpPr>
            <p:spPr>
              <a:xfrm>
                <a:off x="914400" y="1676520"/>
                <a:ext cx="2286000" cy="990360"/>
              </a:xfrm>
              <a:prstGeom prst="rightArrowCallout">
                <a:avLst>
                  <a:gd name="adj1" fmla="val 25002"/>
                  <a:gd name="adj2" fmla="val 25000"/>
                  <a:gd name="adj3" fmla="val 38471"/>
                  <a:gd name="adj4" fmla="val 6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he Fath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00400" y="1676520"/>
                <a:ext cx="2286000" cy="990360"/>
              </a:xfrm>
              <a:prstGeom prst="rightArrowCallout">
                <a:avLst>
                  <a:gd name="adj1" fmla="val 25002"/>
                  <a:gd name="adj2" fmla="val 25000"/>
                  <a:gd name="adj3" fmla="val 38471"/>
                  <a:gd name="adj4" fmla="val 6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he S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86400" y="1676520"/>
                <a:ext cx="1523880" cy="9903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he Spir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211840" y="25905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John 17: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00000" y="25905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John 16: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5960" y="3429000"/>
            <a:ext cx="86022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Angel of the L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. 16:7-11 “Now the angel of the Lord found her (Hagar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. 22:11-15 “But the angel of the Lord called to him (Abraham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pirit of the L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dges 3:10 “The Spirit of the Lord came upon him (Othniel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 Samuel 23:2 “The Spirit of the Lord spoke by me (David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1141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6477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53160" y="30492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od the Tr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838080"/>
            <a:ext cx="5486400" cy="9907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inity and the Attributes of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400" y="1371600"/>
            <a:ext cx="23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o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ight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mnis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mni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mnipo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lf Ex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e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mm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ith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r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pi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vere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886200" y="1904760"/>
            <a:ext cx="4572000" cy="914400"/>
          </a:xfrm>
          <a:prstGeom prst="wedgeRoundRectCallout">
            <a:avLst>
              <a:gd name="adj1" fmla="val -18092"/>
              <a:gd name="adj2" fmla="val 9097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93000" y="1981080"/>
            <a:ext cx="38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Is the essential qualities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e Triune God - Who He is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2840" y="3886200"/>
            <a:ext cx="6550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God is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ther - John 7:28 “He who sent me is tr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n - Rev. 3:7 “He who is holy, who is tr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pirit - 1 John 5:7 “ It is the Spirit who b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itness, because the Spi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s the tru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64692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11 AUG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08-11T03:45:51Z</cp:lastPrinted>
  <dcterms:modified xsi:type="dcterms:W3CDTF">2003-11-15T22:41:05Z</dcterms:modified>
  <cp:revision>86</cp:revision>
  <dc:subject/>
  <dc:title>No Slide Title</dc:title>
</cp:coreProperties>
</file>