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90720" y="1143000"/>
            <a:ext cx="5398920" cy="81000"/>
          </a:xfrm>
          <a:prstGeom prst="rect">
            <a:avLst/>
          </a:prstGeom>
          <a:ln w="0">
            <a:noFill/>
          </a:ln>
        </p:spPr>
      </p:pic>
      <p:sp>
        <p:nvSpPr>
          <p:cNvPr id="1" name=""/>
          <p:cNvSpPr/>
          <p:nvPr/>
        </p:nvSpPr>
        <p:spPr>
          <a:xfrm>
            <a:off x="209520" y="8756640"/>
            <a:ext cx="155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rPr>
              <a:t>R. HENDERSON / H. MOLLOY</a:t>
            </a:r>
            <a:endParaRPr b="0" lang="en-US" sz="800" spc="-1" strike="noStrike">
              <a:solidFill>
                <a:srgbClr val="000000"/>
              </a:solidFill>
              <a:latin typeface="Times New Roman"/>
            </a:endParaRPr>
          </a:p>
        </p:txBody>
      </p:sp>
      <p:pic>
        <p:nvPicPr>
          <p:cNvPr id="2" name="" descr=""/>
          <p:cNvPicPr/>
          <p:nvPr/>
        </p:nvPicPr>
        <p:blipFill>
          <a:blip r:embed="rId3"/>
          <a:srcRect l="0" t="0" r="0" b="9993"/>
          <a:stretch/>
        </p:blipFill>
        <p:spPr>
          <a:xfrm>
            <a:off x="152280" y="0"/>
            <a:ext cx="716040" cy="1371600"/>
          </a:xfrm>
          <a:prstGeom prst="rect">
            <a:avLst/>
          </a:prstGeom>
          <a:ln w="0">
            <a:noFill/>
          </a:ln>
        </p:spPr>
      </p:pic>
      <p:sp>
        <p:nvSpPr>
          <p:cNvPr id="3" name=""/>
          <p:cNvSpPr/>
          <p:nvPr/>
        </p:nvSpPr>
        <p:spPr>
          <a:xfrm>
            <a:off x="2283840" y="152280"/>
            <a:ext cx="26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Rounded MT Bold"/>
              </a:rPr>
              <a:t>MAJOR BIBLE THEMES</a:t>
            </a:r>
            <a:endParaRPr b="0" lang="en-US" sz="1800" spc="-1" strike="noStrike">
              <a:solidFill>
                <a:srgbClr val="000000"/>
              </a:solidFill>
              <a:latin typeface="Times New Roman"/>
            </a:endParaRPr>
          </a:p>
        </p:txBody>
      </p:sp>
      <p:sp>
        <p:nvSpPr>
          <p:cNvPr id="4" name=""/>
          <p:cNvSpPr/>
          <p:nvPr/>
        </p:nvSpPr>
        <p:spPr>
          <a:xfrm>
            <a:off x="2133720" y="533520"/>
            <a:ext cx="30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THE   GREAT   TRIBULATION</a:t>
            </a:r>
            <a:endParaRPr b="0" lang="en-US" sz="1600" spc="-1" strike="noStrike">
              <a:solidFill>
                <a:srgbClr val="000000"/>
              </a:solidFill>
              <a:latin typeface="Times New Roman"/>
            </a:endParaRPr>
          </a:p>
        </p:txBody>
      </p:sp>
      <p:sp>
        <p:nvSpPr>
          <p:cNvPr id="5" name=""/>
          <p:cNvSpPr/>
          <p:nvPr/>
        </p:nvSpPr>
        <p:spPr>
          <a:xfrm>
            <a:off x="1447920" y="914400"/>
            <a:ext cx="4190760" cy="457200"/>
          </a:xfrm>
          <a:prstGeom prst="horizontalScroll">
            <a:avLst>
              <a:gd name="adj" fmla="val 12500"/>
            </a:avLst>
          </a:prstGeom>
          <a:gradFill rotWithShape="0">
            <a:gsLst>
              <a:gs pos="0">
                <a:srgbClr val="ff99ff"/>
              </a:gs>
              <a:gs pos="50000">
                <a:srgbClr val="fee5fe"/>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905120" y="99072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ISRAEL  IN  THE  TRIBULATION</a:t>
            </a:r>
            <a:endParaRPr b="0" lang="en-US" sz="1600" spc="-1" strike="noStrike">
              <a:solidFill>
                <a:srgbClr val="000000"/>
              </a:solidFill>
              <a:latin typeface="Times New Roman"/>
            </a:endParaRPr>
          </a:p>
        </p:txBody>
      </p:sp>
      <p:sp>
        <p:nvSpPr>
          <p:cNvPr id="7" name=""/>
          <p:cNvSpPr/>
          <p:nvPr/>
        </p:nvSpPr>
        <p:spPr>
          <a:xfrm>
            <a:off x="1676520" y="875520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rPr>
              <a:t>/  18 MAY 2003</a:t>
            </a:r>
            <a:endParaRPr b="0" lang="en-US" sz="800" spc="-1" strike="noStrike">
              <a:solidFill>
                <a:srgbClr val="000000"/>
              </a:solidFill>
              <a:latin typeface="Times New Roman"/>
            </a:endParaRPr>
          </a:p>
        </p:txBody>
      </p:sp>
      <p:sp>
        <p:nvSpPr>
          <p:cNvPr id="8" name=""/>
          <p:cNvSpPr/>
          <p:nvPr/>
        </p:nvSpPr>
        <p:spPr>
          <a:xfrm>
            <a:off x="457200" y="1600200"/>
            <a:ext cx="6019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71560" y="406440"/>
            <a:ext cx="337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33520" y="1676520"/>
            <a:ext cx="6019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 name=""/>
          <p:cNvGraphicFramePr/>
          <p:nvPr/>
        </p:nvGraphicFramePr>
        <p:xfrm>
          <a:off x="457200" y="1447920"/>
          <a:ext cx="5962680" cy="7619760"/>
        </p:xfrm>
        <a:graphic>
          <a:graphicData uri="http://schemas.openxmlformats.org/presentationml/2006/ole">
            <p:oleObj progId="Word.Document.12" r:id="rId1" spid="">
              <p:embed/>
              <p:pic>
                <p:nvPicPr>
                  <p:cNvPr id="48" name="" descr=""/>
                  <p:cNvPicPr/>
                  <p:nvPr/>
                </p:nvPicPr>
                <p:blipFill>
                  <a:blip r:embed="rId2"/>
                  <a:stretch/>
                </p:blipFill>
                <p:spPr>
                  <a:xfrm>
                    <a:off x="457200" y="1447920"/>
                    <a:ext cx="5962680" cy="7619760"/>
                  </a:xfrm>
                  <a:prstGeom prst="rect">
                    <a:avLst/>
                  </a:prstGeom>
                  <a:ln w="0">
                    <a:noFill/>
                  </a:ln>
                </p:spPr>
              </p:pic>
            </p:oleObj>
          </a:graphicData>
        </a:graphic>
      </p:graphicFrame>
      <p:sp>
        <p:nvSpPr>
          <p:cNvPr id="49" name=""/>
          <p:cNvSpPr/>
          <p:nvPr/>
        </p:nvSpPr>
        <p:spPr>
          <a:xfrm>
            <a:off x="3048120" y="88390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71560" y="406440"/>
            <a:ext cx="337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533520" y="1447920"/>
          <a:ext cx="5943600" cy="7340400"/>
        </p:xfrm>
        <a:graphic>
          <a:graphicData uri="http://schemas.openxmlformats.org/presentationml/2006/ole">
            <p:oleObj progId="Word.Document.12" r:id="rId1" spid="">
              <p:embed/>
              <p:pic>
                <p:nvPicPr>
                  <p:cNvPr id="52" name="" descr=""/>
                  <p:cNvPicPr/>
                  <p:nvPr/>
                </p:nvPicPr>
                <p:blipFill>
                  <a:blip r:embed="rId2"/>
                  <a:stretch/>
                </p:blipFill>
                <p:spPr>
                  <a:xfrm>
                    <a:off x="533520" y="1447920"/>
                    <a:ext cx="5943600" cy="7340400"/>
                  </a:xfrm>
                  <a:prstGeom prst="rect">
                    <a:avLst/>
                  </a:prstGeom>
                  <a:ln w="0">
                    <a:noFill/>
                  </a:ln>
                </p:spPr>
              </p:pic>
            </p:oleObj>
          </a:graphicData>
        </a:graphic>
      </p:graphicFrame>
      <p:sp>
        <p:nvSpPr>
          <p:cNvPr id="53" name=""/>
          <p:cNvSpPr/>
          <p:nvPr/>
        </p:nvSpPr>
        <p:spPr>
          <a:xfrm>
            <a:off x="3200400" y="87631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71560" y="406440"/>
            <a:ext cx="337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371600"/>
            <a:ext cx="632448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od protects these witnessing Jews from the onslaught of both man’s and Sat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ecution against them.  This persecution is the manifestation of man's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atan's deliberate rebellion against God.  Some of the sources of the attemp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ecution against the 144,000 Jews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The world's religious system (Ecclesiastical Babylon) – Rev. 14:8; 17: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Satan – Rev. 12:9-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The antichrist – Rev. 13:1-10; 14:9-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The false prophet – Rev. 13:11-18; 14:9-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The Two Witnesses protec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other example of God's protection of his people during the first half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ibulation period can be seen in God's Two Witne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od has foreordained (Rev. 11:4; Zech. 4:2-3, 11-14) to have two Jews (Scriptu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esn’t identify who they are) to be mighty witnesses in the n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Israel during the first half of the Tribulation Period (Rev.11:3-6).  They w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ve the power to withhold the rain and bring great plagues upon the entire ear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se Two Witnesses will be hated by the entire world and assassin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lots will abound.  God will protect them and no man will be able to kill the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uring their ministry. Every person who attempts to kill them will be kille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y the Two Witnesses (Rev. 11:5).  At the middle of the Tribulation Perio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ntichrist who was previously killed (Rev. 13:3) will be restored to lif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God will allow him to kill the Two Witnesses (Rev. 11:7).  God resurrec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m after 3 1/2 days which brings great fear upon the nations of the world (Re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The nation of Israel protected from Russia &amp; its alli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most outstanding protection of Israel by God is seen during the invas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y Russia &amp; its all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time, probably during the first half of the Tribulation Period, Russia, Ir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fghanistan, Ethiopia, Libya, Germany, and Turkey will invade the nation of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rael.  These nations will come with hordes of men and great military powe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ir strength is so overwhelming that, from human viewpoint, Israel won'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ve a chance to survive.  However God miraculously delivers the nation of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rael.  God turns these armies against themselves to destroy each other.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ddition He pours down rain, great hailstones, fire, and brimstone to aid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ir destru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will take the Israelites 7 years to burn and destroy their enemies' weapon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7 months to bury all of their enemies' bodi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56" name=""/>
          <p:cNvSpPr/>
          <p:nvPr/>
        </p:nvSpPr>
        <p:spPr>
          <a:xfrm>
            <a:off x="3352680" y="883116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71560" y="406440"/>
            <a:ext cx="337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600200"/>
            <a:ext cx="60958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59" name=""/>
          <p:cNvGraphicFramePr/>
          <p:nvPr/>
        </p:nvGraphicFramePr>
        <p:xfrm>
          <a:off x="685800" y="1447920"/>
          <a:ext cx="5486400" cy="6997680"/>
        </p:xfrm>
        <a:graphic>
          <a:graphicData uri="http://schemas.openxmlformats.org/presentationml/2006/ole">
            <p:oleObj progId="Word.Document.12" r:id="rId1" spid="">
              <p:embed/>
              <p:pic>
                <p:nvPicPr>
                  <p:cNvPr id="60" name="" descr=""/>
                  <p:cNvPicPr/>
                  <p:nvPr/>
                </p:nvPicPr>
                <p:blipFill>
                  <a:blip r:embed="rId2"/>
                  <a:stretch/>
                </p:blipFill>
                <p:spPr>
                  <a:xfrm>
                    <a:off x="685800" y="1447920"/>
                    <a:ext cx="5486400" cy="6997680"/>
                  </a:xfrm>
                  <a:prstGeom prst="rect">
                    <a:avLst/>
                  </a:prstGeom>
                  <a:ln w="0">
                    <a:noFill/>
                  </a:ln>
                </p:spPr>
              </p:pic>
            </p:oleObj>
          </a:graphicData>
        </a:graphic>
      </p:graphicFrame>
      <p:sp>
        <p:nvSpPr>
          <p:cNvPr id="61" name=""/>
          <p:cNvSpPr/>
          <p:nvPr/>
        </p:nvSpPr>
        <p:spPr>
          <a:xfrm>
            <a:off x="3124080" y="883116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523880"/>
            <a:ext cx="6019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1523880"/>
            <a:ext cx="601992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 The Israel that was not willing to be gathered unto Christ for love and protection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s  first coming (matt 24:37-39) is now more than willing because her ston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art has been replaced with a new heart.  This is evident by their faith in the 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lood of Christ (the Lamb) and their testimony in word concerning Christ – Re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11,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 Because of Israel's faith &amp; testimony in Christ many of them will be martyr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y will be delivered up to be killed because of their faith in Christ.  It is cl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at their love for Christ is so much greater than for the love of their own li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Matt. 24:9; Rev. 7:9-17; 12:12,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God pours out his matchless and marvelous grace over the nation of Israel (Ze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10) and delivers her during the second half of the tribulation (Rev. 12:10; D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1). This is evidenced by the following examp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God prepares a place in the wilderness in the land of Israel for 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tection and safety  (Rev.12:6,14). Note that Israel's place is on earth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Church's place is in heaven where there are many mansions (John 14: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God feeds and nourishes Israel in her place of protection and safety. Go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eding" (Rev 12:6) and "nourishing" (12:14) of Israel are very tender term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y are used of a mother who breast feeds her child.  So God takes Israel i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s bosom and gives her love, tenderness, contentment, satisfaction, and des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growth in the midst of the turmoil and persecution thrown at 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God's protection over Israel will last the entire duration of Jacob's trouble (i.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1/2 years) - Rev. 12:6,14; Dan. 12: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While Israel is being protected by God, God lays a very heavy burden on, 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uts in pieces, those nations of the world who come against Israel - Rev. 12: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Zech. 12: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 God gives Israel the power to overcome Satan.  This power is through the bloo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the Lamb – Rev. 12: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God's deliverance and protection of Israel is likened to when he delivered th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ut of  Egypt (i.e. "on two wings of a great eagle") – Rev. 12:14; Ex. 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a:off x="3200400" y="883116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1560" y="406440"/>
            <a:ext cx="337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57200" y="1523880"/>
            <a:ext cx="6095880" cy="68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No matter how Satan attacks Israel, God is right there to protect her. W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atan tries to carry away the remnant of Israel by a flood, God immediate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ens up the earth to swallow the flood to protect the remnant –Rev.12:15-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e is no reason not to take this literally because God has opened the ear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fore to protect his people (e.g. from self appointed leaders – Num. 16: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28-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 Summ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ten times we are under the impression that the time of "Jacob's trouble" (Jer. 30:7) is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where God is pouring out His wrath and judgment on the Jews, but this is not so. It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ear that God brings the scattered Jews back into the land in unbelief at the beginning of  Daniel's 70</a:t>
            </a:r>
            <a:r>
              <a:rPr b="0"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Week (i.e. Tribulation Period). He brings them back because they are His people and he loves them and is through disciplining them by scattering them among the nations.  He does not bring them back to pour out his wrath and judgment upon them.  Once they are back in the land it appears that all of the Jews will turn to Christ soon after the rapture.  We can observe that by the middle of the Tribulation Period that all Jews are believers.  This is seen in Rev. 12:17 where the remnant (all Jews who are alive = loipos (gr.) - the rest or the only remaining ones) keep God's commandments and have the testimony of Jesus Christ.  Never again will Israel turn its back on God and their Messia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od's wrath and judgment is poured out on the peoples of the world and not the Jews.  Israel in the tribulation sanctifies God and God uses this to sanctify His name before all nation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nd I will sanctify my great name, which was profaned among the nations, which ye have profaned in the midst of them; and the nations shall know that I am the Lord, saith the Lord God, when I shall be sanctified in you before their ey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For I will take you from among the nations, and gather you out of all countries and bring you into your own l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n will I sprinkle clean water upon you, and ye shall be clean; from all your filthiness, and from all your idols, will I cleans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 new heart also will I give you, and a new spirit will I put within you; and I will take away the stony heart out of your flesh, and I will give you an heart of fles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I will put my spirit within you, and cause you to walk in my statutes, and ye shall keep mine ordinances, and do th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ye shall dwell in the land that I gave to your fathers; and ye shall be my people, and I will be your God."</a:t>
            </a:r>
            <a:r>
              <a:rPr b="0" lang="en-US" sz="1200" spc="-1" strike="noStrike">
                <a:solidFill>
                  <a:srgbClr val="000000"/>
                </a:solidFill>
                <a:latin typeface="Times New Roman"/>
                <a:ea typeface="Times New Roman"/>
              </a:rPr>
              <a:t> Ezek. 36:23-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3124080" y="883116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9:41:24Z</dcterms:created>
  <dc:creator>Hal Molloy</dc:creator>
  <dc:description/>
  <dc:language>en-US</dc:language>
  <cp:lastModifiedBy>Hal Molloy</cp:lastModifiedBy>
  <dcterms:modified xsi:type="dcterms:W3CDTF">2003-11-15T23:31:46Z</dcterms:modified>
  <cp:revision>36</cp:revision>
  <dc:subject/>
  <dc:title>PowerPoint Presentation</dc:title>
</cp:coreProperties>
</file>