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899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9360" y="674280"/>
            <a:ext cx="4500720" cy="337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273200"/>
            <a:ext cx="50292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54856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54856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CFB4-45C3-461C-B352-7EA590052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79360" y="674640"/>
            <a:ext cx="4500720" cy="3375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273200"/>
            <a:ext cx="50292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re j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hapter on God the F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hapters on God the 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pters on God the Spi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9360" y="674640"/>
            <a:ext cx="4500720" cy="3375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411480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Pre-exist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Direct Statements, B. 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Incarn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Fact of Christ’s Humanity, B. Reason for the Incar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Substitutionary Dea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What the Son’s Death Accomplish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Fallacies Concerning the Son’s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Resur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 A. Resurrection in the Old Testa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Christ’s Prediction of His Own Resurrection, C. Proof of the Resu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Reasons for the Resurrection, E. Significance of the Resu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Ascension and Priestly Minist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Fact of the Ascension, B.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Arrival in Heaven, C. Meaning of the Ascension, D. Present Work of Chris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en, E. Present Work of Christ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Coming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for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His Sai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Unfulfilled Prophecy, B. Prophecies of the Raptu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Contrast: Christ Com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is Saints vs. Christ Com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is S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s Coming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His Sai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A. Events Preceding the Second Comin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Facts Related to Second Coming, C. Second Coming vs. R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54880" y="6400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115080" y="-144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56200" y="6324480"/>
            <a:ext cx="109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25 August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83520" y="380880"/>
            <a:ext cx="73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d the Son: His Deity and Eternity (Pre-exist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2743200"/>
            <a:ext cx="4343400" cy="304920"/>
          </a:xfrm>
          <a:prstGeom prst="rect">
            <a:avLst/>
          </a:prstGeom>
          <a:gradFill rotWithShape="0">
            <a:gsLst>
              <a:gs pos="0">
                <a:srgbClr val="754646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99072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I.  The Bible: The Word of God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 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2057400"/>
            <a:ext cx="2743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OMEWORK:  Read Ch.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nswer questions:1,2,5,7,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76520" y="3962520"/>
            <a:ext cx="670536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880" y="2666880"/>
            <a:ext cx="1460880" cy="58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e-ex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34680" y="304920"/>
            <a:ext cx="617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od the Son Overview (Chp. 7 to 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981080"/>
            <a:ext cx="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057400" y="990720"/>
            <a:ext cx="2133360" cy="1218960"/>
            <a:chOff x="2057400" y="990720"/>
            <a:chExt cx="2133360" cy="1218960"/>
          </a:xfrm>
        </p:grpSpPr>
        <p:sp>
          <p:nvSpPr>
            <p:cNvPr id="61" name=""/>
            <p:cNvSpPr/>
            <p:nvPr/>
          </p:nvSpPr>
          <p:spPr>
            <a:xfrm>
              <a:off x="2057400" y="990720"/>
              <a:ext cx="2133360" cy="121896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92560" y="1295280"/>
              <a:ext cx="128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Incarn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809880" y="39625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993760" y="4267080"/>
            <a:ext cx="1636200" cy="1676520"/>
            <a:chOff x="2993760" y="4267080"/>
            <a:chExt cx="1636200" cy="1676520"/>
          </a:xfrm>
        </p:grpSpPr>
        <p:sp>
          <p:nvSpPr>
            <p:cNvPr id="65" name=""/>
            <p:cNvSpPr/>
            <p:nvPr/>
          </p:nvSpPr>
          <p:spPr>
            <a:xfrm>
              <a:off x="3505320" y="4267080"/>
              <a:ext cx="609840" cy="167652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8120" y="4572000"/>
              <a:ext cx="1524240" cy="2286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93760" y="4267080"/>
              <a:ext cx="1636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Substitution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De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038480" y="1676520"/>
            <a:ext cx="2133720" cy="1066680"/>
            <a:chOff x="4038480" y="1676520"/>
            <a:chExt cx="2133720" cy="1066680"/>
          </a:xfrm>
        </p:grpSpPr>
        <p:sp>
          <p:nvSpPr>
            <p:cNvPr id="69" name=""/>
            <p:cNvSpPr/>
            <p:nvPr/>
          </p:nvSpPr>
          <p:spPr>
            <a:xfrm>
              <a:off x="4038480" y="1676520"/>
              <a:ext cx="2133720" cy="1066680"/>
            </a:xfrm>
            <a:prstGeom prst="cloudCallout">
              <a:avLst>
                <a:gd name="adj1" fmla="val -8037"/>
                <a:gd name="adj2" fmla="val 2633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46120" y="1904760"/>
              <a:ext cx="190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His Asc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&amp; Priestly Minis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781680" y="16765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81680" y="34290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31160" y="1066680"/>
            <a:ext cx="143640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 Co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His S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048120"/>
            <a:ext cx="838080" cy="380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16200" y="1981080"/>
            <a:ext cx="1570680" cy="5806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s Co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His S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01000" y="25909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7040" y="35053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3809880"/>
            <a:ext cx="0" cy="381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5720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411480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943600"/>
            <a:ext cx="30492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4114800"/>
            <a:ext cx="15242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Rounded MT Bold"/>
              </a:rPr>
              <a:t>Resu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3962520"/>
            <a:ext cx="533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3429000"/>
            <a:ext cx="6858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Tr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14800" y="4571640"/>
            <a:ext cx="76212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181480" y="274284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6469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93320" y="3808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re-existence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83640" y="1523880"/>
            <a:ext cx="7850880" cy="3720960"/>
            <a:chOff x="683640" y="1523880"/>
            <a:chExt cx="7850880" cy="3720960"/>
          </a:xfrm>
        </p:grpSpPr>
        <p:sp>
          <p:nvSpPr>
            <p:cNvPr id="90" name=""/>
            <p:cNvSpPr/>
            <p:nvPr/>
          </p:nvSpPr>
          <p:spPr>
            <a:xfrm>
              <a:off x="946800" y="3084480"/>
              <a:ext cx="1014480" cy="6426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Etern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Pa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438280"/>
              <a:ext cx="990720" cy="1676520"/>
            </a:xfrm>
            <a:prstGeom prst="lightningBol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60080" y="205740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Cre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6324480" y="1676160"/>
              <a:ext cx="2133360" cy="1219320"/>
              <a:chOff x="6324480" y="1676160"/>
              <a:chExt cx="2133360" cy="1219320"/>
            </a:xfrm>
          </p:grpSpPr>
          <p:sp>
            <p:nvSpPr>
              <p:cNvPr id="94" name=""/>
              <p:cNvSpPr/>
              <p:nvPr/>
            </p:nvSpPr>
            <p:spPr>
              <a:xfrm>
                <a:off x="6324480" y="1676160"/>
                <a:ext cx="2133360" cy="1219320"/>
              </a:xfrm>
              <a:prstGeom prst="irregularSeal2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659640" y="1981080"/>
                <a:ext cx="1280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Hi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Incarn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315200" y="2666880"/>
              <a:ext cx="0" cy="144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14800" y="2438280"/>
              <a:ext cx="1371600" cy="1371600"/>
              <a:chOff x="4114800" y="2438280"/>
              <a:chExt cx="1371600" cy="1371600"/>
            </a:xfrm>
          </p:grpSpPr>
          <p:sp>
            <p:nvSpPr>
              <p:cNvPr id="98" name=""/>
              <p:cNvSpPr/>
              <p:nvPr/>
            </p:nvSpPr>
            <p:spPr>
              <a:xfrm>
                <a:off x="4114800" y="2438280"/>
                <a:ext cx="1371600" cy="1371600"/>
              </a:xfrm>
              <a:prstGeom prst="wedgeEllipseCallout">
                <a:avLst>
                  <a:gd name="adj1" fmla="val 37731"/>
                  <a:gd name="adj2" fmla="val 68287"/>
                </a:avLst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31360" y="2666880"/>
                <a:ext cx="131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H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Pre-incarn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Appearanc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123280" y="1523880"/>
              <a:ext cx="146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Genesis 1: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Colossians 1: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4640" y="2438280"/>
              <a:ext cx="1301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John 1:1; 17: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Micah 5: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374800">
              <a:off x="3025440" y="1926720"/>
              <a:ext cx="501480" cy="5181480"/>
            </a:xfrm>
            <a:custGeom>
              <a:avLst/>
              <a:gdLst>
                <a:gd name="textAreaLeft" fmla="*/ 0 w 501480"/>
                <a:gd name="textAreaRight" fmla="*/ 181080 w 501480"/>
                <a:gd name="textAreaTop" fmla="*/ 135000 h 5181480"/>
                <a:gd name="textAreaBottom" fmla="*/ 5046480 h 51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33520" y="487656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Rounded MT Bold"/>
                </a:rPr>
                <a:t>His Pre-exist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53520" y="1676160"/>
              <a:ext cx="1600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Genesis 16:7-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Genesis 18:1-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Genesis 22:11-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05320" y="4114800"/>
              <a:ext cx="50292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95680" y="6469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066680" y="838080"/>
            <a:ext cx="7391160" cy="685800"/>
            <a:chOff x="1066680" y="838080"/>
            <a:chExt cx="7391160" cy="685800"/>
          </a:xfrm>
        </p:grpSpPr>
        <p:sp>
          <p:nvSpPr>
            <p:cNvPr id="108" name=""/>
            <p:cNvSpPr/>
            <p:nvPr/>
          </p:nvSpPr>
          <p:spPr>
            <a:xfrm>
              <a:off x="1066680" y="838080"/>
              <a:ext cx="7391160" cy="685800"/>
            </a:xfrm>
            <a:prstGeom prst="horizontalScrol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7800" y="996120"/>
              <a:ext cx="69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 Rounded MT Bold"/>
                </a:rPr>
                <a:t>Direct Statements of the Son of God’s Pre-exist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04920" y="1447920"/>
            <a:ext cx="8686800" cy="50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In Eternity P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ohn 1: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Word was in the begi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Word was with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Word was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e was in the beginning with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ohn 17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--- the glory which I had with You before the world wa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icah 5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“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--- His goings forth are from long ago, from the days of eternity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Rounded MT Bold"/>
              </a:rPr>
              <a:t>Wuest New Test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John 1:1-2     In the beginning the Word was existing.  And the Word was in fellowship with God the Fath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And the Word was as to His essence absolute deity.  This Word was in the beginning in fellowship with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God the Fa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John 17:5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And now glorify me, Father, beside yourself, with the glory which I was constantly having with you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before the universe exis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83520" y="380880"/>
            <a:ext cx="73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d the Son: His Deity and Eternity (Pre-exist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646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143000" y="990720"/>
            <a:ext cx="7391160" cy="685800"/>
            <a:chOff x="1143000" y="990720"/>
            <a:chExt cx="7391160" cy="685800"/>
          </a:xfrm>
        </p:grpSpPr>
        <p:sp>
          <p:nvSpPr>
            <p:cNvPr id="114" name=""/>
            <p:cNvSpPr/>
            <p:nvPr/>
          </p:nvSpPr>
          <p:spPr>
            <a:xfrm>
              <a:off x="1143000" y="990720"/>
              <a:ext cx="7391160" cy="685800"/>
            </a:xfrm>
            <a:prstGeom prst="horizontalScrol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74120" y="1148760"/>
              <a:ext cx="69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 Rounded MT Bold"/>
                </a:rPr>
                <a:t>Direct Statements of the Son of God’s Pre-exist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5843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8640" y="1981080"/>
            <a:ext cx="748332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At 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enesis 1:1&amp;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 the beginning God (Elohim) cre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et us make man in our image according to our lik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ohn 1:3 all thing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came into being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by H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lossians 1:16 - all things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reated by H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r Him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 Him they hold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83520" y="380880"/>
            <a:ext cx="73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d the Son: His Deity and Eternity (Pre-exist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646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990720" y="1066680"/>
            <a:ext cx="7390800" cy="685800"/>
            <a:chOff x="990720" y="1066680"/>
            <a:chExt cx="7390800" cy="685800"/>
          </a:xfrm>
        </p:grpSpPr>
        <p:sp>
          <p:nvSpPr>
            <p:cNvPr id="121" name=""/>
            <p:cNvSpPr/>
            <p:nvPr/>
          </p:nvSpPr>
          <p:spPr>
            <a:xfrm>
              <a:off x="990720" y="1066680"/>
              <a:ext cx="7390800" cy="685800"/>
            </a:xfrm>
            <a:prstGeom prst="horizontalScrol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21840" y="1224720"/>
              <a:ext cx="69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 Rounded MT Bold"/>
                </a:rPr>
                <a:t>Direct Statements of the Son of God’s Pre-exist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81040" y="1981080"/>
            <a:ext cx="814500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Pre-incarnate Appear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en. 16:7-11 “Now the angel of the Lord found her (Hagar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en. 18:1-33  “Now the Lord appeared to him (Abraham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en. 22:11-15 “But the angel of the Lord called to him (Abraham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77920" y="380880"/>
            <a:ext cx="73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d the Son: His Deity and Eternity (Pre-exist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6469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990720"/>
            <a:ext cx="6858000" cy="68580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Implications of the Son of God’s Pre-exist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4240" y="380880"/>
            <a:ext cx="73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d the Son: His Deity and Eternity (Pre-exist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50840" y="1839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4680" y="1763640"/>
            <a:ext cx="726264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ohn 17:18 “As You sent Me into the worl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ohn 1:14   “And the Word became (was made) fles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eb. 2:14   “He Himself likewise also partook of the sa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(flesh and blo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hil. 2:8      “And being found in appearance as a ma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ohn 8:23   “I am from above…I am not of this worl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ohn 17:14  “because they are not of the world, even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 am not of the worl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ohn 3:13    “…He who descended from heaven,eve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on of ma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6545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2:21:06Z</dcterms:created>
  <dc:creator>Roger Henderson</dc:creator>
  <dc:description/>
  <dc:language>en-US</dc:language>
  <cp:lastModifiedBy>Hal Molloy</cp:lastModifiedBy>
  <cp:lastPrinted>2002-08-24T17:17:52Z</cp:lastPrinted>
  <dcterms:modified xsi:type="dcterms:W3CDTF">2003-11-15T22:34:55Z</dcterms:modified>
  <cp:revision>78</cp:revision>
  <dc:subject/>
  <dc:title>No Slide Title</dc:title>
</cp:coreProperties>
</file>