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4419720"/>
            <a:ext cx="39625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7560" y="914400"/>
            <a:ext cx="6476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Divine Elec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designates a sovereign divine purp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formulated as to be independ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human meri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descen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or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104920"/>
            <a:ext cx="3809880" cy="3733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Rounded MT Bold"/>
              </a:rPr>
              <a:t>God’s message to the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S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osen “in Him” befor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undation of the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source of our election is Go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“Saint” is to be comfor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ncouraged by his 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doctrine of election is for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int” not for the “Sinn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2104920"/>
            <a:ext cx="441936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 Rounded MT Bold"/>
              </a:rPr>
              <a:t>God’s message to the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Sinner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Gospel - the good new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at Christ died for our s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cording to the Scriptur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that He was buried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at He was raised on the third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cording to the Scrip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ower of God for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everyone who belie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soever will 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YOUR  INCREDIBLE  POSITION  IN  CHRIST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SHARED CHRIST’S GLORY WITH YOU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-  2 THES 2:13-14;  JN 17: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CALLED  YOU ( TO SHARE IN CHRIST’S GLORY )      -  2 THES 2:13-14;  ROM 8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 Rounded MT Bold"/>
              </a:rPr>
              <a:t>HE  CHOSE  YOU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-  2 THES 2:13; 1 PET 1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REGENERATED  YOU                                                              -  JN 3:3-6;  TITUS 3:4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BAPTIZED  YOU                                             -  ROM 6:1-10;  1 COR 12:13;  COL 2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JUSTIFIED  YOU                                                                                        -  1 COR 6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SANCTIFIED  YOU                                          -  1 COR 6:11;  1 PET 1:2;  2 THES 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CO-ENLIFED  YOU                                 -  JN 6:63;  EPH 2:4-5;  ROM 8:9-11; COL 3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FREED  YOU                                                                                                   -  ROM 8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INDWELLS  YOU  FOREVER                 -  JN 14:16-17: ROM 8:9-11; 1COR 3:16; 6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  SEALED  YOU                                                     -  2 COR 1:22; 5:5; EPH 1:13-14; 4:30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6621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87480" y="789120"/>
            <a:ext cx="74574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Election in Scri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word “Election” and “Chosen” are synonymous in Scri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corporate election of Israel and the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personal election of individual fo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Israel a chosen people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eut. 7:6-8 --- the Lord your God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has chosen you to be a people for His 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possess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out of all the peoples who are on the face of the ear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Lord did not set His love on you nor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hoos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you because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re more in number than any of the peoples, for you were the fe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f all peoples, but because the Lord loved you and kept the oath 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135:4  For the Lord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has chosen Jacob for Himself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rael for His own pos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a. 45:4  For the sake of Jacob My serva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Israel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My chosen 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ts 13:17  The God of this people Israel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hose our father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nd m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eople great during their stay in the land of Egyp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6545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2080" y="838080"/>
            <a:ext cx="776988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words election and chosen in the New Tes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Elec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eklektos - root word is “eklego” - “ek” -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“lego” - to gather or pi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ose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eklegomai  - same root “ekleg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ly in the middle voice in the NT - meaning “to choose for oneself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necessarily implying the rejection of what is not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idea is of kindness or favor or l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notes a relationship to be established between the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oosing and the object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rk 13:20  Unless the Lord had shortened those day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 life would have been saved; but for the sake of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the elec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om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He chos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He shortened the day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6545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65880" y="849240"/>
            <a:ext cx="731016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Disciples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uke 6:13  And when day came, He called His disciples to H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hose twelve of them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whom He also named as apos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6:70  Jesus answered them, “Did I Myself not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hoose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the twelv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yet one of you is a devil?” as apost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3:18  “I do not speak of all of you. I know the ones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I have chose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it is that the Scripture may be fulfill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who eats My bread has lifted up his heel against Me.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Christ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a 42:1 Behold, My Servant, whom I uphold;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My chos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whom My soul deligh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uke 23:35 --- And even the rulers were sneering at Him, saying, “He sav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s; let Him save Himself if this is the Christ of God,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His Chosen O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Pet 2:4  And coming to Him as to a living stone which has been rejec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men, but is </a:t>
            </a:r>
            <a:r>
              <a:rPr b="0" lang="en-US" sz="1600" spc="-1" strike="noStrike">
                <a:solidFill>
                  <a:srgbClr val="cc0000"/>
                </a:solidFill>
                <a:latin typeface="Arial Rounded MT Bold"/>
              </a:rPr>
              <a:t>choic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nd precious in the sight of G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65214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160" y="849240"/>
            <a:ext cx="878256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Believers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ph. 1:3  Blessed be the God and Father of our Lord Jesus Chri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o has blessed us with every spiritual blessing in the heavenly places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in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  just as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He chose us in Him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before the foundation of the worl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we would be holy and blameless before Him. In l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Pet 1:1-2 To those ---,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who are chose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ccording to the foreknow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God the Father, by the sanctifying work of the Spiri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Thess. 2:13  But we should always give thanks to God for yo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rethren beloved by the Lord, because </a:t>
            </a:r>
            <a:r>
              <a:rPr b="0" lang="en-US" sz="1800" spc="-1" strike="noStrike">
                <a:solidFill>
                  <a:srgbClr val="cc0000"/>
                </a:solidFill>
                <a:latin typeface="Arial Rounded MT Bold"/>
              </a:rPr>
              <a:t>God has chosen you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from the begi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salvation through sanctification by the Spirit and faith in the trut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Election" descr=""/>
          <p:cNvPicPr/>
          <p:nvPr/>
        </p:nvPicPr>
        <p:blipFill>
          <a:blip r:embed="rId1"/>
          <a:stretch/>
        </p:blipFill>
        <p:spPr>
          <a:xfrm>
            <a:off x="1600200" y="4079880"/>
            <a:ext cx="6553080" cy="369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5715000"/>
            <a:ext cx="4114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53000" y="518148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 Rounded MT Bold"/>
              </a:rPr>
              <a:t>BELIEV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5800" y="6515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650556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lection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50384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164400" y="2840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ivine 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826400">
            <a:off x="4495320" y="441936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cc"/>
                </a:solidFill>
                <a:latin typeface="Arial Rounded MT Bold"/>
              </a:rPr>
              <a:t>-  MK 2: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651040"/>
            <a:ext cx="99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 Rounded MT Bold"/>
              </a:rPr>
              <a:t>BELIE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6080040"/>
            <a:ext cx="1149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 Rounded MT Bold"/>
              </a:rPr>
              <a:t>UNBELIEVING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2400" y="6521400"/>
            <a:ext cx="102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 M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3-02T04:20:28Z</cp:lastPrinted>
  <dcterms:modified xsi:type="dcterms:W3CDTF">2003-11-15T23:23:20Z</dcterms:modified>
  <cp:revision>207</cp:revision>
  <dc:subject/>
  <dc:title>Divine Election</dc:title>
</cp:coreProperties>
</file>