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54880" y="6405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752480" y="2514600"/>
            <a:ext cx="419112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ee2f0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905120" y="1143000"/>
            <a:ext cx="60958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I.  The Bible: The Word of God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2. The Bible: Inspired of G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3. The Bible: Its Subject and Purpos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4. The Bible: As a Divine Revelation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.  God the Trin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6.  God the Fath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7.  God the Son: His Deity and Eternity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8.  God the Son: His Incarn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9.  God the Son: His Substitutionary Death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0. God the Son: His Resurrection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1. God the Son: His Ascension and Priestly Min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2. God the Son: His Coming for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3. God the Son: His Coming With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4. God the Holy Spirit: His Personalit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5. God the Holy Spirit: His Advent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6. God the Holy Spirit: His Regener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7. God the Holy Spirit: His Indwelling and Sea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8. God the Holy Spirit: His Baptism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9. God the Holy Spirit: His Filling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73360" y="38088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D  THE  F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6324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8  AUG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1752480"/>
            <a:ext cx="2895480" cy="832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ANSWER QUESTIONS: 2,6,7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64310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73360" y="38088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D  THE  F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371600"/>
            <a:ext cx="86104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        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1.  DEFINITION:   OF 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2.  DIVINE  FATHE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3.  FATHER:     OF  JESUS  CHR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4.  FATHER:     CREATOR,  ORIGINATOR, 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5.  FATHER:     INTIMATE 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A.  WITH  MANK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B.  WITH  ISRA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C.  WITH  THE  CHURC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38880" y="640080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8 AUGUS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632448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6354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73360" y="3049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D  THE  F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God-1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42400" cy="535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543800" y="640080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8 augus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89400" y="6400800"/>
            <a:ext cx="43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73360" y="38088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D  THE  F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640080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8 augus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an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010280" cy="5254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19720" y="6400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73360" y="38088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OD  THE  F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965160"/>
            <a:ext cx="8915400" cy="55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        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1.  DEFINITIONS  (FATHER)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A. 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 Rounded MT Bold"/>
              </a:rPr>
              <a:t>HEBREW 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 ( AB  OR  ABA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2286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2286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ROGEN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2286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REATOR / RU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2286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RELATIONSHIP ( LOVE, CONCERN, NURTURE, PROVIDE, PROTEC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2286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REATOR / RU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2286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ORIG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2286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B.  GREEK  -  ( PATE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2286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2286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US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2286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ROGEN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2286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2286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RELATIONSHIP ( LOVE, CARE, NURTURE, INTIMACY, PROVI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2286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ROTEC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2286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ORIG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99960" indent="2286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23800" y="6324480"/>
            <a:ext cx="98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8 AUGUS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6400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73360" y="3049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D  THE  F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632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 august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219320"/>
            <a:ext cx="8686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95280"/>
            <a:ext cx="9144000" cy="57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2.  DIVINE  FATHERHOOD  ( HE IS GOD, DEITY, 1st PERSON OF GODHEAD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HE WILLED THAT CHRIST GIVE HIMSELF FOR OUR SINS            -  GAL 1:4; MT 26:42; HEB 13: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HE RAISED CHRIST FROM THE DEAD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                             -  GAL 1:1; HEB 13: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7136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3.  FATHER OF JESUS CHRIST (ONE  OF RELATIONSHIP &amp; COMMISSION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THE ONLY BEGOTTEN OF THE FATHER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     -  JN 1:14,1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ONLY BEGOTTEN” ( MONOGENES ) DESCRIBES HIS NATURE - NOT HIS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CHRIST IS THE “UNIQUE ONE” -  THE EXACT REPRESENTATION OF THE FATHER ( HEB 1:3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HE IS DESIGNATED THE SON, NOT DUE TO  HIS BIRTH BUT THAT HE IS ETERNAL &amp; INFIN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FATHER - SON’ = PRINCIPLE OF HEADSHIP &amp; SUBMISSION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 -  1 COR 11:1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OUR PRAYER &amp; WORSHIP IS TO THE FATHER OF OUR LORD JESUS CHRIST               -  EPH 3: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673360" y="38088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D  THE  F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066680"/>
            <a:ext cx="8839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1600"/>
            <a:ext cx="9144000" cy="58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4. FATHER -  (AS CREATOR, ORIGINATOR, SOURCE, RULER, SUSTAIN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FATHER OF ‘LIGHTS’ ( CELESTIAL BODIES ) 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   -  JAS. 1: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FATHER OF PHYSICAL  CONDITIONS (RAIN / SNOW, LIGHT / DARKNESS)            -  JOB 38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MADE &amp; ESTABLISHED ISRAEL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 -  DEUT 32: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GOD MAKES ABRAHAM THE FATHER  OF MANY NATIONS (BELIEVERS)  -  ROM 4:11, 17,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GRACE AND PEACE 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      -  EPH 1: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ETERNAL ENCOURAGEMENT &amp; HOPE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                   -  2 THES 2: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FATHER OF MERCIES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  -  2 COR 1: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FATHER OF GLORY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    -  EPH 1: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FATHER OF (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OUR)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SPIRITS 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(BELIEVERS)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   -  HEB 12:9 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Arial Rounded MT Bold"/>
              </a:rPr>
              <a:t>* = DIFFERENT INTERPRETATION THAN “ MAJOR BIBLE THEMES 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6400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8 AUGUS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64310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673360" y="38088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D  THE  F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066680"/>
            <a:ext cx="9144000" cy="54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5.  FATHER  ( INTIMATE  RELATIONSHIP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A.  WITH  MANK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CRIPTURE DOES NOT TEACH THE UNIVERSAL FATHERHOOD OF GOD TOWARD 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MAN HAS HIS BEING ( EXISTENCE) FROM GOD BUT NO RELATIONSHIP                - ACTS 17:28,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UNBELIEVING MANKIND’S FATHER IS SATAN                                                                  -  JN 8:38, 41-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B.  WITH  ISRA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APPLE OF GOD’S EYE”                                                                                                                  -  DEUT 32: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FATHER OF 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(BELIEVING)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ISRAEL                                                                                                    -  MAL 2:10 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FATHER  IS THE POTTER, ISRAEL IS THE CLAY                                                                  -  ISA 64: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OD WILL REGATHER, RESTORE &amp; BLESS ISRAEL- HE IS ISRAEL’S FATHER   - JER 31:9 , 31-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C.  WITH  THE  CHU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E BECOME CHILDREN OF GOD BY FAITH IN THE PERSON &amp; WORK OF CHRIST     -  JN 1:12,1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E ARE PLACED AS SONS &amp; CRY ‘ABA’ FATHER                                                               -  ROM 8:14-17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QUALIFIED US TO SHARE IN THE INHERITANCE IN THE KINGDOM OF LIGHT         -  COL 1:1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RE IS ONLY ONE GOD &amp; FATHER 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(OF BELIEVERS)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&amp; WE ARE IN HIM                       -  1 COR 8:6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HE IS FATHER OF ALL 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(BELIEVERS),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ABOVE ALL, THROUGH ALL&amp; IN YOU ALL              -  EPH 4:6 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HOM’ THE WHOLE FAMILY (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CHURCH)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IN HEAVEN &amp; EARTH IS NAMED                 -  EPH 3:14,15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WE HAVE ACCESS TO THE FATHER THROUGH THE HOLY SPIRIT                                       -  EPH 2: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UBJECTION TO THE FATHER OF (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OUR)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SPIRITS RESULTS IN LIFE (IN OUR WALK)    - HEB 12:9 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AT WE BE BLAMELESS &amp; HOLY (IN OUR WALK) IN OUR FATHER’S PRESENCE   - 1 THES 3: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171360"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ALWAYS GIVING THANKS TO THE FATHER FOR EVERYTHING                                             -  EPH 5:2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640080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8 AUGUS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2:34:00Z</dcterms:modified>
  <cp:revision>25</cp:revision>
  <dc:subject/>
  <dc:title>PowerPoint Presentation</dc:title>
</cp:coreProperties>
</file>