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BDD8-F9C2-4DE2-8F9E-6E64182EFF1A}" type="slidenum"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09120" y="4168800"/>
            <a:ext cx="5715000" cy="46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Pre-exist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 Direct Statements, B. Im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Incarn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 Fact of Christ’s Humanity, B. Reason for the Incar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Substitutionary Dea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What the Son’s Death Accomplish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Fallacies Concerning the Son’s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Resurr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 A. Resurrection in the Old Testam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Christ’s Prediction of His Own Resurrection, C. Proof of the Resu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Reasons for the Resurrection, E. Significance of the Resu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Ascension and Priestly Minist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 Fact of the Ascension, B.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Arrival in Heaven, C. Meaning of the Ascension, D. Present Work of Christ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en, E. Present Work of Christ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Coming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for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His Sai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 Unfulfilled Prophecy, B. Prophecies of the Raptu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Contrast: Christ Coming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is Saints vs. Christ Coming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is S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Coming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th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His Sai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 Events Preceding the Second Coming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Facts Related to Second Coming, C. Second Coming vs. R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66760" y="662940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4267080"/>
            <a:ext cx="548640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1295280"/>
            <a:ext cx="60958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I.  The Bible: The Word of God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2. The Bible: Inspired of G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3. The Bible: Its Subject and Purpos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4. The Bible: As a Divine Revelation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.  God The Trin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6.  God the Fath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7.  God the Son: His Deity and Eternity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8.  God the Son: His Incarn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9.  God the Son: His Substitutionary Death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0. God the Son: His Resurrection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1. God the Son: His Ascension and Priestly Min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2. God the Son: His Coming for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3. God the Son: His Coming With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4. God the Holy Spirit: His Personalit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5. God the Holy Spirit: His Advent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6. God the Holy Spirit: His Regener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7. God the Holy Spirit: His Indwelling and Sea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8. God the Holy Spirit: His Baptism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9. God the Holy Spirit: His Filling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72400" y="66438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2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1752480"/>
            <a:ext cx="2895480" cy="832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ANSWER QUESTIONS: 9. 10, 15, 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6583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4572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SON:    HIS  COMING  FOR  HIS  S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3962520"/>
            <a:ext cx="739116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8840" y="2971800"/>
            <a:ext cx="1460880" cy="58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re-ex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34680" y="304920"/>
            <a:ext cx="617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od the Son Overview (Chp. 7 to 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2666880"/>
            <a:ext cx="0" cy="129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828800" y="1676520"/>
            <a:ext cx="2133360" cy="1218960"/>
            <a:chOff x="1828800" y="1676520"/>
            <a:chExt cx="2133360" cy="1218960"/>
          </a:xfrm>
        </p:grpSpPr>
        <p:sp>
          <p:nvSpPr>
            <p:cNvPr id="58" name=""/>
            <p:cNvSpPr/>
            <p:nvPr/>
          </p:nvSpPr>
          <p:spPr>
            <a:xfrm>
              <a:off x="1828800" y="1676520"/>
              <a:ext cx="2133360" cy="1218960"/>
            </a:xfrm>
            <a:prstGeom prst="irregularSeal2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64320" y="1981080"/>
              <a:ext cx="128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H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Incarn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781680" y="16765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781680" y="342900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3048120"/>
            <a:ext cx="838080" cy="380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23120" y="30481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45720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7200" y="3809880"/>
            <a:ext cx="1463760" cy="612000"/>
            <a:chOff x="457200" y="3809880"/>
            <a:chExt cx="1463760" cy="612000"/>
          </a:xfrm>
        </p:grpSpPr>
        <p:sp>
          <p:nvSpPr>
            <p:cNvPr id="66" name=""/>
            <p:cNvSpPr/>
            <p:nvPr/>
          </p:nvSpPr>
          <p:spPr>
            <a:xfrm>
              <a:off x="990720" y="3809880"/>
              <a:ext cx="0" cy="381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" y="4114800"/>
              <a:ext cx="14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Cre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581280" y="4800600"/>
            <a:ext cx="15242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Resu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3962520"/>
            <a:ext cx="8380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3429000"/>
            <a:ext cx="6858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7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r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235960" y="3962520"/>
            <a:ext cx="1883520" cy="2286000"/>
            <a:chOff x="2235960" y="3962520"/>
            <a:chExt cx="1883520" cy="2286000"/>
          </a:xfrm>
        </p:grpSpPr>
        <p:sp>
          <p:nvSpPr>
            <p:cNvPr id="72" name=""/>
            <p:cNvSpPr/>
            <p:nvPr/>
          </p:nvSpPr>
          <p:spPr>
            <a:xfrm>
              <a:off x="3052440" y="396252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7880" y="4267080"/>
              <a:ext cx="609480" cy="167652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ffcc66"/>
                </a:gs>
                <a:gs pos="100000">
                  <a:srgbClr val="9966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90680" y="4572000"/>
              <a:ext cx="1523880" cy="2286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35960" y="4267080"/>
              <a:ext cx="1636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H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Substitution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Dea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52440" y="5943600"/>
              <a:ext cx="304920" cy="30492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357360" y="4571640"/>
              <a:ext cx="762120" cy="1676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200400" y="762120"/>
            <a:ext cx="3505320" cy="990360"/>
          </a:xfrm>
          <a:prstGeom prst="cloudCallout">
            <a:avLst>
              <a:gd name="adj1" fmla="val -20740"/>
              <a:gd name="adj2" fmla="val -304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70520" y="838080"/>
            <a:ext cx="190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is Asc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&amp; Priestly Min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352680" y="2514600"/>
            <a:ext cx="0" cy="1447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352680" y="15238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31160" y="1066680"/>
            <a:ext cx="1436400" cy="580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is Co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His S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35812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CHURCH  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3733920"/>
            <a:ext cx="7617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504960" y="3733920"/>
            <a:ext cx="10666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3962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Pente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781680" y="1981080"/>
            <a:ext cx="2362320" cy="2440800"/>
            <a:chOff x="6781680" y="1981080"/>
            <a:chExt cx="2362320" cy="2440800"/>
          </a:xfrm>
        </p:grpSpPr>
        <p:grpSp>
          <p:nvGrpSpPr>
            <p:cNvPr id="90" name=""/>
            <p:cNvGrpSpPr/>
            <p:nvPr/>
          </p:nvGrpSpPr>
          <p:grpSpPr>
            <a:xfrm>
              <a:off x="7046280" y="1981080"/>
              <a:ext cx="1570680" cy="1981440"/>
              <a:chOff x="7046280" y="1981080"/>
              <a:chExt cx="1570680" cy="1981440"/>
            </a:xfrm>
          </p:grpSpPr>
          <p:sp>
            <p:nvSpPr>
              <p:cNvPr id="91" name=""/>
              <p:cNvSpPr/>
              <p:nvPr/>
            </p:nvSpPr>
            <p:spPr>
              <a:xfrm>
                <a:off x="7046280" y="1981080"/>
                <a:ext cx="1570680" cy="580680"/>
              </a:xfrm>
              <a:prstGeom prst="rect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His Com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 u="sng">
                    <a:solidFill>
                      <a:srgbClr val="000000"/>
                    </a:solidFill>
                    <a:uFillTx/>
                    <a:latin typeface="Arial Rounded MT Bold"/>
                  </a:rPr>
                  <a:t>with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 His Sai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831080" y="2590920"/>
                <a:ext cx="0" cy="1371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7238880" y="41148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Day of the Lo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781680" y="42670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763120" y="42670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1000" y="350532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Kingd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915400" y="3657600"/>
              <a:ext cx="228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848360" y="3657600"/>
              <a:ext cx="152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8001000" y="664380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SE[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65530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2480" y="5335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SON:   HIS  COMING  FOR  HIS  S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664380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2819520"/>
            <a:ext cx="4191120" cy="1295280"/>
          </a:xfrm>
          <a:prstGeom prst="irregularSeal2">
            <a:avLst/>
          </a:prstGeom>
          <a:gradFill rotWithShape="0">
            <a:gsLst>
              <a:gs pos="0">
                <a:srgbClr val="00cc00"/>
              </a:gs>
              <a:gs pos="50000">
                <a:srgbClr val="ffcccc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4920" y="1066680"/>
            <a:ext cx="3886200" cy="1295640"/>
            <a:chOff x="304920" y="1066680"/>
            <a:chExt cx="3886200" cy="1295640"/>
          </a:xfrm>
        </p:grpSpPr>
        <p:sp>
          <p:nvSpPr>
            <p:cNvPr id="105" name=""/>
            <p:cNvSpPr/>
            <p:nvPr/>
          </p:nvSpPr>
          <p:spPr>
            <a:xfrm>
              <a:off x="304920" y="1066680"/>
              <a:ext cx="3886200" cy="1295640"/>
            </a:xfrm>
            <a:prstGeom prst="irregularSeal2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66ffff"/>
                </a:gs>
                <a:gs pos="100000">
                  <a:srgbClr val="ff66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8080" y="15238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WHAT  IS  THE  RAPTURE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343400" y="1295280"/>
            <a:ext cx="4267080" cy="1295280"/>
            <a:chOff x="4343400" y="1295280"/>
            <a:chExt cx="4267080" cy="1295280"/>
          </a:xfrm>
        </p:grpSpPr>
        <p:sp>
          <p:nvSpPr>
            <p:cNvPr id="108" name=""/>
            <p:cNvSpPr/>
            <p:nvPr/>
          </p:nvSpPr>
          <p:spPr>
            <a:xfrm>
              <a:off x="4343400" y="1295280"/>
              <a:ext cx="4267080" cy="1295280"/>
            </a:xfrm>
            <a:prstGeom prst="irregularSeal2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ffffff"/>
                </a:gs>
                <a:gs pos="100000">
                  <a:srgbClr val="33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29200" y="1752480"/>
              <a:ext cx="28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TIMING  OF  THE  RAPTURE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038480" y="327672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RAPTURE  &amp;  2ND  COMING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80880" y="4114800"/>
            <a:ext cx="4038840" cy="1295280"/>
            <a:chOff x="380880" y="4114800"/>
            <a:chExt cx="4038840" cy="1295280"/>
          </a:xfrm>
        </p:grpSpPr>
        <p:sp>
          <p:nvSpPr>
            <p:cNvPr id="112" name=""/>
            <p:cNvSpPr/>
            <p:nvPr/>
          </p:nvSpPr>
          <p:spPr>
            <a:xfrm>
              <a:off x="380880" y="4114800"/>
              <a:ext cx="4038840" cy="1295280"/>
            </a:xfrm>
            <a:prstGeom prst="irregularSeal2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ccff66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4648320"/>
              <a:ext cx="26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PURPOSE  OF  RAPTURE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114800" y="4724280"/>
            <a:ext cx="4267080" cy="1295640"/>
            <a:chOff x="4114800" y="4724280"/>
            <a:chExt cx="4267080" cy="1295640"/>
          </a:xfrm>
        </p:grpSpPr>
        <p:sp>
          <p:nvSpPr>
            <p:cNvPr id="115" name=""/>
            <p:cNvSpPr/>
            <p:nvPr/>
          </p:nvSpPr>
          <p:spPr>
            <a:xfrm>
              <a:off x="4114800" y="4724280"/>
              <a:ext cx="4267080" cy="1295640"/>
            </a:xfrm>
            <a:prstGeom prst="irregularSeal2">
              <a:avLst/>
            </a:prstGeom>
            <a:gradFill rotWithShape="0">
              <a:gsLst>
                <a:gs pos="0">
                  <a:srgbClr val="ff0066"/>
                </a:gs>
                <a:gs pos="50000">
                  <a:srgbClr val="ffccff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6920" y="525780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EFFECTS  OF  RAPTURE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495680" y="65530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52480" y="228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SON:   HIS  COMING  FOR  HIS  S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664380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90920" y="533520"/>
            <a:ext cx="3886200" cy="1066680"/>
            <a:chOff x="2590920" y="533520"/>
            <a:chExt cx="3886200" cy="1066680"/>
          </a:xfrm>
        </p:grpSpPr>
        <p:sp>
          <p:nvSpPr>
            <p:cNvPr id="121" name=""/>
            <p:cNvSpPr/>
            <p:nvPr/>
          </p:nvSpPr>
          <p:spPr>
            <a:xfrm>
              <a:off x="2590920" y="533520"/>
              <a:ext cx="3886200" cy="1066680"/>
            </a:xfrm>
            <a:prstGeom prst="irregularSeal2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66ffff"/>
                </a:gs>
                <a:gs pos="100000">
                  <a:srgbClr val="ff66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4080" y="90972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WHAT  IS  THE  RAPTURE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0" y="1676520"/>
            <a:ext cx="914400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PRIMARY PASSAGES :  1 THES 4:13-18; 1 COR 15:51-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DEFINITION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HE RAPTURE IS THE CATCHING AWAY OF THE CHURCH ( THOSE LIVING ) FROM THE  EARTH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MEET THE LORD IN THE AIR  WHEN HE COMES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 Rounded MT Bold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HE CHURCH ( THOSE ASLEEP  &amp;  ALIV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PRIOR TO THE RAPTURE :   THERE ARE 2 GROUPS OF BELIE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  THOSE A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HEY DIED PHYS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HEY ARE ABSENT FROM THE BODY &amp; PRESENT WITH THE LORD                                            -  2COR 5: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.  THOSE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AT THE TIME OF THE RAPTURE   -   GOD DOES THE FOLLOWING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  TO THOSE A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HE RESURRECTS THEM WITH A GLORIFIED BODY                                                                - 1 COR 15: 35-4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HEY RISE UP TO HIM IN THE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.  TO THOSE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HEY DO NOT EXPERIENCE PHYSICAL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HEY ARE CHANGED INTO THEIR GLORIFIED BODIES                                                        - 1 COR 15: 51-53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HEY ARE THEN CAUGHT UP ( RAPTURED ) TO MEET THE LORD IN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65240"/>
                <a:tab algn="l" pos="33012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PARTIAL RAPTURE POSITION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HIS </a:t>
            </a:r>
            <a:r>
              <a:rPr b="1" lang="en-US" sz="1200" spc="-1" strike="noStrike" u="sng">
                <a:solidFill>
                  <a:srgbClr val="3333cc"/>
                </a:solidFill>
                <a:uFillTx/>
                <a:latin typeface="Arial Rounded MT Bold"/>
              </a:rPr>
              <a:t>INCORRECT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VIEW SAYS NOT ALL BELIEVERS WILL BE RAPT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ONLY THOSE WHO ARE “WATCHING &amp; WAITING” FOR THE RAPTURE                - HEB 9: 28; PHIL 3: 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HEY MUST REACH AN UNDEFINED DEGREE OF SPIRITUAL WORTHI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65530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52480" y="228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SON:   HIS  COMING  FOR  HIS  S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96080" y="664380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362320" y="533520"/>
            <a:ext cx="4267080" cy="1066680"/>
            <a:chOff x="2362320" y="533520"/>
            <a:chExt cx="4267080" cy="1066680"/>
          </a:xfrm>
        </p:grpSpPr>
        <p:sp>
          <p:nvSpPr>
            <p:cNvPr id="128" name=""/>
            <p:cNvSpPr/>
            <p:nvPr/>
          </p:nvSpPr>
          <p:spPr>
            <a:xfrm>
              <a:off x="2362320" y="533520"/>
              <a:ext cx="4267080" cy="1066680"/>
            </a:xfrm>
            <a:prstGeom prst="irregularSeal2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ffffff"/>
                </a:gs>
                <a:gs pos="100000">
                  <a:srgbClr val="33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909720"/>
              <a:ext cx="28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TIMING  OF  THE  RAPTURE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0" y="160020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HIS QUESTION HAS THE MOST DISAGREEMENT BETWEEN BIBLE SCH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HEY HAVE 4 VIEWS OF THE TIM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  PRETRIB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.  MIDTRIB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3.  PREWRATH ( MARV ROSENTHAL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4.  POSTRIB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WE BELIEVE THE PRETRIBULATION VIEW IS THE BIBLICAL VIEW !     -   BECAUSE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1094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  <a:tab algn="l" pos="61009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1094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  <a:tab algn="l" pos="6100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NO PROPHETIC EVENTS NEED TO BE FULFILLED PRIOR TO THE RAPTURE                                                     -  JN 14: 2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109440">
              <a:lnSpc>
                <a:spcPct val="100000"/>
              </a:lnSpc>
              <a:tabLst>
                <a:tab algn="l" pos="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  <a:tab algn="l" pos="61009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1094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  <a:tab algn="l" pos="6100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PAUL EXPECTED THE IMMINENT RETURN OF THE LORD                                             -  1 THES 4: 17; 2 THES 2:1-3; 3:3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109440">
              <a:lnSpc>
                <a:spcPct val="100000"/>
              </a:lnSpc>
              <a:tabLst>
                <a:tab algn="l" pos="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  <a:tab algn="l" pos="61009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1094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  <a:tab algn="l" pos="6100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HE RAPTURE WILL INITIATE THE “ DAY OF THE LORD “                                                                                   -  2 THES 5: 1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109440">
              <a:lnSpc>
                <a:spcPct val="100000"/>
              </a:lnSpc>
              <a:tabLst>
                <a:tab algn="l" pos="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  <a:tab algn="l" pos="61009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1094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  <a:tab algn="l" pos="6100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HE RAPTURE COMES FIRST THEN THE “DAY OF THE LORD”                                                                             -   2 THES 2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746280" indent="1094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  <a:tab algn="l" pos="6100920"/>
                <a:tab algn="l" pos="639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FALLING AWAY” FIRST ( APOSTASIA  =  FALLING AWAY OR “DEPARTURE”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746280" indent="1094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  <a:tab algn="l" pos="6100920"/>
                <a:tab algn="l" pos="639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NOT A DEPARTURE FROM THE FAITH  -  BECAUSE CHRIST’S RETURN IS IMM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746280" indent="1094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  <a:tab algn="l" pos="6100920"/>
                <a:tab algn="l" pos="639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SO “DEPARTURE” MUST MEAN DEPARTURE FROM THE EARTH  =  THE R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746280" indent="109440">
              <a:lnSpc>
                <a:spcPct val="100000"/>
              </a:lnSpc>
              <a:tabLst>
                <a:tab algn="l" pos="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  <a:tab algn="l" pos="6100920"/>
                <a:tab algn="l" pos="63914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1094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  <a:tab algn="l" pos="6100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DEFINITION :   OF  “DAY OF THE LOR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746280" indent="1094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  <a:tab algn="l" pos="6100920"/>
                <a:tab algn="l" pos="639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IT INCLUDES THE TRIBULATION &amp; THE MILLENIUM ( O.T REVEALS JUDGMENT &amp; BLESSING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746280" indent="1094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  <a:tab algn="l" pos="6100920"/>
                <a:tab algn="l" pos="639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IT COMES UNEXPECTEDLY ( AS A “THIEF IN THE NIGHT” )                                                                         -  1 THES 5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746280" indent="1094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  <a:tab algn="l" pos="6100920"/>
                <a:tab algn="l" pos="639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IT’ S  A TIME OF WRATH ( GOD’S )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                -  1 THES 5: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746280" indent="109440">
              <a:lnSpc>
                <a:spcPct val="100000"/>
              </a:lnSpc>
              <a:tabLst>
                <a:tab algn="l" pos="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  <a:tab algn="l" pos="6100920"/>
                <a:tab algn="l" pos="63914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1094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  <a:tab algn="l" pos="6100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BUT BELIEVERS ARE NOT APPOINTED TO GOD’S WRATH                       -  1 THES 5: 9; ROM 5:9; EPH 2:3; 1 THES 1: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109440">
              <a:lnSpc>
                <a:spcPct val="100000"/>
              </a:lnSpc>
              <a:tabLst>
                <a:tab algn="l" pos="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  <a:tab algn="l" pos="61009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10944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  <a:tab algn="l" pos="610092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THEREFORE BELIEVERS WILL NOT GO THROUGH THE TRIBULATION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65530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52480" y="304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SON:   HIS  COMING  FOR  HIS  S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96080" y="664380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609480"/>
            <a:ext cx="4191120" cy="914400"/>
          </a:xfrm>
          <a:prstGeom prst="irregularSeal2">
            <a:avLst/>
          </a:prstGeom>
          <a:gradFill rotWithShape="0">
            <a:gsLst>
              <a:gs pos="0">
                <a:srgbClr val="00cc00"/>
              </a:gs>
              <a:gs pos="50000">
                <a:srgbClr val="ffcccc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91440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RAPTURE  &amp;  2ND  COMING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17524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CONTRASTS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209680"/>
            <a:ext cx="914400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RAPTURE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2ND   CO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HRIST COMES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Rounded MT Bold"/>
              </a:rPr>
              <a:t>FOR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IS SAINTS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CHRIST COMES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Rounded MT Bold"/>
              </a:rPr>
              <a:t>WITH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HIS S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SAINTS GO FROM EARTH TO HEAVEN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SAINTS GO FROM HEAVEN TO 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START OF TRIBULATION ( GOD’S WRATH )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END OF TRIBULATION ( GOD’S WRATH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ASLEEP CHURCH SAINTS RESURRECTED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O.T SAINTS RESURR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ALIVE CHURCH SAINTS RAPTURED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NO RAPTURE OCC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UNRIGHTEOUSNESS ON EARTH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RIGHTEOUSNESS ON 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IMMINENT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MANY SIGNS &amp; EVENTS PREC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WAS A MYSTERY ( NOT REVEALED ) IN O.T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REVEALED IN O.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INITIATES REWARDS TO THE CHURCH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INITIATES JUDGMENT TO THE WOR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SATAN REMAINS ACTIVE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SATAN IS BOUND FOR 1,000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654516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6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52480" y="304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SON:   HIS  COMING  FOR  HIS  S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664380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609480"/>
            <a:ext cx="4191120" cy="914400"/>
          </a:xfrm>
          <a:prstGeom prst="irregularSeal2">
            <a:avLst/>
          </a:prstGeom>
          <a:gradFill rotWithShape="0">
            <a:gsLst>
              <a:gs pos="0">
                <a:srgbClr val="00cc00"/>
              </a:gs>
              <a:gs pos="50000">
                <a:srgbClr val="ffcccc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91440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RAPTURE  &amp;  2ND  COMING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5238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CONTRASTS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057400"/>
            <a:ext cx="914400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RAPTURE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2ND   CO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HRIST COMES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Rounded MT Bold"/>
              </a:rPr>
              <a:t>FOR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IS SAINTS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CHRIST COMES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Rounded MT Bold"/>
              </a:rPr>
              <a:t>WITH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HIS S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1 THES 4:13-18;  3:13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                 REV 19:11-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SAINTS GO FROM EARTH TO HEAVEN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SAINTS GO FROM HEAVEN TO 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1 THES 4:16,17;  2 THES 2:1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                  REV 19:14,15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START OF TRIBULATION ( GOD’S WRATH )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END OF TRIBULATION ( GOD’S WRATH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1 THES 5:1-9;  2 THES 2:1-3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                MT 24:29-31; REV19:11 - 20: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ASLEEP CHURCH SAINTS RESURRECTED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O.T SAINTS RESURR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1 COR 15:20 -23; 15:52,53; 1 THES 4:l3-16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                          DAN 12:1,2; REV 20:4: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ALIVE CHURCH SAINTS RAPTURED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NO RAPTURE OCC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1 COR 15:51,52a; 1 THES 4:17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               MT 24:29-31; REV 19:11 - 20: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UNRIGHTEOUSNESS ON EARTH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RIGHTEOUSNESS ON 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2 THES 2:1-12; REV 6-19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                   ZEPH 1:1-3:20;  ZECH 14:1-21;  REV 20:1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IMMINENT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MANY SIGNS &amp; EVENTS PREC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1 THES 4:15; 2 THES 2:1-3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 MT 24:1-28;  REV 6-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WAS A MYSTERY ( NOT REVEALED ) IN O.T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REVEALED IN O.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1 COR 15:51,52a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            ISA 61:1-3;  ZECH 12:9-14; 13: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INITIATES REWARDS TO THE CHURCH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INITIATES JUDGMENT TO THE WOR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2 COR 5:10; 1 COR 3:5-17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              MT 25:31-46; REV 19:11-21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SATAN REMAINS ACTIVE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- SATAN IS BOUND FOR 1,000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2 THES 2:1-12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REV 20:1-3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654516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6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52480" y="3049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SON:   HIS  COMING  FOR  HIS  S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3800" y="662940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514600" y="533520"/>
            <a:ext cx="4114800" cy="1218960"/>
            <a:chOff x="2514600" y="533520"/>
            <a:chExt cx="4114800" cy="1218960"/>
          </a:xfrm>
        </p:grpSpPr>
        <p:sp>
          <p:nvSpPr>
            <p:cNvPr id="149" name=""/>
            <p:cNvSpPr/>
            <p:nvPr/>
          </p:nvSpPr>
          <p:spPr>
            <a:xfrm>
              <a:off x="2514600" y="533520"/>
              <a:ext cx="4114800" cy="1218960"/>
            </a:xfrm>
            <a:prstGeom prst="irregularSeal2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ccff66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914400"/>
              <a:ext cx="288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PURPOSE  OF  RAPTURE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0" y="1828800"/>
            <a:ext cx="60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TO  FULFILL  GOD’S  ETERNAL  PURPOSE &amp; PLAN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362320"/>
            <a:ext cx="9144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SHARE CHRIST’S GLORY ( OUR CONDITION BECOMES OUR POSITION )    -  1 JN 3: 2;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JN 17: 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SEE CHRIST &amp; BE WITH HIM FOREVER - 1 JN 3: 2; JN 14: 2; 1 THES 4: 17; 1 COR 13: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GIVE US OUR NEW BODIES                                                        -  PHIL 3: 21; 1 COR 15: 35-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OR CHRIST TO TAKE US HOME                          -  JN 14: 1-3; PHIL 3: 20-21; 1 COR 15: 48-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COMPLETE OUR SALVATION ( SAVED FROM THE PRESENCE OF SIN )       -  PHIL 3: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 FULFILL OUR  PRESENT FAITH &amp; HOPE - THEN DO AWAY WITH THEM  -  1 COR 13: 10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65530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676520" y="2430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SON:   HIS  COMING  FOR  HIS  S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96080" y="664380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9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895480" y="457200"/>
            <a:ext cx="4267080" cy="1295280"/>
            <a:chOff x="2895480" y="457200"/>
            <a:chExt cx="4267080" cy="1295280"/>
          </a:xfrm>
        </p:grpSpPr>
        <p:sp>
          <p:nvSpPr>
            <p:cNvPr id="157" name=""/>
            <p:cNvSpPr/>
            <p:nvPr/>
          </p:nvSpPr>
          <p:spPr>
            <a:xfrm>
              <a:off x="2895480" y="457200"/>
              <a:ext cx="4267080" cy="1295280"/>
            </a:xfrm>
            <a:prstGeom prst="irregularSeal2">
              <a:avLst/>
            </a:prstGeom>
            <a:gradFill rotWithShape="0">
              <a:gsLst>
                <a:gs pos="0">
                  <a:srgbClr val="ff0066"/>
                </a:gs>
                <a:gs pos="50000">
                  <a:srgbClr val="ffccff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57600" y="99036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EFFECTS  OF  RAPTURE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80880" y="1600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THE  PRESENT  EFFECT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2096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T’S A COMFORTING HOPE TO OUR HEARTS                                    -  1 THES 4:18; JN 14: 1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T PROVIDES STABILITY TO OUR MINDS IN STRESS &amp; TRIALS                      -  2 THES 2: 1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E ARE VICTORIOUS OVER DEATH THROUGH CHRIST - DEATH HAS NO STING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 1 COR 15: 55-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UR HOPE OF THE RAPTURE PURIFIES US (CONSECRATES US AS BELIEVER PRIESTS)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- 1 JN 3:2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T’S A MOST HAPPY HOPE ( AN EXPECTATION THAT IS CERTAIN )                  -  TITUS 2: 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65530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0:22:56Z</dcterms:created>
  <dc:creator>Hal Molloy</dc:creator>
  <dc:description/>
  <dc:language>en-US</dc:language>
  <cp:lastModifiedBy>Hal Molloy</cp:lastModifiedBy>
  <dcterms:modified xsi:type="dcterms:W3CDTF">2003-11-15T22:58:40Z</dcterms:modified>
  <cp:revision>20</cp:revision>
  <dc:subject/>
  <dc:title>PowerPoint Presentation</dc:title>
</cp:coreProperties>
</file>