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4191120"/>
            <a:ext cx="39625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6621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1680" y="1554120"/>
            <a:ext cx="826056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Rebuttal to so-called “Conditional Security” pa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dispensationally misapplied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tt. 24:13, Matt. 18:23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related to false teachers of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1 Tim 4:1-2, Jude 1:17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last days of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related to no more than moral reformation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Luke 11:24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related to profession which is proved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hn 8:31, John 15: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be such by it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containing admonitions of various kinds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b. 10:26-31, Heb. 6:4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related to the loss of rewards,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hn 15:2, 1 Cor. 11:29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alking in darkness, and chastis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ssages related to falling from grace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al. 5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30824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Eternal Secu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doctrine that comprehends only the continuation of 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ose who are 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 asks the question: Could a person who is saved ever be 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g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 has no relationship to the unsaved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657600"/>
            <a:ext cx="8077320" cy="2590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twelve (12) undertakings of God for His children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Rebuttal to the so-called “Conditional Security” pa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1480" y="1001880"/>
            <a:ext cx="685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criptural basis for believing that a person once sav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is always s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703520"/>
            <a:ext cx="2361960" cy="1752480"/>
          </a:xfrm>
          <a:prstGeom prst="horizontalScrol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Father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703520"/>
            <a:ext cx="2666880" cy="17524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3000" y="1703520"/>
            <a:ext cx="2514600" cy="175248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piri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" y="3618000"/>
            <a:ext cx="254412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Purpose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Power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Love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Influence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ather of the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18000" y="3618000"/>
            <a:ext cx="31809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Substitutionary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Resu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Intercession in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Advocacy in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240" y="3618000"/>
            <a:ext cx="30088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’s Re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’s Indw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’s Bapt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’s S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5451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38880" y="0"/>
            <a:ext cx="1600200" cy="121932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ather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4920" y="1319040"/>
            <a:ext cx="86522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Purpose of Go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ff00ff"/>
                </a:solidFill>
                <a:latin typeface="Arial Rounded MT Bold"/>
              </a:rPr>
              <a:t>- </a:t>
            </a:r>
            <a:r>
              <a:rPr b="0" lang="en-US" sz="1800" spc="-1" strike="noStrike">
                <a:solidFill>
                  <a:srgbClr val="ff00ff"/>
                </a:solidFill>
                <a:latin typeface="Arial Rounded MT Bold"/>
              </a:rPr>
              <a:t>Promise of salvation to all who bel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3:16 ---He gave His only begotten Son, that whoever believes in H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shall not perish, but have etern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5:24 ---he who hears My word, and believes Him who sent 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has eternal life,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does not come into judg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but has passed out of death into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6:37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All that the Father gives Me will come to M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the one who comes to Me I will certainly not cas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Power of Go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 Rounded MT Bold"/>
              </a:rPr>
              <a:t>- He is able to save and k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0:29 My Father, who has given them to Me,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s greater than al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no one is able to snatch them out of the Father’s 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. 8:38 --- neithe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deat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lif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angel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principalitie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things presen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things to com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power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dept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n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any other created th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will be able to separate 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the love of God which is in Christ Jesus our L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8460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2000" y="1028880"/>
            <a:ext cx="8431560" cy="57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Love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. 5:8 But God demonstrates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His own love toward u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at while we were yet sinners, Christ died for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ph.1:4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n lov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He predestined us to adoption as sons through Je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to Himself, according to the kind intention of His wil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Influence on the Father of the Prayer of the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7:9-10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 ask on their behalf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; I do not ask on behalf of the worl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of those whom You have given Me; for they are Yours;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1-12  I am no longer in the world; and yet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they themselves are in the worl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I come to You. Holy Father,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keep them in Your nam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ile I was with them,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 was keeping them in Your nam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hich You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iven Me; and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 guarded them and not one of them perishe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on of perdition, so that the Scripture would be fulfi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5  I do not ask You to take them out of the world,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but to keep th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from the evil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0  “I do not ask on behalf of these alo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f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those also who believe in Me through their wor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0"/>
            <a:ext cx="1600200" cy="121932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ather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5912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659124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43800" y="0"/>
            <a:ext cx="1600200" cy="1143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Son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08360" y="817560"/>
            <a:ext cx="76464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is Substitutionary Death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 Rounded MT Bold"/>
              </a:rPr>
              <a:t>- the guarantee of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ohn 2:2 and He Himself is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the propitiation for our sin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not for ours only, but also for those of the whol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l condemnation is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3:18 He who believes in Him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is not judge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; he who does not belie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s been judged already, because he has not belie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the name of the only begotten Son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 8:1 Therefore there is now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no condemna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those who are in Christ Je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 6:23  For the wages of sin is deat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the free gift of God is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eternal life in Christ Jesus our L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l. 2:12  having been buried with Him in baptis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which you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were also raised up with Him through fait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the working of God, who raised Him from the d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l. 3:1  Therefore if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you have been raised up with Chris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keep seeking the things above, where Christ 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ated at the right hand of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646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6464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38880" y="0"/>
            <a:ext cx="1600200" cy="1143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Son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0040" y="849240"/>
            <a:ext cx="746064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is Intercession in H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ke 22:32  but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I have prayed for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that your faith may not fail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you,when once you have turned again, strengthen your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 8:34 --- Christ Jesus is He who died,yes, rather who was rais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is at the right hand of God,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who also intercedes for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b. 7:25  Therefore He is able also to save for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ose who draw near to God through Hi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nce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He always lives to make intercession for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is Advocacy in Hea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ohn 2:1 --- I am writing these things to you so that you may not s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if anyone sins,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we have an Advocate with the Fath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Christ the righteo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b. 9:24  For Christ did not enter a holy place made with hand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mere copy of the true one, but into heaven itself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now to appear in the presence of God for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6615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0"/>
            <a:ext cx="1523880" cy="121932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Spirit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040" y="806400"/>
            <a:ext cx="782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Spirit’s Re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3:5-7 --- unless one is born of water and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the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cannot enter into the kingdom of God.That which is born of the flesh is fle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that which is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born of the Spirit is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---You must be born ag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Peter 1:4 --- He has granted to us His precious and magnificent promis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 that by them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you may become partakers of the divine natur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ving escaped the corruption that is in the world by lu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s Titus 3:4-6 and 1 John 3: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Spirit’s Indw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5:5 --- hope does not disappoint, because the love of God has b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oured out within our hearts through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the Holy Spirit who was given to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 8:9 However, you are not in the flesh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but in the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if anyone does not have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the Spirit of Chris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he does not belong to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. 6:19 --- your body is a temple of the Holy Spirit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who is in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whom you have from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, and that you are not your ow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 1 John 3: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5214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11640" y="28404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curity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0"/>
            <a:ext cx="1523880" cy="121932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work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Spirit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400" y="1260360"/>
            <a:ext cx="77378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Spirit’s Bap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Cor.12:13 For by one Spirit we were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all baptize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to one bod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 and we were all made to drink of one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al. 3:27 For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all of you who were baptized into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ave clothed yourselves with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Spirit’s S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ph. 4:30 Do not grieve the Holy Spirit of Go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y whom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you were sealed for the day of rede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Cor. 1:21-22  Now He who establishes us with you in Chr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anointed us is God, 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who also sealed u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gave us the Spirit in our hearts as a pl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654516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3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2-23T04:19:18Z</cp:lastPrinted>
  <dcterms:modified xsi:type="dcterms:W3CDTF">2003-11-15T23:22:57Z</dcterms:modified>
  <cp:revision>206</cp:revision>
  <dc:subject/>
  <dc:title>Security of Salvation</dc:title>
</cp:coreProperties>
</file>