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54880" y="6405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219320" y="1752480"/>
            <a:ext cx="403848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306440" y="990720"/>
            <a:ext cx="637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752480"/>
            <a:ext cx="274320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49480" y="380880"/>
            <a:ext cx="51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tan: His Personality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67080" y="64692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43800" y="64692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5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523880" y="1676520"/>
            <a:ext cx="2819520" cy="2133360"/>
            <a:chOff x="1523880" y="1676520"/>
            <a:chExt cx="2819520" cy="2133360"/>
          </a:xfrm>
        </p:grpSpPr>
        <p:sp>
          <p:nvSpPr>
            <p:cNvPr id="47" name=""/>
            <p:cNvSpPr/>
            <p:nvPr/>
          </p:nvSpPr>
          <p:spPr>
            <a:xfrm>
              <a:off x="1523880" y="1676520"/>
              <a:ext cx="2819520" cy="2133360"/>
            </a:xfrm>
            <a:prstGeom prst="verticalScroll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9720" y="2361960"/>
              <a:ext cx="176724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ersonality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at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5105520" y="3200400"/>
            <a:ext cx="2819160" cy="2133720"/>
            <a:chOff x="5105520" y="3200400"/>
            <a:chExt cx="2819160" cy="2133720"/>
          </a:xfrm>
        </p:grpSpPr>
        <p:sp>
          <p:nvSpPr>
            <p:cNvPr id="50" name=""/>
            <p:cNvSpPr/>
            <p:nvPr/>
          </p:nvSpPr>
          <p:spPr>
            <a:xfrm>
              <a:off x="5105520" y="3200400"/>
              <a:ext cx="2819160" cy="2133720"/>
            </a:xfrm>
            <a:prstGeom prst="verticalScroll">
              <a:avLst>
                <a:gd name="adj" fmla="val 12500"/>
              </a:avLst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904720" y="3810240"/>
              <a:ext cx="1189440" cy="9169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ower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ata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2049480" y="380880"/>
            <a:ext cx="51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tan: His Personality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63928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5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64692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49480" y="380880"/>
            <a:ext cx="51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tan: His Personality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5840" y="1219320"/>
            <a:ext cx="6884640" cy="55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Satan was created as a Person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Ezek. 28:12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ou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had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the the seal of perf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ull of wisd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erfect in beau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ou were in Eden (garden of Go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very precious stone was your cov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n the day that you wer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created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they were prep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ou were the anointed cherub who covers (I placed you the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ou walked in the midst of the stones of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ou were blameless in your ways from the day you wer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until unrighteousness was found in y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315200" y="152280"/>
            <a:ext cx="1828800" cy="1143000"/>
            <a:chOff x="7315200" y="152280"/>
            <a:chExt cx="1828800" cy="1143000"/>
          </a:xfrm>
        </p:grpSpPr>
        <p:sp>
          <p:nvSpPr>
            <p:cNvPr id="58" name=""/>
            <p:cNvSpPr/>
            <p:nvPr/>
          </p:nvSpPr>
          <p:spPr>
            <a:xfrm>
              <a:off x="7315200" y="152280"/>
              <a:ext cx="1828800" cy="1143000"/>
            </a:xfrm>
            <a:prstGeom prst="verticalScroll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82240" y="560520"/>
              <a:ext cx="141516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Personality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Sat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 rot="5384400">
            <a:off x="7239240" y="1599120"/>
            <a:ext cx="990720" cy="1754280"/>
          </a:xfrm>
          <a:prstGeom prst="wedgeRoundRectCallout">
            <a:avLst>
              <a:gd name="adj1" fmla="val -94282"/>
              <a:gd name="adj2" fmla="val 81245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75440" y="2209680"/>
            <a:ext cx="13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King of Ty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= Sa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632448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5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64692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049480" y="380880"/>
            <a:ext cx="51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tan: His Personality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315200" y="152280"/>
            <a:ext cx="1828800" cy="1143000"/>
            <a:chOff x="7315200" y="152280"/>
            <a:chExt cx="1828800" cy="1143000"/>
          </a:xfrm>
        </p:grpSpPr>
        <p:sp>
          <p:nvSpPr>
            <p:cNvPr id="66" name=""/>
            <p:cNvSpPr/>
            <p:nvPr/>
          </p:nvSpPr>
          <p:spPr>
            <a:xfrm>
              <a:off x="7315200" y="152280"/>
              <a:ext cx="1828800" cy="1143000"/>
            </a:xfrm>
            <a:prstGeom prst="verticalScroll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482240" y="560520"/>
              <a:ext cx="141516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Personality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Sat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14400" y="1066680"/>
            <a:ext cx="7238880" cy="50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Personality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 Rounded MT Bold"/>
              </a:rPr>
              <a:t>-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 Rounded MT Bold"/>
              </a:rPr>
              <a:t>the definition from Webster’s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condition or facts relating to a particular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characteristics that distinguishes an individ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Satan exercises the functions of a person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ride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saiah 14:12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 will ascend to hea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 will raise my throne above the stars of G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 will sit on the mount of 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 will ascend above the heights of the clou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 will make myself like the Most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ncei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1 Tim 3: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raftiness and Dece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enesis 3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 Cor. 11:3 and 14-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ev. 12: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64008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5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63928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9560" y="1523880"/>
            <a:ext cx="869688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Satan exercises the functions of a person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(continu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ialogue with the L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R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in heaven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Job 1:6-12 &amp; 2:1-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ORD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- Have you considered My servant 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tan - Does Job fear God for nothing - You have made a hedge about 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tan - But put forth Your hand now and touch all that he 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he will surely curse You to Your 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ORD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Behold all that he has is in your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ialogue with Jesus on earth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Luke 4:1-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tan - If You are the Son of God, tell this stone to become b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esus  -It is written, man shall not live on bread al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tan  -If You worship before me, it (kingdoms of the world) shall all be Y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esus  -It is written, you shall worship the Lord your God and serve Him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cheme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ph. 6: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49480" y="380880"/>
            <a:ext cx="51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tan: His Personality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7315200" y="152280"/>
            <a:ext cx="1828800" cy="1143000"/>
            <a:chOff x="7315200" y="152280"/>
            <a:chExt cx="1828800" cy="1143000"/>
          </a:xfrm>
        </p:grpSpPr>
        <p:sp>
          <p:nvSpPr>
            <p:cNvPr id="74" name=""/>
            <p:cNvSpPr/>
            <p:nvPr/>
          </p:nvSpPr>
          <p:spPr>
            <a:xfrm>
              <a:off x="7315200" y="152280"/>
              <a:ext cx="1828800" cy="1143000"/>
            </a:xfrm>
            <a:prstGeom prst="verticalScroll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82240" y="560520"/>
              <a:ext cx="141516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Personality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Sat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7238880" y="64008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5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64692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49480" y="380880"/>
            <a:ext cx="51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tan: His Personality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238880" y="152280"/>
            <a:ext cx="1752840" cy="1219320"/>
            <a:chOff x="7238880" y="152280"/>
            <a:chExt cx="1752840" cy="1219320"/>
          </a:xfrm>
        </p:grpSpPr>
        <p:sp>
          <p:nvSpPr>
            <p:cNvPr id="80" name=""/>
            <p:cNvSpPr/>
            <p:nvPr/>
          </p:nvSpPr>
          <p:spPr>
            <a:xfrm>
              <a:off x="7238880" y="152280"/>
              <a:ext cx="1752840" cy="1219320"/>
            </a:xfrm>
            <a:prstGeom prst="verticalScroll">
              <a:avLst>
                <a:gd name="adj" fmla="val 12500"/>
              </a:avLst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25160" y="528480"/>
              <a:ext cx="964080" cy="7333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Power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Sata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914400" y="1447920"/>
            <a:ext cx="807732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His personal strength cannot be estimated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(power o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ll the kingdoms of this world (handed over to him)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Luke 4: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ickness in the case of Job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Job 2: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ift Peter like whea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Luke 22: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eakened the nations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Isa. 14: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ade the earth to trembl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Isa. 14: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haken kingdoms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Isa. 14: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ade the earth a wilderness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Isa. 14: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verthrew its (the world) cities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Isa. 14: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id not allow his prisoners to go hom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Isa. 14: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Satan is aided by demons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Mark 5:1-13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Matt. 8:28-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64692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5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6469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840" y="1600200"/>
            <a:ext cx="8888760" cy="40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Satan has been jud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udgment is upon this world - the ruler of this world shall be cast out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 Jn12: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ruler of this world has been judged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Jn16: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Victory for the child of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might render powerless him who had the power of death, that is the devil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Heb.2: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reater is He that is in you than he who is in the world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1 Jn 4: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vercame him because of the blood of the Lamb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      - Rev.12: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e strong in the Lord and in the strength of His migh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Eph. 6: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49480" y="380880"/>
            <a:ext cx="51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atan: His Personality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238880" y="152280"/>
            <a:ext cx="1752840" cy="1219320"/>
            <a:chOff x="7238880" y="152280"/>
            <a:chExt cx="1752840" cy="1219320"/>
          </a:xfrm>
        </p:grpSpPr>
        <p:sp>
          <p:nvSpPr>
            <p:cNvPr id="88" name=""/>
            <p:cNvSpPr/>
            <p:nvPr/>
          </p:nvSpPr>
          <p:spPr>
            <a:xfrm>
              <a:off x="7238880" y="152280"/>
              <a:ext cx="1752840" cy="1219320"/>
            </a:xfrm>
            <a:prstGeom prst="verticalScroll">
              <a:avLst>
                <a:gd name="adj" fmla="val 12500"/>
              </a:avLst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5160" y="528480"/>
              <a:ext cx="964080" cy="7333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Power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Sata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7315200" y="63928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5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6392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4:03Z</dcterms:created>
  <dc:creator>Roger Henderson</dc:creator>
  <dc:description/>
  <dc:language>en-US</dc:language>
  <cp:lastModifiedBy>Hal Molloy</cp:lastModifiedBy>
  <cp:lastPrinted>2002-12-14T22:41:24Z</cp:lastPrinted>
  <dcterms:modified xsi:type="dcterms:W3CDTF">2003-11-15T23:04:24Z</dcterms:modified>
  <cp:revision>32</cp:revision>
  <dc:subject/>
  <dc:title>No Slide Title</dc:title>
</cp:coreProperties>
</file>