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3962520"/>
            <a:ext cx="39625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6507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0040" y="4968720"/>
            <a:ext cx="52797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wo lines of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anifestation of the indwelling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ruthfulness of the Word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3809880" cy="3733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a confidence that a r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lationship exists between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r and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peaks of our </a:t>
            </a: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conditi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s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alk by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lates to a personal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a present 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a matter of what one bel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t a given time concerning 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rsonal sal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990720"/>
            <a:ext cx="426744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Security (eternal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a fact due to God’s faith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ether realized by the believer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peaks of our </a:t>
            </a: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lates to the absolute eternal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ose who are i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s a question of 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6521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4114800"/>
            <a:ext cx="1904760" cy="1600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L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114800"/>
            <a:ext cx="1905120" cy="160020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L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nsa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5760" y="3200400"/>
            <a:ext cx="28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Manifestations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indwelling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95480" y="2084400"/>
            <a:ext cx="1904760" cy="1600200"/>
          </a:xfrm>
          <a:prstGeom prst="cube">
            <a:avLst>
              <a:gd name="adj" fmla="val 250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Go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05120" cy="1600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Re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084400"/>
            <a:ext cx="1904760" cy="16002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Abilit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nder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Scrip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65214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86600" y="228600"/>
            <a:ext cx="1905120" cy="1600200"/>
          </a:xfrm>
          <a:prstGeom prst="cube">
            <a:avLst>
              <a:gd name="adj" fmla="val 250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Go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1440" y="1143000"/>
            <a:ext cx="6478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Matt. 11:27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-- no on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know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e Son except the Fa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r does anyon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know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e Father except the 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anyone to whom the Son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wills to revea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John 17:3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nd this is life eternal, that they may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know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Yo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only true God, and Jesus Christ whom You have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429000"/>
            <a:ext cx="1905120" cy="1600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Re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ay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080" y="3557520"/>
            <a:ext cx="67320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Rom. 8:26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for we do not know how to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pra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 we shoul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the Spirit Himself intercedes for us with groa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o deep for wor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Jude1:20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building yourselves up on your most holy fait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pray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the Holy Spiri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Eph. 5:20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ways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giving thank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for all things in the nam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Lord Jesus Christ to God, even the Fath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6621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76320"/>
            <a:ext cx="1905120" cy="16002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Abilit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nder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Scrip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7000" y="1335240"/>
            <a:ext cx="867888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John 16:12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2 --- I have many mor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o say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3 --- But as many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things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 He hears He will s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are coming He will make know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5 --- All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the Father has are 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hall take of Mine (th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hich pertain to 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shall make it know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Example - Christ on the road to Emmaus in Luk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9 ---  The things about Jesus the Nazare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explained to them the things concerning Himself in all the Scrip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re not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our hearts burn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ithin us while He was spe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us on the road, while He was explaining the Scriptures to 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What Christ did following the Emmaus meeting in Luk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45 --- Then H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opened their mind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o understand the Scrip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238880" y="2438280"/>
          <a:ext cx="17528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438280"/>
                    <a:ext cx="17528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65214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62920" y="76320"/>
            <a:ext cx="1904760" cy="160020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L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nsa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733920"/>
            <a:ext cx="1905120" cy="16002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ew L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40" y="851040"/>
            <a:ext cx="65574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2 Cor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4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that one died for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15 and He died for all, that they should no lo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ive for themselves but for Him who died and rose 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examples of the Apostle Paul’s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lost he ceased not to pray                     Rom. 10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lost he ceased not to strive                    Rom. 15: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lost willing to be accursed from Christ   Rom. 9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8320" y="3894120"/>
            <a:ext cx="64886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1 John 3:14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know that we have passed ou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ath into life, becaus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we love the bret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Joh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34 --- that you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love one anoth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, even as I have loved yo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you also love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35 By this all men will know that you are My discip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f you have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love for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384400">
            <a:off x="7655040" y="1864440"/>
            <a:ext cx="1144800" cy="1523880"/>
          </a:xfrm>
          <a:prstGeom prst="wedgeRoundRectCallout">
            <a:avLst>
              <a:gd name="adj1" fmla="val -43277"/>
              <a:gd name="adj2" fmla="val 7709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7960" y="213372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nsaved 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 soul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m Chr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6040" y="6621480"/>
            <a:ext cx="99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25680" y="28404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ssurance of Sa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5040" y="838080"/>
            <a:ext cx="81799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ruthfulness of the Word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perience is too often indefinite and overshadowed becau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r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abiding evidence of God’s word can be depend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1 John 5:13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ese things I have written to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you who believ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name of the Son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order that </a:t>
            </a: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you may know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you have etern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written promises of God are as a title d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the one who comes to Me I will certainly not cast out               John 6: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ho hears My word, and believes Him who sent Me,         John 5: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as eternal life, and does not come into judg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has passed out of death into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ho believes in the Son has eternal life ---                                  John 3: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it (the gospel) is the power of God for salvation                  Rom 1: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everyone who bel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ever will call on the name of the Lord will be saved              Rom10: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6521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16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2-16T03:39:52Z</cp:lastPrinted>
  <dcterms:modified xsi:type="dcterms:W3CDTF">2003-11-15T23:22:33Z</dcterms:modified>
  <cp:revision>188</cp:revision>
  <dc:subject/>
  <dc:title>Assurance of Salvation</dc:title>
</cp:coreProperties>
</file>