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371600" y="2819520"/>
            <a:ext cx="4419720" cy="304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91320" y="99072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57000" y="1851120"/>
            <a:ext cx="5491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41  The Sabbath and the Lord'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2  The Gentiles in History and Prophecy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3  Israel in History and Prophec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4  Events Preceding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5  The Great Tribul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6 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7  The Resurrec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8  The Judgment of Israel and the Nation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9  The Millennial Kingdom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0  The Judgment of Satan and Fallen Angel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1  The Judgment of the Great White Thron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2  The New Heaven and the New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38088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 GREAT   TRIB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5372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24160" y="1066680"/>
            <a:ext cx="4495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523880" y="380880"/>
            <a:ext cx="5562360" cy="992520"/>
            <a:chOff x="1523880" y="380880"/>
            <a:chExt cx="5562360" cy="992520"/>
          </a:xfrm>
        </p:grpSpPr>
        <p:sp>
          <p:nvSpPr>
            <p:cNvPr id="48" name=""/>
            <p:cNvSpPr/>
            <p:nvPr/>
          </p:nvSpPr>
          <p:spPr>
            <a:xfrm>
              <a:off x="2971800" y="38088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THE  GREAT  TRIB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523880" y="685440"/>
              <a:ext cx="5562360" cy="687960"/>
              <a:chOff x="1523880" y="685440"/>
              <a:chExt cx="5562360" cy="687960"/>
            </a:xfrm>
          </p:grpSpPr>
          <p:sp>
            <p:nvSpPr>
              <p:cNvPr id="50" name=""/>
              <p:cNvSpPr/>
              <p:nvPr/>
            </p:nvSpPr>
            <p:spPr>
              <a:xfrm>
                <a:off x="1523880" y="685440"/>
                <a:ext cx="5410080" cy="45720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33cc"/>
                  </a:gs>
                  <a:gs pos="50000">
                    <a:srgbClr val="ffffff"/>
                  </a:gs>
                  <a:gs pos="100000">
                    <a:srgbClr val="ff33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057040" y="1066320"/>
                <a:ext cx="5029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(THE  TIME  OF  JACOB’S  TROUBLE  -  JER 30:7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99840" y="761760"/>
                <a:ext cx="5257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ISRAEL’S  70  WEEKS  VIA  DANIEL  -  DAN 9:24 - 2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"/>
          <p:cNvSpPr/>
          <p:nvPr/>
        </p:nvSpPr>
        <p:spPr>
          <a:xfrm>
            <a:off x="7505640" y="29718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RIBUL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10160" y="487692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ITY 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SANCTU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ESTRO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- DAN 9: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62440" y="46483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 70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62440" y="29718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( PROPHETIC   PARENTHESIS 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50292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 29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43280" y="44197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62 WEE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= 434 YE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480" y="5410080"/>
            <a:ext cx="114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H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SHALL BE BUILT AGA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&amp; THE 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- DAN 9: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76320" y="49528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 445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440" y="44197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7 WEE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= 49 YE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480" y="3581280"/>
            <a:ext cx="3962160" cy="838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e8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01080" y="3505320"/>
            <a:ext cx="1676160" cy="8380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ee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2280" y="1600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4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07664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ROSS-1" descr=""/>
          <p:cNvPicPr/>
          <p:nvPr/>
        </p:nvPicPr>
        <p:blipFill>
          <a:blip r:embed="rId1"/>
          <a:srcRect l="26532" t="0" r="24405" b="15965"/>
          <a:stretch/>
        </p:blipFill>
        <p:spPr>
          <a:xfrm>
            <a:off x="4152960" y="3352680"/>
            <a:ext cx="65088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6480" y="3733920"/>
            <a:ext cx="914400" cy="674640"/>
          </a:xfrm>
          <a:custGeom>
            <a:avLst/>
            <a:gdLst/>
            <a:ahLst/>
            <a:rect l="l" t="t" r="r" b="b"/>
            <a:pathLst>
              <a:path w="2799" h="1732">
                <a:moveTo>
                  <a:pt x="0" y="1715"/>
                </a:moveTo>
                <a:cubicBezTo>
                  <a:pt x="382" y="1720"/>
                  <a:pt x="763" y="1732"/>
                  <a:pt x="1144" y="1707"/>
                </a:cubicBezTo>
                <a:cubicBezTo>
                  <a:pt x="1190" y="1692"/>
                  <a:pt x="1240" y="1693"/>
                  <a:pt x="1288" y="1683"/>
                </a:cubicBezTo>
                <a:cubicBezTo>
                  <a:pt x="1580" y="1688"/>
                  <a:pt x="1857" y="1703"/>
                  <a:pt x="2144" y="1715"/>
                </a:cubicBezTo>
                <a:cubicBezTo>
                  <a:pt x="2352" y="1705"/>
                  <a:pt x="2549" y="1695"/>
                  <a:pt x="2760" y="1691"/>
                </a:cubicBezTo>
                <a:cubicBezTo>
                  <a:pt x="2799" y="1574"/>
                  <a:pt x="2769" y="1444"/>
                  <a:pt x="2752" y="1323"/>
                </a:cubicBezTo>
                <a:cubicBezTo>
                  <a:pt x="2756" y="1168"/>
                  <a:pt x="2791" y="817"/>
                  <a:pt x="2744" y="675"/>
                </a:cubicBezTo>
                <a:cubicBezTo>
                  <a:pt x="2741" y="563"/>
                  <a:pt x="2743" y="451"/>
                  <a:pt x="2736" y="339"/>
                </a:cubicBezTo>
                <a:cubicBezTo>
                  <a:pt x="2729" y="224"/>
                  <a:pt x="2535" y="171"/>
                  <a:pt x="2440" y="155"/>
                </a:cubicBezTo>
                <a:cubicBezTo>
                  <a:pt x="2376" y="158"/>
                  <a:pt x="2312" y="157"/>
                  <a:pt x="2248" y="163"/>
                </a:cubicBezTo>
                <a:cubicBezTo>
                  <a:pt x="2231" y="165"/>
                  <a:pt x="2200" y="179"/>
                  <a:pt x="2200" y="179"/>
                </a:cubicBezTo>
                <a:cubicBezTo>
                  <a:pt x="2165" y="232"/>
                  <a:pt x="2135" y="270"/>
                  <a:pt x="2120" y="331"/>
                </a:cubicBezTo>
                <a:cubicBezTo>
                  <a:pt x="2113" y="396"/>
                  <a:pt x="2119" y="438"/>
                  <a:pt x="2064" y="475"/>
                </a:cubicBezTo>
                <a:cubicBezTo>
                  <a:pt x="1982" y="466"/>
                  <a:pt x="1896" y="482"/>
                  <a:pt x="1816" y="459"/>
                </a:cubicBezTo>
                <a:cubicBezTo>
                  <a:pt x="1800" y="454"/>
                  <a:pt x="1800" y="411"/>
                  <a:pt x="1800" y="411"/>
                </a:cubicBezTo>
                <a:cubicBezTo>
                  <a:pt x="1795" y="305"/>
                  <a:pt x="1788" y="204"/>
                  <a:pt x="1776" y="99"/>
                </a:cubicBezTo>
                <a:cubicBezTo>
                  <a:pt x="1772" y="65"/>
                  <a:pt x="1768" y="46"/>
                  <a:pt x="1736" y="35"/>
                </a:cubicBezTo>
                <a:cubicBezTo>
                  <a:pt x="1538" y="45"/>
                  <a:pt x="1596" y="0"/>
                  <a:pt x="1560" y="107"/>
                </a:cubicBezTo>
                <a:cubicBezTo>
                  <a:pt x="1563" y="203"/>
                  <a:pt x="1564" y="299"/>
                  <a:pt x="1568" y="395"/>
                </a:cubicBezTo>
                <a:cubicBezTo>
                  <a:pt x="1569" y="419"/>
                  <a:pt x="1599" y="459"/>
                  <a:pt x="1576" y="467"/>
                </a:cubicBezTo>
                <a:cubicBezTo>
                  <a:pt x="1513" y="488"/>
                  <a:pt x="1443" y="462"/>
                  <a:pt x="1376" y="459"/>
                </a:cubicBezTo>
                <a:cubicBezTo>
                  <a:pt x="1420" y="327"/>
                  <a:pt x="1320" y="299"/>
                  <a:pt x="1224" y="275"/>
                </a:cubicBezTo>
                <a:cubicBezTo>
                  <a:pt x="1149" y="278"/>
                  <a:pt x="1073" y="267"/>
                  <a:pt x="1000" y="283"/>
                </a:cubicBezTo>
                <a:cubicBezTo>
                  <a:pt x="981" y="287"/>
                  <a:pt x="979" y="315"/>
                  <a:pt x="968" y="331"/>
                </a:cubicBezTo>
                <a:cubicBezTo>
                  <a:pt x="938" y="376"/>
                  <a:pt x="942" y="436"/>
                  <a:pt x="896" y="467"/>
                </a:cubicBezTo>
                <a:cubicBezTo>
                  <a:pt x="835" y="464"/>
                  <a:pt x="756" y="501"/>
                  <a:pt x="712" y="459"/>
                </a:cubicBezTo>
                <a:cubicBezTo>
                  <a:pt x="670" y="418"/>
                  <a:pt x="714" y="341"/>
                  <a:pt x="704" y="283"/>
                </a:cubicBezTo>
                <a:cubicBezTo>
                  <a:pt x="703" y="275"/>
                  <a:pt x="688" y="278"/>
                  <a:pt x="680" y="275"/>
                </a:cubicBezTo>
                <a:cubicBezTo>
                  <a:pt x="504" y="287"/>
                  <a:pt x="561" y="261"/>
                  <a:pt x="544" y="443"/>
                </a:cubicBezTo>
                <a:cubicBezTo>
                  <a:pt x="543" y="454"/>
                  <a:pt x="539" y="464"/>
                  <a:pt x="536" y="475"/>
                </a:cubicBezTo>
                <a:cubicBezTo>
                  <a:pt x="475" y="474"/>
                  <a:pt x="132" y="442"/>
                  <a:pt x="8" y="483"/>
                </a:cubicBezTo>
                <a:cubicBezTo>
                  <a:pt x="1" y="893"/>
                  <a:pt x="28" y="1306"/>
                  <a:pt x="0" y="1715"/>
                </a:cubicBezTo>
                <a:close/>
              </a:path>
            </a:pathLst>
          </a:custGeom>
          <a:gradFill rotWithShape="0">
            <a:gsLst>
              <a:gs pos="0">
                <a:srgbClr val="4f3b00"/>
              </a:gs>
              <a:gs pos="50000">
                <a:srgbClr val="cc9900"/>
              </a:gs>
              <a:gs pos="100000">
                <a:srgbClr val="4f3b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77240" y="1676520"/>
            <a:ext cx="3816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29080" y="259092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O MESSIA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HE PRINCE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1752480"/>
            <a:ext cx="594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 Rounded MT Bold"/>
              </a:rPr>
              <a:t>“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 Rounded MT Bold"/>
              </a:rPr>
              <a:t>70  WEEKS*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ARE  DETERMINED  UPON  THY  PEOPLE (ISRA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&amp;  UPON  THY  HOLY  CITY (JERUSALEM)”         - DAN 9 :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51920" y="1981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8880" y="1981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080" y="2590920"/>
            <a:ext cx="190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FROM THE GOING FORT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OF THE COMMAND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O RESTORE &amp; BUIL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JERUSALEM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1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944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640" y="373392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7 WEEKS &amp; THREESCORE &amp; TWO WEEK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=  69 WEEKS (SEVENS OF YEARS)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=  483 YEARS (360 DAYS / Y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6716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141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1412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533520" y="483840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00"/>
                </a:lnTo>
                <a:cubicBezTo>
                  <a:pt x="10800" y="9600"/>
                  <a:pt x="5400" y="10500"/>
                  <a:pt x="0" y="10500"/>
                </a:cubicBezTo>
                <a:cubicBezTo>
                  <a:pt x="5400" y="10500"/>
                  <a:pt x="10800" y="11400"/>
                  <a:pt x="10800" y="123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75600" y="318456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-  DAN 9: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3364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104480" y="4572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7664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5788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27600">
            <a:off x="4228920" y="480024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1984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6480" y="4114800"/>
            <a:ext cx="9144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705720" y="990720"/>
            <a:ext cx="1066680" cy="685800"/>
            <a:chOff x="6705720" y="990720"/>
            <a:chExt cx="1066680" cy="685800"/>
          </a:xfrm>
        </p:grpSpPr>
        <p:sp>
          <p:nvSpPr>
            <p:cNvPr id="93" name=""/>
            <p:cNvSpPr/>
            <p:nvPr/>
          </p:nvSpPr>
          <p:spPr>
            <a:xfrm>
              <a:off x="6705720" y="990720"/>
              <a:ext cx="1066680" cy="685800"/>
            </a:xfrm>
            <a:prstGeom prst="cloudCallout">
              <a:avLst>
                <a:gd name="adj1" fmla="val -1787"/>
                <a:gd name="adj2" fmla="val 128009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05720" y="1143000"/>
              <a:ext cx="106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hrist Com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or His Sa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115480" y="762480"/>
            <a:ext cx="1289880" cy="1186560"/>
            <a:chOff x="8115480" y="762480"/>
            <a:chExt cx="1289880" cy="1186560"/>
          </a:xfrm>
        </p:grpSpPr>
        <p:sp>
          <p:nvSpPr>
            <p:cNvPr id="96" name=""/>
            <p:cNvSpPr/>
            <p:nvPr/>
          </p:nvSpPr>
          <p:spPr>
            <a:xfrm rot="2220000">
              <a:off x="8420040" y="914400"/>
              <a:ext cx="800280" cy="882720"/>
            </a:xfrm>
            <a:prstGeom prst="lightningBol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15480" y="1219320"/>
              <a:ext cx="7999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hrist Com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ith His Sa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1436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07628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00680" y="312408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UT OFF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= DE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23852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7268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05640" y="34894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ONE 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( 70TH WEE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= 7 YE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58280" y="3124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AN 9: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3916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39160" y="434340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11: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2: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15480" y="39625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91440" y="396252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2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4864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0388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056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200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3962520"/>
            <a:ext cx="876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ONT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1080" y="434340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11: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3: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3916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86680" y="5867280"/>
            <a:ext cx="2400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UNTO THE END SHALL BE WA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ESOLATIONS(GOD’S GLO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BSENT IN THE TEMPLE) A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ETERMINED (DECREED BY GOD)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- DAN 9: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10360" y="2286000"/>
            <a:ext cx="1942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RINCE TO COME S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ONFIRM COVENANT W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ANY FOR ONE WEEK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- DAN 9: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77040" y="4876920"/>
            <a:ext cx="1447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BO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OF DESO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(ANTICHRI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AN 9:27; MT 24: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23888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39080" y="43434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6553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/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8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624852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Rounded MT Bold"/>
              </a:rPr>
              <a:t>* </a:t>
            </a:r>
            <a:r>
              <a:rPr b="0" lang="en-US" sz="900" spc="-1" strike="noStrike">
                <a:solidFill>
                  <a:srgbClr val="3333cc"/>
                </a:solidFill>
                <a:latin typeface="Arial Rounded MT Bold"/>
              </a:rPr>
              <a:t> WEEK =  “SHABUA” =  SEVENS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6553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62320" y="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609480"/>
            <a:ext cx="5486400" cy="381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2728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GREAT  TRIB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295280"/>
            <a:ext cx="8839440" cy="7621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efefe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8288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  2  3  4  5 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74400">
            <a:off x="-154080" y="266544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Black  Horse - Fam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314800">
            <a:off x="74160" y="25894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le Horse - Dea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384400">
            <a:off x="455760" y="2360880"/>
            <a:ext cx="83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Martyrd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29528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REV 6:1-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6  SE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JUDGMT’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398800">
            <a:off x="417240" y="255132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Cosmic  Chan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1295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REV 7:1-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144,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J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SEA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355000">
            <a:off x="-191880" y="255132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Red  Horse - Wa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311800">
            <a:off x="-558000" y="2764800"/>
            <a:ext cx="16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White  Horse - Decep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295280" y="1294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1295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REV 7:9-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MARTY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SAINTS 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THR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1066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ORDER  OF  BOOK  OF 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2578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ORDER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FULFILL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182880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1  2  3   4   5 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54100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1295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REV  8:1- 9: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7TH SEAL =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7 TRUMP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JUDGMT’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358128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ARTYRDOM   /       TIMES  OF  GENT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ONCLU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1295280"/>
            <a:ext cx="838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REV 11:1-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TIMES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GENTI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4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MONT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129528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REV 11: 3-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2 WITNES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1,260  DA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12952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REV 11:15-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7T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TRUMP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1295280"/>
            <a:ext cx="990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REV 12:1-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SAT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PERSECU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ISRA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1,260  DA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129528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REV 15:1 - 16: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7  BOW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JUDGMENTS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72400" y="182880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1   2   3   4   5   6  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402264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INISTRY   OF  144,000 JE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23623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FIRST  HA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OF  TRIB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240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385600">
            <a:off x="2627280" y="239904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Hail &amp; F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589120" y="25894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 /3  Sea  To  Blo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340000">
            <a:off x="2741760" y="25894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 /3  Rivers  Smitt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2779560" y="270360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 /3  Sun, Moon &amp; Sta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61800">
            <a:off x="3350880" y="228456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Locu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385600">
            <a:off x="7504200" y="239904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inful  S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3122640" y="266580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 /3  Population  Kil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78000">
            <a:off x="7617960" y="243720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Death  At  S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14400">
            <a:off x="7694280" y="251316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Rivers  To  Blo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7846920" y="251316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Scorching  He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8113680" y="239904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Boils &amp; P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375400">
            <a:off x="8037000" y="262764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Euphrates  Dried  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390400">
            <a:off x="8190000" y="262728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Earthquakes &amp; H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6248520"/>
            <a:ext cx="137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ABOMIN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OF DESOL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DAN 9:27; MT 24: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359800">
            <a:off x="5933520" y="2520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EARTHQUAK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&amp;  H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5362200" y="2635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CHRIST’S  KINGD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REIGN  FORS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571320" y="308556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3504960" y="289548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8458200" y="2818800"/>
            <a:ext cx="75960" cy="99072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4572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BOW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4495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RUMP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176000">
            <a:off x="6286320" y="430488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176000">
            <a:off x="7429320" y="445716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176000">
            <a:off x="4455000" y="1028880"/>
            <a:ext cx="382680" cy="6702480"/>
          </a:xfrm>
          <a:custGeom>
            <a:avLst/>
            <a:gdLst>
              <a:gd name="textAreaLeft" fmla="*/ 0 w 382680"/>
              <a:gd name="textAreaRight" fmla="*/ 138240 w 382680"/>
              <a:gd name="textAreaTop" fmla="*/ 174600 h 6702480"/>
              <a:gd name="textAreaBottom" fmla="*/ 6527880 h 670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176000">
            <a:off x="6321960" y="2285280"/>
            <a:ext cx="304560" cy="3046320"/>
          </a:xfrm>
          <a:custGeom>
            <a:avLst/>
            <a:gdLst>
              <a:gd name="textAreaLeft" fmla="*/ 0 w 304560"/>
              <a:gd name="textAreaRight" fmla="*/ 109800 w 304560"/>
              <a:gd name="textAreaTop" fmla="*/ 79200 h 3046320"/>
              <a:gd name="textAreaBottom" fmla="*/ 2967120 h 304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623268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SATAN  CAST TO  EARTH  - REV 12:1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NTICHRIST     REIGNS      - REV 13: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ISRAEL   PERSECUTED      - REV 12:1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6140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2     WITN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404800">
            <a:off x="2781360" y="4305240"/>
            <a:ext cx="303120" cy="3579840"/>
          </a:xfrm>
          <a:custGeom>
            <a:avLst/>
            <a:gdLst>
              <a:gd name="textAreaLeft" fmla="*/ 0 w 303120"/>
              <a:gd name="textAreaRight" fmla="*/ 109440 w 303120"/>
              <a:gd name="textAreaTop" fmla="*/ 93240 h 3579840"/>
              <a:gd name="textAreaBottom" fmla="*/ 3486600 h 357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5404800">
            <a:off x="6209280" y="4439160"/>
            <a:ext cx="303480" cy="3276720"/>
          </a:xfrm>
          <a:custGeom>
            <a:avLst/>
            <a:gdLst>
              <a:gd name="textAreaLeft" fmla="*/ 0 w 303480"/>
              <a:gd name="textAreaRight" fmla="*/ 109440 w 3034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3657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724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1337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41148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3733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3505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5820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84836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213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276720"/>
            <a:ext cx="1676520" cy="761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915400" y="4038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9600" y="5181480"/>
            <a:ext cx="762120" cy="838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9600" y="53341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KING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000 Y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91540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15292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724280" y="518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80060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5791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723920" y="5791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4572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SE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3000">
            <a:off x="3619440" y="308592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5181480"/>
            <a:ext cx="6858000" cy="838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4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5165640"/>
            <a:ext cx="617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                2                  3                       4                          5    6     7         1     2    3    4    5   6  7 -  1  2  3  4  5 6 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533412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RIBULATION   PERIOD     ( 7  YEARS )  -  DAN’S  70th  WEEK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142640" y="5486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5638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MT 24: 3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143000" y="5791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9920" y="56386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MT 24: 9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15-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685800"/>
            <a:ext cx="533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DANIEL’S   70 TH   WEEK     &amp;    THE  TIME   OF   JACOB’S   TROU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7480" y="53352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AN 9: 24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JER 30: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654516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/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8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724280" y="518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723920" y="5791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5791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I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R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3352680"/>
            <a:ext cx="685800" cy="870120"/>
          </a:xfrm>
          <a:prstGeom prst="cloudCallout">
            <a:avLst>
              <a:gd name="adj1" fmla="val -7870"/>
              <a:gd name="adj2" fmla="val 127921"/>
            </a:avLst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342900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hrist Co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 His Sai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2220000">
            <a:off x="7848360" y="4114800"/>
            <a:ext cx="498240" cy="58428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65530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38280" y="-76320"/>
            <a:ext cx="4496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685800"/>
            <a:ext cx="75438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3049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GREAT  TRIB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14680" y="457200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SE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5403000">
            <a:off x="3606840" y="2905920"/>
            <a:ext cx="228600" cy="4017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4760 h 4017960"/>
              <a:gd name="textAreaBottom" fmla="*/ 3913200 h 401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76240" y="5181480"/>
            <a:ext cx="7532640" cy="838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4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5181480"/>
            <a:ext cx="678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                2                  3                       4                      5       6         7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87600" y="5334120"/>
            <a:ext cx="33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RIBULATION      PERIOD ( 7  YEAR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5486400"/>
            <a:ext cx="193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876240" y="5486400"/>
            <a:ext cx="270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98600" y="563868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MT 24: 3-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875880" y="579132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5622840"/>
            <a:ext cx="108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MT 24: 9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15-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5791320"/>
            <a:ext cx="10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2362320"/>
            <a:ext cx="1171440" cy="685800"/>
            <a:chOff x="380880" y="2362320"/>
            <a:chExt cx="1171440" cy="685800"/>
          </a:xfrm>
        </p:grpSpPr>
        <p:sp>
          <p:nvSpPr>
            <p:cNvPr id="257" name=""/>
            <p:cNvSpPr/>
            <p:nvPr/>
          </p:nvSpPr>
          <p:spPr>
            <a:xfrm>
              <a:off x="380880" y="2362320"/>
              <a:ext cx="1171440" cy="685800"/>
            </a:xfrm>
            <a:prstGeom prst="cloudCallout">
              <a:avLst>
                <a:gd name="adj1" fmla="val -1787"/>
                <a:gd name="adj2" fmla="val 128009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0880" y="2514600"/>
              <a:ext cx="1171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hrist Com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or His Sa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V="1">
            <a:off x="914400" y="358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220000">
            <a:off x="7907400" y="3429000"/>
            <a:ext cx="879480" cy="88272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493120" y="3657600"/>
            <a:ext cx="879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hrist Co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ith His Sai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106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809960" y="518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03720" y="5791320"/>
            <a:ext cx="150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809600" y="5791320"/>
            <a:ext cx="166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572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ANTICHRIST’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PEACE  CO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WITH  ISRA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DAN 9: 24-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91120" y="6127920"/>
            <a:ext cx="129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ABOMIN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OF DESOL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DAN 9:27; MT 24: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209680" y="14475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14479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127944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T 24:5        -  DECE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6:1,2    -  WHITE  HORSE (PEACE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762120"/>
            <a:ext cx="670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ORRELATION  OF  MATTHEW  CHAPTER 24  &amp;  REVELATION  CHAPTER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30600">
            <a:off x="3780720" y="4220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4th SE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1752480"/>
            <a:ext cx="32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T 24:6 -7a     -  W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6:3,4        -  RED   HORSE (BLOODSH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AKE  AWAY  PEACE = WA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156800">
            <a:off x="1647000" y="4219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1st SE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196400">
            <a:off x="2294640" y="41817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2nd SE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2904480" y="418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3rd SE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175400">
            <a:off x="4504320" y="41817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5th SE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819520" y="19810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T 24:7        -  FAM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6:5,6    -  BLACK  HO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(ANNOUNCEMENT  OF  DEAT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2971800"/>
            <a:ext cx="29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T 24:7     -  PESTILENCES,  EARTHQU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6:7,8 -  PALE  HORSE (DEA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3581280"/>
            <a:ext cx="281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T 24:9          -  MARTYRED  BELIE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 6:9-11    -  MARTYRED  BELIE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29000" y="2590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25909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26708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320040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0292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2920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5791320"/>
            <a:ext cx="10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I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R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654516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/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8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920" y="655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30:50Z</dcterms:modified>
  <cp:revision>53</cp:revision>
  <dc:subject/>
  <dc:title>PowerPoint Presentation</dc:title>
</cp:coreProperties>
</file>