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772400" cy="100584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890-2A7B-4AB9-B5E7-2E6EF18D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6A0-835C-4A89-BC13-87B27BD0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1CE-9CF7-43F2-B37B-1D394108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58E-7D19-461A-B99F-11D16B62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A52-9D27-459D-BB9D-9F355865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F5E-E5A0-45DF-B0D1-5E8ED79B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D16-01B8-421B-BC21-B4CA710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49E-AA35-4D64-B204-3E6CBC87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DE6-91F3-4244-B2B2-CAA84646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E20-6640-4D31-B460-0D897A3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48C-0CC5-41E5-B94D-26361256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10B-FCCC-4D8A-9F27-CC43DC49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2C521A-344A-43AF-A3A8-39052BC0F8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0080" y="922320"/>
            <a:ext cx="4403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APTER 27B  -  DETAILED 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2263680"/>
            <a:ext cx="7426440" cy="32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FOLLOWING PAGES CONTAIN 5 INDIVIDUAL P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CERNING THE DOCTRINE OF SIN. THEY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.  SIN VS. SI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5 JUNE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.  SIN VS. SINS - UNBELIEVER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6 JULY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. SIN VS. SINS - UNBELIEVER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3 JULY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. SIN VS. SINS - UNBELIEVER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0 JULY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. BELIEVERS OVERTHROWN ….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08 OCT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30800" y="9639360"/>
            <a:ext cx="1382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2 JAN 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8440" y="503280"/>
            <a:ext cx="56991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IN: ITS CHARACTER AND UNIVERS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9669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092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76320"/>
          <a:ext cx="6975360" cy="960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320"/>
                    <a:ext cx="6975360" cy="9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45960" y="9639360"/>
            <a:ext cx="2244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AL MOLLOY       25 JUNE 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9677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43000"/>
            <a:ext cx="7772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19040"/>
            <a:ext cx="7772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27080"/>
            <a:ext cx="7772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492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7000"/>
            <a:ext cx="7772400" cy="9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VS. SINS - UNBELIE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work of the Holy Spirit - John 16:7-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God in His infinite love, grace, &amp; mercy is constantly working in the life of every unbeliever via the 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it to convict them of three critical truth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righteou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ju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efinition:  convict (elegcho) = to convince of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n unbeliever has reached the wrong conclusions concerning sin, righteousness, and judgment in his/h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d and the Holy Spirit is convincing them of their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eason for error: Satan has blinded the minds of those that are lost.  He has veiled their minds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of the gospel of the glory of Christ.                                                                                -  2 Cor. 4:3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Observe that conviction or convincing is directed to one's mind and not to one's senses or emotion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of the gospel presentation today is to the senses &amp; emo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God loves the unbeliever and his ultimate will and responsibility is to save each unbeliever.  The 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it overcomes the blindness (smoke screen) of their minds by enlightening them with tru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Conviction (convincing) of si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The Holy Spirit is continuously convincing the unbeliever of the one sin (missing the mark)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keep them separated from God for all eternity - that one sin is not believing in Jesus Chr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Believing in Christ consists of two thing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elieving in the person of Christ                                                                   - Jn. 3:16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elieving in the work of Christ                                                                      - Jn. 3:16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ome examples of the person of Christ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e is God               - Jn. 1:1,2; 8:58; 10:30; 14:7-11; 17:21-23; Phil. 2:6; Col. 1:19; 2: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He is human                                                                     - Jn. 1:14; Rom. 8:3; Heb. 2: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He is sinless                                                                                                   - 2 Cor. 5: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He is the creator                                                        - Jn. 1:3; Col. 1:16; Rev. 4:11; 10: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e sustains life &amp; the universe                                                          - Col. 1:17; Heb.1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He is the truth                                                                                            - Jn. 1:14; 14: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He is life                                                                          - Jn.1:4; 5:21; 6:33; 10:10; 14: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Some examples of the work of Christ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aid penalty for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ankind                                   - Rom. 3:25; 5:3; 2 Cor. 5:14,15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h. 1:7; Col. 2:14; I Tim 2:6; 4:10 Titus 2:11; Heb. 2:9; 9:28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et. 1:10-12; 3:18; I Jn. 2:2; 4:10;  (Jn. 16:8,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rovides redemption (through faith)                                               - Rom. 3:24; Eph. 1: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     justification     "          "                                                     - Rom. 5:9; Gal. 2: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     reconciliation  "          "                                        - Rom 5:10,11; 2 Cor.5:18,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     righteousness   "          "                                                                  - 2 Cor. 5: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     salvation          "          "                                                     - Acts 4:12; Eph. 2: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     life                   "           "                                          - Eph. 2:4-6; I Jn. 4:9; 5: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 MOLLOY    16 JULY 1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9669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04920"/>
            <a:ext cx="7772400" cy="9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VS. SINS - UNBELIE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work of the Holy Spirit - John 16:7-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Conviction (convincing) of righteousness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because I go to my Fathe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Leaving His earthly minist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on earth Christ manifested his absolute righteousness to man.  They witnessed 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less nature and love of righteousness.  By this the world knows that God the Father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 his righteous son to earth and the Holy Spirit convinces the world of this.  Jn. 17:4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aving by his ascension following the cross &amp; 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oss, resurrection, ascension, &amp; seating of Christ is the greatest manifes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ry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lory of God is all of God's essential essence including his absolute  righteous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ly Spirit convinces the world that they stand condemned in Adam but by the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eous act of Jesus Christ (dying for the ungodly) - the free gift of righteousness is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to mankind by God's grace through faith.  Jn. 17:1-3; Rom. 5:6-8, 17-19; Heb. 13: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and you see me no mor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he world no longer sees the manifestation of God's righteousness in the physical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hrist because he is asc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But the world sees the manifestation of God's righteousness which is imputed to belie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hrist - which convicts unbelievers of their unrighteousness.  Rom. 5:17; 2 Cor. 5:2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n. 17:20-25; Rom. 5: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Conviction (convincing) of judgment because the prince of this world (Satan) is judge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Satan has blinded the minds of unbelievers to the gospel of the glory of Christ by hiding (vei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th abiding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he death, burial, resurrection, &amp; ascension of Jesus Christ secures the judgment of Sat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sed by God through "the seed of the woman" in Gen. 3:15 (Jn. 12:31-33). Also the veil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ted which hid the gospel of the glory of Christ from the unbelievers' mind.  With Satan jud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ly Spirit can now freely enlighten or convince the unbeliever of his/her error.  Heb. 2:1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Jn. 3:8; Jn. 8: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 NOLLOY        16 JULY  1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9669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44928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48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0948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352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7652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380880"/>
          <a:ext cx="774684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77468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09880" y="9669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7296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0156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380880"/>
          <a:ext cx="6845400" cy="866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845400" cy="866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809880" y="9593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9700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44600" y="520560"/>
          <a:ext cx="6756480" cy="861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0560"/>
                    <a:ext cx="6756480" cy="86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733920" y="9669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3:50:14Z</dcterms:created>
  <dc:creator>Hal Molloy</dc:creator>
  <dc:description/>
  <dc:language>en-US</dc:language>
  <cp:lastModifiedBy>Hal Molloy</cp:lastModifiedBy>
  <dcterms:modified xsi:type="dcterms:W3CDTF">2003-11-15T23:18:46Z</dcterms:modified>
  <cp:revision>10</cp:revision>
  <dc:subject/>
  <dc:title>PowerPoint Presentation</dc:title>
</cp:coreProperties>
</file>