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66760" y="656748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143000" y="4038480"/>
            <a:ext cx="525780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791320" y="1295280"/>
            <a:ext cx="274320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TER 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19720" y="6400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57000" y="1851120"/>
            <a:ext cx="5491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41  The Sabbath and the Lord's 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2  The Gentiles in History and Prophecy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3  Israel in History and Prophecy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4  Events Preceding the Second Coming of Christ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5  The Great Tribulation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6  The Second Coming of Christ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7  The Resurrec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8  The Judgment of Israel and the Nation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9  The Millennial Kingdom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0  The Judgment of Satan and Fallen Angel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1  The Judgment of the Great White Throne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2  The New Heaven and the New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65674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22 June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4255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Judgment of Satan and Fallen Ang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28800" y="4255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Judgment of Satan and Fallen Ang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447920"/>
            <a:ext cx="518184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Judgment of Satan in the Garden of E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2438280"/>
            <a:ext cx="5181840" cy="6098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Judgment of Satan at the 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4495680"/>
            <a:ext cx="5181840" cy="6098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atan Bound and Cast into the Aby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5486400"/>
            <a:ext cx="426708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atan’s Final Jud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3505320"/>
            <a:ext cx="411480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atan Cast Out of Hea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6400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65674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22 June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28800" y="3049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Judgment of Satan and Fallen Ang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609480"/>
            <a:ext cx="5181840" cy="6098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Judgment of Satan in the Garden of E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1523880"/>
            <a:ext cx="7467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Lord God said to the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serpent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Because you have done thi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ff00ff"/>
                </a:solidFill>
                <a:latin typeface="Arial Rounded MT Bold"/>
              </a:rPr>
              <a:t>Cursed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are you more than all catt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d more than every beast of the fiel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On your belly you will 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d </a:t>
            </a:r>
            <a:r>
              <a:rPr b="0" lang="en-US" sz="2000" spc="-1" strike="noStrike">
                <a:solidFill>
                  <a:srgbClr val="ff00ff"/>
                </a:solidFill>
                <a:latin typeface="Arial Rounded MT Bold"/>
              </a:rPr>
              <a:t>dust you will e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ll the days of your life;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Gen. 3:14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d I will put </a:t>
            </a:r>
            <a:r>
              <a:rPr b="0" lang="en-US" sz="2000" spc="-1" strike="noStrike">
                <a:solidFill>
                  <a:srgbClr val="ff00ff"/>
                </a:solidFill>
                <a:latin typeface="Arial Rounded MT Bold"/>
              </a:rPr>
              <a:t>enm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Between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you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and the woma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d between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your seed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and her see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e shall bruise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you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on the hea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d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you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shall bruise him on the heel.”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Gen. 3:15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6400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65674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22 June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28800" y="3049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Judgment of Satan and Fallen Ang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3920" y="1571760"/>
            <a:ext cx="74592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d He, when He comes, will convict the wor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ncern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sin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righteousnes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judgment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John 16:8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d concerning judgment, because the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ruler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of this wor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ff00ff"/>
                </a:solidFill>
                <a:latin typeface="Arial Rounded MT Bold"/>
              </a:rPr>
              <a:t>has been judged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John 16: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When He had disarmed the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ruler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and authoriti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e made a public display of the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ff00ff"/>
                </a:solidFill>
                <a:latin typeface="Arial Rounded MT Bold"/>
              </a:rPr>
              <a:t>having triumphed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over them through Him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Col. 2: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refore, since the children share in flesh and bloo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e Himself likewise also partook of the sam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at through death He might </a:t>
            </a:r>
            <a:r>
              <a:rPr b="0" lang="en-US" sz="2000" spc="-1" strike="noStrike">
                <a:solidFill>
                  <a:srgbClr val="ff00ff"/>
                </a:solidFill>
                <a:latin typeface="Arial Rounded MT Bold"/>
              </a:rPr>
              <a:t>render powerles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hi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who had the power of death, that is, the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dev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b. 2: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685800"/>
            <a:ext cx="518148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Judgment of Satan at the 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6400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65674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22 June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28800" y="3049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Judgment of Satan and Fallen Ang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523880"/>
            <a:ext cx="8458200" cy="48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there was war in heaven, Michael and his angels waging w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ith the dragon. The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dragon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and his angels waged wa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they were </a:t>
            </a:r>
            <a:r>
              <a:rPr b="0" lang="en-US" sz="1800" spc="-1" strike="noStrike">
                <a:solidFill>
                  <a:srgbClr val="ff00ff"/>
                </a:solidFill>
                <a:latin typeface="Arial Rounded MT Bold"/>
              </a:rPr>
              <a:t>not strong enough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there was </a:t>
            </a:r>
            <a:r>
              <a:rPr b="0" lang="en-US" sz="1800" spc="-1" strike="noStrike">
                <a:solidFill>
                  <a:srgbClr val="ff00ff"/>
                </a:solidFill>
                <a:latin typeface="Arial Rounded MT Bold"/>
              </a:rPr>
              <a:t>no longer a place foun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for them in heav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the great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dragon was thrown down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serpent of old who is called the devil and Sata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o deceives the whole world; he was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thrown down to the earth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his angels were thrown down with hi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-- for the accuser of our brethren has been thrown dow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who accuses them before our God day and nigh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they overcame him because of the blood of the Lam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because of the word of their testimony, 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or this reason, rejoice, O heavens and you who dwell in the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oe to the earth and the sea, because the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devil has come down to you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aving great wrath, knowing that he has only a short time.”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Rev. 12:7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609480"/>
            <a:ext cx="4114800" cy="6098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atan Cast Out of Hea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6507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65674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22 June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828800" y="3049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Judgment of Satan and Fallen Ang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6280" y="1828800"/>
            <a:ext cx="8404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n I saw an angel coming down from heave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olding the key of the abyss and a great chain in his h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d he laid hold of the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dragon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, the serpent of old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who is the devil and Satan, and </a:t>
            </a:r>
            <a:r>
              <a:rPr b="0" lang="en-US" sz="2000" spc="-1" strike="noStrike">
                <a:solidFill>
                  <a:srgbClr val="ff00ff"/>
                </a:solidFill>
                <a:latin typeface="Arial Rounded MT Bold"/>
              </a:rPr>
              <a:t>bound him for a thousand year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d </a:t>
            </a:r>
            <a:r>
              <a:rPr b="0" lang="en-US" sz="2000" spc="-1" strike="noStrike">
                <a:solidFill>
                  <a:srgbClr val="ff00ff"/>
                </a:solidFill>
                <a:latin typeface="Arial Rounded MT Bold"/>
              </a:rPr>
              <a:t>he threw him into the abys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, and shut it and sealed it over hi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o that he would not deceive the nations any long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until the thousand years were complete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fter these things he must be released for a short time.   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Rev. 20:1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685800"/>
            <a:ext cx="518184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atan Bound and Cast into the Aby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6400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76520" y="65674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22 June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828800" y="3049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Judgment of Satan and Fallen Ang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609480"/>
            <a:ext cx="4267080" cy="6098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atan Final Jud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600200"/>
            <a:ext cx="868680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When the </a:t>
            </a:r>
            <a:r>
              <a:rPr b="0" lang="en-US" sz="2000" spc="-1" strike="noStrike">
                <a:solidFill>
                  <a:srgbClr val="ff00ff"/>
                </a:solidFill>
                <a:latin typeface="Arial Rounded MT Bold"/>
              </a:rPr>
              <a:t>thousand years are completed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Satan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will be released from his pris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d will come out to deceive the n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which are in the four corners of the eart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g and Magog, to gather them together for the wa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number of them is like the sand of the seash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d they came up on the broad plain of the ear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d surrounded the camp of the saints and the beloved c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d fire came down from heaven and devoured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d the devil who deceived them </a:t>
            </a:r>
            <a:r>
              <a:rPr b="0" lang="en-US" sz="2000" spc="-1" strike="noStrike">
                <a:solidFill>
                  <a:srgbClr val="ff00ff"/>
                </a:solidFill>
                <a:latin typeface="Arial Rounded MT Bold"/>
              </a:rPr>
              <a:t>was throw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 Rounded MT Bold"/>
              </a:rPr>
              <a:t>into the lake of fire and brimston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where the beast and the false prophet are als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d they will be tormented day and night forever and ever.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Rev. 20:7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6400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65674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22 June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9:41:24Z</dcterms:created>
  <dc:creator>Hal Molloy</dc:creator>
  <dc:description/>
  <dc:language>en-US</dc:language>
  <cp:lastModifiedBy>Hal Molloy</cp:lastModifiedBy>
  <cp:lastPrinted>2003-06-22T02:53:34Z</cp:lastPrinted>
  <dcterms:modified xsi:type="dcterms:W3CDTF">2003-11-15T23:36:07Z</dcterms:modified>
  <cp:revision>94</cp:revision>
  <dc:subject/>
  <dc:title>PowerPoint Presentation</dc:title>
</cp:coreProperties>
</file>