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5398920" cy="81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09520" y="875664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0" t="0" r="0" b="9993"/>
          <a:stretch/>
        </p:blipFill>
        <p:spPr>
          <a:xfrm>
            <a:off x="152280" y="0"/>
            <a:ext cx="71604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283840" y="1522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838080"/>
            <a:ext cx="4190760" cy="685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ff"/>
              </a:gs>
              <a:gs pos="50000">
                <a:srgbClr val="fee5fe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87552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1 JUNE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0" y="457200"/>
            <a:ext cx="26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TRIB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523880"/>
            <a:ext cx="6629400" cy="77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ure teaches the coming of our Lord for His saints.  This ‘catching up’ of believers is commonly referred to as the ‘Rapture’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- 1 Thess. 4:13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pture is not to be confused with the “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ing” – the second advent of our Lor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s saints to rule &amp; reign on earth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Rev. 19:11-16; Zech. 14: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essalonian believers were taught by Paul that they would be raptured &amp; not experience the Day of the Lor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 Thess 2:1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y of the Lord (preceded by the Rapture) comes as a thief in the night – by su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Thess 5: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y of the Lord is for people of darkness (unbelievers) &amp; not people of light (believ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ess. 5:4,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y people (people of light) should be arraying themselves with the helmet of salvation (protecting their minds) with a confidence in being delivered from the Day of the Lor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 Thess. 5: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son for this confidence is that God has not appointed believers to wrath (Day of the Lord) but to deliverance from the wrath to com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- 1 Thess. 5:9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Rom:5:2,9; 1 Thess. 1:10; Rev. 6:16,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ing forward to the coming of Christ at the Rapture is a comfort to believers – How could this be a comfort if the Rapture is to occur in the middle or at the end of Daniel’s 7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e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 Thess 4:13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ure describes in detail Daniel’s 7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ek &amp; the church is never mentio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v. chapt.4-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pe (fixed confidence) of every believer is the imminent return of the Lord Jesus Christ.  We are to keep watching for Him with an attitude of expectanc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- Titus 2:13; Phil. 3: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lusion/Ap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5 commands to each believer in view of the imminency of His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 Be sound min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 Be sound unto prayers - cal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n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Keep on having fervent (stretched out)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 Be hospitable to every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 Use spiritual gifts properly = to edify or build up believer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- 1 Pet. 4:7-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914400"/>
            <a:ext cx="396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S WHY THE CHURCH WILL NOT GO THROUGH ANY PART OF DANIEL’S 7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8755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38280" y="457200"/>
            <a:ext cx="27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TRIB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600200"/>
            <a:ext cx="6553080" cy="68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 The Starting Point – Dan. 9: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Must occur after the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Must occur after the Temple destruction – 70 A.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 The Ending Point – 6 Purposes of 7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ek – Dan. 9: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“TO FINISH THE TRANSGRESSION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U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relate to Israel (Thy People) – their rebellion against God will end – in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eat Tribulation will stimulate Israel to belief &amp; all Israel will be saved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.11: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"TO MAKE AN END OF SINS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U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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fillment of New Covenant to Israel at the end of 7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ek – Jer. 31:31-34; Rom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"TO MAKE RECONCILIATION FOR INIQUITY“    (PAST – REALIZED IN FU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ciliation (kaphar – aton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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ing of the death of Jesus Christ at Calvary – 2 Cor.5: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"TO BRING IN EVERLASTING RIGHTEOUSNESS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UTUR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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oss brought in perfect righteousness – 2 Cor. 5: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erfect righteousness will be Israel's throughout the Millennium &amp; all eter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"TO SEAL UP THE VISION AND PROPHESY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U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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l = to complete, to fi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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iel's vision &amp; prophesy will be fulfilled or finished at the end of the 7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“TO ANOINT THE MOST HOLY" (HOLY OF HOLIES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U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s to the Temple during the Millennium described by Ezekiel (chap 40-4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 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7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ek is yet future – the full effecting of these blessings come to Israel at the return of Messia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99072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ERE IN TIME IS DANIEL’S 7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WEEK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8755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38280" y="45720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TRIB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00200"/>
            <a:ext cx="632448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6 of the 6 blessings in Dan. 9:24 have not yet been fulfilled for Israel.  The one that was fulf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conciliation for sin) has not been appropriated by Israe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– Dan. 9: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From the end of the 6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ek (past) to the end of the 7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ek (future) Israel will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 &amp; the city &amp; sanctuary will be laid waste (physically &amp; spiritually).                   – Dan. 9: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The Temple must by rebuilt because the antichrist causes the sacrifice &amp; meal offering to c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abomination &amp; blasphemous act by the antichrist in the middle of the 7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t. 24:15; Dan. 9:27; 2 Thess. 2:1-4; Rev. 13:1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 Scripture corre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middle of wee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 ½ y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. 9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42 mo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 ½ y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. 13: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42 mo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 ½ y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. 11: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1260 day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 ½ y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. 11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1260 day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 ½ y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 12: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Our Lord stated that the events in Daniel's 7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ek were yet future to His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vent &amp; w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d with His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ven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– Dan. 9:27; Matt. 24:1-3; 14, 15, 29,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There is a long gap between the end of the 6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ek &amp; the start of the 7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ek.  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gaps in Scripture that relate to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vents of our Lor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 a. Isa. 61:1,2   cp   Luke 4:16-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Isa. 9:6,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91440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ASONS WHY DANIEL’S 7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WEE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 YET 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8686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32:14Z</dcterms:modified>
  <cp:revision>40</cp:revision>
  <dc:subject/>
  <dc:title>PowerPoint Presentation</dc:title>
</cp:coreProperties>
</file>