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99280" cy="60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4880" y="6400800"/>
            <a:ext cx="15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R. HENDERSON / H. MOLL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0636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115080" y="-14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MAJOR BIBLE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29360" y="6400800"/>
            <a:ext cx="82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14 July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990720"/>
            <a:ext cx="60958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I. The Bible: The Word of God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. The Bible: Inspired of G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3. The Bible: Its Subject and Purpos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4. The Bible: As a Divine Revelation</a:t>
            </a:r>
            <a:r>
              <a:rPr b="1" lang="en-US" sz="14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5.  God the Tr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6.  God the Fathe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  God the Son: His Deity and Eternity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  God the Son: His Incarnatio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  God the Son: His Substitutionary Death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 God the Son: His Resurrection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1. God the Son: His Ascension and Priestly Min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2. God the Son: His Coming for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3. God the Son: His Coming With His Sa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4. God the Holy Spirit: His Personality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5. God the Holy Spirit: His Adven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6. God the Holy Spirit: His Regener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7. God the Holy Spirit: His Indwelling and Sea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8. God the Holy Spirit: His Baptis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9. God the Holy Spirit: His Fill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990720"/>
            <a:ext cx="396252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1828800"/>
            <a:ext cx="3581280" cy="8240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omewor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Rea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Chapter 2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for July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nswer Questions: 1, 12, 15 &amp;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6477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15228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wo lines of evidence about the B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The Bible’s own claim concerning itself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(Internal)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Bible both direc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declare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ssume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itself to be the Word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 Rounded MT Bold"/>
              </a:rPr>
              <a:t>Facts concerning the Bible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(Exter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continuity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extent of Biblical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influence &amp; publication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ubject matter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Bible as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unprejudiced authority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upreme character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384400">
            <a:off x="6780240" y="2817000"/>
            <a:ext cx="1373400" cy="2590920"/>
          </a:xfrm>
          <a:prstGeom prst="wedgeRoundRectCallout">
            <a:avLst>
              <a:gd name="adj1" fmla="val -59759"/>
              <a:gd name="adj2" fmla="val 11265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565440"/>
            <a:ext cx="2759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Rounded MT Bold"/>
              </a:rPr>
              <a:t>Not extra-Bibl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ut observations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he facts given in scri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6545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The Bible’s own claim concerning itself 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(In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ld Testament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Psalm 19:7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Law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e Lord 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estimony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e Lord 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Precep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e L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Commandm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e Lord 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Fear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e Lord 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Judgm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the L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Deuteronomy 6:1&amp;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mandments / Statutes / Judgments / Testi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Isaiah 55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y thoughts / My ways / My word / My m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6545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The Bible’s own claim concerning itself 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(In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Testament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Hebrews 1: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spoke long ago to the Father through the proph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d has spoken to us in Hi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1 Thessalonians 2: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Word of God which you heard from us you accepted it not as the word of men, but for what it really is--the Word of G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Romans 10: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 faith </a:t>
            </a: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</a:rPr>
              <a:t>come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from hearing and hearing by the Word of Chr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646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Facts concerning the Bible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(Ex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continuity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40 authors over a period of 1,60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Bible is one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uman authors from all walks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istorical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octrinal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ograms of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extent of Biblical 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ike a te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ike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ike a stere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p to date in subject m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ternity past to eternity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6545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Facts concerning the Bible (Ex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influence &amp; publication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ublished in most of the world’s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e of the first pages to be printed from the printing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keptics predicted that the Bible would be obsolete in a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ubject matter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als with the unknown &amp; unknow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scribes eternity past to eternity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scribes the program for the world, Israel &amp; the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n every subject its statement is final, accurate &amp; tim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545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Facts concerning the Bible (Ex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Bible as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raphic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ailed prophe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autiful po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unprejudiced authority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Not prejudiced in favor of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cords the sin and weakness of the best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od’s message to man rather than man’s message to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ch a book could not be written by man if he chose to write it, and even if he could, man would not choose to write it, apart from divine directio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646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Facts concerning the Bible (Exter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upreme character of the B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veals the person &amp; glory of God as manifested in His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Jesus Christ could never have been the invention of a mortal man, for His perfections could never have been comprehended by the wisest and holiest of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milarity between the written Word and the living Wo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pernatural in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erfect blending of that which is divine and hu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le to transform the lives of those who bel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an be rejected by those who do not bel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vine perfection embodied in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revelations which they (written Word &amp; living Word) disclose can be comprehended by a child, but at the same time are infinitely complex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77440" y="3286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Bible:  The Word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6469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2:21:06Z</dcterms:created>
  <dc:creator>Roger Henderson</dc:creator>
  <dc:description/>
  <dc:language>en-US</dc:language>
  <cp:lastModifiedBy>Hal Molloy</cp:lastModifiedBy>
  <cp:lastPrinted>2002-07-14T12:31:07Z</cp:lastPrinted>
  <dcterms:modified xsi:type="dcterms:W3CDTF">2003-11-14T04:14:53Z</dcterms:modified>
  <cp:revision>60</cp:revision>
  <dc:subject/>
  <dc:title>No Slide Title</dc:title>
</cp:coreProperties>
</file>