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43000" y="1523880"/>
            <a:ext cx="22860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06440" y="99072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0000" y="3808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88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1752480"/>
            <a:ext cx="2819520" cy="2133720"/>
            <a:chOff x="457200" y="1752480"/>
            <a:chExt cx="2819520" cy="2133720"/>
          </a:xfrm>
        </p:grpSpPr>
        <p:sp>
          <p:nvSpPr>
            <p:cNvPr id="47" name=""/>
            <p:cNvSpPr/>
            <p:nvPr/>
          </p:nvSpPr>
          <p:spPr>
            <a:xfrm>
              <a:off x="457200" y="1752480"/>
              <a:ext cx="2819520" cy="213372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0400" y="2438280"/>
              <a:ext cx="1532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Na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276720" y="1752480"/>
            <a:ext cx="2819160" cy="2133720"/>
            <a:chOff x="3276720" y="1752480"/>
            <a:chExt cx="2819160" cy="2133720"/>
          </a:xfrm>
        </p:grpSpPr>
        <p:sp>
          <p:nvSpPr>
            <p:cNvPr id="50" name=""/>
            <p:cNvSpPr/>
            <p:nvPr/>
          </p:nvSpPr>
          <p:spPr>
            <a:xfrm>
              <a:off x="3276720" y="175248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1760" y="2362320"/>
              <a:ext cx="115776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nfa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95880" y="1752480"/>
            <a:ext cx="2819160" cy="2133720"/>
            <a:chOff x="6095880" y="1752480"/>
            <a:chExt cx="2819160" cy="2133720"/>
          </a:xfrm>
        </p:grpSpPr>
        <p:sp>
          <p:nvSpPr>
            <p:cNvPr id="53" name=""/>
            <p:cNvSpPr/>
            <p:nvPr/>
          </p:nvSpPr>
          <p:spPr>
            <a:xfrm>
              <a:off x="6095880" y="175248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52680" y="2362320"/>
              <a:ext cx="107388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Fa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276720" y="4191120"/>
            <a:ext cx="2819160" cy="2133360"/>
            <a:chOff x="3276720" y="4191120"/>
            <a:chExt cx="2819160" cy="2133360"/>
          </a:xfrm>
        </p:grpSpPr>
        <p:sp>
          <p:nvSpPr>
            <p:cNvPr id="56" name=""/>
            <p:cNvSpPr/>
            <p:nvPr/>
          </p:nvSpPr>
          <p:spPr>
            <a:xfrm>
              <a:off x="3276720" y="4191120"/>
              <a:ext cx="2819160" cy="213336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04920" y="4800600"/>
              <a:ext cx="15310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nistry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oly An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420000" y="3808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69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0000" y="3049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86600" y="152280"/>
            <a:ext cx="2057400" cy="1447920"/>
            <a:chOff x="7086600" y="152280"/>
            <a:chExt cx="2057400" cy="1447920"/>
          </a:xfrm>
        </p:grpSpPr>
        <p:sp>
          <p:nvSpPr>
            <p:cNvPr id="63" name=""/>
            <p:cNvSpPr/>
            <p:nvPr/>
          </p:nvSpPr>
          <p:spPr>
            <a:xfrm>
              <a:off x="7086600" y="152280"/>
              <a:ext cx="2057400" cy="144792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6200" y="615600"/>
              <a:ext cx="1532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Na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05960" y="1371600"/>
            <a:ext cx="74894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Definition: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Greek word is </a:t>
            </a:r>
            <a:r>
              <a:rPr b="0" i="1" lang="en-US" sz="1400" spc="-1" strike="noStrike">
                <a:solidFill>
                  <a:srgbClr val="000000"/>
                </a:solidFill>
                <a:latin typeface="Arial Rounded MT Bold"/>
              </a:rPr>
              <a:t>angelo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- “a messenger” from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ord “to deliver a messag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Used of</a:t>
            </a:r>
            <a:r>
              <a:rPr b="1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a special class of b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 created being to serve and praise God - Ps. 148:2,5, Gen. 2:1, Ex. 20:11, Neh.9: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numerable company of being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- Heb. 12:22, Rev. 5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avenly position above men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- Ps. 8:5, 2 Pet. 2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Used of the preincarnate appearances of 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Angel of the L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dentified as the LOR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- Gen. 16:7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s a distinct person from the LORD  -  Zech. 1:7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Used of others as messen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en as messenger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- Luke 7:24, James 2: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ngel of the Seven Churche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- Rev. 2:1, 8, 12,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762120"/>
            <a:ext cx="4724640" cy="380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is the word used in Scriptu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6469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7315200" y="152280"/>
            <a:ext cx="1676520" cy="1600200"/>
            <a:chOff x="7315200" y="152280"/>
            <a:chExt cx="1676520" cy="1600200"/>
          </a:xfrm>
        </p:grpSpPr>
        <p:sp>
          <p:nvSpPr>
            <p:cNvPr id="70" name=""/>
            <p:cNvSpPr/>
            <p:nvPr/>
          </p:nvSpPr>
          <p:spPr>
            <a:xfrm>
              <a:off x="7315200" y="152280"/>
              <a:ext cx="1676520" cy="1600200"/>
            </a:xfrm>
            <a:prstGeom prst="verticalScroll">
              <a:avLst>
                <a:gd name="adj" fmla="val 12500"/>
              </a:avLst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65040" y="608040"/>
              <a:ext cx="1157760" cy="91692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nfa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420000" y="3808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1160" y="1676520"/>
            <a:ext cx="75524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ichael the archangel is the head of all the holy ang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name means “who is like God” - Dan.10:18-21, Dan. 12:1, Jude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Gabriel is one of the principal messengers of G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name means “hero of God”      - Dan. 8:15-19, Dan. 9:20-23, Luke 1:11-19, Luke 1:26-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Some angels are designated “cherubim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living creatures who defend God’s holiness  - Gen 3:24, Ex 25:18-22, Ezek. 10:1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Some angels are designated “seraphim”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sa. 6:1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Most angels are not given individual n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ome described as “elect or chosen” angels                 - 1Tim 5: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The term “principalities and powers </a:t>
            </a:r>
            <a:r>
              <a:rPr b="1" lang="en-US" sz="14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” seems to be used of both types of ang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warfare between the holy angels and the fallen ang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 Eph. 1:21, 3:10, Col. 1:16, 2:10,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Rounded MT Bold"/>
              </a:rPr>
              <a:t>*</a:t>
            </a: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 “the rulers and the authoriti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64692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20000" y="3808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391520" y="152280"/>
            <a:ext cx="1600200" cy="1600200"/>
            <a:chOff x="7391520" y="152280"/>
            <a:chExt cx="1600200" cy="1600200"/>
          </a:xfrm>
        </p:grpSpPr>
        <p:sp>
          <p:nvSpPr>
            <p:cNvPr id="78" name=""/>
            <p:cNvSpPr/>
            <p:nvPr/>
          </p:nvSpPr>
          <p:spPr>
            <a:xfrm>
              <a:off x="7391520" y="152280"/>
              <a:ext cx="1600200" cy="1600200"/>
            </a:xfrm>
            <a:prstGeom prst="verticalScroll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7480" y="610560"/>
              <a:ext cx="107388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Fal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Angel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46360" y="1752480"/>
            <a:ext cx="6610320" cy="38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When Satan fell he drew multitude of angels with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wo classes of Fallen Ang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ose who are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served in chains unto judgment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1Cor. 6:3, 2 Pet 2:4, Jud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ose who are 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atan and the Demons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rk 5:9,15; Luke 8:30, 1 Tim 4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doom of Satan and his angels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is the Lake of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tt. 25:41, Rev 20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6469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0000" y="38088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he A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86600" y="152280"/>
            <a:ext cx="2057400" cy="1447920"/>
            <a:chOff x="7086600" y="152280"/>
            <a:chExt cx="2057400" cy="1447920"/>
          </a:xfrm>
        </p:grpSpPr>
        <p:sp>
          <p:nvSpPr>
            <p:cNvPr id="85" name=""/>
            <p:cNvSpPr/>
            <p:nvPr/>
          </p:nvSpPr>
          <p:spPr>
            <a:xfrm>
              <a:off x="7086600" y="152280"/>
              <a:ext cx="2057400" cy="14479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38600" y="567000"/>
              <a:ext cx="15310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nistry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oly An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91720" y="1066680"/>
            <a:ext cx="7624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Angels were present a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reation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Job 38: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giving of the law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cts 7:53, Gal. 3:19, Heb. 2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birth of Chris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Luke 2:13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temptation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tt. 4: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arden of Ede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Luke 22:4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Resurrec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tt. 28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Ascens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cts 1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angels will be included in the company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descending from heaven to earth at the second coming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tt. 24: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seen in the eternal state in the New Jerusalem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Rev. 19:14, 21: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y are ministering spirits sent forth to the “heirs of salv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angels are spectators and witnesses of the things of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Lazarus was carried by the angels to Abraham’s bo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ministry of angels is essential to understanding God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providential and sovereign direction of His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4771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64692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8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2-08T04:33:24Z</cp:lastPrinted>
  <dcterms:modified xsi:type="dcterms:W3CDTF">2003-11-15T23:04:00Z</dcterms:modified>
  <cp:revision>59</cp:revision>
  <dc:subject/>
  <dc:title>PowerPoint Presentation</dc:title>
</cp:coreProperties>
</file>