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2362320"/>
            <a:ext cx="44197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5372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685800"/>
            <a:ext cx="25146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762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S  ON  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600200"/>
            <a:ext cx="91440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WAS, IS, AND ALWAYS WILL BE INVOLVED IN ISRAEL’S HISTORIC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MMARY PASSAGES                                                                      - NEH 9:14-38;  PS 105, 137;  ACTS 7:1-60; 13:14-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CHOSE ISRAEL (THE JEWS) AS HIS CHOSEN PEOPLE THROUGH ABRAHAM                        - GEN 12:1-3; ACTS 7: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FULFILL HIS PROMISE TO ADAM OF A SEED (SAVIOR TO THE WORLD)                                                   -GEN 3: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PROMISED TO BLESS ALL NATIONS                                                                                       - GEN 12 1-3; GAL 3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BLESSING WOULD COME THROUGH ABRAHAM’S SEED                                                               - GEN 22: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HAM’S SEED IS CHRIST                                                                                                                        - GAL 3: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LESSING IS GOD’S IMPUTED RIGHTEOUSNESS (OR LIFE = CHRIST’S LIFE) VIA FAITH    -GAL 3:6-9,14,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FORTOLD TO ABRAHAM OF ISRAEL’S EGYPTIAN BONDAGE FOR 400 YEARS                  - GEN 15:13,14; ACTS 7:6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FAITHFULLY PROVIDED FOR ISRAEL (VIA JOSEPH) DURING THE FAMINE YEARS        - GEN 46:1-7; 50:15-21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S 7:10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MIRACULOUSLY DELIVERS ISRAEL OUT OF EGYPTIAN BONDAGE VIA MOSES    - EX 12:31-36; ACTS 7:31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FAITHFULLY PROVIDES LIFE’S NECESSITIES FOR ISRAEL DURING 40 YEAR WILDERNES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EX 16:4-8; ACTS 7:31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 FORTOLD TO MOSES OF JESUS CHRIST                                                                           - DEUT 18:15-19; ACTS 7:37,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RAEL’S RESPONSE TO GOD’S PROMISES AND FAITHFULNESS                                                                     - ACTS 7:39-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Y WOULD NOT OBEY HIM ( i.e JESUS CHRIST THROUGH MOSES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IR HEARTS TURNED AWAY FROM GOD’S REST(CANAAN) BACK TO EGYPT &amp; UN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 NOTE: WE DO THE SAME THING BY TURNING TO THE SELF LIFE VS. CHRIST’S LIF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Y WORSHIPED OTHER GODS &amp; GOD TURNED THEM OVER TO THE DESIRES OF THEI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 LINE:  GOD IS ALWAYS FAITHFUL (TO ISRAEL, TO YOU) EVEN THOUGH (ISRAEL &amp; YOU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NOT ALWAYS FAITHFUL TO HIM           - REASON WHY:  2 TIM 2: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6477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685800"/>
            <a:ext cx="51814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77616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447920"/>
            <a:ext cx="2895480" cy="1066680"/>
            <a:chOff x="914400" y="1447920"/>
            <a:chExt cx="2895480" cy="1066680"/>
          </a:xfrm>
        </p:grpSpPr>
        <p:sp>
          <p:nvSpPr>
            <p:cNvPr id="50" name=""/>
            <p:cNvSpPr/>
            <p:nvPr/>
          </p:nvSpPr>
          <p:spPr>
            <a:xfrm>
              <a:off x="914400" y="1447920"/>
              <a:ext cx="2895480" cy="1066680"/>
            </a:xfrm>
            <a:prstGeom prst="cloudCallout">
              <a:avLst>
                <a:gd name="adj1" fmla="val -43750"/>
                <a:gd name="adj2" fmla="val 6428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efefe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167652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 DID  ISRA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E  FROM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029200" y="1905120"/>
            <a:ext cx="3048120" cy="1981080"/>
            <a:chOff x="5029200" y="1905120"/>
            <a:chExt cx="3048120" cy="1981080"/>
          </a:xfrm>
        </p:grpSpPr>
        <p:sp>
          <p:nvSpPr>
            <p:cNvPr id="53" name=""/>
            <p:cNvSpPr/>
            <p:nvPr/>
          </p:nvSpPr>
          <p:spPr>
            <a:xfrm>
              <a:off x="5029200" y="1905120"/>
              <a:ext cx="2895480" cy="1981080"/>
            </a:xfrm>
            <a:prstGeom prst="cloudCallout">
              <a:avLst>
                <a:gd name="adj1" fmla="val -180592"/>
                <a:gd name="adj2" fmla="val -3847"/>
              </a:avLst>
            </a:prstGeom>
            <a:gradFill rotWithShape="0">
              <a:gsLst>
                <a:gs pos="0">
                  <a:srgbClr val="99b1c0"/>
                </a:gs>
                <a:gs pos="50000">
                  <a:srgbClr val="ccecff"/>
                </a:gs>
                <a:gs pos="100000">
                  <a:srgbClr val="99b1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2286000"/>
              <a:ext cx="25146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ION  TO 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ENSATION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47920" y="3809880"/>
            <a:ext cx="3124080" cy="1524240"/>
            <a:chOff x="1447920" y="3809880"/>
            <a:chExt cx="3124080" cy="1524240"/>
          </a:xfrm>
        </p:grpSpPr>
        <p:sp>
          <p:nvSpPr>
            <p:cNvPr id="56" name=""/>
            <p:cNvSpPr/>
            <p:nvPr/>
          </p:nvSpPr>
          <p:spPr>
            <a:xfrm>
              <a:off x="1447920" y="3809880"/>
              <a:ext cx="2895480" cy="1524240"/>
            </a:xfrm>
            <a:prstGeom prst="cloudCallout">
              <a:avLst>
                <a:gd name="adj1" fmla="val -56907"/>
                <a:gd name="adj2" fmla="val -114999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4038480"/>
              <a:ext cx="25909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ION  TO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VENANT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638680" y="4572000"/>
            <a:ext cx="2895840" cy="1371600"/>
            <a:chOff x="5638680" y="4572000"/>
            <a:chExt cx="2895840" cy="1371600"/>
          </a:xfrm>
        </p:grpSpPr>
        <p:sp>
          <p:nvSpPr>
            <p:cNvPr id="59" name=""/>
            <p:cNvSpPr/>
            <p:nvPr/>
          </p:nvSpPr>
          <p:spPr>
            <a:xfrm>
              <a:off x="5638680" y="4572000"/>
              <a:ext cx="2895840" cy="1371600"/>
            </a:xfrm>
            <a:prstGeom prst="cloudCallout">
              <a:avLst>
                <a:gd name="adj1" fmla="val -201643"/>
                <a:gd name="adj2" fmla="val -177777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e2f0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8520" y="4876920"/>
              <a:ext cx="2133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91120" y="646920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5451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685800"/>
            <a:ext cx="51814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28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248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 SONS (TRIBES) &amp; FAMIL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6324480"/>
            <a:ext cx="1066680" cy="152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Times New Roman"/>
              </a:rPr>
              <a:t>(ISRA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nerations%20In%20Gen-4" descr=""/>
          <p:cNvPicPr/>
          <p:nvPr/>
        </p:nvPicPr>
        <p:blipFill>
          <a:blip r:embed="rId1"/>
          <a:stretch/>
        </p:blipFill>
        <p:spPr>
          <a:xfrm>
            <a:off x="838080" y="67644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15000" y="609588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6553080"/>
            <a:ext cx="243864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609480"/>
            <a:ext cx="4496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666880" y="533520"/>
            <a:ext cx="4267440" cy="457200"/>
            <a:chOff x="2666880" y="533520"/>
            <a:chExt cx="4267440" cy="457200"/>
          </a:xfrm>
        </p:grpSpPr>
        <p:sp>
          <p:nvSpPr>
            <p:cNvPr id="74" name=""/>
            <p:cNvSpPr/>
            <p:nvPr/>
          </p:nvSpPr>
          <p:spPr>
            <a:xfrm>
              <a:off x="2666880" y="533520"/>
              <a:ext cx="4191120" cy="4572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43200" y="6094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RAEL -  CAME  OUT  FROM  THE  GENT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38080" y="457200"/>
            <a:ext cx="1676520" cy="457200"/>
          </a:xfrm>
          <a:prstGeom prst="cloudCallout">
            <a:avLst>
              <a:gd name="adj1" fmla="val -59375"/>
              <a:gd name="adj2" fmla="val 47569"/>
            </a:avLst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8400" y="479520"/>
            <a:ext cx="167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RE  DID  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E  FROM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65451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0" y="6629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6553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819520" y="380880"/>
            <a:ext cx="3047400" cy="1447920"/>
            <a:chOff x="2819520" y="380880"/>
            <a:chExt cx="3047400" cy="1447920"/>
          </a:xfrm>
        </p:grpSpPr>
        <p:sp>
          <p:nvSpPr>
            <p:cNvPr id="83" name=""/>
            <p:cNvSpPr/>
            <p:nvPr/>
          </p:nvSpPr>
          <p:spPr>
            <a:xfrm>
              <a:off x="2819520" y="380880"/>
              <a:ext cx="2895120" cy="1447920"/>
            </a:xfrm>
            <a:prstGeom prst="cloudCallout">
              <a:avLst>
                <a:gd name="adj1" fmla="val -180592"/>
                <a:gd name="adj2" fmla="val -3847"/>
              </a:avLst>
            </a:prstGeom>
            <a:gradFill rotWithShape="0">
              <a:gsLst>
                <a:gs pos="0">
                  <a:srgbClr val="99b1c0"/>
                </a:gs>
                <a:gs pos="50000">
                  <a:srgbClr val="ccecff"/>
                </a:gs>
                <a:gs pos="100000">
                  <a:srgbClr val="99b1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658080"/>
              <a:ext cx="2514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ION  TO 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ENSATION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752480" y="654516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iblical%20Dispensations-2" descr=""/>
          <p:cNvPicPr/>
          <p:nvPr/>
        </p:nvPicPr>
        <p:blipFill>
          <a:blip r:embed="rId1"/>
          <a:srcRect l="0" t="4446" r="0" b="1601"/>
          <a:stretch/>
        </p:blipFill>
        <p:spPr>
          <a:xfrm>
            <a:off x="762120" y="1828800"/>
            <a:ext cx="784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730840"/>
            <a:ext cx="8908920" cy="8096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cc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520" y="4554360"/>
            <a:ext cx="5472000" cy="110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cc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771200">
            <a:off x="467640" y="1464840"/>
            <a:ext cx="469800" cy="882720"/>
          </a:xfrm>
          <a:custGeom>
            <a:avLst/>
            <a:gdLst>
              <a:gd name="textAreaLeft" fmla="*/ 103320 w 469800"/>
              <a:gd name="textAreaRight" fmla="*/ 366480 w 469800"/>
              <a:gd name="textAreaTop" fmla="*/ 194040 h 882720"/>
              <a:gd name="textAreaBottom" fmla="*/ 6886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790400">
            <a:off x="1093320" y="1465200"/>
            <a:ext cx="549360" cy="882720"/>
          </a:xfrm>
          <a:custGeom>
            <a:avLst/>
            <a:gdLst>
              <a:gd name="textAreaLeft" fmla="*/ 120600 w 549360"/>
              <a:gd name="textAreaRight" fmla="*/ 428760 w 549360"/>
              <a:gd name="textAreaTop" fmla="*/ 194040 h 882720"/>
              <a:gd name="textAreaBottom" fmla="*/ 6886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1160" y="1392120"/>
            <a:ext cx="469800" cy="426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64240" y="4554360"/>
            <a:ext cx="2266920" cy="110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ccffcc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57520" y="5867280"/>
            <a:ext cx="35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E t e r n a l     C o v e n a 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73640" y="5657760"/>
            <a:ext cx="703080" cy="882720"/>
            <a:chOff x="6173640" y="5657760"/>
            <a:chExt cx="703080" cy="882720"/>
          </a:xfrm>
        </p:grpSpPr>
        <p:grpSp>
          <p:nvGrpSpPr>
            <p:cNvPr id="95" name=""/>
            <p:cNvGrpSpPr/>
            <p:nvPr/>
          </p:nvGrpSpPr>
          <p:grpSpPr>
            <a:xfrm>
              <a:off x="6173640" y="5657760"/>
              <a:ext cx="546840" cy="882720"/>
              <a:chOff x="6173640" y="5657760"/>
              <a:chExt cx="546840" cy="882720"/>
            </a:xfrm>
          </p:grpSpPr>
          <p:sp>
            <p:nvSpPr>
              <p:cNvPr id="96" name=""/>
              <p:cNvSpPr/>
              <p:nvPr/>
            </p:nvSpPr>
            <p:spPr>
              <a:xfrm>
                <a:off x="6408000" y="5657760"/>
                <a:ext cx="78120" cy="882720"/>
              </a:xfrm>
              <a:custGeom>
                <a:avLst/>
                <a:gdLst>
                  <a:gd name="textAreaLeft" fmla="*/ 16920 w 78120"/>
                  <a:gd name="textAreaRight" fmla="*/ 61200 w 78120"/>
                  <a:gd name="textAreaTop" fmla="*/ 194040 h 882720"/>
                  <a:gd name="textAreaBottom" fmla="*/ 688680 h 88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73640" y="5878440"/>
                <a:ext cx="546840" cy="73440"/>
              </a:xfrm>
              <a:custGeom>
                <a:avLst/>
                <a:gdLst>
                  <a:gd name="textAreaLeft" fmla="*/ 120240 w 546840"/>
                  <a:gd name="textAreaRight" fmla="*/ 426600 w 546840"/>
                  <a:gd name="textAreaTop" fmla="*/ 16200 h 73440"/>
                  <a:gd name="textAreaBottom" fmla="*/ 57240 h 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V="1">
              <a:off x="6486120" y="5657760"/>
              <a:ext cx="390600" cy="88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21560" y="5289480"/>
            <a:ext cx="20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11:23-26;  Mt 26:26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k 22:14-30;       2 Cor 3: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9120"/>
            <a:ext cx="297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 ( seed ) would shed His blood ( die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od would raise Him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00" y="4921200"/>
            <a:ext cx="42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 b r a h a m I c     C o v e n a 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2040" y="2862360"/>
            <a:ext cx="1561320" cy="1998720"/>
            <a:chOff x="392040" y="2862360"/>
            <a:chExt cx="1561320" cy="1998720"/>
          </a:xfrm>
        </p:grpSpPr>
        <p:grpSp>
          <p:nvGrpSpPr>
            <p:cNvPr id="103" name=""/>
            <p:cNvGrpSpPr/>
            <p:nvPr/>
          </p:nvGrpSpPr>
          <p:grpSpPr>
            <a:xfrm>
              <a:off x="392040" y="2862360"/>
              <a:ext cx="1561320" cy="1998720"/>
              <a:chOff x="392040" y="2862360"/>
              <a:chExt cx="1561320" cy="19987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68360" y="2862360"/>
                <a:ext cx="1406520" cy="1618200"/>
                <a:chOff x="468360" y="2862360"/>
                <a:chExt cx="1406520" cy="16182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68360" y="2862360"/>
                  <a:ext cx="1406520" cy="1618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66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24600" y="2862360"/>
                  <a:ext cx="1173600" cy="10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Palestini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ovena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Deut 30:1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392040" y="4554000"/>
                <a:ext cx="156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Great Nation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82640" y="4112640"/>
              <a:ext cx="8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76320" y="2819520"/>
            <a:ext cx="2109240" cy="2041560"/>
            <a:chOff x="1876320" y="2819520"/>
            <a:chExt cx="2109240" cy="2041560"/>
          </a:xfrm>
        </p:grpSpPr>
        <p:grpSp>
          <p:nvGrpSpPr>
            <p:cNvPr id="110" name=""/>
            <p:cNvGrpSpPr/>
            <p:nvPr/>
          </p:nvGrpSpPr>
          <p:grpSpPr>
            <a:xfrm>
              <a:off x="1876320" y="2819520"/>
              <a:ext cx="2109240" cy="2041560"/>
              <a:chOff x="1876320" y="2819520"/>
              <a:chExt cx="2109240" cy="204156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88800" y="2819520"/>
                <a:ext cx="1562040" cy="1660680"/>
                <a:chOff x="2188800" y="2819520"/>
                <a:chExt cx="1562040" cy="1660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188800" y="2862000"/>
                  <a:ext cx="1406160" cy="1618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66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65120" y="2819520"/>
                  <a:ext cx="1485720" cy="10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Davidi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ovena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2 Sam 7:4-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1 Chron 17:3-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1876320" y="4554000"/>
                <a:ext cx="2109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All Nations Bless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501280" y="4112640"/>
              <a:ext cx="8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SEED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86280" y="2833560"/>
            <a:ext cx="1719000" cy="2194560"/>
            <a:chOff x="3986280" y="2833560"/>
            <a:chExt cx="1719000" cy="2194560"/>
          </a:xfrm>
        </p:grpSpPr>
        <p:sp>
          <p:nvSpPr>
            <p:cNvPr id="117" name=""/>
            <p:cNvSpPr/>
            <p:nvPr/>
          </p:nvSpPr>
          <p:spPr>
            <a:xfrm>
              <a:off x="3986280" y="4507920"/>
              <a:ext cx="171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I will bless the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The Jew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064400" y="2833560"/>
              <a:ext cx="1406160" cy="1646640"/>
              <a:chOff x="4064400" y="2833560"/>
              <a:chExt cx="1406160" cy="1646640"/>
            </a:xfrm>
          </p:grpSpPr>
          <p:sp>
            <p:nvSpPr>
              <p:cNvPr id="119" name=""/>
              <p:cNvSpPr/>
              <p:nvPr/>
            </p:nvSpPr>
            <p:spPr>
              <a:xfrm>
                <a:off x="4064400" y="2862720"/>
                <a:ext cx="1406160" cy="161748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66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98760" y="2833560"/>
                <a:ext cx="1093680" cy="12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N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Coven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Jer 31:31-3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Ezek 36:24-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37:21-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Heb 8:6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42160" y="4111200"/>
                <a:ext cx="1326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LESS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2662200" y="5334120"/>
            <a:ext cx="32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*Seed = Christ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al 3:16; Gen 22: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5392800"/>
            <a:ext cx="26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en 12:1-3; 15:7-17; 17:7; 18: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8280" y="4627440"/>
            <a:ext cx="24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 h u r c h’ s   N e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 o v e n a n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3840" y="1612800"/>
            <a:ext cx="17967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sa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venant (O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Ex 20:1 - 31: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28960" y="1979640"/>
            <a:ext cx="17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ontrast in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f  Heb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2054160"/>
            <a:ext cx="1720800" cy="58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12000">
            <a:off x="4642560" y="259416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 WALL   OF   S E P AR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6920" y="1187280"/>
            <a:ext cx="26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srael’s   Cove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1371600"/>
            <a:ext cx="13287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2840" y="1371600"/>
            <a:ext cx="1954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3800" y="1066680"/>
            <a:ext cx="23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Church’s  Cove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18680" y="1317600"/>
            <a:ext cx="5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86120" y="1317600"/>
            <a:ext cx="4698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56280" y="6099120"/>
            <a:ext cx="21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Heb 13:20;  Acts 2:22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 Pet 1:18-21;  Rev 13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79760" y="367200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R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5335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6621480"/>
            <a:ext cx="53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65833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057400" y="357120"/>
            <a:ext cx="4495320" cy="785880"/>
            <a:chOff x="2057400" y="357120"/>
            <a:chExt cx="4495320" cy="785880"/>
          </a:xfrm>
        </p:grpSpPr>
        <p:sp>
          <p:nvSpPr>
            <p:cNvPr id="142" name=""/>
            <p:cNvSpPr/>
            <p:nvPr/>
          </p:nvSpPr>
          <p:spPr>
            <a:xfrm>
              <a:off x="2057400" y="357120"/>
              <a:ext cx="4166280" cy="785880"/>
            </a:xfrm>
            <a:prstGeom prst="cloudCallout">
              <a:avLst>
                <a:gd name="adj1" fmla="val -56907"/>
                <a:gd name="adj2" fmla="val -114999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efefe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4560" y="474840"/>
              <a:ext cx="372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 REL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 THE  COVENANTS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676520" y="6553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33720" y="114300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038480"/>
            <a:ext cx="914400" cy="17528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ed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735000">
            <a:off x="120960" y="4754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3507000">
            <a:off x="578160" y="46778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492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44792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RAHAM - GEN 12: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R TO HAR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CANA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33520" y="2590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RAHAM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ENANT - GEN 12: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" y="3200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74320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  FORTE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YR EGYPT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NDAGE - GEN 15:13,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1932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019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205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019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87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4038480"/>
            <a:ext cx="2590560" cy="1752840"/>
          </a:xfrm>
          <a:prstGeom prst="rect">
            <a:avLst/>
          </a:prstGeom>
          <a:gradFill rotWithShape="0">
            <a:gsLst>
              <a:gs pos="0">
                <a:srgbClr val="53d0d0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114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AR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3561600">
            <a:off x="558000" y="5054040"/>
            <a:ext cx="15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OB &amp; 12 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RIB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3385200">
            <a:off x="1149840" y="4792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52480" y="4038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6248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84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038480"/>
            <a:ext cx="1143000" cy="17528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4eb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35268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 EGYPT (430 Y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 12:40-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189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4114800"/>
            <a:ext cx="121896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 BOND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00 Y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 15:13,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S 7:36,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004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44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809880" y="1980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160020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 12:31 - 14: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114800"/>
            <a:ext cx="1219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DER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S 7:36,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62520" y="2514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1337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 20:1 - 31: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752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6004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40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4038480"/>
            <a:ext cx="609840" cy="17528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eddc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4426200">
            <a:off x="4723560" y="44190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JOSHU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51055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S 1: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: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038480"/>
            <a:ext cx="1676160" cy="1752840"/>
          </a:xfrm>
          <a:prstGeom prst="rect">
            <a:avLst/>
          </a:prstGeom>
          <a:gradFill rotWithShape="0">
            <a:gsLst>
              <a:gs pos="0">
                <a:srgbClr val="c8c85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41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DGES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153000">
            <a:off x="5531400" y="51350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N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3269400">
            <a:off x="6597720" y="5059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M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38880" y="1752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1219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O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 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6019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051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038480"/>
            <a:ext cx="1524240" cy="1752840"/>
          </a:xfrm>
          <a:prstGeom prst="rect">
            <a:avLst/>
          </a:prstGeom>
          <a:gradFill rotWithShape="0">
            <a:gsLst>
              <a:gs pos="0">
                <a:srgbClr val="49b84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56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41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019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375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631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05920" y="6324480"/>
            <a:ext cx="83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6019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931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3273000">
            <a:off x="7169400" y="4716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3270600">
            <a:off x="7665120" y="4753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3366600">
            <a:off x="8045640" y="49064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906480"/>
            <a:ext cx="396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6019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971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22960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76312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54100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104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22924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53452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914400"/>
            <a:ext cx="1219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MON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LE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AL DEC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EUT 17: 16,1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96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00100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2819520"/>
            <a:ext cx="9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ITAL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VID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00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707200">
            <a:off x="4045680" y="50972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956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274320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RMUR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AIN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IDOLA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UM 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467480" y="2438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175248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MUEL REST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IRITUA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23464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534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40080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2430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AL DEC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600200" y="685800"/>
            <a:ext cx="4800600" cy="533520"/>
            <a:chOff x="1600200" y="685800"/>
            <a:chExt cx="4800600" cy="533520"/>
          </a:xfrm>
        </p:grpSpPr>
        <p:sp>
          <p:nvSpPr>
            <p:cNvPr id="229" name=""/>
            <p:cNvSpPr/>
            <p:nvPr/>
          </p:nvSpPr>
          <p:spPr>
            <a:xfrm>
              <a:off x="1600200" y="685800"/>
              <a:ext cx="4800600" cy="533520"/>
            </a:xfrm>
            <a:prstGeom prst="cloudCallout">
              <a:avLst>
                <a:gd name="adj1" fmla="val -40574"/>
                <a:gd name="adj2" fmla="val 10120"/>
              </a:avLst>
            </a:prstGeom>
            <a:gradFill rotWithShape="0">
              <a:gsLst>
                <a:gs pos="0">
                  <a:srgbClr val="56d7d7"/>
                </a:gs>
                <a:gs pos="50000">
                  <a:srgbClr val="66ffff"/>
                </a:gs>
                <a:gs pos="100000">
                  <a:srgbClr val="56d7d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76212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 HISTORY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267080" y="64771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6545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2506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9907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1008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1981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NGDOM 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133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9907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743200"/>
            <a:ext cx="762120" cy="1981080"/>
          </a:xfrm>
          <a:prstGeom prst="rect">
            <a:avLst/>
          </a:prstGeom>
          <a:gradFill rotWithShape="0">
            <a:gsLst>
              <a:gs pos="0">
                <a:srgbClr val="49b849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3657600"/>
            <a:ext cx="4419360" cy="1066680"/>
          </a:xfrm>
          <a:prstGeom prst="rect">
            <a:avLst/>
          </a:prstGeom>
          <a:gradFill rotWithShape="0">
            <a:gsLst>
              <a:gs pos="0">
                <a:srgbClr val="00b1b1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3118800">
            <a:off x="273240" y="3687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743200"/>
            <a:ext cx="3047760" cy="9144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100000">
                <a:srgbClr val="feb8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7432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SRAEL ( 10 NORTHERN  TRIB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877600">
            <a:off x="844920" y="32680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ROB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3269400">
            <a:off x="3473640" y="3230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H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28954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  K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7 GOOD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048120"/>
            <a:ext cx="1143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733920"/>
            <a:ext cx="2666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JUDAH ( 2 SOUTHERN  TRIB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  K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8  GO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143000" y="4114800"/>
            <a:ext cx="13716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4114800"/>
            <a:ext cx="18288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768400">
            <a:off x="844920" y="42591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HOB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2835600">
            <a:off x="4692960" y="4372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EDEKI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952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931 B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952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722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952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06 B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58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E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TROY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952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53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4952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51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2743200"/>
            <a:ext cx="1067040" cy="9144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ed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2743200"/>
            <a:ext cx="32688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32400" y="2743200"/>
            <a:ext cx="739800" cy="1981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e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2743200"/>
            <a:ext cx="838080" cy="1981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ee5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2743200"/>
            <a:ext cx="1828800" cy="19810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eefe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1592200">
            <a:off x="5028840" y="2742840"/>
            <a:ext cx="140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BABYL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AP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 YEA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19520"/>
            <a:ext cx="914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E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EBU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743200"/>
            <a:ext cx="12952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ASSY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AT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MARIT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28195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MEDO - PER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8390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1880" y="4952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33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90360" y="3048120"/>
            <a:ext cx="99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038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2096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 LO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114300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J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LED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BYL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C 586 BC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62940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1066680"/>
            <a:ext cx="114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F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S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ER 29: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0552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2209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06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41008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0" y="685800"/>
            <a:ext cx="4800600" cy="533520"/>
            <a:chOff x="2286000" y="685800"/>
            <a:chExt cx="4800600" cy="533520"/>
          </a:xfrm>
        </p:grpSpPr>
        <p:sp>
          <p:nvSpPr>
            <p:cNvPr id="288" name=""/>
            <p:cNvSpPr/>
            <p:nvPr/>
          </p:nvSpPr>
          <p:spPr>
            <a:xfrm>
              <a:off x="2286000" y="685800"/>
              <a:ext cx="4800600" cy="533520"/>
            </a:xfrm>
            <a:prstGeom prst="cloudCallout">
              <a:avLst>
                <a:gd name="adj1" fmla="val -40574"/>
                <a:gd name="adj2" fmla="val 10120"/>
              </a:avLst>
            </a:prstGeom>
            <a:gradFill rotWithShape="0">
              <a:gsLst>
                <a:gs pos="0">
                  <a:srgbClr val="56d7d7"/>
                </a:gs>
                <a:gs pos="50000">
                  <a:srgbClr val="66ffff"/>
                </a:gs>
                <a:gs pos="100000">
                  <a:srgbClr val="56d7d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8120" y="76212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 HISTORY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469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654516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190512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’S PROM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RETURN ISRAEL TO 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1980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144792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 TO REBU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 &amp; JERUSALEM(NEH 2:1-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 OF DAN’S 70TH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445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" y="2743200"/>
            <a:ext cx="129528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2743200"/>
            <a:ext cx="381240" cy="1295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c0fe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2743200"/>
            <a:ext cx="5410080" cy="1981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edf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-1" descr=""/>
          <p:cNvPicPr/>
          <p:nvPr/>
        </p:nvPicPr>
        <p:blipFill>
          <a:blip r:embed="rId1"/>
          <a:srcRect l="20786" t="0" r="23810" b="8043"/>
          <a:stretch/>
        </p:blipFill>
        <p:spPr>
          <a:xfrm>
            <a:off x="3429000" y="4114800"/>
            <a:ext cx="38088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895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REEK 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49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OMAN  RULE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0292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33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502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5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50292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40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50212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4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41148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BUI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Y HER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1240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28564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64968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505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RIST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1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29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502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70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1148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341316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LE DESTROY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RUSALEM DESTROYED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OF JEWS DISPER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50133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313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952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502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35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411480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WS REVO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ANS DESTROY JUD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WS TOTALLY DISPER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743200"/>
            <a:ext cx="1752480" cy="1981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d7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91520" y="2887560"/>
            <a:ext cx="121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04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9051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EXAN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R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800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42 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166068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WISH AUT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INDEPEN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DER HASMON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914400"/>
            <a:ext cx="1371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CCAB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ASMONE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OLT AGAIN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RICTIONS ON JUDAISM (166 B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2096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L POMPE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1094760" y="328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HASMON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4038480"/>
            <a:ext cx="381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371600" y="175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7524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9051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62520" y="1599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81280" y="11430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W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O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 66 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6708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6765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S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 73 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686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05920" y="502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36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84940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BYZANTINE</a:t>
            </a: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3505320"/>
            <a:ext cx="1752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TANTIN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AN EMPE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OPTS CHRISTIA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NDS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YZANTINE EMP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3915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1500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1371600"/>
            <a:ext cx="167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HNAH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DIFICATION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WISH ORAL 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 210 B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152388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MUD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MMENTARY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HNAH) - C 390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581280" y="34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30481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RAEL RE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IR MESSI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4197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9720" y="20574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U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09680" y="685800"/>
            <a:ext cx="4800600" cy="533520"/>
            <a:chOff x="2209680" y="685800"/>
            <a:chExt cx="4800600" cy="533520"/>
          </a:xfrm>
        </p:grpSpPr>
        <p:sp>
          <p:nvSpPr>
            <p:cNvPr id="365" name=""/>
            <p:cNvSpPr/>
            <p:nvPr/>
          </p:nvSpPr>
          <p:spPr>
            <a:xfrm>
              <a:off x="2209680" y="685800"/>
              <a:ext cx="4800600" cy="533520"/>
            </a:xfrm>
            <a:prstGeom prst="cloudCallout">
              <a:avLst>
                <a:gd name="adj1" fmla="val -40574"/>
                <a:gd name="adj2" fmla="val 10120"/>
              </a:avLst>
            </a:prstGeom>
            <a:gradFill rotWithShape="0">
              <a:gsLst>
                <a:gs pos="0">
                  <a:srgbClr val="56d7d7"/>
                </a:gs>
                <a:gs pos="50000">
                  <a:srgbClr val="66ffff"/>
                </a:gs>
                <a:gs pos="100000">
                  <a:srgbClr val="56d7d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71800" y="76212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 HISTORY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191120" y="646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RAEL  IN  HISTORY  &amp;  PROPHECY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2743200"/>
            <a:ext cx="1371600" cy="20574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e5fe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ARAB 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105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36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51055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516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291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691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51055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099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38098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E OF R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UILT 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LE SITE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33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2743200"/>
            <a:ext cx="1143000" cy="2057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ee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2819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RUS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917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743200"/>
            <a:ext cx="1219320" cy="205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6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1800" y="2819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MAML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62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581280"/>
            <a:ext cx="114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MLUKS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SLE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OM EGY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 OU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USA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2743200"/>
            <a:ext cx="2209680" cy="205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819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TTOMAN 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05520" y="4952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882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4290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RKISH OTTOMAN EMP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4038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L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5627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1722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56236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334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2209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 AV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182880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ZIONIST CONG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THEODOR HERZL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1219320"/>
            <a:ext cx="1752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NEIGHBORH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UILT 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RUSALEM’S W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860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867280" y="2133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9588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743200"/>
            <a:ext cx="1371600" cy="2057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0fe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3276720"/>
            <a:ext cx="1676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LFOUR SUP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JEWISH 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TS MAN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PALEST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028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1948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9154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24480" y="28195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086600" y="1676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05920" y="5089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2003 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2940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R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43800" y="2743200"/>
            <a:ext cx="1371600" cy="2057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ee5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7432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STAT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3124080"/>
            <a:ext cx="14479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 PROCLA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E OF ISRA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4 MAY 194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DAY WAR-19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RUSALE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UN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BS DESIRE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SH ISRAE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O THE S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543800" y="9144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84872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3581280"/>
            <a:ext cx="1295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-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RISTIAN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SSAC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KINGDO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ABLISHED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362320" y="685800"/>
            <a:ext cx="4800600" cy="533520"/>
            <a:chOff x="2362320" y="685800"/>
            <a:chExt cx="4800600" cy="533520"/>
          </a:xfrm>
        </p:grpSpPr>
        <p:sp>
          <p:nvSpPr>
            <p:cNvPr id="424" name=""/>
            <p:cNvSpPr/>
            <p:nvPr/>
          </p:nvSpPr>
          <p:spPr>
            <a:xfrm>
              <a:off x="2362320" y="685800"/>
              <a:ext cx="4800600" cy="533520"/>
            </a:xfrm>
            <a:prstGeom prst="cloudCallout">
              <a:avLst>
                <a:gd name="adj1" fmla="val -40574"/>
                <a:gd name="adj2" fmla="val 10120"/>
              </a:avLst>
            </a:prstGeom>
            <a:gradFill rotWithShape="0">
              <a:gsLst>
                <a:gs pos="0">
                  <a:srgbClr val="56d7d7"/>
                </a:gs>
                <a:gs pos="50000">
                  <a:srgbClr val="66ffff"/>
                </a:gs>
                <a:gs pos="100000">
                  <a:srgbClr val="56d7d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24440" y="76212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AT  IS  ISRAEL’S  HISTORY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267080" y="646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 4 MAY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9:59Z</dcterms:modified>
  <cp:revision>55</cp:revision>
  <dc:subject/>
  <dc:title>PowerPoint Presentation</dc:title>
</cp:coreProperties>
</file>