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7049-F138-469F-9FCB-09786A882C83}" type="slidenum"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567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hyperlink" Target="http://www.revelationillustrated.com/" TargetMode="External"/><Relationship Id="rId4" Type="http://schemas.openxmlformats.org/officeDocument/2006/relationships/hyperlink" Target="http://www.revelationillustrated.com/" TargetMode="External"/><Relationship Id="rId5" Type="http://schemas.openxmlformats.org/officeDocument/2006/relationships/hyperlink" Target="http://www.revelationillustrated.com/" TargetMode="External"/><Relationship Id="rId6" Type="http://schemas.openxmlformats.org/officeDocument/2006/relationships/hyperlink" Target="http://www.revelationillustrated.com/" TargetMode="External"/><Relationship Id="rId7" Type="http://schemas.openxmlformats.org/officeDocument/2006/relationships/hyperlink" Target="http://www.revelationillustrated.com/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hyperlink" Target="http://www.revelationillustrated.com/" TargetMode="External"/><Relationship Id="rId4" Type="http://schemas.openxmlformats.org/officeDocument/2006/relationships/hyperlink" Target="http://www.revelationillustrated.com/" TargetMode="External"/><Relationship Id="rId5" Type="http://schemas.openxmlformats.org/officeDocument/2006/relationships/hyperlink" Target="http://www.revelationillustrated.com/" TargetMode="External"/><Relationship Id="rId6" Type="http://schemas.openxmlformats.org/officeDocument/2006/relationships/hyperlink" Target="http://www.revelationillustrated.com/" TargetMode="External"/><Relationship Id="rId7" Type="http://schemas.openxmlformats.org/officeDocument/2006/relationships/hyperlink" Target="http://www.revelationillustrated.com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4648320"/>
            <a:ext cx="4114800" cy="3045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990720"/>
            <a:ext cx="266688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 YOU,RE  DONE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6400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98320" y="1905120"/>
            <a:ext cx="5491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41  The Sabbath and the Lord's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2  The Gentiles in History and Prophecy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3  Israel in History and Prophec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4  Events Preceding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5  The Great Tribul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6 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7  The Resurrec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8  The Judgment of Israel and the Nation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9  The Millennial Kingdom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0  The Judgment of Satan and Fallen Angel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1  The Judgment of the Great White Thron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2  The New Heaven and the New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24160" y="380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New Heaven and the New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65372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049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New Heaven and the New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6567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29 JUNE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90720" y="685800"/>
            <a:ext cx="7314840" cy="609480"/>
            <a:chOff x="990720" y="685800"/>
            <a:chExt cx="7314840" cy="609480"/>
          </a:xfrm>
        </p:grpSpPr>
        <p:sp>
          <p:nvSpPr>
            <p:cNvPr id="57" name=""/>
            <p:cNvSpPr/>
            <p:nvPr/>
          </p:nvSpPr>
          <p:spPr>
            <a:xfrm>
              <a:off x="990720" y="685800"/>
              <a:ext cx="723780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33cc"/>
                </a:gs>
                <a:gs pos="50000">
                  <a:srgbClr val="ffffff"/>
                </a:gs>
                <a:gs pos="100000">
                  <a:srgbClr val="ff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44800" y="806400"/>
              <a:ext cx="71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WHAT  IS  GOD’S  ETERNAL  PURPOSE  ON  THE  PRESENT  EARTH ?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572000" cy="398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4114800" cy="2967120"/>
          </a:xfrm>
          <a:prstGeom prst="rect">
            <a:avLst/>
          </a:prstGeom>
          <a:ln w="0">
            <a:noFill/>
          </a:ln>
        </p:spPr>
      </p:pic>
      <p:pic>
        <p:nvPicPr>
          <p:cNvPr id="61" name="Earth" descr=""/>
          <p:cNvPicPr/>
          <p:nvPr/>
        </p:nvPicPr>
        <p:blipFill>
          <a:blip r:embed="rId3"/>
          <a:stretch/>
        </p:blipFill>
        <p:spPr>
          <a:xfrm>
            <a:off x="4495680" y="1905120"/>
            <a:ext cx="4496040" cy="447336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533520" y="1295280"/>
            <a:ext cx="1828440" cy="3810240"/>
            <a:chOff x="533520" y="1295280"/>
            <a:chExt cx="1828440" cy="3810240"/>
          </a:xfrm>
        </p:grpSpPr>
        <p:sp>
          <p:nvSpPr>
            <p:cNvPr id="63" name=""/>
            <p:cNvSpPr/>
            <p:nvPr/>
          </p:nvSpPr>
          <p:spPr>
            <a:xfrm>
              <a:off x="1227240" y="1495800"/>
              <a:ext cx="0" cy="32752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520" y="2230920"/>
              <a:ext cx="145044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27240" y="4771080"/>
              <a:ext cx="189000" cy="33444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1416240" y="1295280"/>
              <a:ext cx="945720" cy="381024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6019920"/>
            <a:ext cx="693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QUESTION:  WILL  GOD’S  ETERNAL PURPO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                       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CONTINUE  IN  THE  NEW  HEAVEN  &amp;  NEW  EARTH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0292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v. 21: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d I saw a new heaven and a new earth: for the first heaven and the first earth were passed away; and there was no more se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6553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685800"/>
            <a:ext cx="525780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049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New Heaven and the New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6567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29 JUNE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iblical%20Dispensations-4" descr=""/>
          <p:cNvPicPr/>
          <p:nvPr/>
        </p:nvPicPr>
        <p:blipFill>
          <a:blip r:embed="rId1"/>
          <a:srcRect l="0" t="4628" r="0" b="1090"/>
          <a:stretch/>
        </p:blipFill>
        <p:spPr>
          <a:xfrm>
            <a:off x="1981080" y="1676520"/>
            <a:ext cx="7010640" cy="4952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09680" y="838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D’S  PLAN  FOR  THE  PRESENT 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371600"/>
            <a:ext cx="632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OBSERVE :    GOD’S  INCREDIBLE  PLAN  FOR  FULFILLING  HI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 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HIS  ETERNAL  PURPOSE  ON  THE  PRESENT  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6553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685800"/>
            <a:ext cx="647712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3049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New Heaven and the New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6567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29 JUNE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1523880"/>
            <a:ext cx="3886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2438280"/>
            <a:ext cx="9144000" cy="3900960"/>
            <a:chOff x="0" y="2438280"/>
            <a:chExt cx="9144000" cy="3900960"/>
          </a:xfrm>
        </p:grpSpPr>
        <p:sp>
          <p:nvSpPr>
            <p:cNvPr id="84" name=""/>
            <p:cNvSpPr/>
            <p:nvPr/>
          </p:nvSpPr>
          <p:spPr>
            <a:xfrm>
              <a:off x="0" y="2438280"/>
              <a:ext cx="2666880" cy="39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 Rounded MT Bold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I.  The Bible: The Word of God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2. The Bible: Inspired of Go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3. The Bible: Its Subject and Purpose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4. The Bible: As a Divine Revelation</a:t>
              </a:r>
              <a:r>
                <a:rPr b="1" lang="en-US" sz="1000" spc="-1" strike="noStrike">
                  <a:solidFill>
                    <a:srgbClr val="3333cc"/>
                  </a:solidFill>
                  <a:latin typeface="Arial Rounded MT Bold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5.  God The  Trinit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6.  God the Father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7.  God the Son: His Deity and Eternity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8.  God the Son: His Incarnation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9.  God the Son: His Substitution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Death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10. God the Son: His Resurrection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11. God the Son: His Ascension an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Priestly Minis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12. God the Son: His Coming for Hi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Saint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13. God the Son: His Coming Wi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His Saint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14. God the Holy Spirit: His Personality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15. God the Holy Spirit: His Advent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16. God the Holy Spirit: Hi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Regeneration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17. God the Holy Spirit: His Indwell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and Seal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18. God the Holy Spirit: His Baptism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19. God the Holy Spirit: His Filling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3200" y="2438280"/>
              <a:ext cx="3048120" cy="39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20  The Dispensations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21  The Covenants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22  The Angels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23  Satan: His Personality and Power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24  Satan: His Work and Destiny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25  Man: His Creation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26  Man: His Fal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27  Sin: Its Character and Universality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28  Salvation From the Penalty of Sin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29  Salvation From the Power of Sin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30  Four Aspects of Righteousness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31  Sanctification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32  Assurance of Salvation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33  Security of Salvation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34  Divine Election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35  The Church: Her Members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36  The Church: Her Purpose and Commissio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37  The Church: Her Service and Stewardship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38  The Church: Her Worship in Prayer 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Thanksgiv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39  The Church: Her Organization 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Ordinances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40  The Church: The Body and Bride of Chr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and Her Rew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67280" y="2438280"/>
              <a:ext cx="3276720" cy="23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41  The Sabbath and the Lord's 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42  The Gentiles in History and Prophecy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43  Israel in History and Prophecy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44  Events Preceding the Second Coming of Christ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45  The Great Tribulation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46  The Second Coming of Christ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47  The Resurrections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48  The Judgment of Israel and the Nations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49  The Millennial Kingdom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50  The Judgment of Satan and Fallen Angels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51  The Judgment of the Great White Throne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52  The New Heaven and the New Ear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905120" y="8380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UMMARY  OF  DOCTRINES  STUDIED  IN  GOD’S 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160020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 Rounded MT Bold"/>
              </a:rPr>
              <a:t>THESE  DOCTRINES  COMMUNICATE  HOW  GOD  DECLARES, SHARE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1" i="1" lang="en-US" sz="1600" spc="-1" strike="noStrike">
                <a:solidFill>
                  <a:srgbClr val="3333cc"/>
                </a:solidFill>
                <a:latin typeface="Arial Rounded MT Bold"/>
              </a:rPr>
              <a:t>REVEALS  HIS  GLORY  WHICH  RESULTS  IN  MAN  GLORIFYING  GOD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09760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65451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049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New Heaven and the New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6567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29 JUNE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90720" y="685800"/>
            <a:ext cx="7314840" cy="609480"/>
            <a:chOff x="990720" y="685800"/>
            <a:chExt cx="7314840" cy="609480"/>
          </a:xfrm>
        </p:grpSpPr>
        <p:sp>
          <p:nvSpPr>
            <p:cNvPr id="95" name=""/>
            <p:cNvSpPr/>
            <p:nvPr/>
          </p:nvSpPr>
          <p:spPr>
            <a:xfrm>
              <a:off x="990720" y="685800"/>
              <a:ext cx="723780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33cc"/>
                </a:gs>
                <a:gs pos="50000">
                  <a:srgbClr val="ffffff"/>
                </a:gs>
                <a:gs pos="100000">
                  <a:srgbClr val="ff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44800" y="806400"/>
              <a:ext cx="71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WHAT  IS  GOD’S  ETERNAL  PURPOSE  FOR  THE  NEW  EARTH ?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943600" cy="515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09680" y="2362320"/>
            <a:ext cx="4572000" cy="3295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6019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OBSERVE:  GOD’S  ETERNAL  PURPOSE  IS  FOR  ALL  ETER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65451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685800"/>
            <a:ext cx="579096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049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New Heaven and the New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6567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29 JUNE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838080"/>
            <a:ext cx="54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D’S  ETERNAL  PURPOSE  FOR  THE  NEW 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320" y="1536840"/>
            <a:ext cx="4190760" cy="360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213372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New Jerusalem dec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(demonstrates, tells of) God’s Gl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048120"/>
            <a:ext cx="4114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v. 21:10-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he carried me away in the spirit to a great and high mountain, and showed me that great city, the holy Jerusalem, descending out of heaven from Go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1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aving the glory of Go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nd her light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ke unto a stone most precious, even like a jasper stone, clear as crystal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New%20Jerusalem%20-%20Pat%20Smith" descr=""/>
          <p:cNvPicPr/>
          <p:nvPr/>
        </p:nvPicPr>
        <p:blipFill>
          <a:blip r:embed="rId2"/>
          <a:srcRect l="0" t="14898" r="0" b="0"/>
          <a:stretch/>
        </p:blipFill>
        <p:spPr>
          <a:xfrm>
            <a:off x="4343400" y="1447920"/>
            <a:ext cx="4641840" cy="4724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24280" y="6172200"/>
            <a:ext cx="441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3"/>
              </a:rPr>
              <a:t>Art used by permission by Pat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4"/>
              </a:rPr>
              <a:t> Marvenko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5"/>
              </a:rPr>
              <a:t> Smith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6"/>
              </a:rPr>
              <a:t>copyright 1992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7"/>
              </a:rPr>
              <a:t>.</a:t>
            </a:r>
            <a:r>
              <a:rPr b="0" lang="en-US" sz="1400" spc="-1" strike="noStrike">
                <a:solidFill>
                  <a:srgbClr val="3366ff"/>
                </a:solidFill>
                <a:latin typeface="Arial"/>
                <a:ea typeface="Times New Roman"/>
              </a:rPr>
              <a:t>   www.apocalypsetheunveiling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6583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685800"/>
            <a:ext cx="571500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3049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New Heaven and the New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6567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29 JUNE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838080"/>
            <a:ext cx="54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D’S  ETERNAL  PURPOSE  FOR  THE  NEW 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523880"/>
            <a:ext cx="5486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3376440" cy="33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33920" y="6172200"/>
            <a:ext cx="5410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1_New_Jerusalem" descr=""/>
          <p:cNvPicPr/>
          <p:nvPr/>
        </p:nvPicPr>
        <p:blipFill>
          <a:blip r:embed="rId2"/>
          <a:srcRect l="44305" t="12564" r="0" b="39311"/>
          <a:stretch/>
        </p:blipFill>
        <p:spPr>
          <a:xfrm>
            <a:off x="4267080" y="1960560"/>
            <a:ext cx="4724640" cy="3678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2049480"/>
            <a:ext cx="563868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Col. 3:4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hen Christ, </a:t>
            </a:r>
            <a:r>
              <a:rPr b="0" i="1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ho is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our life, shall appear, th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hall ye also appear with him in glo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14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Rev. 21:3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nd I heard a great voice out of heaven say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ehold, the tabernacle of God </a:t>
            </a:r>
            <a:r>
              <a:rPr b="0" i="1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s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with men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he will dwell with them, and they shall be h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people, and God himself shall be with them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nd be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their Go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Rev. 22:3-5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nd there shall be no more curse: bu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throne of God and of the Lamb shall be in i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nd his servants shall serve hi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4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nd theyshall see his face; and his na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hall be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in their forehea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5    ….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nd they shall reign for ever and ev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65451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685800"/>
            <a:ext cx="56386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3049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New Heaven and the New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6567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29 JUNE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581280" cy="3412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3809880" y="2133720"/>
            <a:ext cx="5334120" cy="4406400"/>
            <a:chOff x="3809880" y="2133720"/>
            <a:chExt cx="5334120" cy="4406400"/>
          </a:xfrm>
        </p:grpSpPr>
        <p:pic>
          <p:nvPicPr>
            <p:cNvPr id="129" name="5_Pearl_gate_smith" descr=""/>
            <p:cNvPicPr/>
            <p:nvPr/>
          </p:nvPicPr>
          <p:blipFill>
            <a:blip r:embed="rId2"/>
            <a:stretch/>
          </p:blipFill>
          <p:spPr>
            <a:xfrm>
              <a:off x="3809880" y="2133720"/>
              <a:ext cx="5148360" cy="39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724280" y="6019920"/>
              <a:ext cx="441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ea typeface="Times New Roman"/>
                  <a:hlinkClick r:id="rId3"/>
                </a:rPr>
                <a:t>Art used by permission by Pat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ea typeface="Times New Roman"/>
                  <a:hlinkClick r:id="rId4"/>
                </a:rPr>
                <a:t> Marvenko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ea typeface="Times New Roman"/>
                  <a:hlinkClick r:id="rId5"/>
                </a:rPr>
                <a:t> Smith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ea typeface="Times New Roman"/>
                  <a:hlinkClick r:id="rId6"/>
                </a:rPr>
                <a:t>copyright 1992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ea typeface="Times New Roman"/>
                  <a:hlinkClick r:id="rId7"/>
                </a:rPr>
                <a:t>.</a:t>
              </a:r>
              <a:r>
                <a:rPr b="0" lang="en-US" sz="14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   www.apocalypsetheunveiling.com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676520" y="838080"/>
            <a:ext cx="556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D’S  ETERNAL  PURPOSE  FOR  THE  NEW 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209680"/>
            <a:ext cx="39625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Rev. 21:22-23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nd I saw no temple therein: for the Lord God Almighty and the Lamb are the temple of i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nd the city had no need of the sun, neither of the moon, to shine in it: for the glory of God did lighten it, and the Lamb </a:t>
            </a:r>
            <a:r>
              <a:rPr b="0" i="1" lang="en-US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the light thereof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6553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685800"/>
            <a:ext cx="571500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3049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New Heaven and the New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6567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29 JUNE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838080"/>
            <a:ext cx="5943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838080"/>
            <a:ext cx="556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D’S  ETERNAL  PURPOSE  FOR  THE  NEW 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272040" cy="373320"/>
          </a:xfrm>
          <a:prstGeom prst="rect">
            <a:avLst/>
          </a:prstGeom>
          <a:ln w="0">
            <a:noFill/>
          </a:ln>
        </p:spPr>
      </p:pic>
      <p:pic>
        <p:nvPicPr>
          <p:cNvPr id="141" name="1_New_Jerusalem" descr=""/>
          <p:cNvPicPr/>
          <p:nvPr/>
        </p:nvPicPr>
        <p:blipFill>
          <a:blip r:embed="rId2"/>
          <a:srcRect l="44305" t="12564" r="0" b="39311"/>
          <a:stretch/>
        </p:blipFill>
        <p:spPr>
          <a:xfrm>
            <a:off x="4267080" y="1960560"/>
            <a:ext cx="4724640" cy="3678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2209680"/>
            <a:ext cx="426708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Rev. 21:24-26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nd the nations of them which are saved shall walk in the light of it: and the kings of the earth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  <a:ea typeface="Arial"/>
              </a:rPr>
              <a:t>do bring their glory and honour into i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25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nd the gates of it shall not be shut at all by day: for there shall be no night the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  <a:ea typeface="Arial"/>
              </a:rPr>
              <a:t>26 And they shall bring the glory and honour of the nations into it.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9880" y="65451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3:37:15Z</dcterms:modified>
  <cp:revision>45</cp:revision>
  <dc:subject/>
  <dc:title>PowerPoint Presentation</dc:title>
</cp:coreProperties>
</file>