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643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-13644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47920" y="502920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6643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1,8,9,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57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 HIS  PERS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80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HIS  MINISTRIES  TO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15960"/>
            <a:ext cx="91440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B.  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3.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GLORIFIES  THE  FATHER  &amp;  SON  IN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E  MANIFESTS  IN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 FRUIT  OF  THE  SPIRIT                              -  JN 15:1-5,8; GAL 5:22-23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COR 6:4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GLORY OF JESUS  CHRIS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-  JN 16:14; 2 COR 3:1-11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621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6507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1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loud"/>
          <p:cNvSpPr/>
          <p:nvPr/>
        </p:nvSpPr>
        <p:spPr>
          <a:xfrm>
            <a:off x="4419720" y="3995640"/>
            <a:ext cx="3047760" cy="2710080"/>
          </a:xfrm>
          <a:prstGeom prst="pie">
            <a:avLst/>
          </a:prstGeom>
          <a:gradFill rotWithShape="0">
            <a:gsLst>
              <a:gs pos="0">
                <a:srgbClr val="839ff9"/>
              </a:gs>
              <a:gs pos="50000">
                <a:srgbClr val="ffffff"/>
              </a:gs>
              <a:gs pos="100000">
                <a:srgbClr val="839ff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066680"/>
            <a:ext cx="2743200" cy="1600200"/>
            <a:chOff x="533520" y="1066680"/>
            <a:chExt cx="2743200" cy="1600200"/>
          </a:xfrm>
        </p:grpSpPr>
        <p:sp>
          <p:nvSpPr>
            <p:cNvPr id="49" name="Cloud"/>
            <p:cNvSpPr/>
            <p:nvPr/>
          </p:nvSpPr>
          <p:spPr>
            <a:xfrm>
              <a:off x="533520" y="1066680"/>
              <a:ext cx="2743200" cy="1600200"/>
            </a:xfrm>
            <a:prstGeom prst="pie">
              <a:avLst/>
            </a:prstGeom>
            <a:gradFill rotWithShape="0">
              <a:gsLst>
                <a:gs pos="0">
                  <a:srgbClr val="839ff9"/>
                </a:gs>
                <a:gs pos="50000">
                  <a:srgbClr val="ffffff"/>
                </a:gs>
                <a:gs pos="100000">
                  <a:srgbClr val="839ff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95280" y="1371600"/>
              <a:ext cx="1600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W H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I S   H 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81480" y="1447920"/>
            <a:ext cx="3276720" cy="1838160"/>
            <a:chOff x="5181480" y="1447920"/>
            <a:chExt cx="3276720" cy="1838160"/>
          </a:xfrm>
        </p:grpSpPr>
        <p:sp>
          <p:nvSpPr>
            <p:cNvPr id="52" name="Cloud"/>
            <p:cNvSpPr/>
            <p:nvPr/>
          </p:nvSpPr>
          <p:spPr>
            <a:xfrm>
              <a:off x="5181480" y="1447920"/>
              <a:ext cx="3276720" cy="1838160"/>
            </a:xfrm>
            <a:prstGeom prst="pie">
              <a:avLst/>
            </a:prstGeom>
            <a:gradFill rotWithShape="0">
              <a:gsLst>
                <a:gs pos="0">
                  <a:srgbClr val="839ff9"/>
                </a:gs>
                <a:gs pos="50000">
                  <a:srgbClr val="ffffff"/>
                </a:gs>
                <a:gs pos="100000">
                  <a:srgbClr val="839ff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86400" y="1828800"/>
              <a:ext cx="2743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W H A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D O E S   H E   D O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Cloud"/>
          <p:cNvSpPr/>
          <p:nvPr/>
        </p:nvSpPr>
        <p:spPr>
          <a:xfrm>
            <a:off x="1219320" y="2895480"/>
            <a:ext cx="4114800" cy="1828800"/>
          </a:xfrm>
          <a:prstGeom prst="pie">
            <a:avLst/>
          </a:prstGeom>
          <a:gradFill rotWithShape="0">
            <a:gsLst>
              <a:gs pos="0">
                <a:srgbClr val="839ff9"/>
              </a:gs>
              <a:gs pos="50000">
                <a:srgbClr val="ffffff"/>
              </a:gs>
              <a:gs pos="100000">
                <a:srgbClr val="839ff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276720"/>
            <a:ext cx="3505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 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 O E S   H E   D O   I 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95288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 H E R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I S    H 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662148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66294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38280" y="380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od-1" descr=""/>
          <p:cNvPicPr/>
          <p:nvPr/>
        </p:nvPicPr>
        <p:blipFill>
          <a:blip r:embed="rId1"/>
          <a:stretch/>
        </p:blipFill>
        <p:spPr>
          <a:xfrm>
            <a:off x="1295280" y="1611360"/>
            <a:ext cx="7000920" cy="52466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33520" y="990720"/>
            <a:ext cx="4724280" cy="990360"/>
            <a:chOff x="533520" y="990720"/>
            <a:chExt cx="4724280" cy="990360"/>
          </a:xfrm>
        </p:grpSpPr>
        <p:sp>
          <p:nvSpPr>
            <p:cNvPr id="63" name=""/>
            <p:cNvSpPr/>
            <p:nvPr/>
          </p:nvSpPr>
          <p:spPr>
            <a:xfrm>
              <a:off x="533520" y="990720"/>
              <a:ext cx="4495680" cy="9903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cc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2120" y="114300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IS  DEITY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GEN 1:1,2, 26,27; ACTS 5: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&amp;  PERSONHOOD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JN 14:16; 16:12-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410080" y="152280"/>
            <a:ext cx="2057400" cy="1067040"/>
            <a:chOff x="5410080" y="152280"/>
            <a:chExt cx="2057400" cy="1067040"/>
          </a:xfrm>
        </p:grpSpPr>
        <p:sp>
          <p:nvSpPr>
            <p:cNvPr id="66" name="Cloud"/>
            <p:cNvSpPr/>
            <p:nvPr/>
          </p:nvSpPr>
          <p:spPr>
            <a:xfrm>
              <a:off x="5410080" y="152280"/>
              <a:ext cx="2057400" cy="1067040"/>
            </a:xfrm>
            <a:prstGeom prst="pie">
              <a:avLst/>
            </a:prstGeom>
            <a:gradFill rotWithShape="0">
              <a:gsLst>
                <a:gs pos="0">
                  <a:srgbClr val="839ff9"/>
                </a:gs>
                <a:gs pos="50000">
                  <a:srgbClr val="ffffff"/>
                </a:gs>
                <a:gs pos="100000">
                  <a:srgbClr val="839ff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3600" y="304920"/>
              <a:ext cx="1143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W H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I S   H 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696080" y="66214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71800" y="304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loud"/>
          <p:cNvSpPr/>
          <p:nvPr/>
        </p:nvSpPr>
        <p:spPr>
          <a:xfrm>
            <a:off x="2743200" y="685800"/>
            <a:ext cx="3276720" cy="990720"/>
          </a:xfrm>
          <a:prstGeom prst="pie">
            <a:avLst/>
          </a:prstGeom>
          <a:gradFill rotWithShape="0">
            <a:gsLst>
              <a:gs pos="0">
                <a:srgbClr val="839ff9"/>
              </a:gs>
              <a:gs pos="50000">
                <a:srgbClr val="ffffff"/>
              </a:gs>
              <a:gs pos="100000">
                <a:srgbClr val="839ff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838080"/>
            <a:ext cx="274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W H A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D O E S   H E   D O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133720"/>
            <a:ext cx="91440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THE  SOLITARY  &amp;  INCOMPARABLE  &amp;  GLORIOUS  MINISTRY  OF  THE  H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SPIRIT  IS  TO  FULFILL  GOD’S  ETERNAL  PURPOSE  OF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1.  </a:t>
            </a:r>
            <a:r>
              <a:rPr b="1" lang="en-US" sz="1800" spc="-1" strike="noStrike">
                <a:solidFill>
                  <a:srgbClr val="ff0066"/>
                </a:solidFill>
                <a:latin typeface="Arial Rounded MT Bold"/>
              </a:rPr>
              <a:t>DECLARING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GOD’S / CHRIST’S 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2.  </a:t>
            </a:r>
            <a:r>
              <a:rPr b="1" lang="en-US" sz="1800" spc="-1" strike="noStrike">
                <a:solidFill>
                  <a:srgbClr val="ff0066"/>
                </a:solidFill>
                <a:latin typeface="Arial Rounded MT Bold"/>
              </a:rPr>
              <a:t>SHARING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GOD’S / CHRIST’S 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3.  </a:t>
            </a:r>
            <a:r>
              <a:rPr b="1" lang="en-US" sz="1800" spc="-1" strike="noStrike">
                <a:solidFill>
                  <a:srgbClr val="ff0066"/>
                </a:solidFill>
                <a:latin typeface="Arial Rounded MT Bold"/>
              </a:rPr>
              <a:t>REVEALING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GOD’S / CHRIST’S 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4.  </a:t>
            </a:r>
            <a:r>
              <a:rPr b="1" lang="en-US" sz="1800" spc="-1" strike="noStrike">
                <a:solidFill>
                  <a:srgbClr val="ff0066"/>
                </a:solidFill>
                <a:latin typeface="Arial Rounded MT Bold"/>
              </a:rPr>
              <a:t>GLORIFYING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GOD / CHR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66214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629400" y="1447920"/>
            <a:ext cx="2666880" cy="3962160"/>
            <a:chOff x="6629400" y="1447920"/>
            <a:chExt cx="2666880" cy="3962160"/>
          </a:xfrm>
        </p:grpSpPr>
        <p:sp>
          <p:nvSpPr>
            <p:cNvPr id="77" name=""/>
            <p:cNvSpPr/>
            <p:nvPr/>
          </p:nvSpPr>
          <p:spPr>
            <a:xfrm>
              <a:off x="8534520" y="3581280"/>
              <a:ext cx="0" cy="18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848720" y="2895120"/>
              <a:ext cx="0" cy="2514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1447920"/>
              <a:ext cx="2514600" cy="1523880"/>
            </a:xfrm>
            <a:custGeom>
              <a:avLst/>
              <a:gdLst>
                <a:gd name="textAreaLeft" fmla="*/ 672120 w 2514600"/>
                <a:gd name="textAreaRight" fmla="*/ 1842480 w 2514600"/>
                <a:gd name="textAreaTop" fmla="*/ 407160 h 1523880"/>
                <a:gd name="textAreaBottom" fmla="*/ 11167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824" y="12156"/>
                  </a:lnTo>
                  <a:lnTo>
                    <a:pt x="786" y="14846"/>
                  </a:lnTo>
                  <a:lnTo>
                    <a:pt x="4840" y="14671"/>
                  </a:lnTo>
                  <a:lnTo>
                    <a:pt x="3163" y="18437"/>
                  </a:lnTo>
                  <a:lnTo>
                    <a:pt x="6826" y="16692"/>
                  </a:lnTo>
                  <a:lnTo>
                    <a:pt x="6580" y="20741"/>
                  </a:lnTo>
                  <a:lnTo>
                    <a:pt x="9322" y="17752"/>
                  </a:lnTo>
                  <a:lnTo>
                    <a:pt x="10800" y="21600"/>
                  </a:lnTo>
                  <a:lnTo>
                    <a:pt x="12156" y="17776"/>
                  </a:lnTo>
                  <a:lnTo>
                    <a:pt x="14846" y="20814"/>
                  </a:lnTo>
                  <a:lnTo>
                    <a:pt x="14671" y="16760"/>
                  </a:lnTo>
                  <a:lnTo>
                    <a:pt x="18437" y="18437"/>
                  </a:lnTo>
                  <a:lnTo>
                    <a:pt x="16692" y="14774"/>
                  </a:lnTo>
                  <a:lnTo>
                    <a:pt x="20741" y="15020"/>
                  </a:lnTo>
                  <a:lnTo>
                    <a:pt x="17752" y="12278"/>
                  </a:lnTo>
                  <a:lnTo>
                    <a:pt x="21600" y="10800"/>
                  </a:lnTo>
                  <a:lnTo>
                    <a:pt x="17776" y="9444"/>
                  </a:lnTo>
                  <a:lnTo>
                    <a:pt x="20814" y="6754"/>
                  </a:lnTo>
                  <a:lnTo>
                    <a:pt x="16760" y="6929"/>
                  </a:lnTo>
                  <a:lnTo>
                    <a:pt x="18437" y="3163"/>
                  </a:lnTo>
                  <a:lnTo>
                    <a:pt x="14774" y="4908"/>
                  </a:lnTo>
                  <a:lnTo>
                    <a:pt x="15020" y="859"/>
                  </a:lnTo>
                  <a:lnTo>
                    <a:pt x="12278" y="3848"/>
                  </a:lnTo>
                  <a:lnTo>
                    <a:pt x="10800" y="0"/>
                  </a:lnTo>
                  <a:lnTo>
                    <a:pt x="9444" y="3824"/>
                  </a:lnTo>
                  <a:lnTo>
                    <a:pt x="6754" y="786"/>
                  </a:lnTo>
                  <a:lnTo>
                    <a:pt x="6929" y="4840"/>
                  </a:lnTo>
                  <a:lnTo>
                    <a:pt x="3163" y="3163"/>
                  </a:lnTo>
                  <a:lnTo>
                    <a:pt x="4908" y="6826"/>
                  </a:lnTo>
                  <a:lnTo>
                    <a:pt x="859" y="6580"/>
                  </a:lnTo>
                  <a:lnTo>
                    <a:pt x="3848" y="9322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48720" y="5021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R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34520" y="502920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K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 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486400"/>
            <a:ext cx="2743200" cy="3049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50000">
                <a:srgbClr val="ffccff"/>
              </a:gs>
              <a:gs pos="100000">
                <a:srgbClr val="75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410080"/>
            <a:ext cx="8001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523880"/>
            <a:ext cx="2590560" cy="1524240"/>
          </a:xfrm>
          <a:custGeom>
            <a:avLst/>
            <a:gdLst>
              <a:gd name="textAreaLeft" fmla="*/ 692640 w 2590560"/>
              <a:gd name="textAreaRight" fmla="*/ 1897920 w 2590560"/>
              <a:gd name="textAreaTop" fmla="*/ 407520 h 1524240"/>
              <a:gd name="textAreaBottom" fmla="*/ 11167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824" y="12156"/>
                </a:lnTo>
                <a:lnTo>
                  <a:pt x="786" y="14846"/>
                </a:lnTo>
                <a:lnTo>
                  <a:pt x="4840" y="14671"/>
                </a:lnTo>
                <a:lnTo>
                  <a:pt x="3163" y="18437"/>
                </a:lnTo>
                <a:lnTo>
                  <a:pt x="6826" y="16692"/>
                </a:lnTo>
                <a:lnTo>
                  <a:pt x="6580" y="20741"/>
                </a:lnTo>
                <a:lnTo>
                  <a:pt x="9322" y="17752"/>
                </a:lnTo>
                <a:lnTo>
                  <a:pt x="10800" y="21600"/>
                </a:lnTo>
                <a:lnTo>
                  <a:pt x="12156" y="17776"/>
                </a:lnTo>
                <a:lnTo>
                  <a:pt x="14846" y="20814"/>
                </a:lnTo>
                <a:lnTo>
                  <a:pt x="14671" y="16760"/>
                </a:lnTo>
                <a:lnTo>
                  <a:pt x="18437" y="18437"/>
                </a:lnTo>
                <a:lnTo>
                  <a:pt x="16692" y="14774"/>
                </a:lnTo>
                <a:lnTo>
                  <a:pt x="20741" y="15020"/>
                </a:lnTo>
                <a:lnTo>
                  <a:pt x="17752" y="12278"/>
                </a:lnTo>
                <a:lnTo>
                  <a:pt x="21600" y="10800"/>
                </a:lnTo>
                <a:lnTo>
                  <a:pt x="17776" y="9444"/>
                </a:lnTo>
                <a:lnTo>
                  <a:pt x="20814" y="6754"/>
                </a:lnTo>
                <a:lnTo>
                  <a:pt x="16760" y="6929"/>
                </a:lnTo>
                <a:lnTo>
                  <a:pt x="18437" y="3163"/>
                </a:lnTo>
                <a:lnTo>
                  <a:pt x="14774" y="4908"/>
                </a:lnTo>
                <a:lnTo>
                  <a:pt x="15020" y="859"/>
                </a:lnTo>
                <a:lnTo>
                  <a:pt x="12278" y="3848"/>
                </a:lnTo>
                <a:lnTo>
                  <a:pt x="10800" y="0"/>
                </a:lnTo>
                <a:lnTo>
                  <a:pt x="9444" y="3824"/>
                </a:lnTo>
                <a:lnTo>
                  <a:pt x="6754" y="786"/>
                </a:lnTo>
                <a:lnTo>
                  <a:pt x="6929" y="4840"/>
                </a:lnTo>
                <a:lnTo>
                  <a:pt x="3163" y="3163"/>
                </a:lnTo>
                <a:lnTo>
                  <a:pt x="4908" y="6826"/>
                </a:lnTo>
                <a:lnTo>
                  <a:pt x="859" y="6580"/>
                </a:lnTo>
                <a:lnTo>
                  <a:pt x="3848" y="932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971800"/>
            <a:ext cx="0" cy="2438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5486400"/>
            <a:ext cx="3962520" cy="304920"/>
          </a:xfrm>
          <a:prstGeom prst="rect">
            <a:avLst/>
          </a:prstGeom>
          <a:gradFill rotWithShape="0">
            <a:gsLst>
              <a:gs pos="0">
                <a:srgbClr val="2f755e"/>
              </a:gs>
              <a:gs pos="50000">
                <a:srgbClr val="66ffcc"/>
              </a:gs>
              <a:gs pos="100000">
                <a:srgbClr val="2f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14600" y="3505320"/>
            <a:ext cx="1371600" cy="2286000"/>
            <a:chOff x="2514600" y="3505320"/>
            <a:chExt cx="1371600" cy="2286000"/>
          </a:xfrm>
        </p:grpSpPr>
        <p:grpSp>
          <p:nvGrpSpPr>
            <p:cNvPr id="90" name=""/>
            <p:cNvGrpSpPr/>
            <p:nvPr/>
          </p:nvGrpSpPr>
          <p:grpSpPr>
            <a:xfrm>
              <a:off x="2819520" y="3505320"/>
              <a:ext cx="1066680" cy="2286000"/>
              <a:chOff x="2819520" y="3505320"/>
              <a:chExt cx="1066680" cy="22860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819520" y="3657600"/>
                <a:ext cx="1066680" cy="1676520"/>
                <a:chOff x="2819520" y="3657600"/>
                <a:chExt cx="1066680" cy="1676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276720" y="3657600"/>
                  <a:ext cx="152280" cy="1676520"/>
                </a:xfrm>
                <a:custGeom>
                  <a:avLst/>
                  <a:gdLst>
                    <a:gd name="textAreaLeft" fmla="*/ 33480 w 152280"/>
                    <a:gd name="textAreaRight" fmla="*/ 118800 w 152280"/>
                    <a:gd name="textAreaTop" fmla="*/ 368640 h 1676520"/>
                    <a:gd name="textAreaBottom" fmla="*/ 1307880 h 1676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19520" y="3962520"/>
                  <a:ext cx="1066680" cy="76320"/>
                </a:xfrm>
                <a:custGeom>
                  <a:avLst/>
                  <a:gdLst>
                    <a:gd name="textAreaLeft" fmla="*/ 234360 w 1066680"/>
                    <a:gd name="textAreaRight" fmla="*/ 832320 w 1066680"/>
                    <a:gd name="textAreaTop" fmla="*/ 16560 h 76320"/>
                    <a:gd name="textAreaBottom" fmla="*/ 59760 h 7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50000">
                      <a:srgbClr val="cc9900"/>
                    </a:gs>
                    <a:gs pos="100000">
                      <a:srgbClr val="99663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3353040" y="5410440"/>
                <a:ext cx="152280" cy="380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505320" y="3505320"/>
                <a:ext cx="76320" cy="22096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514600" y="4952880"/>
              <a:ext cx="8384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4191120"/>
            <a:ext cx="1143000" cy="380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cc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19920"/>
            <a:ext cx="990720" cy="3808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ccff66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11430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WORK  &amp;  MINISTRY  OF  THE  HOLY  SPI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8960" y="12952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1295280"/>
            <a:ext cx="6094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1911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1676520"/>
            <a:ext cx="1523880" cy="609480"/>
            <a:chOff x="533520" y="1676520"/>
            <a:chExt cx="1523880" cy="609480"/>
          </a:xfrm>
        </p:grpSpPr>
        <p:sp>
          <p:nvSpPr>
            <p:cNvPr id="107" name=""/>
            <p:cNvSpPr/>
            <p:nvPr/>
          </p:nvSpPr>
          <p:spPr>
            <a:xfrm>
              <a:off x="533520" y="167652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50000">
                  <a:srgbClr val="ffffcc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1752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HIS  DEITY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PERSONHO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200400" y="2133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IS  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IS  DEPA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9528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N  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F  CHR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1447920" cy="1905120"/>
            <a:chOff x="4267080" y="3429000"/>
            <a:chExt cx="1447920" cy="1905120"/>
          </a:xfrm>
        </p:grpSpPr>
        <p:pic>
          <p:nvPicPr>
            <p:cNvPr id="113" name="Man&amp;Woman" descr=""/>
            <p:cNvPicPr/>
            <p:nvPr/>
          </p:nvPicPr>
          <p:blipFill>
            <a:blip r:embed="rId1"/>
            <a:stretch/>
          </p:blipFill>
          <p:spPr>
            <a:xfrm>
              <a:off x="4495680" y="3962520"/>
              <a:ext cx="7095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267080" y="3429000"/>
              <a:ext cx="1371600" cy="4572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50000">
                  <a:srgbClr val="ffffcc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3429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UN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48520" y="3429000"/>
            <a:ext cx="1295280" cy="1905120"/>
            <a:chOff x="6248520" y="3429000"/>
            <a:chExt cx="1295280" cy="1905120"/>
          </a:xfrm>
        </p:grpSpPr>
        <p:sp>
          <p:nvSpPr>
            <p:cNvPr id="117" name=""/>
            <p:cNvSpPr/>
            <p:nvPr/>
          </p:nvSpPr>
          <p:spPr>
            <a:xfrm>
              <a:off x="6248520" y="3429000"/>
              <a:ext cx="129528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cc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Man&amp;Woman" descr="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6553080" y="3962520"/>
              <a:ext cx="70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00800" y="3429000"/>
              <a:ext cx="106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BELIE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447920" y="54864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OLD 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IN  THE  CHU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199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 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3124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  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791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Y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 L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390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84836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PENTE 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43000" y="533520"/>
            <a:ext cx="7467480" cy="380880"/>
            <a:chOff x="1143000" y="533520"/>
            <a:chExt cx="7467480" cy="380880"/>
          </a:xfrm>
        </p:grpSpPr>
        <p:sp>
          <p:nvSpPr>
            <p:cNvPr id="132" name=""/>
            <p:cNvSpPr/>
            <p:nvPr/>
          </p:nvSpPr>
          <p:spPr>
            <a:xfrm>
              <a:off x="4038480" y="533520"/>
              <a:ext cx="4267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533520"/>
              <a:ext cx="7467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  <a:ea typeface="Times New Roman"/>
                </a:rPr>
                <a:t>GOD THE  HOLY  SPIRIT: HIS  MINISTRIES  TO  THE  CHU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8600" y="1523880"/>
            <a:ext cx="8839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.  HIS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 Rounded MT Bold"/>
              </a:rPr>
              <a:t>(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YOUR  INCREDIBLE  POSITION  IN  CHRIST</a:t>
            </a:r>
            <a:r>
              <a:rPr b="0" lang="en-US" sz="1800" spc="-1" strike="noStrike">
                <a:solidFill>
                  <a:srgbClr val="ff0066"/>
                </a:solidFill>
                <a:latin typeface="Arial Rounded MT Bold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D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CHRIST’S  GLORY  WIT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.  HIS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INUING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800" spc="-1" strike="noStrike">
                <a:solidFill>
                  <a:srgbClr val="ff0066"/>
                </a:solidFill>
                <a:latin typeface="Arial Rounded MT Bold"/>
              </a:rPr>
              <a:t>( </a:t>
            </a:r>
            <a:r>
              <a:rPr b="0" lang="en-US" sz="1600" spc="-1" strike="noStrike">
                <a:solidFill>
                  <a:srgbClr val="ff0066"/>
                </a:solidFill>
                <a:latin typeface="Arial Rounded MT Bold"/>
              </a:rPr>
              <a:t>IN  YOUR  WALK  BY  FAITH - CONDITION</a:t>
            </a:r>
            <a:r>
              <a:rPr b="0" lang="en-US" sz="1800" spc="-1" strike="noStrike">
                <a:solidFill>
                  <a:srgbClr val="ff0066"/>
                </a:solidFill>
                <a:latin typeface="Arial Rounded MT Bold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1.  HE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SHARES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CHRIST’S  GLORY  WITH  YOU  &amp;  THROUGH  YOU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2.  HE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REVEALS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CHRIST’S  GLORY  TO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3.  HE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GLORIFIES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THE  FATHER  &amp;  SON  IN  YOU  &amp;  THROUGH 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6553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6521400"/>
            <a:ext cx="30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457200"/>
            <a:ext cx="731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HIS  MINISTRIES  TO  THE  CHUR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95280"/>
            <a:ext cx="91440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A.  HIS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COMPLETED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YOUR  INCREDIBLE  POSITION  IN  CHRIS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HE SHARED CHRIST’S GLORY WITH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-  2 THES 2:13-14;  JN 17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ALLED  YOU ( TO SHARE IN CHRIST’S GLORY )      -  2 THES 2:13-14;  ROM 8: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HOSE  YOU                                                                                   -  2 THES 2:13; 1 PET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REGENERATED  YOU                                                                     -  JN 3:3-6;  TITUS 3:4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BAPTIZED  YOU                                                  -  ROM 6:1-10;  1 COR 12:13;  COL 2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JUSTIFIED  YOU                                                                                                   -  1 COR 6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ANCTIFIED  YOU                                               -  1 COR 6:11;  1 PET 1:2;  2 THES 2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-ENLIFED  YOU                                    -  JN 6:63;  EPH 2:4-5;  ROM 8:9-11; COL 3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REED  YOU                                                                                                                -  ROM 8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INDWELLS  YOU  FOREVER                  -  JN 14:16-17: ROM 8:9-11; 1COR 3:16; 6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EALED  YOU                                                           -  2 COR 1:22; 5:5; EPH 1:13-14; 4:30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6621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457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HIS  MINISTRIES  TO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92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85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.  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1.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HE SHARES CHRIST’S GLORY WITH YOU &amp; THROUGH YOU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-  2 COR 3:18;  ROM 5:1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ILL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ACTS 2:1-4; 13:9;  EPH 5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MPOWER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-  ACTS 1:8; ROM 15:19; 1 COR 2:4; EPH 3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GIFT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-  1 COR 12:4-11; ROM 12:3-6; HEB 2: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MANIFESTS  IN  YOU  &amp;  THROUGH  YO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FRUIT  OF  THE  SPIRIT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-  GAL 5:22-23;  2 COR 6:4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ESUS  CHRIST’S  GLORY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2 COR 3:1-11,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REE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-  ROM 8:2; 2 COR 3: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DESIRES  FOR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GAL 5:16-17;  ROM 8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GIVES  YOU  ACCESS  TO  THE  FATHER                                                         -  EPH 2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LEAD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ROM 8:14;  GAL 5:18,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FELLOWSHIPS  WITH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2 COR 13:14;  PHIL 2:1;  1 JN 4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TRANSFORM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2 COR 3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NFORMS  YOU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-  ROM 8:26-29;  GAL 4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ANNOINT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1 JN 2:20,27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629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082520"/>
            <a:ext cx="9144000" cy="85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B.  HIS  CONTINUING  MINISTRIES :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( IN  YOUR  WALK  BY  FAITH - CONDI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2. 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HE  REVEALS  CHRIST’S  GLORY  TO  YOU  &amp;  THROUGH  YOU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                   -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N 16:12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2:9-13;  ROM 8:5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COMFORT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-  JN 14:16, 26; 15:26; 16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TEACHE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JN 14:26; 16:12-15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 COR 2:13;  1 JN 2:20,2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TERCEDES  FOR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ROM 8:26-27;  EPH 6: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GUIDE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-  JN 16: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SANCTIFIE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  2 THES 2:13;  1 PET 1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TESTIFIES  TO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-  ROM 8:16;  HEB 10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NCOURAGE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ACTS 9:31;  ROM 5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REVEALS  TO  YOU  &amp;  THROUGH  YOU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FRUIT  OF  THE  SPIRIT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GAL 5:22-23;  2 COR 6:4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GLORY  OF  CHRIST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ROM 5:1-5;  2 COR 3:1-11,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 UNITY ( ONENESS )  OF HIS  PURPOSE                          -  EPH 4:3;  JN 16:12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DIFIES  YOU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-  EPH 4:11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ASSURES  YOU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-  ROM 8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 EQUIPS  YOU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 1 COR 12:7; 2 COR 6:4;  EPH 4:11-12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 HOLY  SPIRIT :   HIS  MINISTRIES  TO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6643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3 OC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2:59:33Z</dcterms:modified>
  <cp:revision>40</cp:revision>
  <dc:subject/>
  <dc:title>PowerPoint Presentation</dc:title>
</cp:coreProperties>
</file>