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515-4F1A-4843-8E56-0B46FF7454FF}" type="slidenum"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Defini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pensation” = “oikonomia” (feminine no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: “oikos”(house or household)  &amp;  “nomos” (law or princi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t:  “The principle of a household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main meanings in Gree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) Administration - The management of a household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2) The Office - The administrator or steward (stewardsh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re are 2 parties involved in a dispensa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) The one who defines the purpose &amp; principles (Administration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2) The one who carries them out (stew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pensation”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denote ti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therefore a dispensation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ve a beginning but m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ve no en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-360"/>
            <a:ext cx="5029200" cy="410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Scriptural 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“dispensation” is never used with “Innocence”, “Conscience”, “Government”, “Promise”, “Law”, or “Kingd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does the apostle Paul ever refer to these as dispen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ostle Paul seems to reveal dispensations related to groups of people (e.g. “The Church”)   -  Col 1:24,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consistently refers to 3 distinct groups of people  -  1 Cor 10: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ew (Isra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“dispensation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note “time” - therefore a dispensation will have a beginning but may not have an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tical consideration in defining a scriptural model is to account for God’s eternal purpose, which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lare His Gl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hare His Gl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veal His Gl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Glor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purpose is to share the very glory of the Lord Jesus Christ (as a man) with every believer now and through all eter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Jn 17:20-23; Rom 6:1-4; 1 Jn 3:1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emption &amp; salvation of man is only the prerequisite of God sharing His Glory with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d’s purpose is eternal then every defined dispensation should be eternal - it should have a beginning but n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each dispensation should result in all of mankind glorifying God forever-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cripture defines both Gentiles &amp; Jews(Israel) as an earthly people and those who believe (outside of the church 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pend eternity on earth glorifying God  -  1 Cor 15:47-50; Rev 21:24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Church (the bride of Christ) is a heavenly people whose citizenship is now in heaven and will spend eternit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en (The New Jerusalem) glorifying God  -  Jn 14:1-3;l 1 Cor 15:47-50; Phil 3:20; Rev 21:9 - 22: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dispensation model is the preferred interpretation because it fulfills all of the scriptural observations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7 dispensation model does n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219320"/>
            <a:ext cx="32004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96160" y="1143000"/>
            <a:ext cx="637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0  The Dispensation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1  The Covenant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2  The Angel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3  Satan: His Personality and Power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4  Satan: His Work and Destiny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5  Man: His Cre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6  Man: His F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7  Sin: Its Character and Universality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8  Salvation From the Penalty of S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 Salvation From the Power of Si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0  Four Aspects of Righteousnes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1  Sanctific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2  Assurance of Salva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3  Security of Salvation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4  Divine Electio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5  The Church: Her Members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6  The Church: Her Purpose and Com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7  The Church: Her Service and Stewardshi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8  The Church: Her Worship in Prayer and Thanksgi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9  The Church: Her Organization and Ordinances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0  The Church: The Body and Bride of Christ and Her Re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219320"/>
            <a:ext cx="251460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6521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5674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457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   DISPEN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ovenant%20Theology" descr=""/>
          <p:cNvPicPr/>
          <p:nvPr/>
        </p:nvPicPr>
        <p:blipFill>
          <a:blip r:embed="rId1"/>
          <a:srcRect l="0" t="15659" r="2913" b="4628"/>
          <a:stretch/>
        </p:blipFill>
        <p:spPr>
          <a:xfrm>
            <a:off x="0" y="1295280"/>
            <a:ext cx="9144000" cy="5299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934320" y="662148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6553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3000" y="609480"/>
            <a:ext cx="6933960" cy="609480"/>
            <a:chOff x="1143000" y="609480"/>
            <a:chExt cx="6933960" cy="609480"/>
          </a:xfrm>
        </p:grpSpPr>
        <p:sp>
          <p:nvSpPr>
            <p:cNvPr id="117" name=""/>
            <p:cNvSpPr/>
            <p:nvPr/>
          </p:nvSpPr>
          <p:spPr>
            <a:xfrm>
              <a:off x="1143000" y="609480"/>
              <a:ext cx="693396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73680" y="761760"/>
              <a:ext cx="66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47920" y="762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5.  WHAT  OCCURS  IF  DISPENSATIONALISM  IS  OMITTED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35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52520"/>
            <a:ext cx="914400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d “dispensation” is never used with “Innocence”, “Conscience”, “Government”,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mise”, “Law”, or “Kingdo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ither does the apostle Paul ever refer to these as dispen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apostle Paul seems to reveal dispensations related to groups of people (e.g. “Th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urch”)   -  Col 1:24,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ul consistently refers to 3 distinct groups of people  -  1 Cor 10: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Gen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Jew (Isra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h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d “dispensation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does no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denote “time” - therefore a dispens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ill have a  beginning but may not have an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 critical consideration in defining a scriptural model is to account for God’s eter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urpose, which 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declare Hi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share Hi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reveal Hi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be Glor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8380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ome Scriptural Observations On Dispen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685800"/>
            <a:ext cx="65530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68520"/>
            <a:ext cx="914400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purpose is to share the very glory of the Lord Jesus Christ (as a man) with ever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r now and through all eternity                            -  Jn 17:20-23; Rom 6:1-4; 1 Jn 3: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redemption &amp; salvation of man is only the prerequisite of God sharing Hi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ith 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nce God’s purpose is eternal then every defined dispensation should be eternal - it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hould have a beginning but no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lso each dispensation should result in all of mankind glorifying God forever-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. Scripture defines both Gentiles &amp; Jews(Israel) as an earthly people and those who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lieve (outside of the church age) will spend eternity on earth glorifying God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1 Cor 15:47-50; Rev 21:24-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. The Church (the bride of Christ) is a heavenly people whose citizenship is now i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aven and will spend eternity in heaven (The New Jerusalem) glorifying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Jn 14:1-3;l 1 Cor 15:47-50; Phil 3:20; Rev 21:9 - 22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3 dispensation model is the preferred interpretation because it fulfills all of th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criptural observations ab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ere the 7 dispensation model does no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838080"/>
            <a:ext cx="57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ome Scriptural Observations On Dispensations - cont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4600" y="304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   DISPEN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438280" y="685800"/>
            <a:ext cx="4038840" cy="609480"/>
            <a:chOff x="2438280" y="685800"/>
            <a:chExt cx="4038840" cy="609480"/>
          </a:xfrm>
        </p:grpSpPr>
        <p:sp>
          <p:nvSpPr>
            <p:cNvPr id="56" name=""/>
            <p:cNvSpPr/>
            <p:nvPr/>
          </p:nvSpPr>
          <p:spPr>
            <a:xfrm>
              <a:off x="2438280" y="685800"/>
              <a:ext cx="403884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83808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962520" y="838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752480"/>
            <a:ext cx="77724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.  WHAT  IS  A  DISPENSA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2.  WHAT  ARE  THE  DISPENSATION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3.  WHICH  MODEL  IS  PREFERAB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4.  WHY  THE  IMPORTANCE  OF  DISPENSATION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5.  WHAT  OCCURS  IF  DISPENSATIONALISM  IS  OMITTED ?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62400" y="66438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438280" y="685800"/>
            <a:ext cx="4495680" cy="609480"/>
            <a:chOff x="2438280" y="685800"/>
            <a:chExt cx="4495680" cy="609480"/>
          </a:xfrm>
        </p:grpSpPr>
        <p:sp>
          <p:nvSpPr>
            <p:cNvPr id="63" name=""/>
            <p:cNvSpPr/>
            <p:nvPr/>
          </p:nvSpPr>
          <p:spPr>
            <a:xfrm>
              <a:off x="2438280" y="685800"/>
              <a:ext cx="44956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2880" y="838080"/>
              <a:ext cx="432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819520" y="838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.  WHAT  IS  A  DISPENSA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2880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USA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GREEK  WORD  FOR  “DISPENSATION”  IS  USED  20  TIMES  IN  THE  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 IS  TRANSLATED  “DISPENSATION”  IN  ONLY  4  PLACES (KJV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9:17;  EPH 1:10; 3:2;  COL 1: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DEFINITION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( SEE  NOTES - PAGE 4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  DISPENSATION  IS  A  DISTINGUISHABLE  ECONOMY (GOD’S GOVER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ACTIVITY) IN  THE  OUTWORKING  OF GOD’S  PURPOSE”  -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R.  CHARLES RY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PENSATIONALISM  VIEWS  THE  WORLD  OF  MANKIND  AS  A  HOUSEHOL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UN  ACCORDING  TO  GOD’S  PURPOSE WHERE MAN  IS  A  STEWARD  -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4:1-4;  TITUS 1:7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2400" y="66294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6553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685800"/>
            <a:ext cx="33526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883908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pensation” = “oikonomia” (feminine no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: “oikos”(house or household)  &amp;  “nomos” (law or princi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:  “The principle of a household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main meanings in Gre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) Administration - The management of a househol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) The Office - The administrator or steward (stewards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are 2 parties involved in a dispens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) The one who defines the purpose &amp; principles (Administration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) The one who carries them out (stew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pensation”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oes not denote ti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therefore a dispensation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a beginning but may have no en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8380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DEFINI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6545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62320" y="2286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2.  WHAT  ARE  THE  DISPENSATIONS ?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14600" y="609480"/>
            <a:ext cx="4038480" cy="609480"/>
            <a:chOff x="2514600" y="609480"/>
            <a:chExt cx="4038480" cy="609480"/>
          </a:xfrm>
        </p:grpSpPr>
        <p:sp>
          <p:nvSpPr>
            <p:cNvPr id="77" name=""/>
            <p:cNvSpPr/>
            <p:nvPr/>
          </p:nvSpPr>
          <p:spPr>
            <a:xfrm>
              <a:off x="2514600" y="609480"/>
              <a:ext cx="403848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560" y="761760"/>
              <a:ext cx="38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THE  7  DISPENSATION  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7200" y="4114800"/>
            <a:ext cx="853452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336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BASIC  CHARACTERISTIC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336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1.  Each  dispensation  or economy  has  a  different  governing  relationship  into  which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God  enters  with  man  called  God’s  “administr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2.  Man’s  resulting  responsibility  is  called  his  “stewardship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36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3.  In  each  dispensation  there  i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336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A  TEST :    God  tests  man’s  volitional  response  to  his  God  given  respon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336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A  FAILURE :   Man  fails  to  fulfill  his  responsibility  or  stewardship  in  every  dispen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336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A  JUDGMENT :   In  each  dispensation  God  disburses  a  judgment(s)  for  man’s  fail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66438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6553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7%20Dispensations" descr=""/>
          <p:cNvPicPr/>
          <p:nvPr/>
        </p:nvPicPr>
        <p:blipFill>
          <a:blip r:embed="rId1"/>
          <a:srcRect l="0" t="22957" r="0" b="40042"/>
          <a:stretch/>
        </p:blipFill>
        <p:spPr>
          <a:xfrm>
            <a:off x="0" y="114300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438280" y="609480"/>
            <a:ext cx="4038840" cy="609480"/>
            <a:chOff x="2438280" y="609480"/>
            <a:chExt cx="4038840" cy="609480"/>
          </a:xfrm>
        </p:grpSpPr>
        <p:sp>
          <p:nvSpPr>
            <p:cNvPr id="84" name=""/>
            <p:cNvSpPr/>
            <p:nvPr/>
          </p:nvSpPr>
          <p:spPr>
            <a:xfrm>
              <a:off x="2438280" y="609480"/>
              <a:ext cx="403884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14600" y="76176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THE  3  DISPENSATION  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392200" y="22860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2.  WHAT  ARE  THE  DISPENSATIONS ?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6583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iblical%20Dispensations-4" descr=""/>
          <p:cNvPicPr/>
          <p:nvPr/>
        </p:nvPicPr>
        <p:blipFill>
          <a:blip r:embed="rId1"/>
          <a:srcRect l="0" t="4628" r="0" b="0"/>
          <a:stretch/>
        </p:blipFill>
        <p:spPr>
          <a:xfrm>
            <a:off x="685800" y="1219320"/>
            <a:ext cx="7391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2438280" y="685800"/>
            <a:ext cx="4038840" cy="609480"/>
            <a:chOff x="2438280" y="685800"/>
            <a:chExt cx="4038840" cy="609480"/>
          </a:xfrm>
        </p:grpSpPr>
        <p:sp>
          <p:nvSpPr>
            <p:cNvPr id="91" name=""/>
            <p:cNvSpPr/>
            <p:nvPr/>
          </p:nvSpPr>
          <p:spPr>
            <a:xfrm>
              <a:off x="2438280" y="685800"/>
              <a:ext cx="403884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14600" y="83808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819520" y="8380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3  DISPENSATION  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92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2.  WHAT  ARE  THE  DISPENS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66294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6583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iblical%20Dispensations-2" descr=""/>
          <p:cNvPicPr/>
          <p:nvPr/>
        </p:nvPicPr>
        <p:blipFill>
          <a:blip r:embed="rId1"/>
          <a:srcRect l="0" t="2845" r="0" b="0"/>
          <a:stretch/>
        </p:blipFill>
        <p:spPr>
          <a:xfrm>
            <a:off x="838080" y="1246320"/>
            <a:ext cx="74678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057400" y="685800"/>
            <a:ext cx="5486040" cy="609480"/>
            <a:chOff x="2057400" y="685800"/>
            <a:chExt cx="5486040" cy="609480"/>
          </a:xfrm>
        </p:grpSpPr>
        <p:sp>
          <p:nvSpPr>
            <p:cNvPr id="99" name=""/>
            <p:cNvSpPr/>
            <p:nvPr/>
          </p:nvSpPr>
          <p:spPr>
            <a:xfrm>
              <a:off x="2057400" y="685800"/>
              <a:ext cx="548604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60720" y="838080"/>
              <a:ext cx="52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286000" y="8380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3. WHICH  DISPENSATION  MODEL  IS  PREFERABLE ?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49360"/>
            <a:ext cx="9144000" cy="51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SCRIPTURAL OBSERVATIONS :  (SEE  DETAILED  OBSERVATIONS - PAGE 11 &amp; 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D “DISPENSATION” IS NEVER USED WITH 6 OF THE 7 DISPEN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UL ONLY REFERS TO THE DISPENSATION OF GRACE (THE CHU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AUL’S TEACHING IS FOCUSED ON 3 GROUPS OF PEOPL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GEN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JEWS (ISRAE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CH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 DISPENSATION DOES NOT NECESSARILY  DENOT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ACH DISPENSATION MUST FULFILL GOD’S ETERNAL PURPO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DECLARE GOD’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SHARE GOD’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REVEAL GOD’S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BE GLOR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3 DISPENSATION MODEL BEST FITS THE SCRIPTURAL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295280" y="685800"/>
            <a:ext cx="6400440" cy="609480"/>
            <a:chOff x="1295280" y="685800"/>
            <a:chExt cx="6400440" cy="609480"/>
          </a:xfrm>
        </p:grpSpPr>
        <p:sp>
          <p:nvSpPr>
            <p:cNvPr id="106" name=""/>
            <p:cNvSpPr/>
            <p:nvPr/>
          </p:nvSpPr>
          <p:spPr>
            <a:xfrm>
              <a:off x="1295280" y="685800"/>
              <a:ext cx="640044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66ff"/>
                </a:gs>
                <a:gs pos="5000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15880" y="838080"/>
              <a:ext cx="615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209680" y="8380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4.  WHY  ARE  DISPENSATIONS  IMPORT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PENSATIONS GIVE THE CLEAR REVEALED PURPOSE &amp; PLAN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PENSATIONS RECOGNIZE THE DISTINCTIONS IN 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’S ADMINISTRATION TO ISRAEL IS DIFFERENT THAN TO THE CH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STRUCTIONS OF LAW &amp; SACRIFICES TO ISRAEL DON’T APPLY TO THE CH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PENSATIONS ARE CRITICAL IN OUR INTERPRETING 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PENSATIONS PROVIDE A MEANINGFUL PHILOSOPHY OF HIS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LL OF HISTORY FOCUSES ON GOD’S ETERNAL PURPOSE &amp; PLAN THROUG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ESUS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6583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6567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4 NOV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03:02Z</dcterms:modified>
  <cp:revision>36</cp:revision>
  <dc:subject/>
  <dc:title>PowerPoint Presentation</dc:title>
</cp:coreProperties>
</file>