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8996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7199280" cy="60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6280" y="6643800"/>
            <a:ext cx="15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4680"/>
            <a:ext cx="1206360" cy="1584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2280" y="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371600" y="2133720"/>
            <a:ext cx="4419720" cy="30456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791320" y="990720"/>
            <a:ext cx="2743200" cy="276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HOMEWORK: READ CHAPTER 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4197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50520" y="1851120"/>
            <a:ext cx="54918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41  The Sabbath and the Lord's 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2  The Gentiles in History and Prophecy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3  Israel in History and Prophecy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4  Events Preceding the Second Coming of Christ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5  The Great Tribulation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6  The Second Coming of Christ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7  The Resurrection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8  The judgment of Israel and the Nations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9  The Millennial Kingdom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50  The judgment of Satan and Fallen Angels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51  The Judgment of the Great White Throne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52  The New Heaven and the New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84720" y="268200"/>
            <a:ext cx="58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Gentiles in History and Prophe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924680" y="655308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7 April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0120" y="6629400"/>
            <a:ext cx="121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7 April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4720" y="228600"/>
            <a:ext cx="58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Gentiles in History and Prophe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609480"/>
            <a:ext cx="5987880" cy="685800"/>
          </a:xfrm>
          <a:prstGeom prst="horizontalScroll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Major Divisions of Humanity from Scrip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65818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Biblical%20Dispensations-1" descr=""/>
          <p:cNvPicPr/>
          <p:nvPr/>
        </p:nvPicPr>
        <p:blipFill>
          <a:blip r:embed="rId1"/>
          <a:srcRect l="0" t="4446" r="0" b="0"/>
          <a:stretch/>
        </p:blipFill>
        <p:spPr>
          <a:xfrm>
            <a:off x="990720" y="1295280"/>
            <a:ext cx="76104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84720" y="268200"/>
            <a:ext cx="58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Gentiles in History and Prophe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5428800">
            <a:off x="380520" y="3124080"/>
            <a:ext cx="990720" cy="1600200"/>
          </a:xfrm>
          <a:prstGeom prst="wedgeRoundRectCallout">
            <a:avLst>
              <a:gd name="adj1" fmla="val -169777"/>
              <a:gd name="adj2" fmla="val -26055"/>
              <a:gd name="adj3" fmla="val 16667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he Genti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after Abrah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5428800">
            <a:off x="2133000" y="3122640"/>
            <a:ext cx="990360" cy="1600200"/>
          </a:xfrm>
          <a:prstGeom prst="wedgeRoundRectCallout">
            <a:avLst>
              <a:gd name="adj1" fmla="val -169194"/>
              <a:gd name="adj2" fmla="val -108800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he Genti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af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Pente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5428800">
            <a:off x="3999960" y="3009600"/>
            <a:ext cx="990720" cy="1828800"/>
          </a:xfrm>
          <a:prstGeom prst="wedgeRoundRectCallout">
            <a:avLst>
              <a:gd name="adj1" fmla="val -175981"/>
              <a:gd name="adj2" fmla="val -115712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he Gentiles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Judgment w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Christ Retur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5428800">
            <a:off x="7597080" y="3070080"/>
            <a:ext cx="990720" cy="1708200"/>
          </a:xfrm>
          <a:prstGeom prst="wedgeRoundRectCallout">
            <a:avLst>
              <a:gd name="adj1" fmla="val -166449"/>
              <a:gd name="adj2" fmla="val -11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he Gentiles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he Eternal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8720" y="4724280"/>
            <a:ext cx="7786440" cy="14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Greek word is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ethnos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- a multitude or company of people of the s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nature or ge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ord translated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Gentiles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or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Nations</a:t>
            </a:r>
            <a:r>
              <a:rPr b="0" lang="en-US" sz="2400" spc="-1" strike="noStrike">
                <a:solidFill>
                  <a:srgbClr val="0000ff"/>
                </a:solidFill>
                <a:latin typeface="Arial Rounded MT Bold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 related word translated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Greeks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denoted Gentiles who spoke Gre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6248520"/>
            <a:ext cx="541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Rounded MT Bold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Nations (Heb.- goy)  used in the OT in many ver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28800">
            <a:off x="5866920" y="3124080"/>
            <a:ext cx="990720" cy="1600200"/>
          </a:xfrm>
          <a:prstGeom prst="wedgeRoundRectCallout">
            <a:avLst>
              <a:gd name="adj1" fmla="val -166472"/>
              <a:gd name="adj2" fmla="val -52074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he Gent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in the Millenn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Kingd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91120" y="66294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924680" y="655308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7 April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725400"/>
            <a:ext cx="8686800" cy="2000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153280" y="1523880"/>
            <a:ext cx="0" cy="91440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905120" y="609480"/>
            <a:ext cx="5029200" cy="685800"/>
          </a:xfrm>
          <a:prstGeom prst="horizontalScroll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Gentiles after Abraham Called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84720" y="268200"/>
            <a:ext cx="58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Gentiles in History and Prophe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600" y="1295280"/>
            <a:ext cx="8518320" cy="51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Humanity divided into two groups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The nation of Israel (Abraham - Isaac -Jacob)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Gen.12:1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--- go forth from your country, and from your rel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and from your father’s house, to the land which I will show you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And I will make you a great nation, and I will bless you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and make your name great; and so you shall be a blessin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And I will bless those who bless you, and the one who curses you I will cur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and in you all the families of the earth will be bless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All other n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Egypt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Gen. 12:10-14; 13:1&amp;10;15: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ssyria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Gen. 10:11; 2 Kings 15:19-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Babylon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2 Kings 25:1-21, Dan 4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65530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924680" y="655308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7 April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828800" y="609480"/>
            <a:ext cx="4952880" cy="68580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Gentiles after Pentecost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84720" y="268200"/>
            <a:ext cx="58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Gentiles in History and Prophe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2560" y="1447920"/>
            <a:ext cx="8105400" cy="46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rial Rounded MT Bold"/>
              </a:rPr>
              <a:t>Gentiles before Pentec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Eph. 2:12  remember that </a:t>
            </a:r>
            <a:r>
              <a:rPr b="0" lang="en-US" sz="1600" spc="-1" strike="noStrike">
                <a:solidFill>
                  <a:srgbClr val="0000ff"/>
                </a:solidFill>
                <a:latin typeface="Arial Rounded MT Bold"/>
              </a:rPr>
              <a:t>you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(Gentiles) were at that time separate from Chris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excluded from the commonwealth of Israel, and strangers to the coven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of promise, having no hope and without God in the worl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rial Rounded MT Bold"/>
              </a:rPr>
              <a:t>Gentiles are now fellow heirs through the Gosp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Eph. 3:6  to be specific, that </a:t>
            </a:r>
            <a:r>
              <a:rPr b="0" lang="en-US" sz="1600" spc="-1" strike="noStrike">
                <a:solidFill>
                  <a:srgbClr val="0000ff"/>
                </a:solidFill>
                <a:latin typeface="Arial Rounded MT Bold"/>
              </a:rPr>
              <a:t>the Gentiles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are fellow heirs and fellow memb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of the body, and fellow partakers of the promise in Christ Jesus through the gospe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ct. 10:44 --- the Holy Spirit fell upon all those who were listening to the mes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45  All the circumcised believers who came with Peter were amaze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because the gift of the Holy Spirit had been poured out on </a:t>
            </a:r>
            <a:r>
              <a:rPr b="0" lang="en-US" sz="1600" spc="-1" strike="noStrike">
                <a:solidFill>
                  <a:srgbClr val="0000ff"/>
                </a:solidFill>
                <a:latin typeface="Arial Rounded MT Bold"/>
              </a:rPr>
              <a:t>the Gentiles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al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ct 11:17  “Therefore if God gave to them the same gift as He gave to us als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fter believing in the Lord Jesus Christ, who was I that I could stand in God’s way?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18  When they heard this, they quieted down and glorified God, saying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Well then, God has granted to </a:t>
            </a:r>
            <a:r>
              <a:rPr b="0" lang="en-US" sz="1600" spc="-1" strike="noStrike">
                <a:solidFill>
                  <a:srgbClr val="0000ff"/>
                </a:solidFill>
                <a:latin typeface="Arial Rounded MT Bold"/>
              </a:rPr>
              <a:t>the Gentiles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also the repentance that leads to life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65530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924680" y="655308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7 April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371600" y="609480"/>
            <a:ext cx="6781680" cy="68580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The Gentiles Judgment when Christ Returns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84720" y="268200"/>
            <a:ext cx="58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Gentiles in History and Prophe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5600" y="1295280"/>
            <a:ext cx="7875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Joel 3:2  I will gather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all the nations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n I will enter into judgment with them t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On behalf of My people and My inheritance, Israel, 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:12  Let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the nations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be aroused --- For there I will sit to ju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ll the surrounding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nations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Matt 25:31  “But when the Son of Man comes in His glor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nd all the angels with Him, then He will sit on His glorious thr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32  “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All the nations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will be gathered before Him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nd He will separate them from one another, 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33  and He will put the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sheep on His right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, and the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goats on the left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34  “Then the King will say to those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on His right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ome, you who are blessed of My Fath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nherit the kingdom prepared for you from the foundation of the worl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65530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924680" y="655308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7 April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584720" y="268200"/>
            <a:ext cx="58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Gentiles in History and Prophe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609480"/>
            <a:ext cx="6781680" cy="68580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The Gentiles in the Millennial Kingd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0120" y="1952640"/>
            <a:ext cx="8328240" cy="36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The Scriptures’ promise of Gentiles (Nation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in the Millennial Kingdom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Isa. 2:1- 4, Jer. 3:17, Jer. 16:19-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The Gentiles will be Israel’s servant during this 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Isa. 14:1-2, Isa. 49:22-23, Acts 15:16-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The Gentiles are saved prior to ad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Isa. 19:19-25, Isa: 61:8-9, Matt. 25: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The Gentiles will be subject to Christ (Messia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Isa. 42:1, Isa. 49:6, Zech. 8:20-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65530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924680" y="655308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7 April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84720" y="268200"/>
            <a:ext cx="58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Gentiles in History and Prophe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609480"/>
            <a:ext cx="5181480" cy="68580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The Gentiles in the Eternal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0040" y="1523880"/>
            <a:ext cx="841032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Rev 21:22   I saw no temple in it, for the Lord God the Almigh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nd the Lamb are its temp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23.  And the city has no need of the sun or of the moon to shine on i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for the glory of God has illumined it, and its lamp is the La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24. 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The nations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will walk by its ligh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nd the kings of the earth will bring their glory into 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Rev 22:1  Then he showed me a river of the water of life, clear as crystal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oming from the throne of God and of the Lamb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2.     in the middle of its street. On either side of the river was the tree of lif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bearing twelve kinds of fruit, yielding its fruit every month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nd the leaves of the tree were for the healing of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the nations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19720" y="65530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924680" y="655308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7 April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1:54:03Z</dcterms:created>
  <dc:creator>Roger Henderson</dc:creator>
  <dc:description/>
  <dc:language>en-US</dc:language>
  <cp:lastModifiedBy>Hal Molloy</cp:lastModifiedBy>
  <cp:lastPrinted>2003-04-27T02:02:51Z</cp:lastPrinted>
  <dcterms:modified xsi:type="dcterms:W3CDTF">2003-11-15T23:29:35Z</dcterms:modified>
  <cp:revision>341</cp:revision>
  <dc:subject/>
  <dc:title>The Gentiles</dc:title>
</cp:coreProperties>
</file>