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990720" y="919080"/>
            <a:ext cx="7199280" cy="60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254880" y="6405480"/>
            <a:ext cx="155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R. HENDERSON / H. MOLLO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4680"/>
            <a:ext cx="1206360" cy="1584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2280" y="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MAJOR BIBLE THE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752480" y="3886200"/>
            <a:ext cx="5486400" cy="30492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efefe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905120" y="1143000"/>
            <a:ext cx="6095880" cy="51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I.  The Bible: The Word of God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2. The Bible: Inspired of Go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3. The Bible: Its Subject and Purpose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4. The Bible: As a Divine Revelation</a:t>
            </a:r>
            <a:r>
              <a:rPr b="1" lang="en-US" sz="14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5.  God The Trin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6.  God the Fathe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7.  God the Son: His Deity and Eternity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8.  God the Son: His Incarnation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9.  God the Son: His Substitutionary Death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0. God the Son: His Resurrection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1. God the Son: His Ascension and Priestly Minis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2. God the Son: His Coming for His Sai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3. God the Son: His Coming With His Sai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4. God the Holy Spirit: His Personality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5. God the Holy Spirit: His Advent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6. God the Holy Spirit: His Regenera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7. God the Holy Spirit: His Indwelling and Seal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8. God the Holy Spirit: His Baptism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9. God the Holy Spirit: His Filling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772400" y="632448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2 SEPT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19920" y="1752480"/>
            <a:ext cx="2895480" cy="832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 Rounded MT Bold"/>
              </a:rPr>
              <a:t>HOMEWORK: READ CHAP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 Rounded MT Bold"/>
              </a:rPr>
              <a:t>ANSWER QUESTIONS: 1,3, 7, 9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643104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3880" y="45720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GOD THE SON:   HIS ASCENSION AND PRIESTLY MINI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19320" y="53352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GOD THE SON:   HIS ASCENSION AND PRIESTLY MINI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95280" y="990720"/>
            <a:ext cx="7467840" cy="990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57600" y="10666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WHY  THE  ASCENSION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90920" y="1447920"/>
            <a:ext cx="58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WHY  DIDN’T  CHRIST  REMAIN  HERE  ON  EARTH ?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2133720"/>
            <a:ext cx="632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Rounded MT Bold"/>
              </a:rPr>
              <a:t>FOUR  REASONS  FOR  CHRIST’S  ASCENS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2514600"/>
            <a:ext cx="3809880" cy="2209680"/>
          </a:xfrm>
          <a:prstGeom prst="irregularSeal2">
            <a:avLst/>
          </a:prstGeom>
          <a:gradFill rotWithShape="0">
            <a:gsLst>
              <a:gs pos="0">
                <a:srgbClr val="ff99ff"/>
              </a:gs>
              <a:gs pos="50000">
                <a:srgbClr val="ccff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1905120"/>
            <a:ext cx="3809880" cy="2209680"/>
          </a:xfrm>
          <a:prstGeom prst="irregularSeal2">
            <a:avLst/>
          </a:prstGeom>
          <a:gradFill rotWithShape="0">
            <a:gsLst>
              <a:gs pos="0">
                <a:srgbClr val="ff99ff"/>
              </a:gs>
              <a:gs pos="50000">
                <a:srgbClr val="ffffcc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4419720"/>
            <a:ext cx="3810240" cy="2209680"/>
          </a:xfrm>
          <a:prstGeom prst="irregularSeal2">
            <a:avLst/>
          </a:prstGeom>
          <a:gradFill rotWithShape="0">
            <a:gsLst>
              <a:gs pos="0">
                <a:srgbClr val="ff99ff"/>
              </a:gs>
              <a:gs pos="50000">
                <a:srgbClr val="ffff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05520" y="3886200"/>
            <a:ext cx="3809880" cy="2209680"/>
          </a:xfrm>
          <a:prstGeom prst="irregularSeal2">
            <a:avLst/>
          </a:prstGeom>
          <a:gradFill rotWithShape="0">
            <a:gsLst>
              <a:gs pos="0">
                <a:srgbClr val="ffccff"/>
              </a:gs>
              <a:gs pos="50000">
                <a:srgbClr val="ccffcc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335268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Rounded MT Bold"/>
              </a:rPr>
              <a:t>CHRIST  HAD  FINISH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Rounded MT Bold"/>
              </a:rPr>
              <a:t>       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</a:rPr>
              <a:t>HIS  EARTH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Rounded MT Bold"/>
              </a:rPr>
              <a:t>              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</a:rPr>
              <a:t>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81480" y="2666880"/>
            <a:ext cx="266724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Rounded MT Bold"/>
              </a:rPr>
              <a:t>IT  WAS  GOD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Rounded MT Bold"/>
              </a:rPr>
              <a:t>PURPOSE  &amp; 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05120" y="541008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Rounded MT Bold"/>
              </a:rPr>
              <a:t>TO  GLORIFY  CHR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91320" y="480060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Rounded MT Bold"/>
              </a:rPr>
              <a:t>TO  RETURN  HO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96080" y="640080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2 SEPT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18000" y="647712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143000" y="45720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GOD THE SON:   HIS ASCENSION AND PRIESTLY MINI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685800"/>
            <a:ext cx="7696440" cy="9907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c99ff"/>
              </a:gs>
              <a:gs pos="50000">
                <a:srgbClr val="ffffff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1143000"/>
            <a:ext cx="541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1.  CHRIST  HAD  FINISHED  HIS  EARTHLY  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209680"/>
            <a:ext cx="91440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2640"/>
                <a:tab algn="l" pos="1201680"/>
                <a:tab algn="l" pos="1206360"/>
                <a:tab algn="l" pos="1327320"/>
                <a:tab algn="l" pos="1447920"/>
                <a:tab algn="l" pos="1568520"/>
                <a:tab algn="l" pos="1689120"/>
                <a:tab algn="l" pos="1809720"/>
                <a:tab algn="l" pos="1930320"/>
                <a:tab algn="l" pos="2050920"/>
                <a:tab algn="l" pos="2171880"/>
                <a:tab algn="l" pos="2292480"/>
                <a:tab algn="l" pos="2413080"/>
                <a:tab algn="l" pos="2533680"/>
                <a:tab algn="l" pos="2654280"/>
                <a:tab algn="l" pos="2774880"/>
                <a:tab algn="l" pos="2895480"/>
                <a:tab algn="l" pos="3016080"/>
                <a:tab algn="l" pos="3137040"/>
                <a:tab algn="l" pos="3257640"/>
                <a:tab algn="l" pos="3378240"/>
                <a:tab algn="l" pos="34988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512640"/>
                <a:tab algn="l" pos="1201680"/>
                <a:tab algn="l" pos="1206360"/>
                <a:tab algn="l" pos="1327320"/>
                <a:tab algn="l" pos="1447920"/>
                <a:tab algn="l" pos="1568520"/>
                <a:tab algn="l" pos="1689120"/>
                <a:tab algn="l" pos="1809720"/>
                <a:tab algn="l" pos="1930320"/>
                <a:tab algn="l" pos="2050920"/>
                <a:tab algn="l" pos="2171880"/>
                <a:tab algn="l" pos="2292480"/>
                <a:tab algn="l" pos="2413080"/>
                <a:tab algn="l" pos="2533680"/>
                <a:tab algn="l" pos="2654280"/>
                <a:tab algn="l" pos="2774880"/>
                <a:tab algn="l" pos="2895480"/>
                <a:tab algn="l" pos="3016080"/>
                <a:tab algn="l" pos="3137040"/>
                <a:tab algn="l" pos="3257640"/>
                <a:tab algn="l" pos="3378240"/>
                <a:tab algn="l" pos="3498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BY  HIS  WORK  ON  THE  CROSS                                                                                   - JN 17: 1,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2640"/>
                <a:tab algn="l" pos="1201680"/>
                <a:tab algn="l" pos="1206360"/>
                <a:tab algn="l" pos="1327320"/>
                <a:tab algn="l" pos="1447920"/>
                <a:tab algn="l" pos="1568520"/>
                <a:tab algn="l" pos="1689120"/>
                <a:tab algn="l" pos="1809720"/>
                <a:tab algn="l" pos="1930320"/>
                <a:tab algn="l" pos="2050920"/>
                <a:tab algn="l" pos="2171880"/>
                <a:tab algn="l" pos="2292480"/>
                <a:tab algn="l" pos="2413080"/>
                <a:tab algn="l" pos="2533680"/>
                <a:tab algn="l" pos="2654280"/>
                <a:tab algn="l" pos="2774880"/>
                <a:tab algn="l" pos="2895480"/>
                <a:tab algn="l" pos="3016080"/>
                <a:tab algn="l" pos="3137040"/>
                <a:tab algn="l" pos="3257640"/>
                <a:tab algn="l" pos="3378240"/>
                <a:tab algn="l" pos="34988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512640"/>
                <a:tab algn="l" pos="1201680"/>
                <a:tab algn="l" pos="1206360"/>
                <a:tab algn="l" pos="1327320"/>
                <a:tab algn="l" pos="1447920"/>
                <a:tab algn="l" pos="1568520"/>
                <a:tab algn="l" pos="1689120"/>
                <a:tab algn="l" pos="1809720"/>
                <a:tab algn="l" pos="1930320"/>
                <a:tab algn="l" pos="2050920"/>
                <a:tab algn="l" pos="2171880"/>
                <a:tab algn="l" pos="2292480"/>
                <a:tab algn="l" pos="2413080"/>
                <a:tab algn="l" pos="2533680"/>
                <a:tab algn="l" pos="2654280"/>
                <a:tab algn="l" pos="2774880"/>
                <a:tab algn="l" pos="2895480"/>
                <a:tab algn="l" pos="3016080"/>
                <a:tab algn="l" pos="3137040"/>
                <a:tab algn="l" pos="3257640"/>
                <a:tab algn="l" pos="3378240"/>
                <a:tab algn="l" pos="3498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CHRIST  FULFILLS  HIS  PART  OF  THE  ETERNAL  COVENANT              -  HEB 13: 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512640"/>
                <a:tab algn="l" pos="1201680"/>
                <a:tab algn="l" pos="1206360"/>
                <a:tab algn="l" pos="1327320"/>
                <a:tab algn="l" pos="1447920"/>
                <a:tab algn="l" pos="1568520"/>
                <a:tab algn="l" pos="1689120"/>
                <a:tab algn="l" pos="1809720"/>
                <a:tab algn="l" pos="1930320"/>
                <a:tab algn="l" pos="2050920"/>
                <a:tab algn="l" pos="2171880"/>
                <a:tab algn="l" pos="2292480"/>
                <a:tab algn="l" pos="2413080"/>
                <a:tab algn="l" pos="2533680"/>
                <a:tab algn="l" pos="2654280"/>
                <a:tab algn="l" pos="2774880"/>
                <a:tab algn="l" pos="2895480"/>
                <a:tab algn="l" pos="3016080"/>
                <a:tab algn="l" pos="3137040"/>
                <a:tab algn="l" pos="3257640"/>
                <a:tab algn="l" pos="3378240"/>
                <a:tab algn="l" pos="34988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512640"/>
                <a:tab algn="l" pos="1201680"/>
                <a:tab algn="l" pos="1206360"/>
                <a:tab algn="l" pos="1327320"/>
                <a:tab algn="l" pos="1447920"/>
                <a:tab algn="l" pos="1568520"/>
                <a:tab algn="l" pos="1689120"/>
                <a:tab algn="l" pos="1809720"/>
                <a:tab algn="l" pos="1930320"/>
                <a:tab algn="l" pos="2050920"/>
                <a:tab algn="l" pos="2171880"/>
                <a:tab algn="l" pos="2292480"/>
                <a:tab algn="l" pos="2413080"/>
                <a:tab algn="l" pos="2533680"/>
                <a:tab algn="l" pos="2654280"/>
                <a:tab algn="l" pos="2774880"/>
                <a:tab algn="l" pos="2895480"/>
                <a:tab algn="l" pos="3016080"/>
                <a:tab algn="l" pos="3137040"/>
                <a:tab algn="l" pos="3257640"/>
                <a:tab algn="l" pos="3378240"/>
                <a:tab algn="l" pos="3498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FORGIVES  MAN’S  SINS                                                                                    -  1 JN 2: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512640"/>
                <a:tab algn="l" pos="1201680"/>
                <a:tab algn="l" pos="1206360"/>
                <a:tab algn="l" pos="1327320"/>
                <a:tab algn="l" pos="1447920"/>
                <a:tab algn="l" pos="1568520"/>
                <a:tab algn="l" pos="1689120"/>
                <a:tab algn="l" pos="1809720"/>
                <a:tab algn="l" pos="1930320"/>
                <a:tab algn="l" pos="2050920"/>
                <a:tab algn="l" pos="2171880"/>
                <a:tab algn="l" pos="2292480"/>
                <a:tab algn="l" pos="2413080"/>
                <a:tab algn="l" pos="2533680"/>
                <a:tab algn="l" pos="2654280"/>
                <a:tab algn="l" pos="2774880"/>
                <a:tab algn="l" pos="2895480"/>
                <a:tab algn="l" pos="3016080"/>
                <a:tab algn="l" pos="3137040"/>
                <a:tab algn="l" pos="3257640"/>
                <a:tab algn="l" pos="3378240"/>
                <a:tab algn="l" pos="34988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512640"/>
                <a:tab algn="l" pos="1201680"/>
                <a:tab algn="l" pos="1206360"/>
                <a:tab algn="l" pos="1327320"/>
                <a:tab algn="l" pos="1447920"/>
                <a:tab algn="l" pos="1568520"/>
                <a:tab algn="l" pos="1689120"/>
                <a:tab algn="l" pos="1809720"/>
                <a:tab algn="l" pos="1930320"/>
                <a:tab algn="l" pos="2050920"/>
                <a:tab algn="l" pos="2171880"/>
                <a:tab algn="l" pos="2292480"/>
                <a:tab algn="l" pos="2413080"/>
                <a:tab algn="l" pos="2533680"/>
                <a:tab algn="l" pos="2654280"/>
                <a:tab algn="l" pos="2774880"/>
                <a:tab algn="l" pos="2895480"/>
                <a:tab algn="l" pos="3016080"/>
                <a:tab algn="l" pos="3137040"/>
                <a:tab algn="l" pos="3257640"/>
                <a:tab algn="l" pos="3378240"/>
                <a:tab algn="l" pos="3498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CONDEMNS  THE  SIN  NATURE                                                                     -  ROM 8: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512640"/>
                <a:tab algn="l" pos="1201680"/>
                <a:tab algn="l" pos="1206360"/>
                <a:tab algn="l" pos="1327320"/>
                <a:tab algn="l" pos="1447920"/>
                <a:tab algn="l" pos="1568520"/>
                <a:tab algn="l" pos="1689120"/>
                <a:tab algn="l" pos="1809720"/>
                <a:tab algn="l" pos="1930320"/>
                <a:tab algn="l" pos="2050920"/>
                <a:tab algn="l" pos="2171880"/>
                <a:tab algn="l" pos="2292480"/>
                <a:tab algn="l" pos="2413080"/>
                <a:tab algn="l" pos="2533680"/>
                <a:tab algn="l" pos="2654280"/>
                <a:tab algn="l" pos="2774880"/>
                <a:tab algn="l" pos="2895480"/>
                <a:tab algn="l" pos="3016080"/>
                <a:tab algn="l" pos="3137040"/>
                <a:tab algn="l" pos="3257640"/>
                <a:tab algn="l" pos="3378240"/>
                <a:tab algn="l" pos="34988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512640"/>
                <a:tab algn="l" pos="1201680"/>
                <a:tab algn="l" pos="1206360"/>
                <a:tab algn="l" pos="1327320"/>
                <a:tab algn="l" pos="1447920"/>
                <a:tab algn="l" pos="1568520"/>
                <a:tab algn="l" pos="1689120"/>
                <a:tab algn="l" pos="1809720"/>
                <a:tab algn="l" pos="1930320"/>
                <a:tab algn="l" pos="2050920"/>
                <a:tab algn="l" pos="2171880"/>
                <a:tab algn="l" pos="2292480"/>
                <a:tab algn="l" pos="2413080"/>
                <a:tab algn="l" pos="2533680"/>
                <a:tab algn="l" pos="2654280"/>
                <a:tab algn="l" pos="2774880"/>
                <a:tab algn="l" pos="2895480"/>
                <a:tab algn="l" pos="3016080"/>
                <a:tab algn="l" pos="3137040"/>
                <a:tab algn="l" pos="3257640"/>
                <a:tab algn="l" pos="3378240"/>
                <a:tab algn="l" pos="34988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512640"/>
                <a:tab algn="l" pos="1201680"/>
                <a:tab algn="l" pos="1206360"/>
                <a:tab algn="l" pos="1327320"/>
                <a:tab algn="l" pos="1447920"/>
                <a:tab algn="l" pos="1568520"/>
                <a:tab algn="l" pos="1689120"/>
                <a:tab algn="l" pos="1809720"/>
                <a:tab algn="l" pos="1930320"/>
                <a:tab algn="l" pos="2050920"/>
                <a:tab algn="l" pos="2171880"/>
                <a:tab algn="l" pos="2292480"/>
                <a:tab algn="l" pos="2413080"/>
                <a:tab algn="l" pos="2533680"/>
                <a:tab algn="l" pos="2654280"/>
                <a:tab algn="l" pos="2774880"/>
                <a:tab algn="l" pos="2895480"/>
                <a:tab algn="l" pos="3016080"/>
                <a:tab algn="l" pos="3137040"/>
                <a:tab algn="l" pos="3257640"/>
                <a:tab algn="l" pos="3378240"/>
                <a:tab algn="l" pos="34988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12640"/>
                <a:tab algn="l" pos="1201680"/>
                <a:tab algn="l" pos="1206360"/>
                <a:tab algn="l" pos="1327320"/>
                <a:tab algn="l" pos="1447920"/>
                <a:tab algn="l" pos="1568520"/>
                <a:tab algn="l" pos="1689120"/>
                <a:tab algn="l" pos="1809720"/>
                <a:tab algn="l" pos="1930320"/>
                <a:tab algn="l" pos="2050920"/>
                <a:tab algn="l" pos="2171880"/>
                <a:tab algn="l" pos="2292480"/>
                <a:tab algn="l" pos="2413080"/>
                <a:tab algn="l" pos="2533680"/>
                <a:tab algn="l" pos="2654280"/>
                <a:tab algn="l" pos="2774880"/>
                <a:tab algn="l" pos="2895480"/>
                <a:tab algn="l" pos="3016080"/>
                <a:tab algn="l" pos="3137040"/>
                <a:tab algn="l" pos="3257640"/>
                <a:tab algn="l" pos="3378240"/>
                <a:tab algn="l" pos="34988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WHY  THE  ASCENSION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543800" y="640080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Rounded MT Bold"/>
              </a:rPr>
              <a:t>22 SEPT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19720" y="631656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643104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752480" y="4572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 Rounded MT Bold"/>
              </a:rPr>
              <a:t>THE  ETERNAL  COVENANT      -     HEB 13: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990720"/>
            <a:ext cx="868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1" lang="en-US" sz="1600" spc="-1" strike="noStrike" u="sng">
                <a:solidFill>
                  <a:srgbClr val="3333cc"/>
                </a:solidFill>
                <a:uFillTx/>
                <a:latin typeface="Arial Rounded MT Bold"/>
              </a:rPr>
              <a:t>DEFINITIONS :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“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COVENANT” ( DIATHEKE = TO CUT OR PLACE BETWEEN TWO,  AN AGREEMENT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“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ETERNAL”    ( AIONIOS = FROM &amp; FOR ALL ETERNITY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533520" y="1905120"/>
            <a:ext cx="8076960" cy="2820600"/>
            <a:chOff x="533520" y="1905120"/>
            <a:chExt cx="8076960" cy="2820600"/>
          </a:xfrm>
        </p:grpSpPr>
        <p:sp>
          <p:nvSpPr>
            <p:cNvPr id="72" name=""/>
            <p:cNvSpPr/>
            <p:nvPr/>
          </p:nvSpPr>
          <p:spPr>
            <a:xfrm>
              <a:off x="533520" y="1905120"/>
              <a:ext cx="8001000" cy="1447560"/>
            </a:xfrm>
            <a:prstGeom prst="horizontalScroll">
              <a:avLst>
                <a:gd name="adj" fmla="val 12500"/>
              </a:avLst>
            </a:prstGeom>
            <a:gradFill rotWithShape="0">
              <a:gsLst>
                <a:gs pos="0">
                  <a:srgbClr val="cc9900"/>
                </a:gs>
                <a:gs pos="50000">
                  <a:srgbClr val="ffcccc"/>
                </a:gs>
                <a:gs pos="100000">
                  <a:srgbClr val="cc99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85800" y="2286000"/>
              <a:ext cx="2819520" cy="6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Rounded MT Bold"/>
                </a:rPr>
                <a:t>    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 Rounded MT Bold"/>
                </a:rPr>
                <a:t>GOD  THE  S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Rounded MT Bold"/>
                </a:rPr>
                <a:t>   “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Rounded MT Bold"/>
                </a:rPr>
                <a:t>THE  GREAT  SHEPHERD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809880" y="2362320"/>
              <a:ext cx="152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Rounded MT Bold"/>
                </a:rPr>
                <a:t>AGRE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791320" y="2238480"/>
              <a:ext cx="2819160" cy="73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Rounded MT Bold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 Rounded MT Bold"/>
                </a:rPr>
                <a:t>GOD  THE  FATH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Rounded MT Bold"/>
                </a:rPr>
                <a:t>    “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Rounded MT Bold"/>
                </a:rPr>
                <a:t>THE  GOD  OF  PEACE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81280" y="213372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562720" y="213372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209680" y="3200400"/>
              <a:ext cx="0" cy="533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086600" y="3200400"/>
              <a:ext cx="0" cy="533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09480" y="3657600"/>
              <a:ext cx="3124440" cy="8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Rounded MT Bold"/>
                </a:rPr>
                <a:t>“…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Rounded MT Bold"/>
                </a:rPr>
                <a:t>THROUGH THE BLOOD..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Rounded MT Bold"/>
                </a:rPr>
                <a:t>( AGREES TO SHED HIS BLOO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Rounded MT Bold"/>
                </a:rPr>
                <a:t>FOR THE SINS OF THE WORLD 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410080" y="3657600"/>
              <a:ext cx="3200400" cy="10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Rounded MT Bold"/>
                </a:rPr>
                <a:t>“…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Rounded MT Bold"/>
                </a:rPr>
                <a:t>THAT BROUGHT AGAIN FR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Rounded MT Bold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Rounded MT Bold"/>
                </a:rPr>
                <a:t>THE DEAD OUR LORD JESUS “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Rounded MT Bold"/>
                </a:rPr>
                <a:t>( AGREES TO RAISE UP CHRIST 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0" y="4876920"/>
            <a:ext cx="9372600" cy="15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 Rounded MT Bold"/>
              </a:rPr>
              <a:t>REAS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BLOOD / DEATH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WITHOUT THE SHEDDING OF BLOOD THERE IS NO FORGIVENESS OF SINS        - HEB 9: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THE RESURRECTION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WITHOUT THE RESURRECTION WE WOULD STILL BE IN OUR SINS                    -1 COR 15: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IT’S THE PROOF THAT GOD IS SATISFIED WITH CHRIST’S WORK                      -1 COR 15:1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467480" y="6477120"/>
            <a:ext cx="121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Rounded MT Bold"/>
              </a:rPr>
              <a:t>22 SEPT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19720" y="64771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143000" y="53352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GOD THE SON:   HIS ASCENSION AND PRIESTLY MINI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990720"/>
            <a:ext cx="7696080" cy="8380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c99ff"/>
              </a:gs>
              <a:gs pos="50000">
                <a:srgbClr val="ffffff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62320" y="1339920"/>
            <a:ext cx="541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2.   IT  WAS  GOD’S  PURPOSE  &amp; 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71800" y="10666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WHY  THE  ASCENSION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220176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2209680"/>
            <a:ext cx="91440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Arial Rounded MT Bold"/>
              </a:rPr>
              <a:t>CHRIST  FULFILLS  GOD’S  ETERNAL  PURPOSE  OF  SHARING  HIS  GLORY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- JN 17: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114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11412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BY  GIVING  ETERNAL  LIFE  TO  ALL  WHO  BELIEVE                                           - JN 17: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114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11412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ETERNAL  LIFE  IS  CHRIST’S  LIFE (POSITIONALLY) &amp; KNOWING (EXPERIENTIAL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114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&amp;  INTIMATELY)  GOD  THE  FATHER  &amp;  JESUS  CHRIST     -1 JN 5:11-13; COL 3:4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114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JN 17: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114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114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Arial Rounded MT Bold"/>
              </a:rPr>
              <a:t>CHRIST’S  ASCENSION  WAS  GOD’S  PLAN  &amp;  FORET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11412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IT  WAS  ANNOUNCED  BY  CHRIST                                                                          -  JN 16: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114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11412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IT  WAS  ACCOMPLISHED                                                                                     -  ACTS 1: 9-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315200" y="632448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2 SEPT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64771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143000" y="53352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GOD THE SON:   HIS ASCENSION AND PRIESTLY MINI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1363680"/>
            <a:ext cx="8001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219320"/>
            <a:ext cx="8229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762120" y="1371600"/>
            <a:ext cx="7696080" cy="838080"/>
            <a:chOff x="762120" y="1371600"/>
            <a:chExt cx="7696080" cy="838080"/>
          </a:xfrm>
        </p:grpSpPr>
        <p:sp>
          <p:nvSpPr>
            <p:cNvPr id="97" name=""/>
            <p:cNvSpPr/>
            <p:nvPr/>
          </p:nvSpPr>
          <p:spPr>
            <a:xfrm>
              <a:off x="762120" y="1371600"/>
              <a:ext cx="7696080" cy="838080"/>
            </a:xfrm>
            <a:prstGeom prst="horizontalScroll">
              <a:avLst>
                <a:gd name="adj" fmla="val 12500"/>
              </a:avLst>
            </a:prstGeom>
            <a:gradFill rotWithShape="0">
              <a:gsLst>
                <a:gs pos="0">
                  <a:srgbClr val="cc99ff"/>
                </a:gs>
                <a:gs pos="50000">
                  <a:srgbClr val="ffffff"/>
                </a:gs>
                <a:gs pos="100000">
                  <a:srgbClr val="cc99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200400" y="1752480"/>
              <a:ext cx="419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Rounded MT Bold"/>
                </a:rPr>
                <a:t>3.  TO  GLORIFY  CHR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971800" y="1447560"/>
              <a:ext cx="480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Rounded MT Bold"/>
                </a:rPr>
                <a:t>WHY  THE  ASCENSION 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914400" y="4114800"/>
            <a:ext cx="8229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914400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BY  THE  RESTORATION  OF  HIS  VISIBLE  GLORY ( IT’S  WHO  HE  IS !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IS GLORY IS THE FATHER’S GLORY (“WITH THINE OWN SELF”)                         -  JN 17: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ASCENSION MARKS THE RETURN TO CHRIST’S MANIFESTED GL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IT WAS STILL HIDDEN AFTER HIS RESURRECTION &amp; DURING HIS ASC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IT WAS RETURNED AFTER HIS ASC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67480" y="6324480"/>
            <a:ext cx="106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2 SEPT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43400" y="64692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43000" y="533520"/>
            <a:ext cx="70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GOD THE SON:   HIS ASCENSION AND PRIESTLY MINI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1295280"/>
            <a:ext cx="7925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914400" y="990720"/>
            <a:ext cx="7696080" cy="838080"/>
            <a:chOff x="914400" y="990720"/>
            <a:chExt cx="7696080" cy="838080"/>
          </a:xfrm>
        </p:grpSpPr>
        <p:sp>
          <p:nvSpPr>
            <p:cNvPr id="107" name=""/>
            <p:cNvSpPr/>
            <p:nvPr/>
          </p:nvSpPr>
          <p:spPr>
            <a:xfrm>
              <a:off x="914400" y="990720"/>
              <a:ext cx="7696080" cy="838080"/>
            </a:xfrm>
            <a:prstGeom prst="horizontalScroll">
              <a:avLst>
                <a:gd name="adj" fmla="val 12500"/>
              </a:avLst>
            </a:prstGeom>
            <a:gradFill rotWithShape="0">
              <a:gsLst>
                <a:gs pos="0">
                  <a:srgbClr val="cc99ff"/>
                </a:gs>
                <a:gs pos="50000">
                  <a:srgbClr val="ffffff"/>
                </a:gs>
                <a:gs pos="100000">
                  <a:srgbClr val="cc99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124080" y="1371600"/>
              <a:ext cx="327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Rounded MT Bold"/>
                </a:rPr>
                <a:t>4.  TO  RETURN  HO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971440" y="1066680"/>
              <a:ext cx="480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Rounded MT Bold"/>
                </a:rPr>
                <a:t>WHY  THE  ASCENSION 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0" y="1981080"/>
            <a:ext cx="914400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69920"/>
                <a:tab algn="l" pos="339840"/>
                <a:tab algn="l" pos="509760"/>
                <a:tab algn="l" pos="679320"/>
                <a:tab algn="l" pos="849240"/>
                <a:tab algn="l" pos="1019160"/>
                <a:tab algn="l" pos="1189080"/>
                <a:tab algn="l" pos="1359000"/>
                <a:tab algn="l" pos="1528920"/>
                <a:tab algn="l" pos="1698480"/>
                <a:tab algn="l" pos="1868400"/>
                <a:tab algn="l" pos="2038320"/>
                <a:tab algn="l" pos="2208240"/>
                <a:tab algn="l" pos="2378160"/>
                <a:tab algn="l" pos="2548080"/>
                <a:tab algn="l" pos="2717640"/>
                <a:tab algn="l" pos="2887560"/>
                <a:tab algn="l" pos="3057480"/>
                <a:tab algn="l" pos="3227400"/>
                <a:tab algn="l" pos="33973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EARTH IS NOT HIS HOME  [ “I AM NOT OF (OUT OF) THE WORLD” ]                     - JN 17: 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36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339840"/>
                <a:tab algn="l" pos="509760"/>
                <a:tab algn="l" pos="679320"/>
                <a:tab algn="l" pos="849240"/>
                <a:tab algn="l" pos="1019160"/>
                <a:tab algn="l" pos="1189080"/>
                <a:tab algn="l" pos="1359000"/>
                <a:tab algn="l" pos="1528920"/>
                <a:tab algn="l" pos="1698480"/>
                <a:tab algn="l" pos="1868400"/>
                <a:tab algn="l" pos="2038320"/>
                <a:tab algn="l" pos="2208240"/>
                <a:tab algn="l" pos="2378160"/>
                <a:tab algn="l" pos="2548080"/>
                <a:tab algn="l" pos="2717640"/>
                <a:tab algn="l" pos="2887560"/>
                <a:tab algn="l" pos="3057480"/>
                <a:tab algn="l" pos="3227400"/>
                <a:tab algn="l" pos="3397320"/>
                <a:tab algn="l" pos="3567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E DIDN’T COME 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Arial Rounded MT Bold"/>
              </a:rPr>
              <a:t>FROM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WORLD BUT 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Arial Rounded MT Bold"/>
              </a:rPr>
              <a:t>TO</a:t>
            </a:r>
            <a:r>
              <a:rPr b="0" lang="en-US" sz="1600" spc="-1" strike="noStrike">
                <a:solidFill>
                  <a:srgbClr val="3333cc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WORLD                         - JN 17 :14,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36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339840"/>
                <a:tab algn="l" pos="509760"/>
                <a:tab algn="l" pos="679320"/>
                <a:tab algn="l" pos="849240"/>
                <a:tab algn="l" pos="1019160"/>
                <a:tab algn="l" pos="1189080"/>
                <a:tab algn="l" pos="1359000"/>
                <a:tab algn="l" pos="1528920"/>
                <a:tab algn="l" pos="1698480"/>
                <a:tab algn="l" pos="1868400"/>
                <a:tab algn="l" pos="2038320"/>
                <a:tab algn="l" pos="2208240"/>
                <a:tab algn="l" pos="2378160"/>
                <a:tab algn="l" pos="2548080"/>
                <a:tab algn="l" pos="2717640"/>
                <a:tab algn="l" pos="2887560"/>
                <a:tab algn="l" pos="3057480"/>
                <a:tab algn="l" pos="3227400"/>
                <a:tab algn="l" pos="3397320"/>
                <a:tab algn="l" pos="3567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E IS A HEAVENLY MAN (OUT FROM HEAVEN)                                              - 1 COR 15: 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69920"/>
                <a:tab algn="l" pos="339840"/>
                <a:tab algn="l" pos="509760"/>
                <a:tab algn="l" pos="679320"/>
                <a:tab algn="l" pos="849240"/>
                <a:tab algn="l" pos="1019160"/>
                <a:tab algn="l" pos="1189080"/>
                <a:tab algn="l" pos="1359000"/>
                <a:tab algn="l" pos="1528920"/>
                <a:tab algn="l" pos="1698480"/>
                <a:tab algn="l" pos="1868400"/>
                <a:tab algn="l" pos="2038320"/>
                <a:tab algn="l" pos="2208240"/>
                <a:tab algn="l" pos="2378160"/>
                <a:tab algn="l" pos="2548080"/>
                <a:tab algn="l" pos="2717640"/>
                <a:tab algn="l" pos="2887560"/>
                <a:tab algn="l" pos="3057480"/>
                <a:tab algn="l" pos="3227400"/>
                <a:tab algn="l" pos="33973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69920"/>
                <a:tab algn="l" pos="339840"/>
                <a:tab algn="l" pos="509760"/>
                <a:tab algn="l" pos="679320"/>
                <a:tab algn="l" pos="849240"/>
                <a:tab algn="l" pos="1019160"/>
                <a:tab algn="l" pos="1189080"/>
                <a:tab algn="l" pos="1359000"/>
                <a:tab algn="l" pos="1528920"/>
                <a:tab algn="l" pos="1698480"/>
                <a:tab algn="l" pos="1868400"/>
                <a:tab algn="l" pos="2038320"/>
                <a:tab algn="l" pos="2208240"/>
                <a:tab algn="l" pos="2378160"/>
                <a:tab algn="l" pos="2548080"/>
                <a:tab algn="l" pos="2717640"/>
                <a:tab algn="l" pos="2887560"/>
                <a:tab algn="l" pos="3057480"/>
                <a:tab algn="l" pos="3227400"/>
                <a:tab algn="l" pos="33973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E IS GOING HOME TO THE FATH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36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339840"/>
                <a:tab algn="l" pos="509760"/>
                <a:tab algn="l" pos="679320"/>
                <a:tab algn="l" pos="849240"/>
                <a:tab algn="l" pos="1019160"/>
                <a:tab algn="l" pos="1189080"/>
                <a:tab algn="l" pos="1359000"/>
                <a:tab algn="l" pos="1528920"/>
                <a:tab algn="l" pos="1698480"/>
                <a:tab algn="l" pos="1868400"/>
                <a:tab algn="l" pos="2038320"/>
                <a:tab algn="l" pos="2208240"/>
                <a:tab algn="l" pos="2378160"/>
                <a:tab algn="l" pos="2548080"/>
                <a:tab algn="l" pos="2717640"/>
                <a:tab algn="l" pos="2887560"/>
                <a:tab algn="l" pos="3057480"/>
                <a:tab algn="l" pos="3227400"/>
                <a:tab algn="l" pos="3397320"/>
                <a:tab algn="l" pos="3567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WHO SENT HIM TO DO MISSION IMPOSSIBLE        - JN 17:3,8,18,21,23,25; JN 3:16,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36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339840"/>
                <a:tab algn="l" pos="509760"/>
                <a:tab algn="l" pos="679320"/>
                <a:tab algn="l" pos="849240"/>
                <a:tab algn="l" pos="1019160"/>
                <a:tab algn="l" pos="1189080"/>
                <a:tab algn="l" pos="1359000"/>
                <a:tab algn="l" pos="1528920"/>
                <a:tab algn="l" pos="1698480"/>
                <a:tab algn="l" pos="1868400"/>
                <a:tab algn="l" pos="2038320"/>
                <a:tab algn="l" pos="2208240"/>
                <a:tab algn="l" pos="2378160"/>
                <a:tab algn="l" pos="2548080"/>
                <a:tab algn="l" pos="2717640"/>
                <a:tab algn="l" pos="2887560"/>
                <a:tab algn="l" pos="3057480"/>
                <a:tab algn="l" pos="3227400"/>
                <a:tab algn="l" pos="3397320"/>
                <a:tab algn="l" pos="3567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WHO WANTS HIM HO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36600">
              <a:lnSpc>
                <a:spcPct val="100000"/>
              </a:lnSpc>
              <a:tabLst>
                <a:tab algn="l" pos="0"/>
                <a:tab algn="l" pos="339840"/>
                <a:tab algn="l" pos="509760"/>
                <a:tab algn="l" pos="679320"/>
                <a:tab algn="l" pos="849240"/>
                <a:tab algn="l" pos="1019160"/>
                <a:tab algn="l" pos="1189080"/>
                <a:tab algn="l" pos="1359000"/>
                <a:tab algn="l" pos="1528920"/>
                <a:tab algn="l" pos="1698480"/>
                <a:tab algn="l" pos="1868400"/>
                <a:tab algn="l" pos="2038320"/>
                <a:tab algn="l" pos="2208240"/>
                <a:tab algn="l" pos="2378160"/>
                <a:tab algn="l" pos="2548080"/>
                <a:tab algn="l" pos="2717640"/>
                <a:tab algn="l" pos="2887560"/>
                <a:tab algn="l" pos="3057480"/>
                <a:tab algn="l" pos="3227400"/>
                <a:tab algn="l" pos="3397320"/>
                <a:tab algn="l" pos="35672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69920"/>
                <a:tab algn="l" pos="339840"/>
                <a:tab algn="l" pos="509760"/>
                <a:tab algn="l" pos="679320"/>
                <a:tab algn="l" pos="849240"/>
                <a:tab algn="l" pos="1019160"/>
                <a:tab algn="l" pos="1189080"/>
                <a:tab algn="l" pos="1359000"/>
                <a:tab algn="l" pos="1528920"/>
                <a:tab algn="l" pos="1698480"/>
                <a:tab algn="l" pos="1868400"/>
                <a:tab algn="l" pos="2038320"/>
                <a:tab algn="l" pos="2208240"/>
                <a:tab algn="l" pos="2378160"/>
                <a:tab algn="l" pos="2548080"/>
                <a:tab algn="l" pos="2717640"/>
                <a:tab algn="l" pos="2887560"/>
                <a:tab algn="l" pos="3057480"/>
                <a:tab algn="l" pos="3227400"/>
                <a:tab algn="l" pos="33973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E FORSEES HIMSELF AFTER HIS ASC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36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339840"/>
                <a:tab algn="l" pos="509760"/>
                <a:tab algn="l" pos="679320"/>
                <a:tab algn="l" pos="849240"/>
                <a:tab algn="l" pos="1019160"/>
                <a:tab algn="l" pos="1189080"/>
                <a:tab algn="l" pos="1359000"/>
                <a:tab algn="l" pos="1528920"/>
                <a:tab algn="l" pos="1698480"/>
                <a:tab algn="l" pos="1868400"/>
                <a:tab algn="l" pos="2038320"/>
                <a:tab algn="l" pos="2208240"/>
                <a:tab algn="l" pos="2378160"/>
                <a:tab algn="l" pos="2548080"/>
                <a:tab algn="l" pos="2717640"/>
                <a:tab algn="l" pos="2887560"/>
                <a:tab algn="l" pos="3057480"/>
                <a:tab algn="l" pos="3227400"/>
                <a:tab algn="l" pos="3397320"/>
                <a:tab algn="l" pos="3567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“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I AM NO LONGER IN THE WORLD “                                                                           - JN 17: 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36600">
              <a:lnSpc>
                <a:spcPct val="100000"/>
              </a:lnSpc>
              <a:tabLst>
                <a:tab algn="l" pos="0"/>
                <a:tab algn="l" pos="339840"/>
                <a:tab algn="l" pos="509760"/>
                <a:tab algn="l" pos="679320"/>
                <a:tab algn="l" pos="849240"/>
                <a:tab algn="l" pos="1019160"/>
                <a:tab algn="l" pos="1189080"/>
                <a:tab algn="l" pos="1359000"/>
                <a:tab algn="l" pos="1528920"/>
                <a:tab algn="l" pos="1698480"/>
                <a:tab algn="l" pos="1868400"/>
                <a:tab algn="l" pos="2038320"/>
                <a:tab algn="l" pos="2208240"/>
                <a:tab algn="l" pos="2378160"/>
                <a:tab algn="l" pos="2548080"/>
                <a:tab algn="l" pos="2717640"/>
                <a:tab algn="l" pos="2887560"/>
                <a:tab algn="l" pos="3057480"/>
                <a:tab algn="l" pos="3227400"/>
                <a:tab algn="l" pos="3397320"/>
                <a:tab algn="l" pos="35672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69920"/>
                <a:tab algn="l" pos="339840"/>
                <a:tab algn="l" pos="509760"/>
                <a:tab algn="l" pos="679320"/>
                <a:tab algn="l" pos="849240"/>
                <a:tab algn="l" pos="1019160"/>
                <a:tab algn="l" pos="1189080"/>
                <a:tab algn="l" pos="1359000"/>
                <a:tab algn="l" pos="1528920"/>
                <a:tab algn="l" pos="1698480"/>
                <a:tab algn="l" pos="1868400"/>
                <a:tab algn="l" pos="2038320"/>
                <a:tab algn="l" pos="2208240"/>
                <a:tab algn="l" pos="2378160"/>
                <a:tab algn="l" pos="2548080"/>
                <a:tab algn="l" pos="2717640"/>
                <a:tab algn="l" pos="2887560"/>
                <a:tab algn="l" pos="3057480"/>
                <a:tab algn="l" pos="3227400"/>
                <a:tab algn="l" pos="33973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SOME BLESSED TRUTHS FOR YOU IN CHRI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36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339840"/>
                <a:tab algn="l" pos="509760"/>
                <a:tab algn="l" pos="679320"/>
                <a:tab algn="l" pos="849240"/>
                <a:tab algn="l" pos="1019160"/>
                <a:tab algn="l" pos="1189080"/>
                <a:tab algn="l" pos="1359000"/>
                <a:tab algn="l" pos="1528920"/>
                <a:tab algn="l" pos="1698480"/>
                <a:tab algn="l" pos="1868400"/>
                <a:tab algn="l" pos="2038320"/>
                <a:tab algn="l" pos="2208240"/>
                <a:tab algn="l" pos="2378160"/>
                <a:tab algn="l" pos="2548080"/>
                <a:tab algn="l" pos="2717640"/>
                <a:tab algn="l" pos="2887560"/>
                <a:tab algn="l" pos="3057480"/>
                <a:tab algn="l" pos="3227400"/>
                <a:tab algn="l" pos="3397320"/>
                <a:tab algn="l" pos="3567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YOU ARE IDENTIFIED WITH CHRIST                                                                       - ROM 6: 3-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36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339840"/>
                <a:tab algn="l" pos="509760"/>
                <a:tab algn="l" pos="679320"/>
                <a:tab algn="l" pos="849240"/>
                <a:tab algn="l" pos="1019160"/>
                <a:tab algn="l" pos="1189080"/>
                <a:tab algn="l" pos="1359000"/>
                <a:tab algn="l" pos="1528920"/>
                <a:tab algn="l" pos="1698480"/>
                <a:tab algn="l" pos="1868400"/>
                <a:tab algn="l" pos="2038320"/>
                <a:tab algn="l" pos="2208240"/>
                <a:tab algn="l" pos="2378160"/>
                <a:tab algn="l" pos="2548080"/>
                <a:tab algn="l" pos="2717640"/>
                <a:tab algn="l" pos="2887560"/>
                <a:tab algn="l" pos="3057480"/>
                <a:tab algn="l" pos="3227400"/>
                <a:tab algn="l" pos="3397320"/>
                <a:tab algn="l" pos="3567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YOU ARE NOT OF (OUT OF) THE WORLD                                                           - JN 14: 14,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36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339840"/>
                <a:tab algn="l" pos="509760"/>
                <a:tab algn="l" pos="679320"/>
                <a:tab algn="l" pos="849240"/>
                <a:tab algn="l" pos="1019160"/>
                <a:tab algn="l" pos="1189080"/>
                <a:tab algn="l" pos="1359000"/>
                <a:tab algn="l" pos="1528920"/>
                <a:tab algn="l" pos="1698480"/>
                <a:tab algn="l" pos="1868400"/>
                <a:tab algn="l" pos="2038320"/>
                <a:tab algn="l" pos="2208240"/>
                <a:tab algn="l" pos="2378160"/>
                <a:tab algn="l" pos="2548080"/>
                <a:tab algn="l" pos="2717640"/>
                <a:tab algn="l" pos="2887560"/>
                <a:tab algn="l" pos="3057480"/>
                <a:tab algn="l" pos="3227400"/>
                <a:tab algn="l" pos="3397320"/>
                <a:tab algn="l" pos="3567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YOU ARE A HEAVENLY PERSON WITH A  HEAVENLY BIRTH - JN 3:3; 1 COR 15: 48,4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36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339840"/>
                <a:tab algn="l" pos="509760"/>
                <a:tab algn="l" pos="679320"/>
                <a:tab algn="l" pos="849240"/>
                <a:tab algn="l" pos="1019160"/>
                <a:tab algn="l" pos="1189080"/>
                <a:tab algn="l" pos="1359000"/>
                <a:tab algn="l" pos="1528920"/>
                <a:tab algn="l" pos="1698480"/>
                <a:tab algn="l" pos="1868400"/>
                <a:tab algn="l" pos="2038320"/>
                <a:tab algn="l" pos="2208240"/>
                <a:tab algn="l" pos="2378160"/>
                <a:tab algn="l" pos="2548080"/>
                <a:tab algn="l" pos="2717640"/>
                <a:tab algn="l" pos="2887560"/>
                <a:tab algn="l" pos="3057480"/>
                <a:tab algn="l" pos="3227400"/>
                <a:tab algn="l" pos="3397320"/>
                <a:tab algn="l" pos="3567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EAVEN IS ALSO YOUR HOME                                                                             - PHIL 3: 20,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9920"/>
                <a:tab algn="l" pos="339840"/>
                <a:tab algn="l" pos="509760"/>
                <a:tab algn="l" pos="679320"/>
                <a:tab algn="l" pos="849240"/>
                <a:tab algn="l" pos="1019160"/>
                <a:tab algn="l" pos="1189080"/>
                <a:tab algn="l" pos="1359000"/>
                <a:tab algn="l" pos="1528920"/>
                <a:tab algn="l" pos="1698480"/>
                <a:tab algn="l" pos="1868400"/>
                <a:tab algn="l" pos="2038320"/>
                <a:tab algn="l" pos="2208240"/>
                <a:tab algn="l" pos="2378160"/>
                <a:tab algn="l" pos="2548080"/>
                <a:tab algn="l" pos="2717640"/>
                <a:tab algn="l" pos="2887560"/>
                <a:tab algn="l" pos="3057480"/>
                <a:tab algn="l" pos="3227400"/>
                <a:tab algn="l" pos="33973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69920"/>
                <a:tab algn="l" pos="339840"/>
                <a:tab algn="l" pos="509760"/>
                <a:tab algn="l" pos="679320"/>
                <a:tab algn="l" pos="849240"/>
                <a:tab algn="l" pos="1019160"/>
                <a:tab algn="l" pos="1189080"/>
                <a:tab algn="l" pos="1359000"/>
                <a:tab algn="l" pos="1528920"/>
                <a:tab algn="l" pos="1698480"/>
                <a:tab algn="l" pos="1868400"/>
                <a:tab algn="l" pos="2038320"/>
                <a:tab algn="l" pos="2208240"/>
                <a:tab algn="l" pos="2378160"/>
                <a:tab algn="l" pos="2548080"/>
                <a:tab algn="l" pos="2717640"/>
                <a:tab algn="l" pos="2887560"/>
                <a:tab algn="l" pos="3057480"/>
                <a:tab algn="l" pos="3227400"/>
                <a:tab algn="l" pos="33973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QUES: DO YOU WANT TO BE HOME ?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0120" y="632448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2 SEPT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19720" y="646920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133720" y="380880"/>
            <a:ext cx="51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GOD  THE  SON:   HIS  PRESENT  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2133720"/>
            <a:ext cx="3505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33cc"/>
                </a:solidFill>
                <a:uFillTx/>
                <a:latin typeface="Arial Rounded MT Bold"/>
              </a:rPr>
              <a:t>TRUTH :</a:t>
            </a:r>
            <a:r>
              <a:rPr b="0" lang="en-US" sz="1200" spc="-1" strike="noStrike">
                <a:solidFill>
                  <a:srgbClr val="3333cc"/>
                </a:solidFill>
                <a:latin typeface="Arial Rounded MT Bold"/>
              </a:rPr>
              <a:t>    THE FATHER &amp; CHRIST ARE ALWAYS WORKING NO MATTER WHAT DAY OF THE WEEK OR DISPENSATION IT IS         -  JN 5: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809880" y="533520"/>
            <a:ext cx="5333760" cy="1371600"/>
            <a:chOff x="3809880" y="533520"/>
            <a:chExt cx="5333760" cy="1371600"/>
          </a:xfrm>
        </p:grpSpPr>
        <p:sp>
          <p:nvSpPr>
            <p:cNvPr id="116" name=""/>
            <p:cNvSpPr/>
            <p:nvPr/>
          </p:nvSpPr>
          <p:spPr>
            <a:xfrm>
              <a:off x="3809880" y="533520"/>
              <a:ext cx="5333760" cy="1371600"/>
            </a:xfrm>
            <a:prstGeom prst="irregularSeal2">
              <a:avLst/>
            </a:prstGeom>
            <a:gradFill rotWithShape="0">
              <a:gsLst>
                <a:gs pos="0">
                  <a:srgbClr val="99ccff"/>
                </a:gs>
                <a:gs pos="50000">
                  <a:srgbClr val="ffccff"/>
                </a:gs>
                <a:gs pos="100000">
                  <a:srgbClr val="99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647960" y="990720"/>
              <a:ext cx="3657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Rounded MT Bold"/>
                </a:rPr>
                <a:t>CHRIST’S  PRIESTLY  MINIS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Rounded MT Bold"/>
                </a:rPr>
                <a:t> 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Rounded MT Bold"/>
                </a:rPr>
                <a:t>( FOR  HIS  OWN 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133720" y="2590920"/>
            <a:ext cx="6324480" cy="48844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133720" y="114300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IN  HEAV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257800" y="311616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3276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ON  EAR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954600"/>
            <a:ext cx="5638680" cy="23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20600"/>
                <a:tab algn="l" pos="241200"/>
                <a:tab algn="l" pos="361800"/>
                <a:tab algn="l" pos="482760"/>
                <a:tab algn="l" pos="603360"/>
                <a:tab algn="l" pos="723960"/>
                <a:tab algn="l" pos="844560"/>
                <a:tab algn="l" pos="965160"/>
                <a:tab algn="l" pos="1085760"/>
                <a:tab algn="l" pos="1206360"/>
                <a:tab algn="l" pos="1327320"/>
                <a:tab algn="l" pos="1447920"/>
                <a:tab algn="l" pos="1568520"/>
                <a:tab algn="l" pos="1689120"/>
                <a:tab algn="l" pos="1809720"/>
                <a:tab algn="l" pos="1930320"/>
                <a:tab algn="l" pos="2050920"/>
                <a:tab algn="l" pos="2171880"/>
                <a:tab algn="l" pos="2292480"/>
                <a:tab algn="l" pos="2413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HE IS CALLING OUT A PEOPLE FOR HIS 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0600"/>
                <a:tab algn="l" pos="241200"/>
                <a:tab algn="l" pos="361800"/>
                <a:tab algn="l" pos="482760"/>
                <a:tab algn="l" pos="603360"/>
                <a:tab algn="l" pos="723960"/>
                <a:tab algn="l" pos="844560"/>
                <a:tab algn="l" pos="965160"/>
                <a:tab algn="l" pos="1085760"/>
                <a:tab algn="l" pos="1206360"/>
                <a:tab algn="l" pos="1327320"/>
                <a:tab algn="l" pos="1447920"/>
                <a:tab algn="l" pos="1568520"/>
                <a:tab algn="l" pos="1689120"/>
                <a:tab algn="l" pos="1809720"/>
                <a:tab algn="l" pos="1930320"/>
                <a:tab algn="l" pos="2050920"/>
                <a:tab algn="l" pos="2171880"/>
                <a:tab algn="l" pos="2292480"/>
                <a:tab algn="l" pos="241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( FROM JEWS &amp; GENTILES )   -  ACTS 15: 14;L EPH 2:14-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0600"/>
                <a:tab algn="l" pos="241200"/>
                <a:tab algn="l" pos="361800"/>
                <a:tab algn="l" pos="482760"/>
                <a:tab algn="l" pos="603360"/>
                <a:tab algn="l" pos="723960"/>
                <a:tab algn="l" pos="844560"/>
                <a:tab algn="l" pos="965160"/>
                <a:tab algn="l" pos="1085760"/>
                <a:tab algn="l" pos="1206360"/>
                <a:tab algn="l" pos="1327320"/>
                <a:tab algn="l" pos="1447920"/>
                <a:tab algn="l" pos="1568520"/>
                <a:tab algn="l" pos="1689120"/>
                <a:tab algn="l" pos="1809720"/>
                <a:tab algn="l" pos="1930320"/>
                <a:tab algn="l" pos="2050920"/>
                <a:tab algn="l" pos="2171880"/>
                <a:tab algn="l" pos="2292480"/>
                <a:tab algn="l" pos="24130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20600"/>
                <a:tab algn="l" pos="241200"/>
                <a:tab algn="l" pos="361800"/>
                <a:tab algn="l" pos="482760"/>
                <a:tab algn="l" pos="603360"/>
                <a:tab algn="l" pos="723960"/>
                <a:tab algn="l" pos="844560"/>
                <a:tab algn="l" pos="965160"/>
                <a:tab algn="l" pos="1085760"/>
                <a:tab algn="l" pos="1206360"/>
                <a:tab algn="l" pos="1327320"/>
                <a:tab algn="l" pos="1447920"/>
                <a:tab algn="l" pos="1568520"/>
                <a:tab algn="l" pos="1689120"/>
                <a:tab algn="l" pos="1809720"/>
                <a:tab algn="l" pos="1930320"/>
                <a:tab algn="l" pos="2050920"/>
                <a:tab algn="l" pos="2171880"/>
                <a:tab algn="l" pos="2292480"/>
                <a:tab algn="l" pos="241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HE IS SANCTIFYING (SETTING APART) HIS OW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0600"/>
                <a:tab algn="l" pos="241200"/>
                <a:tab algn="l" pos="361800"/>
                <a:tab algn="l" pos="482760"/>
                <a:tab algn="l" pos="603360"/>
                <a:tab algn="l" pos="723960"/>
                <a:tab algn="l" pos="844560"/>
                <a:tab algn="l" pos="965160"/>
                <a:tab algn="l" pos="1085760"/>
                <a:tab algn="l" pos="1206360"/>
                <a:tab algn="l" pos="1327320"/>
                <a:tab algn="l" pos="1447920"/>
                <a:tab algn="l" pos="1568520"/>
                <a:tab algn="l" pos="1689120"/>
                <a:tab algn="l" pos="1809720"/>
                <a:tab algn="l" pos="1930320"/>
                <a:tab algn="l" pos="2050920"/>
                <a:tab algn="l" pos="2171880"/>
                <a:tab algn="l" pos="2292480"/>
                <a:tab algn="l" pos="241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  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 Rounded MT Bold"/>
              </a:rPr>
              <a:t>FROM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THE WORLD &amp; SELF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 Rounded MT Bold"/>
              </a:rPr>
              <a:t>TO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CHRIST THROU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0600"/>
                <a:tab algn="l" pos="241200"/>
                <a:tab algn="l" pos="361800"/>
                <a:tab algn="l" pos="482760"/>
                <a:tab algn="l" pos="603360"/>
                <a:tab algn="l" pos="723960"/>
                <a:tab algn="l" pos="844560"/>
                <a:tab algn="l" pos="965160"/>
                <a:tab algn="l" pos="1085760"/>
                <a:tab algn="l" pos="1206360"/>
                <a:tab algn="l" pos="1327320"/>
                <a:tab algn="l" pos="1447920"/>
                <a:tab algn="l" pos="1568520"/>
                <a:tab algn="l" pos="1689120"/>
                <a:tab algn="l" pos="1809720"/>
                <a:tab algn="l" pos="1930320"/>
                <a:tab algn="l" pos="2050920"/>
                <a:tab algn="l" pos="2171880"/>
                <a:tab algn="l" pos="2292480"/>
                <a:tab algn="l" pos="241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THE WORD (THE TRUTH )    -  JN 17: 15-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0600"/>
                <a:tab algn="l" pos="241200"/>
                <a:tab algn="l" pos="361800"/>
                <a:tab algn="l" pos="482760"/>
                <a:tab algn="l" pos="603360"/>
                <a:tab algn="l" pos="723960"/>
                <a:tab algn="l" pos="844560"/>
                <a:tab algn="l" pos="965160"/>
                <a:tab algn="l" pos="1085760"/>
                <a:tab algn="l" pos="1206360"/>
                <a:tab algn="l" pos="1327320"/>
                <a:tab algn="l" pos="1447920"/>
                <a:tab algn="l" pos="1568520"/>
                <a:tab algn="l" pos="1689120"/>
                <a:tab algn="l" pos="1809720"/>
                <a:tab algn="l" pos="1930320"/>
                <a:tab algn="l" pos="2050920"/>
                <a:tab algn="l" pos="2171880"/>
                <a:tab algn="l" pos="2292480"/>
                <a:tab algn="l" pos="24130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361800"/>
                <a:tab algn="l" pos="482760"/>
                <a:tab algn="l" pos="603360"/>
                <a:tab algn="l" pos="723960"/>
                <a:tab algn="l" pos="844560"/>
                <a:tab algn="l" pos="965160"/>
                <a:tab algn="l" pos="1085760"/>
                <a:tab algn="l" pos="1206360"/>
                <a:tab algn="l" pos="1327320"/>
                <a:tab algn="l" pos="1447920"/>
                <a:tab algn="l" pos="1568520"/>
                <a:tab algn="l" pos="1689120"/>
                <a:tab algn="l" pos="1809720"/>
                <a:tab algn="l" pos="1930320"/>
                <a:tab algn="l" pos="2050920"/>
                <a:tab algn="l" pos="2171880"/>
                <a:tab algn="l" pos="2292480"/>
                <a:tab algn="l" pos="2413080"/>
                <a:tab algn="l" pos="2533680"/>
                <a:tab algn="l" pos="26542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EDIFYING THEM   -  JN 16: 13-15; EPH 4: 11-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361800"/>
                <a:tab algn="l" pos="482760"/>
                <a:tab algn="l" pos="603360"/>
                <a:tab algn="l" pos="723960"/>
                <a:tab algn="l" pos="844560"/>
                <a:tab algn="l" pos="965160"/>
                <a:tab algn="l" pos="1085760"/>
                <a:tab algn="l" pos="1206360"/>
                <a:tab algn="l" pos="1327320"/>
                <a:tab algn="l" pos="1447920"/>
                <a:tab algn="l" pos="1568520"/>
                <a:tab algn="l" pos="1689120"/>
                <a:tab algn="l" pos="1809720"/>
                <a:tab algn="l" pos="1930320"/>
                <a:tab algn="l" pos="2050920"/>
                <a:tab algn="l" pos="2171880"/>
                <a:tab algn="l" pos="2292480"/>
                <a:tab algn="l" pos="2413080"/>
                <a:tab algn="l" pos="2533680"/>
                <a:tab algn="l" pos="26542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SHARING HIS GLORY BY CONFORMING US TO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0600"/>
                <a:tab algn="l" pos="241200"/>
                <a:tab algn="l" pos="361800"/>
                <a:tab algn="l" pos="482760"/>
                <a:tab algn="l" pos="603360"/>
                <a:tab algn="l" pos="723960"/>
                <a:tab algn="l" pos="844560"/>
                <a:tab algn="l" pos="965160"/>
                <a:tab algn="l" pos="1085760"/>
                <a:tab algn="l" pos="1206360"/>
                <a:tab algn="l" pos="1327320"/>
                <a:tab algn="l" pos="1447920"/>
                <a:tab algn="l" pos="1568520"/>
                <a:tab algn="l" pos="1689120"/>
                <a:tab algn="l" pos="1809720"/>
                <a:tab algn="l" pos="1930320"/>
                <a:tab algn="l" pos="2050920"/>
                <a:tab algn="l" pos="2171880"/>
                <a:tab algn="l" pos="2292480"/>
                <a:tab algn="l" pos="241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IMAGE OF CHRIST  -  JN 17:21-23;  ROM 8:28,29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0600"/>
                <a:tab algn="l" pos="241200"/>
                <a:tab algn="l" pos="361800"/>
                <a:tab algn="l" pos="482760"/>
                <a:tab algn="l" pos="603360"/>
                <a:tab algn="l" pos="723960"/>
                <a:tab algn="l" pos="844560"/>
                <a:tab algn="l" pos="965160"/>
                <a:tab algn="l" pos="1085760"/>
                <a:tab algn="l" pos="1206360"/>
                <a:tab algn="l" pos="1327320"/>
                <a:tab algn="l" pos="1447920"/>
                <a:tab algn="l" pos="1568520"/>
                <a:tab algn="l" pos="1689120"/>
                <a:tab algn="l" pos="1809720"/>
                <a:tab algn="l" pos="1930320"/>
                <a:tab algn="l" pos="2050920"/>
                <a:tab algn="l" pos="2171880"/>
                <a:tab algn="l" pos="2292480"/>
                <a:tab algn="l" pos="241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GAL 4:19;  2 COR 3: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96080" y="6400800"/>
            <a:ext cx="99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2 SEPT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95680" y="654516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143000" y="53352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GOD THE SON:   HIS ASCENSION AND PRIESTLY MINI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19320" y="1676520"/>
            <a:ext cx="685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905120" y="990720"/>
            <a:ext cx="5105160" cy="533160"/>
            <a:chOff x="1905120" y="990720"/>
            <a:chExt cx="5105160" cy="533160"/>
          </a:xfrm>
        </p:grpSpPr>
        <p:sp>
          <p:nvSpPr>
            <p:cNvPr id="128" name=""/>
            <p:cNvSpPr/>
            <p:nvPr/>
          </p:nvSpPr>
          <p:spPr>
            <a:xfrm>
              <a:off x="1905120" y="990720"/>
              <a:ext cx="5105160" cy="533160"/>
            </a:xfrm>
            <a:prstGeom prst="horizontalScroll">
              <a:avLst>
                <a:gd name="adj" fmla="val 12500"/>
              </a:avLst>
            </a:prstGeom>
            <a:gradFill rotWithShape="0">
              <a:gsLst>
                <a:gs pos="0">
                  <a:srgbClr val="cc99ff"/>
                </a:gs>
                <a:gs pos="50000">
                  <a:srgbClr val="ffffff"/>
                </a:gs>
                <a:gs pos="100000">
                  <a:srgbClr val="cc99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666880" y="1066680"/>
              <a:ext cx="403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Rounded MT Bold"/>
                </a:rPr>
                <a:t>CHRIST’S  PRIESTLY  MINIS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0" y="129528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600200"/>
            <a:ext cx="9144000" cy="45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Arial Rounded MT Bold"/>
              <a:buChar char="•"/>
              <a:tabLst>
                <a:tab algn="l" pos="511200"/>
                <a:tab algn="l" pos="527040"/>
                <a:tab algn="l" pos="658800"/>
                <a:tab algn="l" pos="790560"/>
                <a:tab algn="l" pos="922320"/>
                <a:tab algn="l" pos="1054080"/>
                <a:tab algn="l" pos="1185840"/>
                <a:tab algn="l" pos="1317600"/>
                <a:tab algn="l" pos="1449360"/>
                <a:tab algn="l" pos="1581120"/>
                <a:tab algn="l" pos="1712880"/>
                <a:tab algn="l" pos="1844640"/>
                <a:tab algn="l" pos="1976400"/>
                <a:tab algn="l" pos="2108160"/>
                <a:tab algn="l" pos="2239920"/>
                <a:tab algn="l" pos="2371680"/>
                <a:tab algn="l" pos="2503440"/>
                <a:tab algn="l" pos="2635200"/>
                <a:tab algn="l" pos="2766960"/>
                <a:tab algn="l" pos="2898720"/>
                <a:tab algn="l" pos="30304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Arial Rounded MT Bold"/>
              </a:rPr>
              <a:t>HE IS A MINISTER IN THE HEAVENLY SANCTUARY                                      - HEB 8:1,2; 10: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511200"/>
                <a:tab algn="l" pos="527040"/>
                <a:tab algn="l" pos="658800"/>
                <a:tab algn="l" pos="790560"/>
                <a:tab algn="l" pos="922320"/>
                <a:tab algn="l" pos="1054080"/>
                <a:tab algn="l" pos="1185840"/>
                <a:tab algn="l" pos="1317600"/>
                <a:tab algn="l" pos="1449360"/>
                <a:tab algn="l" pos="1581120"/>
                <a:tab algn="l" pos="1712880"/>
                <a:tab algn="l" pos="1844640"/>
                <a:tab algn="l" pos="1976400"/>
                <a:tab algn="l" pos="2108160"/>
                <a:tab algn="l" pos="2239920"/>
                <a:tab algn="l" pos="2371680"/>
                <a:tab algn="l" pos="2503440"/>
                <a:tab algn="l" pos="2635200"/>
                <a:tab algn="l" pos="2766960"/>
                <a:tab algn="l" pos="2898720"/>
                <a:tab algn="l" pos="3030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HE IS OUR HIGH PRIEST AFTER THE ORDER OF MELCHISEDEC                                 - HEB 5:10; 7: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511200"/>
                <a:tab algn="l" pos="527040"/>
                <a:tab algn="l" pos="658800"/>
                <a:tab algn="l" pos="790560"/>
                <a:tab algn="l" pos="922320"/>
                <a:tab algn="l" pos="1054080"/>
                <a:tab algn="l" pos="1185840"/>
                <a:tab algn="l" pos="1317600"/>
                <a:tab algn="l" pos="1449360"/>
                <a:tab algn="l" pos="1581120"/>
                <a:tab algn="l" pos="1712880"/>
                <a:tab algn="l" pos="1844640"/>
                <a:tab algn="l" pos="1976400"/>
                <a:tab algn="l" pos="2108160"/>
                <a:tab algn="l" pos="2239920"/>
                <a:tab algn="l" pos="2371680"/>
                <a:tab algn="l" pos="2503440"/>
                <a:tab algn="l" pos="2635200"/>
                <a:tab algn="l" pos="2766960"/>
                <a:tab algn="l" pos="2898720"/>
                <a:tab algn="l" pos="3030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HIS PRIESTHOOD IS UNCHANGEABLE                                                                                          - HEB 7: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511200"/>
                <a:tab algn="l" pos="527040"/>
                <a:tab algn="l" pos="658800"/>
                <a:tab algn="l" pos="790560"/>
                <a:tab algn="l" pos="922320"/>
                <a:tab algn="l" pos="1054080"/>
                <a:tab algn="l" pos="1185840"/>
                <a:tab algn="l" pos="1317600"/>
                <a:tab algn="l" pos="1449360"/>
                <a:tab algn="l" pos="1581120"/>
                <a:tab algn="l" pos="1712880"/>
                <a:tab algn="l" pos="1844640"/>
                <a:tab algn="l" pos="1976400"/>
                <a:tab algn="l" pos="2108160"/>
                <a:tab algn="l" pos="2239920"/>
                <a:tab algn="l" pos="2371680"/>
                <a:tab algn="l" pos="2503440"/>
                <a:tab algn="l" pos="2635200"/>
                <a:tab algn="l" pos="2766960"/>
                <a:tab algn="l" pos="2898720"/>
                <a:tab algn="l" pos="3030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HE EVER LIVES TO MAKE INTERCESSION FOR US                                                                   - HEB 7: 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511200"/>
                <a:tab algn="l" pos="527040"/>
                <a:tab algn="l" pos="658800"/>
                <a:tab algn="l" pos="790560"/>
                <a:tab algn="l" pos="922320"/>
                <a:tab algn="l" pos="1054080"/>
                <a:tab algn="l" pos="1185840"/>
                <a:tab algn="l" pos="1317600"/>
                <a:tab algn="l" pos="1449360"/>
                <a:tab algn="l" pos="1581120"/>
                <a:tab algn="l" pos="1712880"/>
                <a:tab algn="l" pos="1844640"/>
                <a:tab algn="l" pos="1976400"/>
                <a:tab algn="l" pos="2108160"/>
                <a:tab algn="l" pos="2239920"/>
                <a:tab algn="l" pos="2371680"/>
                <a:tab algn="l" pos="2503440"/>
                <a:tab algn="l" pos="2635200"/>
                <a:tab algn="l" pos="2766960"/>
                <a:tab algn="l" pos="2898720"/>
                <a:tab algn="l" pos="3030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HE APPEARS IN GOD’S PRESENCE ON OUR BEHALF - OUR ADVOCATE                          - HEB 9:2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511200"/>
                <a:tab algn="l" pos="527040"/>
                <a:tab algn="l" pos="658800"/>
                <a:tab algn="l" pos="790560"/>
                <a:tab algn="l" pos="922320"/>
                <a:tab algn="l" pos="1054080"/>
                <a:tab algn="l" pos="1185840"/>
                <a:tab algn="l" pos="1317600"/>
                <a:tab algn="l" pos="1449360"/>
                <a:tab algn="l" pos="1581120"/>
                <a:tab algn="l" pos="1712880"/>
                <a:tab algn="l" pos="1844640"/>
                <a:tab algn="l" pos="1976400"/>
                <a:tab algn="l" pos="2108160"/>
                <a:tab algn="l" pos="2239920"/>
                <a:tab algn="l" pos="2371680"/>
                <a:tab algn="l" pos="2503440"/>
                <a:tab algn="l" pos="2635200"/>
                <a:tab algn="l" pos="2766960"/>
                <a:tab algn="l" pos="2898720"/>
                <a:tab algn="l" pos="303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511200"/>
                <a:tab algn="l" pos="527040"/>
                <a:tab algn="l" pos="658800"/>
                <a:tab algn="l" pos="790560"/>
                <a:tab algn="l" pos="922320"/>
                <a:tab algn="l" pos="1054080"/>
                <a:tab algn="l" pos="1185840"/>
                <a:tab algn="l" pos="1317600"/>
                <a:tab algn="l" pos="1449360"/>
                <a:tab algn="l" pos="1581120"/>
                <a:tab algn="l" pos="1712880"/>
                <a:tab algn="l" pos="1844640"/>
                <a:tab algn="l" pos="1976400"/>
                <a:tab algn="l" pos="2108160"/>
                <a:tab algn="l" pos="2239920"/>
                <a:tab algn="l" pos="2371680"/>
                <a:tab algn="l" pos="2503440"/>
                <a:tab algn="l" pos="2635200"/>
                <a:tab algn="l" pos="2766960"/>
                <a:tab algn="l" pos="2898720"/>
                <a:tab algn="l" pos="30304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 Rounded MT Bold"/>
              <a:buChar char="•"/>
              <a:tabLst>
                <a:tab algn="l" pos="511200"/>
                <a:tab algn="l" pos="527040"/>
                <a:tab algn="l" pos="658800"/>
                <a:tab algn="l" pos="790560"/>
                <a:tab algn="l" pos="922320"/>
                <a:tab algn="l" pos="1054080"/>
                <a:tab algn="l" pos="1185840"/>
                <a:tab algn="l" pos="1317600"/>
                <a:tab algn="l" pos="1449360"/>
                <a:tab algn="l" pos="1581120"/>
                <a:tab algn="l" pos="1712880"/>
                <a:tab algn="l" pos="1844640"/>
                <a:tab algn="l" pos="1976400"/>
                <a:tab algn="l" pos="2108160"/>
                <a:tab algn="l" pos="2239920"/>
                <a:tab algn="l" pos="2371680"/>
                <a:tab algn="l" pos="2503440"/>
                <a:tab algn="l" pos="2635200"/>
                <a:tab algn="l" pos="2766960"/>
                <a:tab algn="l" pos="2898720"/>
                <a:tab algn="l" pos="303048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Arial Rounded MT Bold"/>
              </a:rPr>
              <a:t>AS HIGH PRIEST CHRIST IS A BESTOWER OF BLESSINGS FOREVER      - HEB 7:6,7; 7: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 Rounded MT Bold"/>
              <a:buChar char="•"/>
              <a:tabLst>
                <a:tab algn="l" pos="511200"/>
                <a:tab algn="l" pos="527040"/>
                <a:tab algn="l" pos="658800"/>
                <a:tab algn="l" pos="790560"/>
                <a:tab algn="l" pos="922320"/>
                <a:tab algn="l" pos="1054080"/>
                <a:tab algn="l" pos="1185840"/>
                <a:tab algn="l" pos="1317600"/>
                <a:tab algn="l" pos="1449360"/>
                <a:tab algn="l" pos="1581120"/>
                <a:tab algn="l" pos="1712880"/>
                <a:tab algn="l" pos="1844640"/>
                <a:tab algn="l" pos="1976400"/>
                <a:tab algn="l" pos="2108160"/>
                <a:tab algn="l" pos="2239920"/>
                <a:tab algn="l" pos="2371680"/>
                <a:tab algn="l" pos="2503440"/>
                <a:tab algn="l" pos="2635200"/>
                <a:tab algn="l" pos="2766960"/>
                <a:tab algn="l" pos="2898720"/>
                <a:tab algn="l" pos="303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1200"/>
                <a:tab algn="l" pos="527040"/>
                <a:tab algn="l" pos="658800"/>
                <a:tab algn="l" pos="790560"/>
                <a:tab algn="l" pos="922320"/>
                <a:tab algn="l" pos="1054080"/>
                <a:tab algn="l" pos="1185840"/>
                <a:tab algn="l" pos="1317600"/>
                <a:tab algn="l" pos="1449360"/>
                <a:tab algn="l" pos="1581120"/>
                <a:tab algn="l" pos="1712880"/>
                <a:tab algn="l" pos="1844640"/>
                <a:tab algn="l" pos="1976400"/>
                <a:tab algn="l" pos="2108160"/>
                <a:tab algn="l" pos="2239920"/>
                <a:tab algn="l" pos="2371680"/>
                <a:tab algn="l" pos="2503440"/>
                <a:tab algn="l" pos="2635200"/>
                <a:tab algn="l" pos="2766960"/>
                <a:tab algn="l" pos="2898720"/>
                <a:tab algn="l" pos="30304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511200"/>
                <a:tab algn="l" pos="527040"/>
                <a:tab algn="l" pos="658800"/>
                <a:tab algn="l" pos="790560"/>
                <a:tab algn="l" pos="922320"/>
                <a:tab algn="l" pos="1054080"/>
                <a:tab algn="l" pos="1185840"/>
                <a:tab algn="l" pos="1317600"/>
                <a:tab algn="l" pos="1449360"/>
                <a:tab algn="l" pos="1581120"/>
                <a:tab algn="l" pos="1712880"/>
                <a:tab algn="l" pos="1844640"/>
                <a:tab algn="l" pos="1976400"/>
                <a:tab algn="l" pos="2108160"/>
                <a:tab algn="l" pos="2239920"/>
                <a:tab algn="l" pos="2371680"/>
                <a:tab algn="l" pos="2503440"/>
                <a:tab algn="l" pos="2635200"/>
                <a:tab algn="l" pos="2766960"/>
                <a:tab algn="l" pos="2898720"/>
                <a:tab algn="l" pos="3030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Arial Rounded MT Bold"/>
              </a:rPr>
              <a:t>HE IS TOUCHED (SUFFERS WITH) OUR WEAKNESSES                                       - HEB 4:14,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511200"/>
                <a:tab algn="l" pos="527040"/>
                <a:tab algn="l" pos="658800"/>
                <a:tab algn="l" pos="790560"/>
                <a:tab algn="l" pos="922320"/>
                <a:tab algn="l" pos="1054080"/>
                <a:tab algn="l" pos="1185840"/>
                <a:tab algn="l" pos="1317600"/>
                <a:tab algn="l" pos="1449360"/>
                <a:tab algn="l" pos="1581120"/>
                <a:tab algn="l" pos="1712880"/>
                <a:tab algn="l" pos="1844640"/>
                <a:tab algn="l" pos="1976400"/>
                <a:tab algn="l" pos="2108160"/>
                <a:tab algn="l" pos="2239920"/>
                <a:tab algn="l" pos="2371680"/>
                <a:tab algn="l" pos="2503440"/>
                <a:tab algn="l" pos="2635200"/>
                <a:tab algn="l" pos="2766960"/>
                <a:tab algn="l" pos="2898720"/>
                <a:tab algn="l" pos="3030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HE WAS IN ALL RESPECTS TEMPTED LIKE WE ARE - BUT APART FROM SIN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511200"/>
                <a:tab algn="l" pos="527040"/>
                <a:tab algn="l" pos="658800"/>
                <a:tab algn="l" pos="790560"/>
                <a:tab algn="l" pos="922320"/>
                <a:tab algn="l" pos="1054080"/>
                <a:tab algn="l" pos="1185840"/>
                <a:tab algn="l" pos="1317600"/>
                <a:tab algn="l" pos="1449360"/>
                <a:tab algn="l" pos="1581120"/>
                <a:tab algn="l" pos="1712880"/>
                <a:tab algn="l" pos="1844640"/>
                <a:tab algn="l" pos="1976400"/>
                <a:tab algn="l" pos="2108160"/>
                <a:tab algn="l" pos="2239920"/>
                <a:tab algn="l" pos="2371680"/>
                <a:tab algn="l" pos="2503440"/>
                <a:tab algn="l" pos="2635200"/>
                <a:tab algn="l" pos="2766960"/>
                <a:tab algn="l" pos="2898720"/>
                <a:tab algn="l" pos="3030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HE UNDERSTANDS OUR HUMAN CONDITION ( MENTAL, PHYSICAL &amp; SPIRITU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511200"/>
                <a:tab algn="l" pos="527040"/>
                <a:tab algn="l" pos="658800"/>
                <a:tab algn="l" pos="790560"/>
                <a:tab algn="l" pos="922320"/>
                <a:tab algn="l" pos="1054080"/>
                <a:tab algn="l" pos="1185840"/>
                <a:tab algn="l" pos="1317600"/>
                <a:tab algn="l" pos="1449360"/>
                <a:tab algn="l" pos="1581120"/>
                <a:tab algn="l" pos="1712880"/>
                <a:tab algn="l" pos="1844640"/>
                <a:tab algn="l" pos="1976400"/>
                <a:tab algn="l" pos="2108160"/>
                <a:tab algn="l" pos="2239920"/>
                <a:tab algn="l" pos="2371680"/>
                <a:tab algn="l" pos="2503440"/>
                <a:tab algn="l" pos="2635200"/>
                <a:tab algn="l" pos="2766960"/>
                <a:tab algn="l" pos="2898720"/>
                <a:tab algn="l" pos="3030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HE IS COMPASSIONATE TOWARD 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511200"/>
                <a:tab algn="l" pos="527040"/>
                <a:tab algn="l" pos="658800"/>
                <a:tab algn="l" pos="790560"/>
                <a:tab algn="l" pos="922320"/>
                <a:tab algn="l" pos="1054080"/>
                <a:tab algn="l" pos="1185840"/>
                <a:tab algn="l" pos="1317600"/>
                <a:tab algn="l" pos="1449360"/>
                <a:tab algn="l" pos="1581120"/>
                <a:tab algn="l" pos="1712880"/>
                <a:tab algn="l" pos="1844640"/>
                <a:tab algn="l" pos="1976400"/>
                <a:tab algn="l" pos="2108160"/>
                <a:tab algn="l" pos="2239920"/>
                <a:tab algn="l" pos="2371680"/>
                <a:tab algn="l" pos="2503440"/>
                <a:tab algn="l" pos="2635200"/>
                <a:tab algn="l" pos="2766960"/>
                <a:tab algn="l" pos="2898720"/>
                <a:tab algn="l" pos="303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511200"/>
                <a:tab algn="l" pos="527040"/>
                <a:tab algn="l" pos="658800"/>
                <a:tab algn="l" pos="790560"/>
                <a:tab algn="l" pos="922320"/>
                <a:tab algn="l" pos="1054080"/>
                <a:tab algn="l" pos="1185840"/>
                <a:tab algn="l" pos="1317600"/>
                <a:tab algn="l" pos="1449360"/>
                <a:tab algn="l" pos="1581120"/>
                <a:tab algn="l" pos="1712880"/>
                <a:tab algn="l" pos="1844640"/>
                <a:tab algn="l" pos="1976400"/>
                <a:tab algn="l" pos="2108160"/>
                <a:tab algn="l" pos="2239920"/>
                <a:tab algn="l" pos="2371680"/>
                <a:tab algn="l" pos="2503440"/>
                <a:tab algn="l" pos="2635200"/>
                <a:tab algn="l" pos="2766960"/>
                <a:tab algn="l" pos="2898720"/>
                <a:tab algn="l" pos="30304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511200"/>
                <a:tab algn="l" pos="527040"/>
                <a:tab algn="l" pos="658800"/>
                <a:tab algn="l" pos="790560"/>
                <a:tab algn="l" pos="922320"/>
                <a:tab algn="l" pos="1054080"/>
                <a:tab algn="l" pos="1185840"/>
                <a:tab algn="l" pos="1317600"/>
                <a:tab algn="l" pos="1449360"/>
                <a:tab algn="l" pos="1581120"/>
                <a:tab algn="l" pos="1712880"/>
                <a:tab algn="l" pos="1844640"/>
                <a:tab algn="l" pos="1976400"/>
                <a:tab algn="l" pos="2108160"/>
                <a:tab algn="l" pos="2239920"/>
                <a:tab algn="l" pos="2371680"/>
                <a:tab algn="l" pos="2503440"/>
                <a:tab algn="l" pos="2635200"/>
                <a:tab algn="l" pos="2766960"/>
                <a:tab algn="l" pos="2898720"/>
                <a:tab algn="l" pos="3030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Arial Rounded MT Bold"/>
              </a:rPr>
              <a:t>BECAUSE WE HAVE SUCH A GREAT HIGH PRIEST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511200"/>
                <a:tab algn="l" pos="527040"/>
                <a:tab algn="l" pos="658800"/>
                <a:tab algn="l" pos="790560"/>
                <a:tab algn="l" pos="922320"/>
                <a:tab algn="l" pos="1054080"/>
                <a:tab algn="l" pos="1185840"/>
                <a:tab algn="l" pos="1317600"/>
                <a:tab algn="l" pos="1449360"/>
                <a:tab algn="l" pos="1581120"/>
                <a:tab algn="l" pos="1712880"/>
                <a:tab algn="l" pos="1844640"/>
                <a:tab algn="l" pos="1976400"/>
                <a:tab algn="l" pos="2108160"/>
                <a:tab algn="l" pos="2239920"/>
                <a:tab algn="l" pos="2371680"/>
                <a:tab algn="l" pos="2503440"/>
                <a:tab algn="l" pos="2635200"/>
                <a:tab algn="l" pos="2766960"/>
                <a:tab algn="l" pos="2898720"/>
                <a:tab algn="l" pos="3030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WE CAN APPROACH THE THRONE OF GRACE WITH CONFIDENCE                       - HEB 4:16; 10: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511200"/>
                <a:tab algn="l" pos="527040"/>
                <a:tab algn="l" pos="658800"/>
                <a:tab algn="l" pos="790560"/>
                <a:tab algn="l" pos="922320"/>
                <a:tab algn="l" pos="1054080"/>
                <a:tab algn="l" pos="1185840"/>
                <a:tab algn="l" pos="1317600"/>
                <a:tab algn="l" pos="1449360"/>
                <a:tab algn="l" pos="1581120"/>
                <a:tab algn="l" pos="1712880"/>
                <a:tab algn="l" pos="1844640"/>
                <a:tab algn="l" pos="1976400"/>
                <a:tab algn="l" pos="2108160"/>
                <a:tab algn="l" pos="2239920"/>
                <a:tab algn="l" pos="2371680"/>
                <a:tab algn="l" pos="2503440"/>
                <a:tab algn="l" pos="2635200"/>
                <a:tab algn="l" pos="2766960"/>
                <a:tab algn="l" pos="2898720"/>
                <a:tab algn="l" pos="3030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WHERE WE RECEIVE MERCY (COMPASSION)                                                                              - HEB 4: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511200"/>
                <a:tab algn="l" pos="527040"/>
                <a:tab algn="l" pos="658800"/>
                <a:tab algn="l" pos="790560"/>
                <a:tab algn="l" pos="922320"/>
                <a:tab algn="l" pos="1054080"/>
                <a:tab algn="l" pos="1185840"/>
                <a:tab algn="l" pos="1317600"/>
                <a:tab algn="l" pos="1449360"/>
                <a:tab algn="l" pos="1581120"/>
                <a:tab algn="l" pos="1712880"/>
                <a:tab algn="l" pos="1844640"/>
                <a:tab algn="l" pos="1976400"/>
                <a:tab algn="l" pos="2108160"/>
                <a:tab algn="l" pos="2239920"/>
                <a:tab algn="l" pos="2371680"/>
                <a:tab algn="l" pos="2503440"/>
                <a:tab algn="l" pos="2635200"/>
                <a:tab algn="l" pos="2766960"/>
                <a:tab algn="l" pos="2898720"/>
                <a:tab algn="l" pos="3030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WHERE WE FIND GRACE (HIS UNMERITED FAVO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511200"/>
                <a:tab algn="l" pos="527040"/>
                <a:tab algn="l" pos="658800"/>
                <a:tab algn="l" pos="790560"/>
                <a:tab algn="l" pos="922320"/>
                <a:tab algn="l" pos="1054080"/>
                <a:tab algn="l" pos="1185840"/>
                <a:tab algn="l" pos="1317600"/>
                <a:tab algn="l" pos="1449360"/>
                <a:tab algn="l" pos="1581120"/>
                <a:tab algn="l" pos="1712880"/>
                <a:tab algn="l" pos="1844640"/>
                <a:tab algn="l" pos="1976400"/>
                <a:tab algn="l" pos="2108160"/>
                <a:tab algn="l" pos="2239920"/>
                <a:tab algn="l" pos="2371680"/>
                <a:tab algn="l" pos="2503440"/>
                <a:tab algn="l" pos="2635200"/>
                <a:tab algn="l" pos="2766960"/>
                <a:tab algn="l" pos="2898720"/>
                <a:tab algn="l" pos="3030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WHERE HE DELIVERS US TO THE UTTERMOST WHEN WE APPROACH                             - HEB 7:25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0120" y="6477120"/>
            <a:ext cx="99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2 SEPT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6477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0T21:44:11Z</dcterms:created>
  <dc:creator>Hal Molloy</dc:creator>
  <dc:description/>
  <dc:language>en-US</dc:language>
  <cp:lastModifiedBy>Hal Molloy</cp:lastModifiedBy>
  <dcterms:modified xsi:type="dcterms:W3CDTF">2003-11-15T22:55:07Z</dcterms:modified>
  <cp:revision>21</cp:revision>
  <dc:subject/>
  <dc:title>PowerPoint Presentation</dc:title>
</cp:coreProperties>
</file>