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5911920"/>
            <a:ext cx="640080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113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6521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143000"/>
            <a:ext cx="7010640" cy="7621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7 figures of the Church in her relation to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86000"/>
            <a:ext cx="617220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epherd and the Sh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Vine and the Bra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Cornerstone and the Stones of th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High Priest and the Kingdom of Pri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Head and the Body with its many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Last Adam and the New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Bridegroom and the B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2743200"/>
            <a:ext cx="1600200" cy="1371600"/>
          </a:xfrm>
          <a:prstGeom prst="wedgeRoundRectCallout">
            <a:avLst>
              <a:gd name="adj1" fmla="val -83430"/>
              <a:gd name="adj2" fmla="val 7071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71360" y="29718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is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ver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apter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6507000"/>
            <a:ext cx="13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2720" y="914400"/>
            <a:ext cx="3699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epherd and the Sh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9720" y="3613320"/>
            <a:ext cx="782316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other Sheep (the Church) of flock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J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hn10:14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am the good shepherd, and I know My own and My own know Me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lay down My life for the sh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have other sheep, which are not of this fol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must bring them also, and they will hear My voic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ey will become one flock with one shephe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010280" y="490212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90212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03160" y="1498680"/>
            <a:ext cx="795996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Israel the “Sheep of His pastu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heep of Your pasture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74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people of His pasture and the sheep of His hand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95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His people and the sheep of His pasture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100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685840" y="4495680"/>
            <a:ext cx="1465560" cy="581040"/>
            <a:chOff x="5685840" y="4495680"/>
            <a:chExt cx="1465560" cy="581040"/>
          </a:xfrm>
        </p:grpSpPr>
        <p:sp>
          <p:nvSpPr>
            <p:cNvPr id="60" name=""/>
            <p:cNvSpPr/>
            <p:nvPr/>
          </p:nvSpPr>
          <p:spPr>
            <a:xfrm>
              <a:off x="5715000" y="4495680"/>
              <a:ext cx="1436400" cy="581040"/>
            </a:xfrm>
            <a:prstGeom prst="wedgeRoundRectCallout">
              <a:avLst>
                <a:gd name="adj1" fmla="val -75523"/>
                <a:gd name="adj2" fmla="val 41527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85840" y="4495680"/>
              <a:ext cx="140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an en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in the 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629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48840" y="1143000"/>
            <a:ext cx="34329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Vine and the Bra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95960" y="3886200"/>
          <a:ext cx="2948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5960" y="3886200"/>
                    <a:ext cx="2948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-222120" y="1752480"/>
            <a:ext cx="855972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 am the true vine, and My Father is the vinedress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5:1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ide in Me, and I in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 the branch cannot bear fruit of itself unless it abides in the vi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neither can you unless you abide in 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am the vine, you are the branch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ho abides in Me and I in him, he bears much frui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apart from Me you can do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629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3400" y="914400"/>
            <a:ext cx="5910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Cornerstone and the Stones of th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120" y="1422360"/>
            <a:ext cx="862056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Christ is the Foundation Ston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. 3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man can lay a foundation other than --- Jesus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Christ is the “precious” Cornerston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Peter 2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Each stone in the building is itself a living ston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Peter 2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lso, as living stones,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re being built up as a spiritual house for a holy priesthoo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offer up spiritual sacrifices acceptable to God through Jesus Ch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whole structure is an habitation of Go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2:19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whole building --- is growing into a holy temple in the L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lso are being built together into a dwelling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586560" y="4925880"/>
          <a:ext cx="236232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6560" y="4925880"/>
                    <a:ext cx="23623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V="1">
            <a:off x="6153120" y="6400440"/>
            <a:ext cx="1085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11800">
            <a:off x="7238520" y="6400440"/>
            <a:ext cx="304920" cy="7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27600" y="640080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Rounded MT Bold"/>
              </a:rPr>
              <a:t>Corne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6477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6643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09680" y="838080"/>
            <a:ext cx="5562720" cy="398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High Priest and the Kingdom of Pri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244520"/>
            <a:ext cx="888552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Christ our High Prie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b. 10:5&amp;10, 4:14, 9: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 also Christ did not glorify Himself so as to become a high prie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ing designated by God as a high priest according to the order of Melchized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nce we have a great high priest who has passed through the heaven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--- Jesus the Son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Christ did not enter a holy place made with hands - but into heaven itself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w to appear in the presence of God for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Every believer is a priest unto God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Pet.2:5-9, Rev.1:6, Rom. 12:1, Heb.13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you are a chosen race, a royal priesthood, a holy nation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He has made us to be a kingdom, priests to His God and F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sent your bodies a living and holy sacrifice, acceptable to Go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ich is your spiritual service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rough Him then, let us continually offer up a sacrifice of praise to Go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 is, the fruit of lips that give thanks to Hi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6477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40760" y="6621480"/>
            <a:ext cx="9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43280" y="838080"/>
            <a:ext cx="49528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Last Adam and the New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320" y="1244520"/>
            <a:ext cx="83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the Last Adam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(second man)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. 15:45-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first man, Adam, became a living so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last Adam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became a life-giving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first man is from the earth, eart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second ma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from hea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All Believers are a new creation in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. 5:17, Gal 3:27&amp;28, Eph 2:10,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refore if anyone is in Christ, he is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a new cr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old things passed away; behold, new things have 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all of you who were baptized into Christ have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lothed yourselves with Chr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-- for you are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all one in Christ Je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we are His workmanship,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reated in Christ Jesu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for good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at in Himself He might make the two into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one new ma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6629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6616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65325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32160" y="812880"/>
            <a:ext cx="4044960" cy="3988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Bridegroom and the B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3360" y="358920"/>
            <a:ext cx="74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The Body and Bride of Christ and He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1880" y="1447920"/>
            <a:ext cx="80794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Christ is the Bridegroom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3: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ho has the bride is the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bridegroom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; but the friend of the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bridegroom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stands and hears him, rejoices greatly because of the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bridegroom’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o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 this joy of mine has been made full.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Church is Christ’s Bride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5:25-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usbands, love your wives, just as Christ also loved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the churc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gave Himself up for h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 that He might sanctify her, having cleansed her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ashing of water with the wor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 He might present to Himself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the churc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n all her glor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ving no spot or wrinkle or any such thing --- she would be holy and blam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marriage of Christ and His Church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v. 19:7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et us rejoice and be glad and give the glory to Hi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the marriage of the Lamb has come and </a:t>
            </a:r>
            <a:r>
              <a:rPr b="0" lang="en-US" sz="1600" spc="-1" strike="noStrike">
                <a:solidFill>
                  <a:srgbClr val="d60093"/>
                </a:solidFill>
                <a:latin typeface="Arial Rounded MT Bold"/>
              </a:rPr>
              <a:t>His brid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as made herself rea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given to her to clothe herself in fine lin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right and clean; for the fine linen is the righteous acts of the sa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6553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6553080"/>
            <a:ext cx="10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4-12T23:31:14Z</cp:lastPrinted>
  <dcterms:modified xsi:type="dcterms:W3CDTF">2003-11-15T23:28:49Z</dcterms:modified>
  <cp:revision>299</cp:revision>
  <dc:subject/>
  <dc:title>The Church:</dc:title>
</cp:coreProperties>
</file>