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919080"/>
            <a:ext cx="7199280" cy="60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66760" y="656748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838080" y="3809880"/>
            <a:ext cx="3200400" cy="3812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143000" y="1143000"/>
            <a:ext cx="67802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0  The Dispensation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1  The Covenants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2  The Angels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3  Satan: His Personality and Power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4  Satan: His Work and Destiny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5  Man: His Creatio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6  Man: His F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7  Sin: Its Character and Universality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8  Salvation From the Penalty of Si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9  Salvation From the Power of Si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0  Four Aspects of Righteousnes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1  Sanctifica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2  Assurance of Salvatio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3  Security of Salvatio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4  Divine Electio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5  The Church: Her Members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6  The Church: Her Purpose and Commiss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7  The Church: Her Service and Stewardshi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8  The Church: Her Worship in Prayer and Thanksgiv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9  The Church: Her Organization and Ordinances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0  The Church: The Body and Bride of Christ and Her Rew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19920" y="1752480"/>
            <a:ext cx="2514600" cy="554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 3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525600"/>
            <a:ext cx="3505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3049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 A N C T I F I C A T I O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848720" y="65530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9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FEB</a:t>
            </a: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95680" y="65451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819520" y="30492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 A N C T I F I C A T I O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685800"/>
            <a:ext cx="518148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67652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5.  Because you are sanctified (positional) you may not be                 - Rom 12:1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anctified in pract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6.  Sanctification (practical) never impli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inless perfection                                                                                        -  Jn 17: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ne’s quality of daily life (Christ is your life)                                       -  Col 3:3,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Moral improvement or better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7.  Practical sanctification is not a matter of feeling or emotion              -  Col 3: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ut one of walking in holiness (set apart to Go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8.  The Lord Jesus sanctified Himself for the purpose that                        - Jn 17: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you might be sanctified through the tr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e sets Himself apart to us that we might grow spiritually          - 2 Cor 3: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e sets Himself apart to us that we might know Him                        - Phil 3: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19520" y="76212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Points  On  Sanct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654516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9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FEB</a:t>
            </a: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65451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685800" y="685800"/>
          <a:ext cx="8153280" cy="519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8153280" cy="51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4495680" y="6621480"/>
            <a:ext cx="45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19720" y="64692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96080" y="655308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9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FEB</a:t>
            </a: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952560" y="609480"/>
          <a:ext cx="7708680" cy="557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609480"/>
                    <a:ext cx="7708680" cy="55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4419720" y="654516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91520" y="6567480"/>
            <a:ext cx="99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9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FEB</a:t>
            </a: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762120" y="457200"/>
          <a:ext cx="7746840" cy="582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57200"/>
                    <a:ext cx="7746840" cy="58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4343400" y="64692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65530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9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FEB</a:t>
            </a: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819520" y="30492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 A N C T I F I C A T I O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685800"/>
            <a:ext cx="518148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219320"/>
            <a:ext cx="3962520" cy="1295280"/>
          </a:xfrm>
          <a:prstGeom prst="irregularSeal2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762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O U T L I N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6765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hat Does It Mean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295280" y="3124080"/>
            <a:ext cx="3581640" cy="1295280"/>
            <a:chOff x="1295280" y="3124080"/>
            <a:chExt cx="3581640" cy="1295280"/>
          </a:xfrm>
        </p:grpSpPr>
        <p:sp>
          <p:nvSpPr>
            <p:cNvPr id="53" name=""/>
            <p:cNvSpPr/>
            <p:nvPr/>
          </p:nvSpPr>
          <p:spPr>
            <a:xfrm>
              <a:off x="1295280" y="3124080"/>
              <a:ext cx="3581640" cy="1295280"/>
            </a:xfrm>
            <a:prstGeom prst="irregularSeal2">
              <a:avLst/>
            </a:prstGeom>
            <a:gradFill rotWithShape="0">
              <a:gsLst>
                <a:gs pos="0">
                  <a:srgbClr val="cc6600"/>
                </a:gs>
                <a:gs pos="50000">
                  <a:srgbClr val="ffff99"/>
                </a:gs>
                <a:gs pos="100000">
                  <a:srgbClr val="cc6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09680" y="347328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Why Were Yo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Sanctified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4572000" y="3429000"/>
            <a:ext cx="4191120" cy="1904760"/>
            <a:chOff x="4572000" y="3429000"/>
            <a:chExt cx="4191120" cy="1904760"/>
          </a:xfrm>
        </p:grpSpPr>
        <p:sp>
          <p:nvSpPr>
            <p:cNvPr id="56" name=""/>
            <p:cNvSpPr/>
            <p:nvPr/>
          </p:nvSpPr>
          <p:spPr>
            <a:xfrm>
              <a:off x="4572000" y="3429000"/>
              <a:ext cx="4191120" cy="1904760"/>
            </a:xfrm>
            <a:prstGeom prst="irregularSeal2">
              <a:avLst/>
            </a:prstGeom>
            <a:gradFill rotWithShape="0">
              <a:gsLst>
                <a:gs pos="0">
                  <a:srgbClr val="339933"/>
                </a:gs>
                <a:gs pos="50000">
                  <a:srgbClr val="ffffcc"/>
                </a:gs>
                <a:gs pos="100000">
                  <a:srgbClr val="33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57800" y="4114800"/>
              <a:ext cx="266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What Are The Aspec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Of  Sanctification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09480" y="5105520"/>
            <a:ext cx="3581640" cy="1523880"/>
            <a:chOff x="609480" y="5105520"/>
            <a:chExt cx="3581640" cy="1523880"/>
          </a:xfrm>
        </p:grpSpPr>
        <p:sp>
          <p:nvSpPr>
            <p:cNvPr id="59" name=""/>
            <p:cNvSpPr/>
            <p:nvPr/>
          </p:nvSpPr>
          <p:spPr>
            <a:xfrm>
              <a:off x="609480" y="5105520"/>
              <a:ext cx="3581640" cy="1523880"/>
            </a:xfrm>
            <a:prstGeom prst="irregularSeal2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71600" y="556272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Points 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Sanct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581280" y="1447920"/>
            <a:ext cx="4038840" cy="1600200"/>
            <a:chOff x="3581280" y="1447920"/>
            <a:chExt cx="4038840" cy="1600200"/>
          </a:xfrm>
        </p:grpSpPr>
        <p:sp>
          <p:nvSpPr>
            <p:cNvPr id="62" name=""/>
            <p:cNvSpPr/>
            <p:nvPr/>
          </p:nvSpPr>
          <p:spPr>
            <a:xfrm>
              <a:off x="3581280" y="1447920"/>
              <a:ext cx="4038840" cy="1600200"/>
            </a:xfrm>
            <a:prstGeom prst="irregularSeal2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ccecff"/>
                </a:gs>
                <a:gs pos="100000">
                  <a:srgbClr val="3333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343400" y="205776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Are You Sanctified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934320" y="5791320"/>
            <a:ext cx="1143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655308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9 FEB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95680" y="65451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819520" y="30492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 A N C T I F I C A T I O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5120" y="685800"/>
            <a:ext cx="518148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7621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What  Does  It  Mea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981080"/>
            <a:ext cx="8610480" cy="31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 Rounded MT Bold"/>
              </a:rPr>
              <a:t>“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 Rounded MT Bold"/>
              </a:rPr>
              <a:t>SANCTIFY”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(hagiazo)           -  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 Rounded MT Bold"/>
              </a:rPr>
              <a:t>“SAINT”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(hagios)       - 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 Rounded MT Bold"/>
              </a:rPr>
              <a:t>“HOLY”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(hagiasm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LL HAVE THE SAME ROOT MEANING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=  “TO SET APART “ (FOR A SPECIAL PURPO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HEN SOMETHING OR SOMEONE IS SET A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 Rounded MT Bold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ONE THING OR PERS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 Rounded MT Bold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ANOTHER THING OR PERS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HAT GOD SETS APART TO HIMSELF - HE CALLS </a:t>
            </a:r>
            <a:r>
              <a:rPr b="0" lang="en-US" sz="1800" spc="-1" strike="noStrike">
                <a:solidFill>
                  <a:srgbClr val="0000cc"/>
                </a:solidFill>
                <a:latin typeface="Arial Rounded MT Bold"/>
              </a:rPr>
              <a:t>“HOLY”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OR </a:t>
            </a:r>
            <a:r>
              <a:rPr b="0" lang="en-US" sz="1800" spc="-1" strike="noStrike">
                <a:solidFill>
                  <a:srgbClr val="0000cc"/>
                </a:solidFill>
                <a:latin typeface="Arial Rounded MT Bold"/>
              </a:rPr>
              <a:t>A “SAIN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EXAMPLES :  ( SEE NEXT PAGE - p4. )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67480" y="655308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9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FEB</a:t>
            </a: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19720" y="6469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819520" y="30492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 A N C T I F I C A T I O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05120" y="685800"/>
            <a:ext cx="518148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746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144792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744560"/>
            <a:ext cx="449568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Holy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Angels                             -  Mk 8: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Holy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Prophets                      -  Acts 3: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Holy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Spirit                           -  2 Tim 1: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Holy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Covenant                        -  Lu 1: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Holy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Father                            -  Jn 17: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Holy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One of God (Christ)   -  Acts 4: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Holy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Place (Temple)             -  Act 6: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Law is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Holy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-  Rom 7: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Saint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at Jerusalem         -  Rom 15: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ll believers called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Saint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- 1 Cor 1: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Holy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Thing (One = Christ)      -  Lu 1:35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1744560"/>
            <a:ext cx="449568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elievers - be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Holy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- 1 Pet 1: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Church - be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Holy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-  Eph 5: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Holy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and Beloved (Elect)    -  Col 3: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Holy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alling(God called us)-2 Tim 1: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Holy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Brethren (Believers)    - Heb 3: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God is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Holy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- 1 Pet 1: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Holy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Priesthood (Believers)-1 Pet 2: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Holy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Nation (Believers)       - 1 Pet 2: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Holy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Woman (OT)                   - 1Pet 3: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Holy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City (Earthly Jer.)    -  Rev 11: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Holy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City (Heavenly Jer.) - Rev 21: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0120" y="6545160"/>
            <a:ext cx="121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9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FEB</a:t>
            </a: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19720" y="6545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19520" y="30492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 A N C T I F I C A T I O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685800"/>
            <a:ext cx="624816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81080" y="76212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What Are The Aspects Of  Sanctificatio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81680" y="20574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52280" y="3124080"/>
            <a:ext cx="762120" cy="1950120"/>
            <a:chOff x="152280" y="3124080"/>
            <a:chExt cx="762120" cy="1950120"/>
          </a:xfrm>
        </p:grpSpPr>
        <p:sp>
          <p:nvSpPr>
            <p:cNvPr id="87" name=""/>
            <p:cNvSpPr/>
            <p:nvPr/>
          </p:nvSpPr>
          <p:spPr>
            <a:xfrm rot="20050200">
              <a:off x="533520" y="4876920"/>
              <a:ext cx="48960" cy="196560"/>
            </a:xfrm>
            <a:custGeom>
              <a:avLst/>
              <a:gdLst>
                <a:gd name="textAreaLeft" fmla="*/ 10800 w 48960"/>
                <a:gd name="textAreaRight" fmla="*/ 38160 w 48960"/>
                <a:gd name="textAreaTop" fmla="*/ 43200 h 196560"/>
                <a:gd name="textAreaBottom" fmla="*/ 153360 h 19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6699"/>
            </a:solidFill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3429000"/>
              <a:ext cx="168120" cy="1449360"/>
            </a:xfrm>
            <a:custGeom>
              <a:avLst/>
              <a:gdLst>
                <a:gd name="textAreaLeft" fmla="*/ 36720 w 168120"/>
                <a:gd name="textAreaRight" fmla="*/ 131400 w 168120"/>
                <a:gd name="textAreaTop" fmla="*/ 318600 h 1449360"/>
                <a:gd name="textAreaBottom" fmla="*/ 1130760 h 144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2280" y="3657600"/>
              <a:ext cx="762120" cy="152280"/>
            </a:xfrm>
            <a:custGeom>
              <a:avLst/>
              <a:gdLst>
                <a:gd name="textAreaLeft" fmla="*/ 167400 w 762120"/>
                <a:gd name="textAreaRight" fmla="*/ 594720 w 762120"/>
                <a:gd name="textAreaTop" fmla="*/ 33480 h 152280"/>
                <a:gd name="textAreaBottom" fmla="*/ 11880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609480" y="3124080"/>
              <a:ext cx="304920" cy="190512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1" name="A%20Man" descr=""/>
          <p:cNvPicPr/>
          <p:nvPr/>
        </p:nvPicPr>
        <p:blipFill>
          <a:blip r:embed="rId3"/>
          <a:srcRect l="47712" t="23486" r="30474" b="47797"/>
          <a:stretch/>
        </p:blipFill>
        <p:spPr>
          <a:xfrm>
            <a:off x="1752480" y="3962520"/>
            <a:ext cx="685800" cy="990360"/>
          </a:xfrm>
          <a:prstGeom prst="rect">
            <a:avLst/>
          </a:prstGeom>
          <a:ln w="0">
            <a:noFill/>
          </a:ln>
        </p:spPr>
      </p:pic>
      <p:pic>
        <p:nvPicPr>
          <p:cNvPr id="92" name="A%20Woman" descr=""/>
          <p:cNvPicPr/>
          <p:nvPr/>
        </p:nvPicPr>
        <p:blipFill>
          <a:blip r:embed="rId4"/>
          <a:srcRect l="43619" t="37185" r="47046" b="41501"/>
          <a:stretch/>
        </p:blipFill>
        <p:spPr>
          <a:xfrm>
            <a:off x="2286000" y="3886200"/>
            <a:ext cx="533520" cy="1066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rot="1262400">
            <a:off x="1098000" y="3701520"/>
            <a:ext cx="103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FA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990720" y="3733920"/>
            <a:ext cx="914400" cy="3808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18148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981080"/>
            <a:ext cx="228600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Arial Rounded MT Bold"/>
              </a:rPr>
              <a:t>P A S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O U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en-US" sz="1800" spc="-1" strike="noStrike">
                <a:solidFill>
                  <a:srgbClr val="ff3399"/>
                </a:solidFill>
                <a:latin typeface="Arial Rounded MT Bold"/>
              </a:rPr>
              <a:t>‘</a:t>
            </a:r>
            <a:r>
              <a:rPr b="1" lang="en-US" sz="1800" spc="-1" strike="noStrike">
                <a:solidFill>
                  <a:srgbClr val="ff3399"/>
                </a:solidFill>
                <a:latin typeface="Arial Rounded MT Bold"/>
              </a:rPr>
              <a:t>P O S I T I O N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1143000"/>
            <a:ext cx="1447920" cy="838080"/>
          </a:xfrm>
          <a:custGeom>
            <a:avLst/>
            <a:gdLst>
              <a:gd name="textAreaLeft" fmla="*/ 330480 w 1447920"/>
              <a:gd name="textAreaRight" fmla="*/ 1117440 w 144792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590920" y="1828440"/>
            <a:ext cx="1218960" cy="1981080"/>
          </a:xfrm>
          <a:prstGeom prst="line">
            <a:avLst/>
          </a:prstGeom>
          <a:ln w="284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8096000">
            <a:off x="2096280" y="257580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YOU  WALK  BY  FA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THE  HOLY  SPIRIT  L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Rounded MT Bold"/>
              </a:rPr>
              <a:t>CHR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1981080"/>
            <a:ext cx="251460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 Rounded MT Bold"/>
              </a:rPr>
              <a:t>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Arial Rounded MT Bold"/>
              </a:rPr>
              <a:t>P R E S E N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O U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 Rounded MT Bold"/>
              </a:rPr>
              <a:t>‘</a:t>
            </a:r>
            <a:r>
              <a:rPr b="1" lang="en-US" sz="1800" spc="-1" strike="noStrike">
                <a:solidFill>
                  <a:srgbClr val="ff3399"/>
                </a:solidFill>
                <a:latin typeface="Arial Rounded MT Bold"/>
              </a:rPr>
              <a:t>P R A C T I C E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05720" y="1981080"/>
            <a:ext cx="236196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 Rounded MT Bold"/>
              </a:rPr>
              <a:t>    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Arial Rounded MT Bold"/>
              </a:rPr>
              <a:t>F U T U R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O U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 Rounded MT Bold"/>
              </a:rPr>
              <a:t>‘</a:t>
            </a:r>
            <a:r>
              <a:rPr b="1" lang="en-US" sz="1800" spc="-1" strike="noStrike">
                <a:solidFill>
                  <a:srgbClr val="ff3399"/>
                </a:solidFill>
                <a:latin typeface="Arial Rounded MT Bold"/>
              </a:rPr>
              <a:t>P E R F E C T I O N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5257800"/>
            <a:ext cx="20574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 Rounded MT Bold"/>
              </a:rPr>
              <a:t>SANCT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Eter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Unchange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You are a s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3657600"/>
            <a:ext cx="3809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biding  in  Christ                 - Jn 15: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Walking in the Spirit     - Gal 5:16,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Beholding  Christ            - 2 Cor 3: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resenting our bodies - Rom 12:1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Glorifying God                   - Rom 15: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52578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 Rounded MT Bold"/>
              </a:rPr>
              <a:t>BEING  SANCT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5410080"/>
            <a:ext cx="6858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1680" y="3581280"/>
            <a:ext cx="2362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“…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when He sh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ppear, we shall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like Him; for we shall see Him as He i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 1 Jn 3: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67480" y="5195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 Rounded MT Bold"/>
              </a:rPr>
              <a:t>ETER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96080" y="654516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9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FEB</a:t>
            </a: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65451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819520" y="30492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 A N C T I F I C A T I O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685800"/>
            <a:ext cx="518148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90920" y="914400"/>
            <a:ext cx="3504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7621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re  You  Sanctified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440000"/>
            <a:ext cx="914400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.  POSITIONAL  SANCTIFICATIO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114480"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EVERY BELIEVER IN CHRIST IS SANCTIFIED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      -  1 Cor 1:2,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ecause you are “in Christ” (living union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You are sanctified (set apart to God) for all etern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224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Perfect tense = completed action with abiding resul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>
              <a:lnSpc>
                <a:spcPct val="100000"/>
              </a:lnSpc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YOU WERE SANCTIFIED (SET APART)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 1 Cor 6:9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et apart from unrighteousness to righteousnes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- Rom 6: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t’s the truth! - It’s a fact! (Aorist ten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t’s a reality in your life! - (Indicative moo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114480"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HOW &amp; WHEN WERE YOU SANCTIFIED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God the Holy Spirit sanctified you                                                    - 1 Cor 6: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You did not &amp; could not sanctify yourse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You were acted upon by God (passive voice) -1 Cor 6:11; 1:2; Acts 26: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You were sanctified through the body (death) of Christ           -  Heb 10: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You were sanctified when you trusted Christ                             -  Acts 26: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43800" y="654516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9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FEB</a:t>
            </a: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91120" y="654516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819520" y="30492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 A N C T I F I C A T I O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05120" y="685800"/>
            <a:ext cx="518148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76212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re  You  Sanctified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295280"/>
            <a:ext cx="9144000" cy="52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 Rounded MT Bold"/>
              </a:rPr>
              <a:t>B.  PRACTICAL  SANTIFICATION (Your Christian Walk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cc"/>
                </a:solidFill>
                <a:latin typeface="Arial Rounded MT Bold"/>
              </a:rPr>
              <a:t>You are commanded to be Holy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(set apart) from your lusts (desire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o God’s desires                                                              -  1 Pet 1:14-16; (Gal 5:16,1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cc"/>
                </a:solidFill>
                <a:latin typeface="Arial Rounded MT Bold"/>
              </a:rPr>
              <a:t>You are exhorted to be Holy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                           -  Rom 12:1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et apart from the world to G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y presenting to Him your body, through His mer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cc"/>
                </a:solidFill>
                <a:latin typeface="Arial Rounded MT Bold"/>
              </a:rPr>
              <a:t>As a Holy one you are to put on (clothe yourself with) Christ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-  Col 3: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hrist  will then be manifested through you in Hi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 compassion,     - kindness,     - humility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 meekness (resting in His grace &amp; power)  - longsuffering (self restraint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 forbearance (bearing with, to endure),    - forgiveness,    - lo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cc"/>
                </a:solidFill>
                <a:latin typeface="Arial Rounded MT Bold"/>
              </a:rPr>
              <a:t>Question :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How are you going to implement these exhortations to be Hol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cc"/>
                </a:solidFill>
                <a:latin typeface="Arial Rounded MT Bold"/>
              </a:rPr>
              <a:t>Answer: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You cannot do it! - Only Christ can do it through you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Your responsibility is to walk by faith                                                   -  Col 2:6,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God sanctifies you through the truth (His Word)           - Jn 17:17;; Eph 5: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cc"/>
                </a:solidFill>
                <a:latin typeface="Arial Rounded MT Bold"/>
              </a:rPr>
              <a:t>As He sets you apart through His word your response will be:  Phil 3:10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6545160"/>
            <a:ext cx="121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9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FEB</a:t>
            </a: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6545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819520" y="30492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 A N C T I F I C A T I O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05120" y="685800"/>
            <a:ext cx="518148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66880" y="76212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Why  Were  You  Sanctified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447920"/>
            <a:ext cx="9144000" cy="52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cc"/>
                </a:solidFill>
                <a:latin typeface="Arial Rounded MT Bold"/>
              </a:rPr>
              <a:t>YOUR  POSITION  &amp;  PERF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ecause God created &amp; then recreated you - to set you apart to be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ith Him &amp; His Son by sharing Christ’s glory with you so you can know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fellowship, &amp; enjoy them forever (= eternal life)          -  Jn 17:21-26; 17:1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You are now &amp; will be just like Christ        -  Jn 17:22; 2 Cor 5:17; 1 Jn 3:2,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cc"/>
                </a:solidFill>
                <a:latin typeface="Arial Rounded MT Bold"/>
              </a:rPr>
              <a:t>YOUR  PRACT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ecause God desires to fulfill His eternal purpose thru you   - Jn 17:21-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4916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o Declare,  to Share,  &amp;  to Reveal  His Gl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4916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o be Glor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ecause it is God’s will for you (set  apart from self to Him)   -1 Thes 4:3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ecause you were called unto holiness (sanctification)             - 1 Thes 4: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ecause God recreated you in His likeness (true holiness)          - Eph 4: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4916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o that you can put on (be clothed with) the new man (Chri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4916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o that you can grow spiritually (whose fullness is Christ)-Eph 4:13,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4916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o that you walk in holiness - representing Christ to the wor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 Eph 4:17-23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467480" y="654516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9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FEB</a:t>
            </a: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65451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819520" y="30492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 A N C T I F I C A T I O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685800"/>
            <a:ext cx="518148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95480" y="7621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Points  On  Sanct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371600"/>
            <a:ext cx="9144000" cy="47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1. The doctrine of sanctific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annot be interpreted by exper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Must be rightly related to every other bible doctr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Must not be overemphasized or underemphas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2.  Positional sanctification is as complete for the immature sai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s it is for the mature saint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Dependent only on one’s identification with Christ  - 1 Cor 1:2; Rom 6:3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ainthood is not subject to progression - It’s a state of being  -1 Cor 1:2,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3.  You are not sanctified because of anything you are, or anything    -1 Cor 1: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you have done, but because you are in Chr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4.  You may not believe you are a saint because of not knowing your    -1 Cor 1: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position in Chr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67480" y="654516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9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FEB</a:t>
            </a: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64771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0T19:41:24Z</dcterms:created>
  <dc:creator>Hal Molloy</dc:creator>
  <dc:description/>
  <dc:language>en-US</dc:language>
  <cp:lastModifiedBy>Hal Molloy</cp:lastModifiedBy>
  <dcterms:modified xsi:type="dcterms:W3CDTF">2003-11-15T23:22:12Z</dcterms:modified>
  <cp:revision>47</cp:revision>
  <dc:subject/>
  <dc:title>PowerPoint Presentation</dc:title>
</cp:coreProperties>
</file>