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066680" y="2895480"/>
            <a:ext cx="411480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43000" y="1143000"/>
            <a:ext cx="6780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895480" cy="554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57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IN: ITS CHARACTER AND UNIVERS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65530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2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6477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45720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IN: ITS CHARACTER AND UNIVERS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rm"/>
          <p:cNvSpPr/>
          <p:nvPr/>
        </p:nvSpPr>
        <p:spPr>
          <a:xfrm>
            <a:off x="5867280" y="76320"/>
            <a:ext cx="3124440" cy="1447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152280"/>
            <a:ext cx="25905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TOP 10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JOR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NCERNING  SI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905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00200"/>
            <a:ext cx="327672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O.                   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Is Si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Is the disti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twe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“sins” ( plural )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“sin” ( singular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8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o men be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nners beca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y si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1600200"/>
            <a:ext cx="601956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BBREVIATED  ANSWER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(SEE  DETAILED  NOTES - CHAP 27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t’s Man Missing the Mark of God’s Glory-Rom 3: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t’s any deviation from God’s Ess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ns”- are personal sins (thoughts or deed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mission or commission)          - Gal 5:19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n”- often with the definite article (“the” si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rmally refers to man’s sin na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The source of “sins”                   - Rom 5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Th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sin natur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is th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roo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sin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are th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fruit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- Rom 6:12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en sin because they have a sin nature  - Rom 5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y are born in the image of Adam           - Gen 5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dam fell &amp; possessed  a sin 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rinciple: “Like begets lik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65530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2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646920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64692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45720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IN: ITS CHARACTER AND UNIVERS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orm"/>
          <p:cNvSpPr/>
          <p:nvPr/>
        </p:nvSpPr>
        <p:spPr>
          <a:xfrm>
            <a:off x="5867280" y="76320"/>
            <a:ext cx="3124440" cy="1447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152280"/>
            <a:ext cx="25905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TOP 10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JOR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NCERNING  SI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905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00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O.                   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600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BBREVIATED  ANSWER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(SEE  DETAILED  NOTES - CHAP 27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973160"/>
            <a:ext cx="33526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has Christ don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ith man’s s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ill unbelievers go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ll because of thei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n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re believers sinners?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1973160"/>
            <a:ext cx="57913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has paid the penalty for everyone’s s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( sins that are past, present &amp; futur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1 Cor 15:3; 2 Cor 5:19; Heb 1:3; 1 Jn 3: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is satisfied with Christ’s sacrific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- 1 Jn 2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ir sins are forgiven but their sin nature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ndemned                                                     -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8: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o they are condemned because of their un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ith their sin nature                             -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5: 16-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nly in Christ is the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condemnation -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8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Position: Believers are Saints, never sin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Rom 1:7; 1 Cor 1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Condition (practice): Believers do sin and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confess their sins                                      -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Jn 1:9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6621480"/>
            <a:ext cx="990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2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6553080"/>
            <a:ext cx="381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45720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IN: ITS CHARACTER AND UNIVERS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rm"/>
          <p:cNvSpPr/>
          <p:nvPr/>
        </p:nvSpPr>
        <p:spPr>
          <a:xfrm>
            <a:off x="5867280" y="76320"/>
            <a:ext cx="3124440" cy="1447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152280"/>
            <a:ext cx="25905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TOP 10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JOR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NCERNING  SI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905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600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O.                   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1600200"/>
            <a:ext cx="56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BBREVIATED  ANSWER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(SEE  DETAILED  NOTES - CHAP 27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905120"/>
            <a:ext cx="358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    Do you (a believer) 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n natur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    What has Christ don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r sin natur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     What is your relationship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your sin natur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     How should you respo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the desires of your 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atur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1905120"/>
            <a:ext cx="563904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es!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Rom 7:4-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r sin nature has not been annihil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r era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t is your greatest enemy with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became sin(what the sin nature is)-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 Cor 5: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rendered it inoperative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Rom 6: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died unto it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Rom 6: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condemned it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Rom 8: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Position: Dead to it (separated, cut loo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Rom 6:2; Gal 2:20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Practice:Can fulfill its desires(lusts)-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6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ckon yourself dead (separated) to it-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6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 on God’s side - stand against i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Keep on beholding Christ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2 Cor 3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553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2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6553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in%20-%20Rom%203-23" descr=""/>
          <p:cNvPicPr/>
          <p:nvPr/>
        </p:nvPicPr>
        <p:blipFill>
          <a:blip r:embed="rId1"/>
          <a:stretch/>
        </p:blipFill>
        <p:spPr>
          <a:xfrm>
            <a:off x="762120" y="993600"/>
            <a:ext cx="7467480" cy="560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0" y="3808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IN: ITS CHARACTER AND UNIVERS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4680" y="64771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2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6469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>
            <a:off x="685800" y="6019920"/>
            <a:ext cx="6094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400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8001000" y="5791320"/>
            <a:ext cx="457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80010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1219320"/>
            <a:ext cx="8686800" cy="5366520"/>
            <a:chOff x="228600" y="1219320"/>
            <a:chExt cx="8686800" cy="5366520"/>
          </a:xfrm>
        </p:grpSpPr>
        <p:grpSp>
          <p:nvGrpSpPr>
            <p:cNvPr id="91" name=""/>
            <p:cNvGrpSpPr/>
            <p:nvPr/>
          </p:nvGrpSpPr>
          <p:grpSpPr>
            <a:xfrm>
              <a:off x="228600" y="1219320"/>
              <a:ext cx="5410080" cy="5366520"/>
              <a:chOff x="228600" y="1219320"/>
              <a:chExt cx="5410080" cy="536652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28600" y="2133720"/>
                <a:ext cx="2666880" cy="3962520"/>
                <a:chOff x="228600" y="2133720"/>
                <a:chExt cx="2666880" cy="3962520"/>
              </a:xfrm>
            </p:grpSpPr>
            <p:graphicFrame>
              <p:nvGraphicFramePr>
                <p:cNvPr id="93" name=""/>
                <p:cNvGraphicFramePr/>
                <p:nvPr/>
              </p:nvGraphicFramePr>
              <p:xfrm>
                <a:off x="228600" y="2133720"/>
                <a:ext cx="2666880" cy="38894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9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28600" y="2133720"/>
                          <a:ext cx="2666880" cy="388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5" name=""/>
                <p:cNvSpPr/>
                <p:nvPr/>
              </p:nvSpPr>
              <p:spPr>
                <a:xfrm>
                  <a:off x="661680" y="5375520"/>
                  <a:ext cx="1807920" cy="720720"/>
                </a:xfrm>
                <a:custGeom>
                  <a:avLst/>
                  <a:gdLst/>
                  <a:ahLst/>
                  <a:rect l="l" t="t" r="r" b="b"/>
                  <a:pathLst>
                    <a:path w="2800" h="1069">
                      <a:moveTo>
                        <a:pt x="1879" y="74"/>
                      </a:moveTo>
                      <a:lnTo>
                        <a:pt x="1899" y="86"/>
                      </a:lnTo>
                      <a:lnTo>
                        <a:pt x="1920" y="97"/>
                      </a:lnTo>
                      <a:lnTo>
                        <a:pt x="1930" y="103"/>
                      </a:lnTo>
                      <a:lnTo>
                        <a:pt x="1939" y="109"/>
                      </a:lnTo>
                      <a:lnTo>
                        <a:pt x="1951" y="115"/>
                      </a:lnTo>
                      <a:lnTo>
                        <a:pt x="1963" y="121"/>
                      </a:lnTo>
                      <a:lnTo>
                        <a:pt x="1972" y="125"/>
                      </a:lnTo>
                      <a:lnTo>
                        <a:pt x="1984" y="128"/>
                      </a:lnTo>
                      <a:lnTo>
                        <a:pt x="1996" y="132"/>
                      </a:lnTo>
                      <a:lnTo>
                        <a:pt x="2007" y="138"/>
                      </a:lnTo>
                      <a:lnTo>
                        <a:pt x="2019" y="140"/>
                      </a:lnTo>
                      <a:lnTo>
                        <a:pt x="2031" y="146"/>
                      </a:lnTo>
                      <a:lnTo>
                        <a:pt x="2042" y="148"/>
                      </a:lnTo>
                      <a:lnTo>
                        <a:pt x="2054" y="154"/>
                      </a:lnTo>
                      <a:lnTo>
                        <a:pt x="2064" y="156"/>
                      </a:lnTo>
                      <a:lnTo>
                        <a:pt x="2075" y="158"/>
                      </a:lnTo>
                      <a:lnTo>
                        <a:pt x="2087" y="159"/>
                      </a:lnTo>
                      <a:lnTo>
                        <a:pt x="2098" y="163"/>
                      </a:lnTo>
                      <a:lnTo>
                        <a:pt x="2110" y="165"/>
                      </a:lnTo>
                      <a:lnTo>
                        <a:pt x="2122" y="169"/>
                      </a:lnTo>
                      <a:lnTo>
                        <a:pt x="2133" y="171"/>
                      </a:lnTo>
                      <a:lnTo>
                        <a:pt x="2145" y="175"/>
                      </a:lnTo>
                      <a:lnTo>
                        <a:pt x="2157" y="175"/>
                      </a:lnTo>
                      <a:lnTo>
                        <a:pt x="2168" y="179"/>
                      </a:lnTo>
                      <a:lnTo>
                        <a:pt x="2180" y="179"/>
                      </a:lnTo>
                      <a:lnTo>
                        <a:pt x="2192" y="183"/>
                      </a:lnTo>
                      <a:lnTo>
                        <a:pt x="2203" y="183"/>
                      </a:lnTo>
                      <a:lnTo>
                        <a:pt x="2215" y="187"/>
                      </a:lnTo>
                      <a:lnTo>
                        <a:pt x="2226" y="187"/>
                      </a:lnTo>
                      <a:lnTo>
                        <a:pt x="2240" y="190"/>
                      </a:lnTo>
                      <a:lnTo>
                        <a:pt x="2252" y="190"/>
                      </a:lnTo>
                      <a:lnTo>
                        <a:pt x="2263" y="192"/>
                      </a:lnTo>
                      <a:lnTo>
                        <a:pt x="2275" y="192"/>
                      </a:lnTo>
                      <a:lnTo>
                        <a:pt x="2287" y="194"/>
                      </a:lnTo>
                      <a:lnTo>
                        <a:pt x="2298" y="194"/>
                      </a:lnTo>
                      <a:lnTo>
                        <a:pt x="2310" y="196"/>
                      </a:lnTo>
                      <a:lnTo>
                        <a:pt x="2321" y="198"/>
                      </a:lnTo>
                      <a:lnTo>
                        <a:pt x="2333" y="200"/>
                      </a:lnTo>
                      <a:lnTo>
                        <a:pt x="2345" y="200"/>
                      </a:lnTo>
                      <a:lnTo>
                        <a:pt x="2356" y="200"/>
                      </a:lnTo>
                      <a:lnTo>
                        <a:pt x="2368" y="202"/>
                      </a:lnTo>
                      <a:lnTo>
                        <a:pt x="2382" y="204"/>
                      </a:lnTo>
                      <a:lnTo>
                        <a:pt x="2393" y="204"/>
                      </a:lnTo>
                      <a:lnTo>
                        <a:pt x="2405" y="206"/>
                      </a:lnTo>
                      <a:lnTo>
                        <a:pt x="2416" y="208"/>
                      </a:lnTo>
                      <a:lnTo>
                        <a:pt x="2430" y="210"/>
                      </a:lnTo>
                      <a:lnTo>
                        <a:pt x="2442" y="210"/>
                      </a:lnTo>
                      <a:lnTo>
                        <a:pt x="2453" y="210"/>
                      </a:lnTo>
                      <a:lnTo>
                        <a:pt x="2465" y="212"/>
                      </a:lnTo>
                      <a:lnTo>
                        <a:pt x="2477" y="214"/>
                      </a:lnTo>
                      <a:lnTo>
                        <a:pt x="2488" y="214"/>
                      </a:lnTo>
                      <a:lnTo>
                        <a:pt x="2500" y="216"/>
                      </a:lnTo>
                      <a:lnTo>
                        <a:pt x="2512" y="218"/>
                      </a:lnTo>
                      <a:lnTo>
                        <a:pt x="2523" y="221"/>
                      </a:lnTo>
                      <a:lnTo>
                        <a:pt x="2535" y="221"/>
                      </a:lnTo>
                      <a:lnTo>
                        <a:pt x="2546" y="223"/>
                      </a:lnTo>
                      <a:lnTo>
                        <a:pt x="2558" y="225"/>
                      </a:lnTo>
                      <a:lnTo>
                        <a:pt x="2570" y="227"/>
                      </a:lnTo>
                      <a:lnTo>
                        <a:pt x="2581" y="229"/>
                      </a:lnTo>
                      <a:lnTo>
                        <a:pt x="2593" y="233"/>
                      </a:lnTo>
                      <a:lnTo>
                        <a:pt x="2605" y="235"/>
                      </a:lnTo>
                      <a:lnTo>
                        <a:pt x="2616" y="239"/>
                      </a:lnTo>
                      <a:lnTo>
                        <a:pt x="2628" y="241"/>
                      </a:lnTo>
                      <a:lnTo>
                        <a:pt x="2640" y="245"/>
                      </a:lnTo>
                      <a:lnTo>
                        <a:pt x="2651" y="247"/>
                      </a:lnTo>
                      <a:lnTo>
                        <a:pt x="2663" y="253"/>
                      </a:lnTo>
                      <a:lnTo>
                        <a:pt x="2674" y="254"/>
                      </a:lnTo>
                      <a:lnTo>
                        <a:pt x="2686" y="258"/>
                      </a:lnTo>
                      <a:lnTo>
                        <a:pt x="2698" y="262"/>
                      </a:lnTo>
                      <a:lnTo>
                        <a:pt x="2711" y="268"/>
                      </a:lnTo>
                      <a:lnTo>
                        <a:pt x="2721" y="270"/>
                      </a:lnTo>
                      <a:lnTo>
                        <a:pt x="2733" y="274"/>
                      </a:lnTo>
                      <a:lnTo>
                        <a:pt x="2744" y="278"/>
                      </a:lnTo>
                      <a:lnTo>
                        <a:pt x="2756" y="284"/>
                      </a:lnTo>
                      <a:lnTo>
                        <a:pt x="2766" y="287"/>
                      </a:lnTo>
                      <a:lnTo>
                        <a:pt x="2777" y="293"/>
                      </a:lnTo>
                      <a:lnTo>
                        <a:pt x="2789" y="299"/>
                      </a:lnTo>
                      <a:lnTo>
                        <a:pt x="2800" y="305"/>
                      </a:lnTo>
                      <a:lnTo>
                        <a:pt x="2779" y="299"/>
                      </a:lnTo>
                      <a:lnTo>
                        <a:pt x="2760" y="297"/>
                      </a:lnTo>
                      <a:lnTo>
                        <a:pt x="2748" y="295"/>
                      </a:lnTo>
                      <a:lnTo>
                        <a:pt x="2736" y="295"/>
                      </a:lnTo>
                      <a:lnTo>
                        <a:pt x="2725" y="295"/>
                      </a:lnTo>
                      <a:lnTo>
                        <a:pt x="2715" y="295"/>
                      </a:lnTo>
                      <a:lnTo>
                        <a:pt x="2702" y="293"/>
                      </a:lnTo>
                      <a:lnTo>
                        <a:pt x="2690" y="293"/>
                      </a:lnTo>
                      <a:lnTo>
                        <a:pt x="2678" y="293"/>
                      </a:lnTo>
                      <a:lnTo>
                        <a:pt x="2667" y="293"/>
                      </a:lnTo>
                      <a:lnTo>
                        <a:pt x="2655" y="293"/>
                      </a:lnTo>
                      <a:lnTo>
                        <a:pt x="2643" y="293"/>
                      </a:lnTo>
                      <a:lnTo>
                        <a:pt x="2632" y="293"/>
                      </a:lnTo>
                      <a:lnTo>
                        <a:pt x="2620" y="293"/>
                      </a:lnTo>
                      <a:lnTo>
                        <a:pt x="2607" y="291"/>
                      </a:lnTo>
                      <a:lnTo>
                        <a:pt x="2595" y="291"/>
                      </a:lnTo>
                      <a:lnTo>
                        <a:pt x="2583" y="289"/>
                      </a:lnTo>
                      <a:lnTo>
                        <a:pt x="2572" y="289"/>
                      </a:lnTo>
                      <a:lnTo>
                        <a:pt x="2560" y="287"/>
                      </a:lnTo>
                      <a:lnTo>
                        <a:pt x="2548" y="285"/>
                      </a:lnTo>
                      <a:lnTo>
                        <a:pt x="2537" y="284"/>
                      </a:lnTo>
                      <a:lnTo>
                        <a:pt x="2525" y="284"/>
                      </a:lnTo>
                      <a:lnTo>
                        <a:pt x="2513" y="280"/>
                      </a:lnTo>
                      <a:lnTo>
                        <a:pt x="2502" y="278"/>
                      </a:lnTo>
                      <a:lnTo>
                        <a:pt x="2490" y="276"/>
                      </a:lnTo>
                      <a:lnTo>
                        <a:pt x="2480" y="274"/>
                      </a:lnTo>
                      <a:lnTo>
                        <a:pt x="2459" y="266"/>
                      </a:lnTo>
                      <a:lnTo>
                        <a:pt x="2442" y="258"/>
                      </a:lnTo>
                      <a:lnTo>
                        <a:pt x="2428" y="258"/>
                      </a:lnTo>
                      <a:lnTo>
                        <a:pt x="2422" y="264"/>
                      </a:lnTo>
                      <a:lnTo>
                        <a:pt x="2416" y="268"/>
                      </a:lnTo>
                      <a:lnTo>
                        <a:pt x="2413" y="276"/>
                      </a:lnTo>
                      <a:lnTo>
                        <a:pt x="2422" y="305"/>
                      </a:lnTo>
                      <a:lnTo>
                        <a:pt x="2436" y="318"/>
                      </a:lnTo>
                      <a:lnTo>
                        <a:pt x="2451" y="332"/>
                      </a:lnTo>
                      <a:lnTo>
                        <a:pt x="2469" y="346"/>
                      </a:lnTo>
                      <a:lnTo>
                        <a:pt x="2486" y="359"/>
                      </a:lnTo>
                      <a:lnTo>
                        <a:pt x="2504" y="371"/>
                      </a:lnTo>
                      <a:lnTo>
                        <a:pt x="2521" y="384"/>
                      </a:lnTo>
                      <a:lnTo>
                        <a:pt x="2539" y="396"/>
                      </a:lnTo>
                      <a:lnTo>
                        <a:pt x="2556" y="410"/>
                      </a:lnTo>
                      <a:lnTo>
                        <a:pt x="2574" y="419"/>
                      </a:lnTo>
                      <a:lnTo>
                        <a:pt x="2591" y="429"/>
                      </a:lnTo>
                      <a:lnTo>
                        <a:pt x="2608" y="439"/>
                      </a:lnTo>
                      <a:lnTo>
                        <a:pt x="2628" y="450"/>
                      </a:lnTo>
                      <a:lnTo>
                        <a:pt x="2645" y="460"/>
                      </a:lnTo>
                      <a:lnTo>
                        <a:pt x="2663" y="470"/>
                      </a:lnTo>
                      <a:lnTo>
                        <a:pt x="2680" y="479"/>
                      </a:lnTo>
                      <a:lnTo>
                        <a:pt x="2700" y="489"/>
                      </a:lnTo>
                      <a:lnTo>
                        <a:pt x="2682" y="487"/>
                      </a:lnTo>
                      <a:lnTo>
                        <a:pt x="2665" y="485"/>
                      </a:lnTo>
                      <a:lnTo>
                        <a:pt x="2647" y="481"/>
                      </a:lnTo>
                      <a:lnTo>
                        <a:pt x="2630" y="479"/>
                      </a:lnTo>
                      <a:lnTo>
                        <a:pt x="2612" y="474"/>
                      </a:lnTo>
                      <a:lnTo>
                        <a:pt x="2597" y="468"/>
                      </a:lnTo>
                      <a:lnTo>
                        <a:pt x="2581" y="462"/>
                      </a:lnTo>
                      <a:lnTo>
                        <a:pt x="2568" y="456"/>
                      </a:lnTo>
                      <a:lnTo>
                        <a:pt x="2550" y="446"/>
                      </a:lnTo>
                      <a:lnTo>
                        <a:pt x="2537" y="439"/>
                      </a:lnTo>
                      <a:lnTo>
                        <a:pt x="2521" y="429"/>
                      </a:lnTo>
                      <a:lnTo>
                        <a:pt x="2510" y="421"/>
                      </a:lnTo>
                      <a:lnTo>
                        <a:pt x="2494" y="410"/>
                      </a:lnTo>
                      <a:lnTo>
                        <a:pt x="2482" y="400"/>
                      </a:lnTo>
                      <a:lnTo>
                        <a:pt x="2471" y="388"/>
                      </a:lnTo>
                      <a:lnTo>
                        <a:pt x="2459" y="379"/>
                      </a:lnTo>
                      <a:lnTo>
                        <a:pt x="2442" y="371"/>
                      </a:lnTo>
                      <a:lnTo>
                        <a:pt x="2424" y="365"/>
                      </a:lnTo>
                      <a:lnTo>
                        <a:pt x="2407" y="359"/>
                      </a:lnTo>
                      <a:lnTo>
                        <a:pt x="2391" y="353"/>
                      </a:lnTo>
                      <a:lnTo>
                        <a:pt x="2374" y="348"/>
                      </a:lnTo>
                      <a:lnTo>
                        <a:pt x="2358" y="344"/>
                      </a:lnTo>
                      <a:lnTo>
                        <a:pt x="2341" y="340"/>
                      </a:lnTo>
                      <a:lnTo>
                        <a:pt x="2325" y="336"/>
                      </a:lnTo>
                      <a:lnTo>
                        <a:pt x="2308" y="330"/>
                      </a:lnTo>
                      <a:lnTo>
                        <a:pt x="2290" y="326"/>
                      </a:lnTo>
                      <a:lnTo>
                        <a:pt x="2273" y="320"/>
                      </a:lnTo>
                      <a:lnTo>
                        <a:pt x="2256" y="317"/>
                      </a:lnTo>
                      <a:lnTo>
                        <a:pt x="2238" y="311"/>
                      </a:lnTo>
                      <a:lnTo>
                        <a:pt x="2221" y="305"/>
                      </a:lnTo>
                      <a:lnTo>
                        <a:pt x="2205" y="299"/>
                      </a:lnTo>
                      <a:lnTo>
                        <a:pt x="2192" y="295"/>
                      </a:lnTo>
                      <a:lnTo>
                        <a:pt x="2180" y="289"/>
                      </a:lnTo>
                      <a:lnTo>
                        <a:pt x="2168" y="285"/>
                      </a:lnTo>
                      <a:lnTo>
                        <a:pt x="2157" y="280"/>
                      </a:lnTo>
                      <a:lnTo>
                        <a:pt x="2145" y="276"/>
                      </a:lnTo>
                      <a:lnTo>
                        <a:pt x="2133" y="270"/>
                      </a:lnTo>
                      <a:lnTo>
                        <a:pt x="2122" y="266"/>
                      </a:lnTo>
                      <a:lnTo>
                        <a:pt x="2110" y="260"/>
                      </a:lnTo>
                      <a:lnTo>
                        <a:pt x="2100" y="256"/>
                      </a:lnTo>
                      <a:lnTo>
                        <a:pt x="2089" y="251"/>
                      </a:lnTo>
                      <a:lnTo>
                        <a:pt x="2077" y="245"/>
                      </a:lnTo>
                      <a:lnTo>
                        <a:pt x="2065" y="239"/>
                      </a:lnTo>
                      <a:lnTo>
                        <a:pt x="2056" y="235"/>
                      </a:lnTo>
                      <a:lnTo>
                        <a:pt x="2044" y="229"/>
                      </a:lnTo>
                      <a:lnTo>
                        <a:pt x="2034" y="225"/>
                      </a:lnTo>
                      <a:lnTo>
                        <a:pt x="2023" y="220"/>
                      </a:lnTo>
                      <a:lnTo>
                        <a:pt x="2013" y="216"/>
                      </a:lnTo>
                      <a:lnTo>
                        <a:pt x="2001" y="210"/>
                      </a:lnTo>
                      <a:lnTo>
                        <a:pt x="1990" y="204"/>
                      </a:lnTo>
                      <a:lnTo>
                        <a:pt x="1978" y="198"/>
                      </a:lnTo>
                      <a:lnTo>
                        <a:pt x="1968" y="194"/>
                      </a:lnTo>
                      <a:lnTo>
                        <a:pt x="1957" y="189"/>
                      </a:lnTo>
                      <a:lnTo>
                        <a:pt x="1947" y="185"/>
                      </a:lnTo>
                      <a:lnTo>
                        <a:pt x="1936" y="179"/>
                      </a:lnTo>
                      <a:lnTo>
                        <a:pt x="1926" y="175"/>
                      </a:lnTo>
                      <a:lnTo>
                        <a:pt x="1914" y="169"/>
                      </a:lnTo>
                      <a:lnTo>
                        <a:pt x="1903" y="163"/>
                      </a:lnTo>
                      <a:lnTo>
                        <a:pt x="1893" y="159"/>
                      </a:lnTo>
                      <a:lnTo>
                        <a:pt x="1883" y="156"/>
                      </a:lnTo>
                      <a:lnTo>
                        <a:pt x="1862" y="146"/>
                      </a:lnTo>
                      <a:lnTo>
                        <a:pt x="1842" y="138"/>
                      </a:lnTo>
                      <a:lnTo>
                        <a:pt x="1831" y="138"/>
                      </a:lnTo>
                      <a:lnTo>
                        <a:pt x="1821" y="138"/>
                      </a:lnTo>
                      <a:lnTo>
                        <a:pt x="1809" y="140"/>
                      </a:lnTo>
                      <a:lnTo>
                        <a:pt x="1804" y="144"/>
                      </a:lnTo>
                      <a:lnTo>
                        <a:pt x="1790" y="152"/>
                      </a:lnTo>
                      <a:lnTo>
                        <a:pt x="1786" y="165"/>
                      </a:lnTo>
                      <a:lnTo>
                        <a:pt x="1780" y="181"/>
                      </a:lnTo>
                      <a:lnTo>
                        <a:pt x="1782" y="194"/>
                      </a:lnTo>
                      <a:lnTo>
                        <a:pt x="1786" y="206"/>
                      </a:lnTo>
                      <a:lnTo>
                        <a:pt x="1796" y="218"/>
                      </a:lnTo>
                      <a:lnTo>
                        <a:pt x="1804" y="227"/>
                      </a:lnTo>
                      <a:lnTo>
                        <a:pt x="1813" y="237"/>
                      </a:lnTo>
                      <a:lnTo>
                        <a:pt x="1823" y="247"/>
                      </a:lnTo>
                      <a:lnTo>
                        <a:pt x="1833" y="258"/>
                      </a:lnTo>
                      <a:lnTo>
                        <a:pt x="1844" y="264"/>
                      </a:lnTo>
                      <a:lnTo>
                        <a:pt x="1858" y="270"/>
                      </a:lnTo>
                      <a:lnTo>
                        <a:pt x="1870" y="276"/>
                      </a:lnTo>
                      <a:lnTo>
                        <a:pt x="1883" y="284"/>
                      </a:lnTo>
                      <a:lnTo>
                        <a:pt x="1895" y="289"/>
                      </a:lnTo>
                      <a:lnTo>
                        <a:pt x="1906" y="297"/>
                      </a:lnTo>
                      <a:lnTo>
                        <a:pt x="1918" y="303"/>
                      </a:lnTo>
                      <a:lnTo>
                        <a:pt x="1930" y="311"/>
                      </a:lnTo>
                      <a:lnTo>
                        <a:pt x="1939" y="315"/>
                      </a:lnTo>
                      <a:lnTo>
                        <a:pt x="1951" y="320"/>
                      </a:lnTo>
                      <a:lnTo>
                        <a:pt x="1963" y="326"/>
                      </a:lnTo>
                      <a:lnTo>
                        <a:pt x="1974" y="332"/>
                      </a:lnTo>
                      <a:lnTo>
                        <a:pt x="1986" y="336"/>
                      </a:lnTo>
                      <a:lnTo>
                        <a:pt x="1998" y="340"/>
                      </a:lnTo>
                      <a:lnTo>
                        <a:pt x="2011" y="344"/>
                      </a:lnTo>
                      <a:lnTo>
                        <a:pt x="2027" y="349"/>
                      </a:lnTo>
                      <a:lnTo>
                        <a:pt x="2034" y="351"/>
                      </a:lnTo>
                      <a:lnTo>
                        <a:pt x="2044" y="359"/>
                      </a:lnTo>
                      <a:lnTo>
                        <a:pt x="2054" y="365"/>
                      </a:lnTo>
                      <a:lnTo>
                        <a:pt x="2064" y="369"/>
                      </a:lnTo>
                      <a:lnTo>
                        <a:pt x="2083" y="377"/>
                      </a:lnTo>
                      <a:lnTo>
                        <a:pt x="2104" y="384"/>
                      </a:lnTo>
                      <a:lnTo>
                        <a:pt x="2114" y="388"/>
                      </a:lnTo>
                      <a:lnTo>
                        <a:pt x="2126" y="392"/>
                      </a:lnTo>
                      <a:lnTo>
                        <a:pt x="2137" y="398"/>
                      </a:lnTo>
                      <a:lnTo>
                        <a:pt x="2149" y="404"/>
                      </a:lnTo>
                      <a:lnTo>
                        <a:pt x="2159" y="408"/>
                      </a:lnTo>
                      <a:lnTo>
                        <a:pt x="2170" y="412"/>
                      </a:lnTo>
                      <a:lnTo>
                        <a:pt x="2182" y="415"/>
                      </a:lnTo>
                      <a:lnTo>
                        <a:pt x="2193" y="421"/>
                      </a:lnTo>
                      <a:lnTo>
                        <a:pt x="2203" y="427"/>
                      </a:lnTo>
                      <a:lnTo>
                        <a:pt x="2215" y="433"/>
                      </a:lnTo>
                      <a:lnTo>
                        <a:pt x="2226" y="439"/>
                      </a:lnTo>
                      <a:lnTo>
                        <a:pt x="2238" y="444"/>
                      </a:lnTo>
                      <a:lnTo>
                        <a:pt x="2257" y="456"/>
                      </a:lnTo>
                      <a:lnTo>
                        <a:pt x="2277" y="468"/>
                      </a:lnTo>
                      <a:lnTo>
                        <a:pt x="2296" y="481"/>
                      </a:lnTo>
                      <a:lnTo>
                        <a:pt x="2318" y="497"/>
                      </a:lnTo>
                      <a:lnTo>
                        <a:pt x="2335" y="512"/>
                      </a:lnTo>
                      <a:lnTo>
                        <a:pt x="2352" y="530"/>
                      </a:lnTo>
                      <a:lnTo>
                        <a:pt x="2360" y="538"/>
                      </a:lnTo>
                      <a:lnTo>
                        <a:pt x="2368" y="547"/>
                      </a:lnTo>
                      <a:lnTo>
                        <a:pt x="2376" y="559"/>
                      </a:lnTo>
                      <a:lnTo>
                        <a:pt x="2385" y="571"/>
                      </a:lnTo>
                      <a:lnTo>
                        <a:pt x="2364" y="553"/>
                      </a:lnTo>
                      <a:lnTo>
                        <a:pt x="2345" y="541"/>
                      </a:lnTo>
                      <a:lnTo>
                        <a:pt x="2323" y="530"/>
                      </a:lnTo>
                      <a:lnTo>
                        <a:pt x="2304" y="520"/>
                      </a:lnTo>
                      <a:lnTo>
                        <a:pt x="2292" y="514"/>
                      </a:lnTo>
                      <a:lnTo>
                        <a:pt x="2281" y="508"/>
                      </a:lnTo>
                      <a:lnTo>
                        <a:pt x="2269" y="505"/>
                      </a:lnTo>
                      <a:lnTo>
                        <a:pt x="2259" y="501"/>
                      </a:lnTo>
                      <a:lnTo>
                        <a:pt x="2248" y="495"/>
                      </a:lnTo>
                      <a:lnTo>
                        <a:pt x="2238" y="491"/>
                      </a:lnTo>
                      <a:lnTo>
                        <a:pt x="2226" y="487"/>
                      </a:lnTo>
                      <a:lnTo>
                        <a:pt x="2217" y="483"/>
                      </a:lnTo>
                      <a:lnTo>
                        <a:pt x="2205" y="477"/>
                      </a:lnTo>
                      <a:lnTo>
                        <a:pt x="2193" y="474"/>
                      </a:lnTo>
                      <a:lnTo>
                        <a:pt x="2182" y="468"/>
                      </a:lnTo>
                      <a:lnTo>
                        <a:pt x="2172" y="464"/>
                      </a:lnTo>
                      <a:lnTo>
                        <a:pt x="2160" y="458"/>
                      </a:lnTo>
                      <a:lnTo>
                        <a:pt x="2149" y="454"/>
                      </a:lnTo>
                      <a:lnTo>
                        <a:pt x="2137" y="448"/>
                      </a:lnTo>
                      <a:lnTo>
                        <a:pt x="2128" y="444"/>
                      </a:lnTo>
                      <a:lnTo>
                        <a:pt x="2116" y="439"/>
                      </a:lnTo>
                      <a:lnTo>
                        <a:pt x="2104" y="433"/>
                      </a:lnTo>
                      <a:lnTo>
                        <a:pt x="2095" y="427"/>
                      </a:lnTo>
                      <a:lnTo>
                        <a:pt x="2085" y="421"/>
                      </a:lnTo>
                      <a:lnTo>
                        <a:pt x="2064" y="408"/>
                      </a:lnTo>
                      <a:lnTo>
                        <a:pt x="2044" y="396"/>
                      </a:lnTo>
                      <a:lnTo>
                        <a:pt x="2031" y="396"/>
                      </a:lnTo>
                      <a:lnTo>
                        <a:pt x="2023" y="402"/>
                      </a:lnTo>
                      <a:lnTo>
                        <a:pt x="2017" y="410"/>
                      </a:lnTo>
                      <a:lnTo>
                        <a:pt x="2017" y="423"/>
                      </a:lnTo>
                      <a:lnTo>
                        <a:pt x="2021" y="439"/>
                      </a:lnTo>
                      <a:lnTo>
                        <a:pt x="2036" y="450"/>
                      </a:lnTo>
                      <a:lnTo>
                        <a:pt x="2050" y="462"/>
                      </a:lnTo>
                      <a:lnTo>
                        <a:pt x="2064" y="479"/>
                      </a:lnTo>
                      <a:lnTo>
                        <a:pt x="2083" y="491"/>
                      </a:lnTo>
                      <a:lnTo>
                        <a:pt x="2104" y="503"/>
                      </a:lnTo>
                      <a:lnTo>
                        <a:pt x="2124" y="516"/>
                      </a:lnTo>
                      <a:lnTo>
                        <a:pt x="2145" y="534"/>
                      </a:lnTo>
                      <a:lnTo>
                        <a:pt x="2164" y="549"/>
                      </a:lnTo>
                      <a:lnTo>
                        <a:pt x="2184" y="567"/>
                      </a:lnTo>
                      <a:lnTo>
                        <a:pt x="2203" y="586"/>
                      </a:lnTo>
                      <a:lnTo>
                        <a:pt x="2223" y="605"/>
                      </a:lnTo>
                      <a:lnTo>
                        <a:pt x="2236" y="623"/>
                      </a:lnTo>
                      <a:lnTo>
                        <a:pt x="2252" y="644"/>
                      </a:lnTo>
                      <a:lnTo>
                        <a:pt x="2257" y="654"/>
                      </a:lnTo>
                      <a:lnTo>
                        <a:pt x="2265" y="666"/>
                      </a:lnTo>
                      <a:lnTo>
                        <a:pt x="2271" y="677"/>
                      </a:lnTo>
                      <a:lnTo>
                        <a:pt x="2279" y="689"/>
                      </a:lnTo>
                      <a:lnTo>
                        <a:pt x="2283" y="698"/>
                      </a:lnTo>
                      <a:lnTo>
                        <a:pt x="2288" y="710"/>
                      </a:lnTo>
                      <a:lnTo>
                        <a:pt x="2292" y="722"/>
                      </a:lnTo>
                      <a:lnTo>
                        <a:pt x="2298" y="733"/>
                      </a:lnTo>
                      <a:lnTo>
                        <a:pt x="2300" y="745"/>
                      </a:lnTo>
                      <a:lnTo>
                        <a:pt x="2304" y="759"/>
                      </a:lnTo>
                      <a:lnTo>
                        <a:pt x="2308" y="770"/>
                      </a:lnTo>
                      <a:lnTo>
                        <a:pt x="2312" y="784"/>
                      </a:lnTo>
                      <a:lnTo>
                        <a:pt x="2290" y="766"/>
                      </a:lnTo>
                      <a:lnTo>
                        <a:pt x="2275" y="747"/>
                      </a:lnTo>
                      <a:lnTo>
                        <a:pt x="2265" y="735"/>
                      </a:lnTo>
                      <a:lnTo>
                        <a:pt x="2257" y="724"/>
                      </a:lnTo>
                      <a:lnTo>
                        <a:pt x="2250" y="712"/>
                      </a:lnTo>
                      <a:lnTo>
                        <a:pt x="2244" y="702"/>
                      </a:lnTo>
                      <a:lnTo>
                        <a:pt x="2236" y="689"/>
                      </a:lnTo>
                      <a:lnTo>
                        <a:pt x="2228" y="675"/>
                      </a:lnTo>
                      <a:lnTo>
                        <a:pt x="2221" y="664"/>
                      </a:lnTo>
                      <a:lnTo>
                        <a:pt x="2213" y="652"/>
                      </a:lnTo>
                      <a:lnTo>
                        <a:pt x="2205" y="640"/>
                      </a:lnTo>
                      <a:lnTo>
                        <a:pt x="2197" y="629"/>
                      </a:lnTo>
                      <a:lnTo>
                        <a:pt x="2190" y="617"/>
                      </a:lnTo>
                      <a:lnTo>
                        <a:pt x="2184" y="607"/>
                      </a:lnTo>
                      <a:lnTo>
                        <a:pt x="2170" y="594"/>
                      </a:lnTo>
                      <a:lnTo>
                        <a:pt x="2157" y="582"/>
                      </a:lnTo>
                      <a:lnTo>
                        <a:pt x="2143" y="571"/>
                      </a:lnTo>
                      <a:lnTo>
                        <a:pt x="2131" y="561"/>
                      </a:lnTo>
                      <a:lnTo>
                        <a:pt x="2118" y="549"/>
                      </a:lnTo>
                      <a:lnTo>
                        <a:pt x="2104" y="539"/>
                      </a:lnTo>
                      <a:lnTo>
                        <a:pt x="2091" y="530"/>
                      </a:lnTo>
                      <a:lnTo>
                        <a:pt x="2079" y="522"/>
                      </a:lnTo>
                      <a:lnTo>
                        <a:pt x="2064" y="512"/>
                      </a:lnTo>
                      <a:lnTo>
                        <a:pt x="2052" y="505"/>
                      </a:lnTo>
                      <a:lnTo>
                        <a:pt x="2036" y="499"/>
                      </a:lnTo>
                      <a:lnTo>
                        <a:pt x="2025" y="493"/>
                      </a:lnTo>
                      <a:lnTo>
                        <a:pt x="2009" y="487"/>
                      </a:lnTo>
                      <a:lnTo>
                        <a:pt x="1998" y="483"/>
                      </a:lnTo>
                      <a:lnTo>
                        <a:pt x="1982" y="479"/>
                      </a:lnTo>
                      <a:lnTo>
                        <a:pt x="1970" y="479"/>
                      </a:lnTo>
                      <a:lnTo>
                        <a:pt x="1957" y="470"/>
                      </a:lnTo>
                      <a:lnTo>
                        <a:pt x="1947" y="462"/>
                      </a:lnTo>
                      <a:lnTo>
                        <a:pt x="1937" y="454"/>
                      </a:lnTo>
                      <a:lnTo>
                        <a:pt x="1930" y="446"/>
                      </a:lnTo>
                      <a:lnTo>
                        <a:pt x="1914" y="427"/>
                      </a:lnTo>
                      <a:lnTo>
                        <a:pt x="1903" y="408"/>
                      </a:lnTo>
                      <a:lnTo>
                        <a:pt x="1891" y="386"/>
                      </a:lnTo>
                      <a:lnTo>
                        <a:pt x="1879" y="369"/>
                      </a:lnTo>
                      <a:lnTo>
                        <a:pt x="1866" y="349"/>
                      </a:lnTo>
                      <a:lnTo>
                        <a:pt x="1852" y="332"/>
                      </a:lnTo>
                      <a:lnTo>
                        <a:pt x="1839" y="320"/>
                      </a:lnTo>
                      <a:lnTo>
                        <a:pt x="1827" y="309"/>
                      </a:lnTo>
                      <a:lnTo>
                        <a:pt x="1815" y="297"/>
                      </a:lnTo>
                      <a:lnTo>
                        <a:pt x="1804" y="289"/>
                      </a:lnTo>
                      <a:lnTo>
                        <a:pt x="1790" y="278"/>
                      </a:lnTo>
                      <a:lnTo>
                        <a:pt x="1778" y="270"/>
                      </a:lnTo>
                      <a:lnTo>
                        <a:pt x="1767" y="260"/>
                      </a:lnTo>
                      <a:lnTo>
                        <a:pt x="1755" y="253"/>
                      </a:lnTo>
                      <a:lnTo>
                        <a:pt x="1742" y="243"/>
                      </a:lnTo>
                      <a:lnTo>
                        <a:pt x="1728" y="235"/>
                      </a:lnTo>
                      <a:lnTo>
                        <a:pt x="1714" y="225"/>
                      </a:lnTo>
                      <a:lnTo>
                        <a:pt x="1703" y="220"/>
                      </a:lnTo>
                      <a:lnTo>
                        <a:pt x="1689" y="212"/>
                      </a:lnTo>
                      <a:lnTo>
                        <a:pt x="1678" y="206"/>
                      </a:lnTo>
                      <a:lnTo>
                        <a:pt x="1664" y="200"/>
                      </a:lnTo>
                      <a:lnTo>
                        <a:pt x="1652" y="194"/>
                      </a:lnTo>
                      <a:lnTo>
                        <a:pt x="1637" y="187"/>
                      </a:lnTo>
                      <a:lnTo>
                        <a:pt x="1623" y="181"/>
                      </a:lnTo>
                      <a:lnTo>
                        <a:pt x="1610" y="175"/>
                      </a:lnTo>
                      <a:lnTo>
                        <a:pt x="1596" y="169"/>
                      </a:lnTo>
                      <a:lnTo>
                        <a:pt x="1581" y="163"/>
                      </a:lnTo>
                      <a:lnTo>
                        <a:pt x="1569" y="159"/>
                      </a:lnTo>
                      <a:lnTo>
                        <a:pt x="1553" y="156"/>
                      </a:lnTo>
                      <a:lnTo>
                        <a:pt x="1542" y="152"/>
                      </a:lnTo>
                      <a:lnTo>
                        <a:pt x="1526" y="146"/>
                      </a:lnTo>
                      <a:lnTo>
                        <a:pt x="1513" y="140"/>
                      </a:lnTo>
                      <a:lnTo>
                        <a:pt x="1497" y="136"/>
                      </a:lnTo>
                      <a:lnTo>
                        <a:pt x="1484" y="132"/>
                      </a:lnTo>
                      <a:lnTo>
                        <a:pt x="1468" y="128"/>
                      </a:lnTo>
                      <a:lnTo>
                        <a:pt x="1455" y="126"/>
                      </a:lnTo>
                      <a:lnTo>
                        <a:pt x="1441" y="123"/>
                      </a:lnTo>
                      <a:lnTo>
                        <a:pt x="1427" y="121"/>
                      </a:lnTo>
                      <a:lnTo>
                        <a:pt x="1422" y="125"/>
                      </a:lnTo>
                      <a:lnTo>
                        <a:pt x="1418" y="138"/>
                      </a:lnTo>
                      <a:lnTo>
                        <a:pt x="1422" y="154"/>
                      </a:lnTo>
                      <a:lnTo>
                        <a:pt x="1427" y="171"/>
                      </a:lnTo>
                      <a:lnTo>
                        <a:pt x="1433" y="187"/>
                      </a:lnTo>
                      <a:lnTo>
                        <a:pt x="1439" y="204"/>
                      </a:lnTo>
                      <a:lnTo>
                        <a:pt x="1445" y="220"/>
                      </a:lnTo>
                      <a:lnTo>
                        <a:pt x="1451" y="235"/>
                      </a:lnTo>
                      <a:lnTo>
                        <a:pt x="1456" y="251"/>
                      </a:lnTo>
                      <a:lnTo>
                        <a:pt x="1466" y="266"/>
                      </a:lnTo>
                      <a:lnTo>
                        <a:pt x="1472" y="280"/>
                      </a:lnTo>
                      <a:lnTo>
                        <a:pt x="1482" y="293"/>
                      </a:lnTo>
                      <a:lnTo>
                        <a:pt x="1491" y="307"/>
                      </a:lnTo>
                      <a:lnTo>
                        <a:pt x="1503" y="320"/>
                      </a:lnTo>
                      <a:lnTo>
                        <a:pt x="1515" y="332"/>
                      </a:lnTo>
                      <a:lnTo>
                        <a:pt x="1526" y="344"/>
                      </a:lnTo>
                      <a:lnTo>
                        <a:pt x="1540" y="355"/>
                      </a:lnTo>
                      <a:lnTo>
                        <a:pt x="1557" y="369"/>
                      </a:lnTo>
                      <a:lnTo>
                        <a:pt x="1573" y="375"/>
                      </a:lnTo>
                      <a:lnTo>
                        <a:pt x="1592" y="382"/>
                      </a:lnTo>
                      <a:lnTo>
                        <a:pt x="1610" y="388"/>
                      </a:lnTo>
                      <a:lnTo>
                        <a:pt x="1631" y="394"/>
                      </a:lnTo>
                      <a:lnTo>
                        <a:pt x="1648" y="400"/>
                      </a:lnTo>
                      <a:lnTo>
                        <a:pt x="1668" y="410"/>
                      </a:lnTo>
                      <a:lnTo>
                        <a:pt x="1674" y="415"/>
                      </a:lnTo>
                      <a:lnTo>
                        <a:pt x="1681" y="423"/>
                      </a:lnTo>
                      <a:lnTo>
                        <a:pt x="1687" y="431"/>
                      </a:lnTo>
                      <a:lnTo>
                        <a:pt x="1695" y="443"/>
                      </a:lnTo>
                      <a:lnTo>
                        <a:pt x="1699" y="460"/>
                      </a:lnTo>
                      <a:lnTo>
                        <a:pt x="1709" y="477"/>
                      </a:lnTo>
                      <a:lnTo>
                        <a:pt x="1718" y="491"/>
                      </a:lnTo>
                      <a:lnTo>
                        <a:pt x="1730" y="505"/>
                      </a:lnTo>
                      <a:lnTo>
                        <a:pt x="1742" y="514"/>
                      </a:lnTo>
                      <a:lnTo>
                        <a:pt x="1755" y="524"/>
                      </a:lnTo>
                      <a:lnTo>
                        <a:pt x="1771" y="534"/>
                      </a:lnTo>
                      <a:lnTo>
                        <a:pt x="1788" y="543"/>
                      </a:lnTo>
                      <a:lnTo>
                        <a:pt x="1804" y="549"/>
                      </a:lnTo>
                      <a:lnTo>
                        <a:pt x="1819" y="557"/>
                      </a:lnTo>
                      <a:lnTo>
                        <a:pt x="1837" y="563"/>
                      </a:lnTo>
                      <a:lnTo>
                        <a:pt x="1854" y="572"/>
                      </a:lnTo>
                      <a:lnTo>
                        <a:pt x="1870" y="580"/>
                      </a:lnTo>
                      <a:lnTo>
                        <a:pt x="1885" y="592"/>
                      </a:lnTo>
                      <a:lnTo>
                        <a:pt x="1901" y="602"/>
                      </a:lnTo>
                      <a:lnTo>
                        <a:pt x="1916" y="617"/>
                      </a:lnTo>
                      <a:lnTo>
                        <a:pt x="1928" y="634"/>
                      </a:lnTo>
                      <a:lnTo>
                        <a:pt x="1939" y="654"/>
                      </a:lnTo>
                      <a:lnTo>
                        <a:pt x="1953" y="673"/>
                      </a:lnTo>
                      <a:lnTo>
                        <a:pt x="1968" y="693"/>
                      </a:lnTo>
                      <a:lnTo>
                        <a:pt x="1982" y="710"/>
                      </a:lnTo>
                      <a:lnTo>
                        <a:pt x="1998" y="731"/>
                      </a:lnTo>
                      <a:lnTo>
                        <a:pt x="2013" y="751"/>
                      </a:lnTo>
                      <a:lnTo>
                        <a:pt x="2029" y="772"/>
                      </a:lnTo>
                      <a:lnTo>
                        <a:pt x="2040" y="792"/>
                      </a:lnTo>
                      <a:lnTo>
                        <a:pt x="2054" y="813"/>
                      </a:lnTo>
                      <a:lnTo>
                        <a:pt x="2058" y="823"/>
                      </a:lnTo>
                      <a:lnTo>
                        <a:pt x="2064" y="832"/>
                      </a:lnTo>
                      <a:lnTo>
                        <a:pt x="2069" y="844"/>
                      </a:lnTo>
                      <a:lnTo>
                        <a:pt x="2075" y="856"/>
                      </a:lnTo>
                      <a:lnTo>
                        <a:pt x="2079" y="865"/>
                      </a:lnTo>
                      <a:lnTo>
                        <a:pt x="2083" y="877"/>
                      </a:lnTo>
                      <a:lnTo>
                        <a:pt x="2087" y="889"/>
                      </a:lnTo>
                      <a:lnTo>
                        <a:pt x="2091" y="900"/>
                      </a:lnTo>
                      <a:lnTo>
                        <a:pt x="2093" y="912"/>
                      </a:lnTo>
                      <a:lnTo>
                        <a:pt x="2095" y="923"/>
                      </a:lnTo>
                      <a:lnTo>
                        <a:pt x="2096" y="935"/>
                      </a:lnTo>
                      <a:lnTo>
                        <a:pt x="2100" y="949"/>
                      </a:lnTo>
                      <a:lnTo>
                        <a:pt x="2087" y="935"/>
                      </a:lnTo>
                      <a:lnTo>
                        <a:pt x="2075" y="923"/>
                      </a:lnTo>
                      <a:lnTo>
                        <a:pt x="2064" y="910"/>
                      </a:lnTo>
                      <a:lnTo>
                        <a:pt x="2052" y="898"/>
                      </a:lnTo>
                      <a:lnTo>
                        <a:pt x="2040" y="885"/>
                      </a:lnTo>
                      <a:lnTo>
                        <a:pt x="2031" y="873"/>
                      </a:lnTo>
                      <a:lnTo>
                        <a:pt x="2021" y="861"/>
                      </a:lnTo>
                      <a:lnTo>
                        <a:pt x="2011" y="850"/>
                      </a:lnTo>
                      <a:lnTo>
                        <a:pt x="2000" y="836"/>
                      </a:lnTo>
                      <a:lnTo>
                        <a:pt x="1992" y="825"/>
                      </a:lnTo>
                      <a:lnTo>
                        <a:pt x="1982" y="811"/>
                      </a:lnTo>
                      <a:lnTo>
                        <a:pt x="1976" y="799"/>
                      </a:lnTo>
                      <a:lnTo>
                        <a:pt x="1968" y="786"/>
                      </a:lnTo>
                      <a:lnTo>
                        <a:pt x="1963" y="772"/>
                      </a:lnTo>
                      <a:lnTo>
                        <a:pt x="1957" y="759"/>
                      </a:lnTo>
                      <a:lnTo>
                        <a:pt x="1953" y="747"/>
                      </a:lnTo>
                      <a:lnTo>
                        <a:pt x="1937" y="747"/>
                      </a:lnTo>
                      <a:lnTo>
                        <a:pt x="1926" y="747"/>
                      </a:lnTo>
                      <a:lnTo>
                        <a:pt x="1916" y="755"/>
                      </a:lnTo>
                      <a:lnTo>
                        <a:pt x="1914" y="772"/>
                      </a:lnTo>
                      <a:lnTo>
                        <a:pt x="1914" y="792"/>
                      </a:lnTo>
                      <a:lnTo>
                        <a:pt x="1912" y="811"/>
                      </a:lnTo>
                      <a:lnTo>
                        <a:pt x="1912" y="832"/>
                      </a:lnTo>
                      <a:lnTo>
                        <a:pt x="1912" y="852"/>
                      </a:lnTo>
                      <a:lnTo>
                        <a:pt x="1914" y="873"/>
                      </a:lnTo>
                      <a:lnTo>
                        <a:pt x="1918" y="892"/>
                      </a:lnTo>
                      <a:lnTo>
                        <a:pt x="1926" y="912"/>
                      </a:lnTo>
                      <a:lnTo>
                        <a:pt x="1912" y="892"/>
                      </a:lnTo>
                      <a:lnTo>
                        <a:pt x="1904" y="875"/>
                      </a:lnTo>
                      <a:lnTo>
                        <a:pt x="1897" y="856"/>
                      </a:lnTo>
                      <a:lnTo>
                        <a:pt x="1893" y="836"/>
                      </a:lnTo>
                      <a:lnTo>
                        <a:pt x="1887" y="815"/>
                      </a:lnTo>
                      <a:lnTo>
                        <a:pt x="1883" y="795"/>
                      </a:lnTo>
                      <a:lnTo>
                        <a:pt x="1881" y="776"/>
                      </a:lnTo>
                      <a:lnTo>
                        <a:pt x="1879" y="757"/>
                      </a:lnTo>
                      <a:lnTo>
                        <a:pt x="1875" y="735"/>
                      </a:lnTo>
                      <a:lnTo>
                        <a:pt x="1872" y="716"/>
                      </a:lnTo>
                      <a:lnTo>
                        <a:pt x="1868" y="695"/>
                      </a:lnTo>
                      <a:lnTo>
                        <a:pt x="1864" y="675"/>
                      </a:lnTo>
                      <a:lnTo>
                        <a:pt x="1856" y="656"/>
                      </a:lnTo>
                      <a:lnTo>
                        <a:pt x="1846" y="638"/>
                      </a:lnTo>
                      <a:lnTo>
                        <a:pt x="1835" y="621"/>
                      </a:lnTo>
                      <a:lnTo>
                        <a:pt x="1823" y="607"/>
                      </a:lnTo>
                      <a:lnTo>
                        <a:pt x="1809" y="600"/>
                      </a:lnTo>
                      <a:lnTo>
                        <a:pt x="1798" y="592"/>
                      </a:lnTo>
                      <a:lnTo>
                        <a:pt x="1786" y="586"/>
                      </a:lnTo>
                      <a:lnTo>
                        <a:pt x="1775" y="580"/>
                      </a:lnTo>
                      <a:lnTo>
                        <a:pt x="1761" y="574"/>
                      </a:lnTo>
                      <a:lnTo>
                        <a:pt x="1749" y="569"/>
                      </a:lnTo>
                      <a:lnTo>
                        <a:pt x="1738" y="563"/>
                      </a:lnTo>
                      <a:lnTo>
                        <a:pt x="1726" y="557"/>
                      </a:lnTo>
                      <a:lnTo>
                        <a:pt x="1712" y="549"/>
                      </a:lnTo>
                      <a:lnTo>
                        <a:pt x="1701" y="543"/>
                      </a:lnTo>
                      <a:lnTo>
                        <a:pt x="1689" y="538"/>
                      </a:lnTo>
                      <a:lnTo>
                        <a:pt x="1678" y="532"/>
                      </a:lnTo>
                      <a:lnTo>
                        <a:pt x="1666" y="524"/>
                      </a:lnTo>
                      <a:lnTo>
                        <a:pt x="1654" y="518"/>
                      </a:lnTo>
                      <a:lnTo>
                        <a:pt x="1643" y="512"/>
                      </a:lnTo>
                      <a:lnTo>
                        <a:pt x="1631" y="507"/>
                      </a:lnTo>
                      <a:lnTo>
                        <a:pt x="1623" y="508"/>
                      </a:lnTo>
                      <a:lnTo>
                        <a:pt x="1617" y="516"/>
                      </a:lnTo>
                      <a:lnTo>
                        <a:pt x="1612" y="522"/>
                      </a:lnTo>
                      <a:lnTo>
                        <a:pt x="1612" y="526"/>
                      </a:lnTo>
                      <a:lnTo>
                        <a:pt x="1616" y="543"/>
                      </a:lnTo>
                      <a:lnTo>
                        <a:pt x="1623" y="561"/>
                      </a:lnTo>
                      <a:lnTo>
                        <a:pt x="1631" y="576"/>
                      </a:lnTo>
                      <a:lnTo>
                        <a:pt x="1641" y="594"/>
                      </a:lnTo>
                      <a:lnTo>
                        <a:pt x="1648" y="607"/>
                      </a:lnTo>
                      <a:lnTo>
                        <a:pt x="1660" y="623"/>
                      </a:lnTo>
                      <a:lnTo>
                        <a:pt x="1670" y="638"/>
                      </a:lnTo>
                      <a:lnTo>
                        <a:pt x="1681" y="654"/>
                      </a:lnTo>
                      <a:lnTo>
                        <a:pt x="1691" y="667"/>
                      </a:lnTo>
                      <a:lnTo>
                        <a:pt x="1701" y="683"/>
                      </a:lnTo>
                      <a:lnTo>
                        <a:pt x="1711" y="697"/>
                      </a:lnTo>
                      <a:lnTo>
                        <a:pt x="1720" y="712"/>
                      </a:lnTo>
                      <a:lnTo>
                        <a:pt x="1726" y="728"/>
                      </a:lnTo>
                      <a:lnTo>
                        <a:pt x="1732" y="745"/>
                      </a:lnTo>
                      <a:lnTo>
                        <a:pt x="1736" y="762"/>
                      </a:lnTo>
                      <a:lnTo>
                        <a:pt x="1742" y="784"/>
                      </a:lnTo>
                      <a:lnTo>
                        <a:pt x="1740" y="797"/>
                      </a:lnTo>
                      <a:lnTo>
                        <a:pt x="1740" y="813"/>
                      </a:lnTo>
                      <a:lnTo>
                        <a:pt x="1738" y="826"/>
                      </a:lnTo>
                      <a:lnTo>
                        <a:pt x="1736" y="842"/>
                      </a:lnTo>
                      <a:lnTo>
                        <a:pt x="1732" y="854"/>
                      </a:lnTo>
                      <a:lnTo>
                        <a:pt x="1732" y="869"/>
                      </a:lnTo>
                      <a:lnTo>
                        <a:pt x="1728" y="881"/>
                      </a:lnTo>
                      <a:lnTo>
                        <a:pt x="1728" y="896"/>
                      </a:lnTo>
                      <a:lnTo>
                        <a:pt x="1724" y="908"/>
                      </a:lnTo>
                      <a:lnTo>
                        <a:pt x="1722" y="921"/>
                      </a:lnTo>
                      <a:lnTo>
                        <a:pt x="1720" y="935"/>
                      </a:lnTo>
                      <a:lnTo>
                        <a:pt x="1720" y="951"/>
                      </a:lnTo>
                      <a:lnTo>
                        <a:pt x="1718" y="962"/>
                      </a:lnTo>
                      <a:lnTo>
                        <a:pt x="1718" y="976"/>
                      </a:lnTo>
                      <a:lnTo>
                        <a:pt x="1718" y="989"/>
                      </a:lnTo>
                      <a:lnTo>
                        <a:pt x="1722" y="1005"/>
                      </a:lnTo>
                      <a:lnTo>
                        <a:pt x="1716" y="991"/>
                      </a:lnTo>
                      <a:lnTo>
                        <a:pt x="1712" y="978"/>
                      </a:lnTo>
                      <a:lnTo>
                        <a:pt x="1709" y="964"/>
                      </a:lnTo>
                      <a:lnTo>
                        <a:pt x="1705" y="952"/>
                      </a:lnTo>
                      <a:lnTo>
                        <a:pt x="1701" y="937"/>
                      </a:lnTo>
                      <a:lnTo>
                        <a:pt x="1699" y="925"/>
                      </a:lnTo>
                      <a:lnTo>
                        <a:pt x="1695" y="910"/>
                      </a:lnTo>
                      <a:lnTo>
                        <a:pt x="1693" y="898"/>
                      </a:lnTo>
                      <a:lnTo>
                        <a:pt x="1689" y="883"/>
                      </a:lnTo>
                      <a:lnTo>
                        <a:pt x="1687" y="869"/>
                      </a:lnTo>
                      <a:lnTo>
                        <a:pt x="1683" y="854"/>
                      </a:lnTo>
                      <a:lnTo>
                        <a:pt x="1681" y="840"/>
                      </a:lnTo>
                      <a:lnTo>
                        <a:pt x="1678" y="825"/>
                      </a:lnTo>
                      <a:lnTo>
                        <a:pt x="1676" y="811"/>
                      </a:lnTo>
                      <a:lnTo>
                        <a:pt x="1674" y="797"/>
                      </a:lnTo>
                      <a:lnTo>
                        <a:pt x="1672" y="784"/>
                      </a:lnTo>
                      <a:lnTo>
                        <a:pt x="1666" y="768"/>
                      </a:lnTo>
                      <a:lnTo>
                        <a:pt x="1664" y="755"/>
                      </a:lnTo>
                      <a:lnTo>
                        <a:pt x="1658" y="739"/>
                      </a:lnTo>
                      <a:lnTo>
                        <a:pt x="1656" y="726"/>
                      </a:lnTo>
                      <a:lnTo>
                        <a:pt x="1650" y="710"/>
                      </a:lnTo>
                      <a:lnTo>
                        <a:pt x="1647" y="697"/>
                      </a:lnTo>
                      <a:lnTo>
                        <a:pt x="1641" y="681"/>
                      </a:lnTo>
                      <a:lnTo>
                        <a:pt x="1637" y="669"/>
                      </a:lnTo>
                      <a:lnTo>
                        <a:pt x="1629" y="656"/>
                      </a:lnTo>
                      <a:lnTo>
                        <a:pt x="1623" y="642"/>
                      </a:lnTo>
                      <a:lnTo>
                        <a:pt x="1616" y="629"/>
                      </a:lnTo>
                      <a:lnTo>
                        <a:pt x="1610" y="617"/>
                      </a:lnTo>
                      <a:lnTo>
                        <a:pt x="1600" y="603"/>
                      </a:lnTo>
                      <a:lnTo>
                        <a:pt x="1592" y="592"/>
                      </a:lnTo>
                      <a:lnTo>
                        <a:pt x="1583" y="580"/>
                      </a:lnTo>
                      <a:lnTo>
                        <a:pt x="1575" y="571"/>
                      </a:lnTo>
                      <a:lnTo>
                        <a:pt x="1563" y="559"/>
                      </a:lnTo>
                      <a:lnTo>
                        <a:pt x="1553" y="547"/>
                      </a:lnTo>
                      <a:lnTo>
                        <a:pt x="1544" y="536"/>
                      </a:lnTo>
                      <a:lnTo>
                        <a:pt x="1536" y="526"/>
                      </a:lnTo>
                      <a:lnTo>
                        <a:pt x="1526" y="514"/>
                      </a:lnTo>
                      <a:lnTo>
                        <a:pt x="1519" y="503"/>
                      </a:lnTo>
                      <a:lnTo>
                        <a:pt x="1509" y="491"/>
                      </a:lnTo>
                      <a:lnTo>
                        <a:pt x="1503" y="481"/>
                      </a:lnTo>
                      <a:lnTo>
                        <a:pt x="1495" y="468"/>
                      </a:lnTo>
                      <a:lnTo>
                        <a:pt x="1488" y="456"/>
                      </a:lnTo>
                      <a:lnTo>
                        <a:pt x="1480" y="443"/>
                      </a:lnTo>
                      <a:lnTo>
                        <a:pt x="1474" y="431"/>
                      </a:lnTo>
                      <a:lnTo>
                        <a:pt x="1466" y="417"/>
                      </a:lnTo>
                      <a:lnTo>
                        <a:pt x="1458" y="404"/>
                      </a:lnTo>
                      <a:lnTo>
                        <a:pt x="1453" y="390"/>
                      </a:lnTo>
                      <a:lnTo>
                        <a:pt x="1447" y="379"/>
                      </a:lnTo>
                      <a:lnTo>
                        <a:pt x="1443" y="371"/>
                      </a:lnTo>
                      <a:lnTo>
                        <a:pt x="1435" y="371"/>
                      </a:lnTo>
                      <a:lnTo>
                        <a:pt x="1425" y="371"/>
                      </a:lnTo>
                      <a:lnTo>
                        <a:pt x="1418" y="379"/>
                      </a:lnTo>
                      <a:lnTo>
                        <a:pt x="1410" y="394"/>
                      </a:lnTo>
                      <a:lnTo>
                        <a:pt x="1406" y="412"/>
                      </a:lnTo>
                      <a:lnTo>
                        <a:pt x="1402" y="427"/>
                      </a:lnTo>
                      <a:lnTo>
                        <a:pt x="1402" y="444"/>
                      </a:lnTo>
                      <a:lnTo>
                        <a:pt x="1402" y="460"/>
                      </a:lnTo>
                      <a:lnTo>
                        <a:pt x="1402" y="477"/>
                      </a:lnTo>
                      <a:lnTo>
                        <a:pt x="1404" y="493"/>
                      </a:lnTo>
                      <a:lnTo>
                        <a:pt x="1410" y="510"/>
                      </a:lnTo>
                      <a:lnTo>
                        <a:pt x="1412" y="524"/>
                      </a:lnTo>
                      <a:lnTo>
                        <a:pt x="1418" y="541"/>
                      </a:lnTo>
                      <a:lnTo>
                        <a:pt x="1424" y="555"/>
                      </a:lnTo>
                      <a:lnTo>
                        <a:pt x="1429" y="572"/>
                      </a:lnTo>
                      <a:lnTo>
                        <a:pt x="1435" y="588"/>
                      </a:lnTo>
                      <a:lnTo>
                        <a:pt x="1443" y="603"/>
                      </a:lnTo>
                      <a:lnTo>
                        <a:pt x="1451" y="619"/>
                      </a:lnTo>
                      <a:lnTo>
                        <a:pt x="1458" y="636"/>
                      </a:lnTo>
                      <a:lnTo>
                        <a:pt x="1464" y="650"/>
                      </a:lnTo>
                      <a:lnTo>
                        <a:pt x="1472" y="666"/>
                      </a:lnTo>
                      <a:lnTo>
                        <a:pt x="1478" y="681"/>
                      </a:lnTo>
                      <a:lnTo>
                        <a:pt x="1486" y="697"/>
                      </a:lnTo>
                      <a:lnTo>
                        <a:pt x="1491" y="712"/>
                      </a:lnTo>
                      <a:lnTo>
                        <a:pt x="1497" y="728"/>
                      </a:lnTo>
                      <a:lnTo>
                        <a:pt x="1503" y="743"/>
                      </a:lnTo>
                      <a:lnTo>
                        <a:pt x="1509" y="761"/>
                      </a:lnTo>
                      <a:lnTo>
                        <a:pt x="1513" y="776"/>
                      </a:lnTo>
                      <a:lnTo>
                        <a:pt x="1517" y="792"/>
                      </a:lnTo>
                      <a:lnTo>
                        <a:pt x="1519" y="807"/>
                      </a:lnTo>
                      <a:lnTo>
                        <a:pt x="1522" y="825"/>
                      </a:lnTo>
                      <a:lnTo>
                        <a:pt x="1522" y="842"/>
                      </a:lnTo>
                      <a:lnTo>
                        <a:pt x="1522" y="859"/>
                      </a:lnTo>
                      <a:lnTo>
                        <a:pt x="1520" y="877"/>
                      </a:lnTo>
                      <a:lnTo>
                        <a:pt x="1520" y="894"/>
                      </a:lnTo>
                      <a:lnTo>
                        <a:pt x="1519" y="914"/>
                      </a:lnTo>
                      <a:lnTo>
                        <a:pt x="1519" y="933"/>
                      </a:lnTo>
                      <a:lnTo>
                        <a:pt x="1515" y="951"/>
                      </a:lnTo>
                      <a:lnTo>
                        <a:pt x="1511" y="968"/>
                      </a:lnTo>
                      <a:lnTo>
                        <a:pt x="1519" y="982"/>
                      </a:lnTo>
                      <a:lnTo>
                        <a:pt x="1522" y="999"/>
                      </a:lnTo>
                      <a:lnTo>
                        <a:pt x="1524" y="1015"/>
                      </a:lnTo>
                      <a:lnTo>
                        <a:pt x="1528" y="1032"/>
                      </a:lnTo>
                      <a:lnTo>
                        <a:pt x="1522" y="1018"/>
                      </a:lnTo>
                      <a:lnTo>
                        <a:pt x="1520" y="1007"/>
                      </a:lnTo>
                      <a:lnTo>
                        <a:pt x="1517" y="993"/>
                      </a:lnTo>
                      <a:lnTo>
                        <a:pt x="1515" y="982"/>
                      </a:lnTo>
                      <a:lnTo>
                        <a:pt x="1511" y="968"/>
                      </a:lnTo>
                      <a:lnTo>
                        <a:pt x="1509" y="956"/>
                      </a:lnTo>
                      <a:lnTo>
                        <a:pt x="1505" y="945"/>
                      </a:lnTo>
                      <a:lnTo>
                        <a:pt x="1505" y="933"/>
                      </a:lnTo>
                      <a:lnTo>
                        <a:pt x="1501" y="921"/>
                      </a:lnTo>
                      <a:lnTo>
                        <a:pt x="1501" y="910"/>
                      </a:lnTo>
                      <a:lnTo>
                        <a:pt x="1497" y="898"/>
                      </a:lnTo>
                      <a:lnTo>
                        <a:pt x="1497" y="887"/>
                      </a:lnTo>
                      <a:lnTo>
                        <a:pt x="1493" y="875"/>
                      </a:lnTo>
                      <a:lnTo>
                        <a:pt x="1493" y="863"/>
                      </a:lnTo>
                      <a:lnTo>
                        <a:pt x="1489" y="852"/>
                      </a:lnTo>
                      <a:lnTo>
                        <a:pt x="1489" y="840"/>
                      </a:lnTo>
                      <a:lnTo>
                        <a:pt x="1486" y="828"/>
                      </a:lnTo>
                      <a:lnTo>
                        <a:pt x="1482" y="817"/>
                      </a:lnTo>
                      <a:lnTo>
                        <a:pt x="1478" y="805"/>
                      </a:lnTo>
                      <a:lnTo>
                        <a:pt x="1476" y="793"/>
                      </a:lnTo>
                      <a:lnTo>
                        <a:pt x="1472" y="782"/>
                      </a:lnTo>
                      <a:lnTo>
                        <a:pt x="1468" y="770"/>
                      </a:lnTo>
                      <a:lnTo>
                        <a:pt x="1464" y="759"/>
                      </a:lnTo>
                      <a:lnTo>
                        <a:pt x="1460" y="749"/>
                      </a:lnTo>
                      <a:lnTo>
                        <a:pt x="1455" y="737"/>
                      </a:lnTo>
                      <a:lnTo>
                        <a:pt x="1449" y="726"/>
                      </a:lnTo>
                      <a:lnTo>
                        <a:pt x="1443" y="714"/>
                      </a:lnTo>
                      <a:lnTo>
                        <a:pt x="1437" y="704"/>
                      </a:lnTo>
                      <a:lnTo>
                        <a:pt x="1424" y="683"/>
                      </a:lnTo>
                      <a:lnTo>
                        <a:pt x="1410" y="664"/>
                      </a:lnTo>
                      <a:lnTo>
                        <a:pt x="1396" y="648"/>
                      </a:lnTo>
                      <a:lnTo>
                        <a:pt x="1389" y="633"/>
                      </a:lnTo>
                      <a:lnTo>
                        <a:pt x="1381" y="617"/>
                      </a:lnTo>
                      <a:lnTo>
                        <a:pt x="1379" y="602"/>
                      </a:lnTo>
                      <a:lnTo>
                        <a:pt x="1375" y="584"/>
                      </a:lnTo>
                      <a:lnTo>
                        <a:pt x="1375" y="567"/>
                      </a:lnTo>
                      <a:lnTo>
                        <a:pt x="1375" y="549"/>
                      </a:lnTo>
                      <a:lnTo>
                        <a:pt x="1377" y="532"/>
                      </a:lnTo>
                      <a:lnTo>
                        <a:pt x="1377" y="512"/>
                      </a:lnTo>
                      <a:lnTo>
                        <a:pt x="1379" y="495"/>
                      </a:lnTo>
                      <a:lnTo>
                        <a:pt x="1381" y="477"/>
                      </a:lnTo>
                      <a:lnTo>
                        <a:pt x="1383" y="460"/>
                      </a:lnTo>
                      <a:lnTo>
                        <a:pt x="1383" y="443"/>
                      </a:lnTo>
                      <a:lnTo>
                        <a:pt x="1383" y="427"/>
                      </a:lnTo>
                      <a:lnTo>
                        <a:pt x="1381" y="410"/>
                      </a:lnTo>
                      <a:lnTo>
                        <a:pt x="1381" y="396"/>
                      </a:lnTo>
                      <a:lnTo>
                        <a:pt x="1371" y="379"/>
                      </a:lnTo>
                      <a:lnTo>
                        <a:pt x="1363" y="361"/>
                      </a:lnTo>
                      <a:lnTo>
                        <a:pt x="1354" y="344"/>
                      </a:lnTo>
                      <a:lnTo>
                        <a:pt x="1346" y="328"/>
                      </a:lnTo>
                      <a:lnTo>
                        <a:pt x="1336" y="311"/>
                      </a:lnTo>
                      <a:lnTo>
                        <a:pt x="1327" y="297"/>
                      </a:lnTo>
                      <a:lnTo>
                        <a:pt x="1317" y="280"/>
                      </a:lnTo>
                      <a:lnTo>
                        <a:pt x="1309" y="266"/>
                      </a:lnTo>
                      <a:lnTo>
                        <a:pt x="1299" y="249"/>
                      </a:lnTo>
                      <a:lnTo>
                        <a:pt x="1292" y="233"/>
                      </a:lnTo>
                      <a:lnTo>
                        <a:pt x="1284" y="216"/>
                      </a:lnTo>
                      <a:lnTo>
                        <a:pt x="1278" y="200"/>
                      </a:lnTo>
                      <a:lnTo>
                        <a:pt x="1272" y="181"/>
                      </a:lnTo>
                      <a:lnTo>
                        <a:pt x="1266" y="163"/>
                      </a:lnTo>
                      <a:lnTo>
                        <a:pt x="1263" y="146"/>
                      </a:lnTo>
                      <a:lnTo>
                        <a:pt x="1263" y="128"/>
                      </a:lnTo>
                      <a:lnTo>
                        <a:pt x="1253" y="115"/>
                      </a:lnTo>
                      <a:lnTo>
                        <a:pt x="1243" y="109"/>
                      </a:lnTo>
                      <a:lnTo>
                        <a:pt x="1232" y="109"/>
                      </a:lnTo>
                      <a:lnTo>
                        <a:pt x="1226" y="121"/>
                      </a:lnTo>
                      <a:lnTo>
                        <a:pt x="1218" y="130"/>
                      </a:lnTo>
                      <a:lnTo>
                        <a:pt x="1218" y="142"/>
                      </a:lnTo>
                      <a:lnTo>
                        <a:pt x="1218" y="154"/>
                      </a:lnTo>
                      <a:lnTo>
                        <a:pt x="1220" y="165"/>
                      </a:lnTo>
                      <a:lnTo>
                        <a:pt x="1222" y="177"/>
                      </a:lnTo>
                      <a:lnTo>
                        <a:pt x="1226" y="189"/>
                      </a:lnTo>
                      <a:lnTo>
                        <a:pt x="1226" y="200"/>
                      </a:lnTo>
                      <a:lnTo>
                        <a:pt x="1226" y="212"/>
                      </a:lnTo>
                      <a:lnTo>
                        <a:pt x="1224" y="231"/>
                      </a:lnTo>
                      <a:lnTo>
                        <a:pt x="1222" y="251"/>
                      </a:lnTo>
                      <a:lnTo>
                        <a:pt x="1218" y="270"/>
                      </a:lnTo>
                      <a:lnTo>
                        <a:pt x="1214" y="289"/>
                      </a:lnTo>
                      <a:lnTo>
                        <a:pt x="1208" y="309"/>
                      </a:lnTo>
                      <a:lnTo>
                        <a:pt x="1202" y="328"/>
                      </a:lnTo>
                      <a:lnTo>
                        <a:pt x="1197" y="348"/>
                      </a:lnTo>
                      <a:lnTo>
                        <a:pt x="1193" y="367"/>
                      </a:lnTo>
                      <a:lnTo>
                        <a:pt x="1185" y="384"/>
                      </a:lnTo>
                      <a:lnTo>
                        <a:pt x="1177" y="404"/>
                      </a:lnTo>
                      <a:lnTo>
                        <a:pt x="1171" y="421"/>
                      </a:lnTo>
                      <a:lnTo>
                        <a:pt x="1166" y="441"/>
                      </a:lnTo>
                      <a:lnTo>
                        <a:pt x="1158" y="458"/>
                      </a:lnTo>
                      <a:lnTo>
                        <a:pt x="1152" y="477"/>
                      </a:lnTo>
                      <a:lnTo>
                        <a:pt x="1146" y="497"/>
                      </a:lnTo>
                      <a:lnTo>
                        <a:pt x="1142" y="516"/>
                      </a:lnTo>
                      <a:lnTo>
                        <a:pt x="1135" y="524"/>
                      </a:lnTo>
                      <a:lnTo>
                        <a:pt x="1129" y="532"/>
                      </a:lnTo>
                      <a:lnTo>
                        <a:pt x="1123" y="539"/>
                      </a:lnTo>
                      <a:lnTo>
                        <a:pt x="1123" y="543"/>
                      </a:lnTo>
                      <a:lnTo>
                        <a:pt x="1119" y="553"/>
                      </a:lnTo>
                      <a:lnTo>
                        <a:pt x="1117" y="565"/>
                      </a:lnTo>
                      <a:lnTo>
                        <a:pt x="1115" y="574"/>
                      </a:lnTo>
                      <a:lnTo>
                        <a:pt x="1115" y="586"/>
                      </a:lnTo>
                      <a:lnTo>
                        <a:pt x="1113" y="596"/>
                      </a:lnTo>
                      <a:lnTo>
                        <a:pt x="1113" y="607"/>
                      </a:lnTo>
                      <a:lnTo>
                        <a:pt x="1113" y="617"/>
                      </a:lnTo>
                      <a:lnTo>
                        <a:pt x="1115" y="629"/>
                      </a:lnTo>
                      <a:lnTo>
                        <a:pt x="1115" y="638"/>
                      </a:lnTo>
                      <a:lnTo>
                        <a:pt x="1115" y="648"/>
                      </a:lnTo>
                      <a:lnTo>
                        <a:pt x="1117" y="660"/>
                      </a:lnTo>
                      <a:lnTo>
                        <a:pt x="1119" y="671"/>
                      </a:lnTo>
                      <a:lnTo>
                        <a:pt x="1121" y="681"/>
                      </a:lnTo>
                      <a:lnTo>
                        <a:pt x="1125" y="691"/>
                      </a:lnTo>
                      <a:lnTo>
                        <a:pt x="1127" y="702"/>
                      </a:lnTo>
                      <a:lnTo>
                        <a:pt x="1131" y="714"/>
                      </a:lnTo>
                      <a:lnTo>
                        <a:pt x="1135" y="733"/>
                      </a:lnTo>
                      <a:lnTo>
                        <a:pt x="1140" y="755"/>
                      </a:lnTo>
                      <a:lnTo>
                        <a:pt x="1146" y="774"/>
                      </a:lnTo>
                      <a:lnTo>
                        <a:pt x="1152" y="795"/>
                      </a:lnTo>
                      <a:lnTo>
                        <a:pt x="1154" y="805"/>
                      </a:lnTo>
                      <a:lnTo>
                        <a:pt x="1156" y="817"/>
                      </a:lnTo>
                      <a:lnTo>
                        <a:pt x="1158" y="826"/>
                      </a:lnTo>
                      <a:lnTo>
                        <a:pt x="1162" y="838"/>
                      </a:lnTo>
                      <a:lnTo>
                        <a:pt x="1162" y="850"/>
                      </a:lnTo>
                      <a:lnTo>
                        <a:pt x="1166" y="861"/>
                      </a:lnTo>
                      <a:lnTo>
                        <a:pt x="1166" y="873"/>
                      </a:lnTo>
                      <a:lnTo>
                        <a:pt x="1169" y="885"/>
                      </a:lnTo>
                      <a:lnTo>
                        <a:pt x="1162" y="896"/>
                      </a:lnTo>
                      <a:lnTo>
                        <a:pt x="1156" y="908"/>
                      </a:lnTo>
                      <a:lnTo>
                        <a:pt x="1148" y="920"/>
                      </a:lnTo>
                      <a:lnTo>
                        <a:pt x="1142" y="931"/>
                      </a:lnTo>
                      <a:lnTo>
                        <a:pt x="1133" y="943"/>
                      </a:lnTo>
                      <a:lnTo>
                        <a:pt x="1125" y="954"/>
                      </a:lnTo>
                      <a:lnTo>
                        <a:pt x="1117" y="966"/>
                      </a:lnTo>
                      <a:lnTo>
                        <a:pt x="1109" y="980"/>
                      </a:lnTo>
                      <a:lnTo>
                        <a:pt x="1100" y="989"/>
                      </a:lnTo>
                      <a:lnTo>
                        <a:pt x="1092" y="1001"/>
                      </a:lnTo>
                      <a:lnTo>
                        <a:pt x="1082" y="1013"/>
                      </a:lnTo>
                      <a:lnTo>
                        <a:pt x="1074" y="1024"/>
                      </a:lnTo>
                      <a:lnTo>
                        <a:pt x="1067" y="1034"/>
                      </a:lnTo>
                      <a:lnTo>
                        <a:pt x="1059" y="1046"/>
                      </a:lnTo>
                      <a:lnTo>
                        <a:pt x="1053" y="1057"/>
                      </a:lnTo>
                      <a:lnTo>
                        <a:pt x="1049" y="1069"/>
                      </a:lnTo>
                      <a:lnTo>
                        <a:pt x="1049" y="1055"/>
                      </a:lnTo>
                      <a:lnTo>
                        <a:pt x="1049" y="1044"/>
                      </a:lnTo>
                      <a:lnTo>
                        <a:pt x="1051" y="1032"/>
                      </a:lnTo>
                      <a:lnTo>
                        <a:pt x="1055" y="1020"/>
                      </a:lnTo>
                      <a:lnTo>
                        <a:pt x="1059" y="1009"/>
                      </a:lnTo>
                      <a:lnTo>
                        <a:pt x="1063" y="997"/>
                      </a:lnTo>
                      <a:lnTo>
                        <a:pt x="1067" y="985"/>
                      </a:lnTo>
                      <a:lnTo>
                        <a:pt x="1072" y="976"/>
                      </a:lnTo>
                      <a:lnTo>
                        <a:pt x="1076" y="964"/>
                      </a:lnTo>
                      <a:lnTo>
                        <a:pt x="1080" y="952"/>
                      </a:lnTo>
                      <a:lnTo>
                        <a:pt x="1084" y="941"/>
                      </a:lnTo>
                      <a:lnTo>
                        <a:pt x="1088" y="929"/>
                      </a:lnTo>
                      <a:lnTo>
                        <a:pt x="1090" y="918"/>
                      </a:lnTo>
                      <a:lnTo>
                        <a:pt x="1092" y="906"/>
                      </a:lnTo>
                      <a:lnTo>
                        <a:pt x="1094" y="894"/>
                      </a:lnTo>
                      <a:lnTo>
                        <a:pt x="1096" y="885"/>
                      </a:lnTo>
                      <a:lnTo>
                        <a:pt x="1086" y="875"/>
                      </a:lnTo>
                      <a:lnTo>
                        <a:pt x="1096" y="875"/>
                      </a:lnTo>
                      <a:lnTo>
                        <a:pt x="1096" y="856"/>
                      </a:lnTo>
                      <a:lnTo>
                        <a:pt x="1096" y="836"/>
                      </a:lnTo>
                      <a:lnTo>
                        <a:pt x="1094" y="817"/>
                      </a:lnTo>
                      <a:lnTo>
                        <a:pt x="1092" y="799"/>
                      </a:lnTo>
                      <a:lnTo>
                        <a:pt x="1086" y="780"/>
                      </a:lnTo>
                      <a:lnTo>
                        <a:pt x="1082" y="762"/>
                      </a:lnTo>
                      <a:lnTo>
                        <a:pt x="1076" y="743"/>
                      </a:lnTo>
                      <a:lnTo>
                        <a:pt x="1072" y="726"/>
                      </a:lnTo>
                      <a:lnTo>
                        <a:pt x="1065" y="706"/>
                      </a:lnTo>
                      <a:lnTo>
                        <a:pt x="1059" y="687"/>
                      </a:lnTo>
                      <a:lnTo>
                        <a:pt x="1053" y="667"/>
                      </a:lnTo>
                      <a:lnTo>
                        <a:pt x="1051" y="648"/>
                      </a:lnTo>
                      <a:lnTo>
                        <a:pt x="1045" y="629"/>
                      </a:lnTo>
                      <a:lnTo>
                        <a:pt x="1045" y="609"/>
                      </a:lnTo>
                      <a:lnTo>
                        <a:pt x="1045" y="590"/>
                      </a:lnTo>
                      <a:lnTo>
                        <a:pt x="1049" y="571"/>
                      </a:lnTo>
                      <a:lnTo>
                        <a:pt x="1036" y="563"/>
                      </a:lnTo>
                      <a:lnTo>
                        <a:pt x="1022" y="563"/>
                      </a:lnTo>
                      <a:lnTo>
                        <a:pt x="1005" y="574"/>
                      </a:lnTo>
                      <a:lnTo>
                        <a:pt x="987" y="586"/>
                      </a:lnTo>
                      <a:lnTo>
                        <a:pt x="972" y="600"/>
                      </a:lnTo>
                      <a:lnTo>
                        <a:pt x="960" y="617"/>
                      </a:lnTo>
                      <a:lnTo>
                        <a:pt x="948" y="633"/>
                      </a:lnTo>
                      <a:lnTo>
                        <a:pt x="937" y="650"/>
                      </a:lnTo>
                      <a:lnTo>
                        <a:pt x="927" y="667"/>
                      </a:lnTo>
                      <a:lnTo>
                        <a:pt x="921" y="687"/>
                      </a:lnTo>
                      <a:lnTo>
                        <a:pt x="912" y="704"/>
                      </a:lnTo>
                      <a:lnTo>
                        <a:pt x="906" y="724"/>
                      </a:lnTo>
                      <a:lnTo>
                        <a:pt x="900" y="743"/>
                      </a:lnTo>
                      <a:lnTo>
                        <a:pt x="900" y="764"/>
                      </a:lnTo>
                      <a:lnTo>
                        <a:pt x="896" y="784"/>
                      </a:lnTo>
                      <a:lnTo>
                        <a:pt x="896" y="805"/>
                      </a:lnTo>
                      <a:lnTo>
                        <a:pt x="896" y="815"/>
                      </a:lnTo>
                      <a:lnTo>
                        <a:pt x="896" y="825"/>
                      </a:lnTo>
                      <a:lnTo>
                        <a:pt x="898" y="836"/>
                      </a:lnTo>
                      <a:lnTo>
                        <a:pt x="902" y="848"/>
                      </a:lnTo>
                      <a:lnTo>
                        <a:pt x="875" y="912"/>
                      </a:lnTo>
                      <a:lnTo>
                        <a:pt x="863" y="921"/>
                      </a:lnTo>
                      <a:lnTo>
                        <a:pt x="855" y="933"/>
                      </a:lnTo>
                      <a:lnTo>
                        <a:pt x="848" y="945"/>
                      </a:lnTo>
                      <a:lnTo>
                        <a:pt x="840" y="956"/>
                      </a:lnTo>
                      <a:lnTo>
                        <a:pt x="830" y="966"/>
                      </a:lnTo>
                      <a:lnTo>
                        <a:pt x="822" y="976"/>
                      </a:lnTo>
                      <a:lnTo>
                        <a:pt x="811" y="985"/>
                      </a:lnTo>
                      <a:lnTo>
                        <a:pt x="801" y="995"/>
                      </a:lnTo>
                      <a:lnTo>
                        <a:pt x="799" y="989"/>
                      </a:lnTo>
                      <a:lnTo>
                        <a:pt x="807" y="980"/>
                      </a:lnTo>
                      <a:lnTo>
                        <a:pt x="815" y="966"/>
                      </a:lnTo>
                      <a:lnTo>
                        <a:pt x="820" y="958"/>
                      </a:lnTo>
                      <a:lnTo>
                        <a:pt x="824" y="949"/>
                      </a:lnTo>
                      <a:lnTo>
                        <a:pt x="828" y="939"/>
                      </a:lnTo>
                      <a:lnTo>
                        <a:pt x="830" y="929"/>
                      </a:lnTo>
                      <a:lnTo>
                        <a:pt x="838" y="921"/>
                      </a:lnTo>
                      <a:lnTo>
                        <a:pt x="820" y="902"/>
                      </a:lnTo>
                      <a:lnTo>
                        <a:pt x="826" y="902"/>
                      </a:lnTo>
                      <a:lnTo>
                        <a:pt x="828" y="912"/>
                      </a:lnTo>
                      <a:lnTo>
                        <a:pt x="828" y="902"/>
                      </a:lnTo>
                      <a:lnTo>
                        <a:pt x="838" y="902"/>
                      </a:lnTo>
                      <a:lnTo>
                        <a:pt x="838" y="881"/>
                      </a:lnTo>
                      <a:lnTo>
                        <a:pt x="840" y="863"/>
                      </a:lnTo>
                      <a:lnTo>
                        <a:pt x="840" y="846"/>
                      </a:lnTo>
                      <a:lnTo>
                        <a:pt x="842" y="828"/>
                      </a:lnTo>
                      <a:lnTo>
                        <a:pt x="842" y="809"/>
                      </a:lnTo>
                      <a:lnTo>
                        <a:pt x="842" y="792"/>
                      </a:lnTo>
                      <a:lnTo>
                        <a:pt x="842" y="772"/>
                      </a:lnTo>
                      <a:lnTo>
                        <a:pt x="848" y="755"/>
                      </a:lnTo>
                      <a:lnTo>
                        <a:pt x="838" y="747"/>
                      </a:lnTo>
                      <a:lnTo>
                        <a:pt x="840" y="730"/>
                      </a:lnTo>
                      <a:lnTo>
                        <a:pt x="846" y="712"/>
                      </a:lnTo>
                      <a:lnTo>
                        <a:pt x="851" y="695"/>
                      </a:lnTo>
                      <a:lnTo>
                        <a:pt x="857" y="677"/>
                      </a:lnTo>
                      <a:lnTo>
                        <a:pt x="863" y="660"/>
                      </a:lnTo>
                      <a:lnTo>
                        <a:pt x="873" y="644"/>
                      </a:lnTo>
                      <a:lnTo>
                        <a:pt x="882" y="629"/>
                      </a:lnTo>
                      <a:lnTo>
                        <a:pt x="894" y="617"/>
                      </a:lnTo>
                      <a:lnTo>
                        <a:pt x="890" y="607"/>
                      </a:lnTo>
                      <a:lnTo>
                        <a:pt x="886" y="600"/>
                      </a:lnTo>
                      <a:lnTo>
                        <a:pt x="880" y="592"/>
                      </a:lnTo>
                      <a:lnTo>
                        <a:pt x="875" y="590"/>
                      </a:lnTo>
                      <a:lnTo>
                        <a:pt x="857" y="594"/>
                      </a:lnTo>
                      <a:lnTo>
                        <a:pt x="842" y="600"/>
                      </a:lnTo>
                      <a:lnTo>
                        <a:pt x="828" y="605"/>
                      </a:lnTo>
                      <a:lnTo>
                        <a:pt x="816" y="615"/>
                      </a:lnTo>
                      <a:lnTo>
                        <a:pt x="805" y="621"/>
                      </a:lnTo>
                      <a:lnTo>
                        <a:pt x="795" y="631"/>
                      </a:lnTo>
                      <a:lnTo>
                        <a:pt x="785" y="642"/>
                      </a:lnTo>
                      <a:lnTo>
                        <a:pt x="778" y="654"/>
                      </a:lnTo>
                      <a:lnTo>
                        <a:pt x="768" y="664"/>
                      </a:lnTo>
                      <a:lnTo>
                        <a:pt x="760" y="675"/>
                      </a:lnTo>
                      <a:lnTo>
                        <a:pt x="752" y="687"/>
                      </a:lnTo>
                      <a:lnTo>
                        <a:pt x="747" y="700"/>
                      </a:lnTo>
                      <a:lnTo>
                        <a:pt x="739" y="712"/>
                      </a:lnTo>
                      <a:lnTo>
                        <a:pt x="733" y="726"/>
                      </a:lnTo>
                      <a:lnTo>
                        <a:pt x="727" y="739"/>
                      </a:lnTo>
                      <a:lnTo>
                        <a:pt x="721" y="755"/>
                      </a:lnTo>
                      <a:lnTo>
                        <a:pt x="714" y="766"/>
                      </a:lnTo>
                      <a:lnTo>
                        <a:pt x="708" y="780"/>
                      </a:lnTo>
                      <a:lnTo>
                        <a:pt x="702" y="793"/>
                      </a:lnTo>
                      <a:lnTo>
                        <a:pt x="696" y="807"/>
                      </a:lnTo>
                      <a:lnTo>
                        <a:pt x="688" y="819"/>
                      </a:lnTo>
                      <a:lnTo>
                        <a:pt x="681" y="830"/>
                      </a:lnTo>
                      <a:lnTo>
                        <a:pt x="673" y="842"/>
                      </a:lnTo>
                      <a:lnTo>
                        <a:pt x="665" y="856"/>
                      </a:lnTo>
                      <a:lnTo>
                        <a:pt x="656" y="865"/>
                      </a:lnTo>
                      <a:lnTo>
                        <a:pt x="646" y="875"/>
                      </a:lnTo>
                      <a:lnTo>
                        <a:pt x="634" y="885"/>
                      </a:lnTo>
                      <a:lnTo>
                        <a:pt x="624" y="894"/>
                      </a:lnTo>
                      <a:lnTo>
                        <a:pt x="611" y="902"/>
                      </a:lnTo>
                      <a:lnTo>
                        <a:pt x="599" y="910"/>
                      </a:lnTo>
                      <a:lnTo>
                        <a:pt x="584" y="916"/>
                      </a:lnTo>
                      <a:lnTo>
                        <a:pt x="570" y="921"/>
                      </a:lnTo>
                      <a:lnTo>
                        <a:pt x="582" y="912"/>
                      </a:lnTo>
                      <a:lnTo>
                        <a:pt x="593" y="902"/>
                      </a:lnTo>
                      <a:lnTo>
                        <a:pt x="603" y="890"/>
                      </a:lnTo>
                      <a:lnTo>
                        <a:pt x="613" y="881"/>
                      </a:lnTo>
                      <a:lnTo>
                        <a:pt x="621" y="867"/>
                      </a:lnTo>
                      <a:lnTo>
                        <a:pt x="628" y="856"/>
                      </a:lnTo>
                      <a:lnTo>
                        <a:pt x="636" y="844"/>
                      </a:lnTo>
                      <a:lnTo>
                        <a:pt x="644" y="832"/>
                      </a:lnTo>
                      <a:lnTo>
                        <a:pt x="648" y="819"/>
                      </a:lnTo>
                      <a:lnTo>
                        <a:pt x="654" y="805"/>
                      </a:lnTo>
                      <a:lnTo>
                        <a:pt x="657" y="792"/>
                      </a:lnTo>
                      <a:lnTo>
                        <a:pt x="663" y="780"/>
                      </a:lnTo>
                      <a:lnTo>
                        <a:pt x="667" y="766"/>
                      </a:lnTo>
                      <a:lnTo>
                        <a:pt x="673" y="753"/>
                      </a:lnTo>
                      <a:lnTo>
                        <a:pt x="679" y="739"/>
                      </a:lnTo>
                      <a:lnTo>
                        <a:pt x="685" y="728"/>
                      </a:lnTo>
                      <a:lnTo>
                        <a:pt x="688" y="712"/>
                      </a:lnTo>
                      <a:lnTo>
                        <a:pt x="692" y="698"/>
                      </a:lnTo>
                      <a:lnTo>
                        <a:pt x="696" y="685"/>
                      </a:lnTo>
                      <a:lnTo>
                        <a:pt x="702" y="673"/>
                      </a:lnTo>
                      <a:lnTo>
                        <a:pt x="708" y="660"/>
                      </a:lnTo>
                      <a:lnTo>
                        <a:pt x="714" y="648"/>
                      </a:lnTo>
                      <a:lnTo>
                        <a:pt x="720" y="636"/>
                      </a:lnTo>
                      <a:lnTo>
                        <a:pt x="729" y="627"/>
                      </a:lnTo>
                      <a:lnTo>
                        <a:pt x="735" y="615"/>
                      </a:lnTo>
                      <a:lnTo>
                        <a:pt x="745" y="605"/>
                      </a:lnTo>
                      <a:lnTo>
                        <a:pt x="754" y="596"/>
                      </a:lnTo>
                      <a:lnTo>
                        <a:pt x="766" y="588"/>
                      </a:lnTo>
                      <a:lnTo>
                        <a:pt x="778" y="580"/>
                      </a:lnTo>
                      <a:lnTo>
                        <a:pt x="789" y="572"/>
                      </a:lnTo>
                      <a:lnTo>
                        <a:pt x="803" y="567"/>
                      </a:lnTo>
                      <a:lnTo>
                        <a:pt x="820" y="563"/>
                      </a:lnTo>
                      <a:lnTo>
                        <a:pt x="834" y="555"/>
                      </a:lnTo>
                      <a:lnTo>
                        <a:pt x="849" y="549"/>
                      </a:lnTo>
                      <a:lnTo>
                        <a:pt x="863" y="541"/>
                      </a:lnTo>
                      <a:lnTo>
                        <a:pt x="879" y="534"/>
                      </a:lnTo>
                      <a:lnTo>
                        <a:pt x="892" y="524"/>
                      </a:lnTo>
                      <a:lnTo>
                        <a:pt x="906" y="516"/>
                      </a:lnTo>
                      <a:lnTo>
                        <a:pt x="919" y="508"/>
                      </a:lnTo>
                      <a:lnTo>
                        <a:pt x="933" y="501"/>
                      </a:lnTo>
                      <a:lnTo>
                        <a:pt x="944" y="489"/>
                      </a:lnTo>
                      <a:lnTo>
                        <a:pt x="956" y="477"/>
                      </a:lnTo>
                      <a:lnTo>
                        <a:pt x="968" y="466"/>
                      </a:lnTo>
                      <a:lnTo>
                        <a:pt x="981" y="456"/>
                      </a:lnTo>
                      <a:lnTo>
                        <a:pt x="991" y="443"/>
                      </a:lnTo>
                      <a:lnTo>
                        <a:pt x="1003" y="431"/>
                      </a:lnTo>
                      <a:lnTo>
                        <a:pt x="1012" y="417"/>
                      </a:lnTo>
                      <a:lnTo>
                        <a:pt x="1022" y="406"/>
                      </a:lnTo>
                      <a:lnTo>
                        <a:pt x="1026" y="386"/>
                      </a:lnTo>
                      <a:lnTo>
                        <a:pt x="1032" y="369"/>
                      </a:lnTo>
                      <a:lnTo>
                        <a:pt x="1036" y="349"/>
                      </a:lnTo>
                      <a:lnTo>
                        <a:pt x="1040" y="330"/>
                      </a:lnTo>
                      <a:lnTo>
                        <a:pt x="1041" y="311"/>
                      </a:lnTo>
                      <a:lnTo>
                        <a:pt x="1045" y="291"/>
                      </a:lnTo>
                      <a:lnTo>
                        <a:pt x="1047" y="272"/>
                      </a:lnTo>
                      <a:lnTo>
                        <a:pt x="1051" y="254"/>
                      </a:lnTo>
                      <a:lnTo>
                        <a:pt x="1051" y="233"/>
                      </a:lnTo>
                      <a:lnTo>
                        <a:pt x="1055" y="214"/>
                      </a:lnTo>
                      <a:lnTo>
                        <a:pt x="1057" y="194"/>
                      </a:lnTo>
                      <a:lnTo>
                        <a:pt x="1061" y="177"/>
                      </a:lnTo>
                      <a:lnTo>
                        <a:pt x="1065" y="159"/>
                      </a:lnTo>
                      <a:lnTo>
                        <a:pt x="1071" y="142"/>
                      </a:lnTo>
                      <a:lnTo>
                        <a:pt x="1076" y="125"/>
                      </a:lnTo>
                      <a:lnTo>
                        <a:pt x="1086" y="111"/>
                      </a:lnTo>
                      <a:lnTo>
                        <a:pt x="1088" y="97"/>
                      </a:lnTo>
                      <a:lnTo>
                        <a:pt x="1084" y="92"/>
                      </a:lnTo>
                      <a:lnTo>
                        <a:pt x="1080" y="88"/>
                      </a:lnTo>
                      <a:lnTo>
                        <a:pt x="1078" y="84"/>
                      </a:lnTo>
                      <a:lnTo>
                        <a:pt x="1061" y="84"/>
                      </a:lnTo>
                      <a:lnTo>
                        <a:pt x="1043" y="84"/>
                      </a:lnTo>
                      <a:lnTo>
                        <a:pt x="1028" y="86"/>
                      </a:lnTo>
                      <a:lnTo>
                        <a:pt x="1014" y="90"/>
                      </a:lnTo>
                      <a:lnTo>
                        <a:pt x="999" y="94"/>
                      </a:lnTo>
                      <a:lnTo>
                        <a:pt x="985" y="97"/>
                      </a:lnTo>
                      <a:lnTo>
                        <a:pt x="970" y="103"/>
                      </a:lnTo>
                      <a:lnTo>
                        <a:pt x="958" y="111"/>
                      </a:lnTo>
                      <a:lnTo>
                        <a:pt x="944" y="117"/>
                      </a:lnTo>
                      <a:lnTo>
                        <a:pt x="931" y="123"/>
                      </a:lnTo>
                      <a:lnTo>
                        <a:pt x="917" y="130"/>
                      </a:lnTo>
                      <a:lnTo>
                        <a:pt x="906" y="138"/>
                      </a:lnTo>
                      <a:lnTo>
                        <a:pt x="892" y="146"/>
                      </a:lnTo>
                      <a:lnTo>
                        <a:pt x="880" y="156"/>
                      </a:lnTo>
                      <a:lnTo>
                        <a:pt x="869" y="163"/>
                      </a:lnTo>
                      <a:lnTo>
                        <a:pt x="857" y="175"/>
                      </a:lnTo>
                      <a:lnTo>
                        <a:pt x="844" y="183"/>
                      </a:lnTo>
                      <a:lnTo>
                        <a:pt x="832" y="192"/>
                      </a:lnTo>
                      <a:lnTo>
                        <a:pt x="820" y="200"/>
                      </a:lnTo>
                      <a:lnTo>
                        <a:pt x="809" y="210"/>
                      </a:lnTo>
                      <a:lnTo>
                        <a:pt x="795" y="218"/>
                      </a:lnTo>
                      <a:lnTo>
                        <a:pt x="784" y="227"/>
                      </a:lnTo>
                      <a:lnTo>
                        <a:pt x="772" y="235"/>
                      </a:lnTo>
                      <a:lnTo>
                        <a:pt x="760" y="245"/>
                      </a:lnTo>
                      <a:lnTo>
                        <a:pt x="747" y="251"/>
                      </a:lnTo>
                      <a:lnTo>
                        <a:pt x="733" y="258"/>
                      </a:lnTo>
                      <a:lnTo>
                        <a:pt x="720" y="266"/>
                      </a:lnTo>
                      <a:lnTo>
                        <a:pt x="708" y="274"/>
                      </a:lnTo>
                      <a:lnTo>
                        <a:pt x="694" y="278"/>
                      </a:lnTo>
                      <a:lnTo>
                        <a:pt x="681" y="284"/>
                      </a:lnTo>
                      <a:lnTo>
                        <a:pt x="667" y="289"/>
                      </a:lnTo>
                      <a:lnTo>
                        <a:pt x="654" y="295"/>
                      </a:lnTo>
                      <a:lnTo>
                        <a:pt x="638" y="293"/>
                      </a:lnTo>
                      <a:lnTo>
                        <a:pt x="624" y="293"/>
                      </a:lnTo>
                      <a:lnTo>
                        <a:pt x="613" y="293"/>
                      </a:lnTo>
                      <a:lnTo>
                        <a:pt x="601" y="297"/>
                      </a:lnTo>
                      <a:lnTo>
                        <a:pt x="590" y="299"/>
                      </a:lnTo>
                      <a:lnTo>
                        <a:pt x="578" y="305"/>
                      </a:lnTo>
                      <a:lnTo>
                        <a:pt x="568" y="311"/>
                      </a:lnTo>
                      <a:lnTo>
                        <a:pt x="560" y="317"/>
                      </a:lnTo>
                      <a:lnTo>
                        <a:pt x="541" y="328"/>
                      </a:lnTo>
                      <a:lnTo>
                        <a:pt x="524" y="344"/>
                      </a:lnTo>
                      <a:lnTo>
                        <a:pt x="508" y="359"/>
                      </a:lnTo>
                      <a:lnTo>
                        <a:pt x="495" y="379"/>
                      </a:lnTo>
                      <a:lnTo>
                        <a:pt x="479" y="394"/>
                      </a:lnTo>
                      <a:lnTo>
                        <a:pt x="464" y="412"/>
                      </a:lnTo>
                      <a:lnTo>
                        <a:pt x="448" y="429"/>
                      </a:lnTo>
                      <a:lnTo>
                        <a:pt x="434" y="446"/>
                      </a:lnTo>
                      <a:lnTo>
                        <a:pt x="417" y="460"/>
                      </a:lnTo>
                      <a:lnTo>
                        <a:pt x="400" y="476"/>
                      </a:lnTo>
                      <a:lnTo>
                        <a:pt x="378" y="485"/>
                      </a:lnTo>
                      <a:lnTo>
                        <a:pt x="359" y="497"/>
                      </a:lnTo>
                      <a:lnTo>
                        <a:pt x="345" y="499"/>
                      </a:lnTo>
                      <a:lnTo>
                        <a:pt x="332" y="503"/>
                      </a:lnTo>
                      <a:lnTo>
                        <a:pt x="320" y="505"/>
                      </a:lnTo>
                      <a:lnTo>
                        <a:pt x="308" y="510"/>
                      </a:lnTo>
                      <a:lnTo>
                        <a:pt x="295" y="512"/>
                      </a:lnTo>
                      <a:lnTo>
                        <a:pt x="281" y="516"/>
                      </a:lnTo>
                      <a:lnTo>
                        <a:pt x="270" y="522"/>
                      </a:lnTo>
                      <a:lnTo>
                        <a:pt x="258" y="528"/>
                      </a:lnTo>
                      <a:lnTo>
                        <a:pt x="244" y="532"/>
                      </a:lnTo>
                      <a:lnTo>
                        <a:pt x="233" y="536"/>
                      </a:lnTo>
                      <a:lnTo>
                        <a:pt x="219" y="541"/>
                      </a:lnTo>
                      <a:lnTo>
                        <a:pt x="208" y="549"/>
                      </a:lnTo>
                      <a:lnTo>
                        <a:pt x="196" y="555"/>
                      </a:lnTo>
                      <a:lnTo>
                        <a:pt x="184" y="563"/>
                      </a:lnTo>
                      <a:lnTo>
                        <a:pt x="175" y="571"/>
                      </a:lnTo>
                      <a:lnTo>
                        <a:pt x="165" y="580"/>
                      </a:lnTo>
                      <a:lnTo>
                        <a:pt x="171" y="567"/>
                      </a:lnTo>
                      <a:lnTo>
                        <a:pt x="176" y="555"/>
                      </a:lnTo>
                      <a:lnTo>
                        <a:pt x="182" y="545"/>
                      </a:lnTo>
                      <a:lnTo>
                        <a:pt x="192" y="536"/>
                      </a:lnTo>
                      <a:lnTo>
                        <a:pt x="208" y="518"/>
                      </a:lnTo>
                      <a:lnTo>
                        <a:pt x="225" y="503"/>
                      </a:lnTo>
                      <a:lnTo>
                        <a:pt x="242" y="487"/>
                      </a:lnTo>
                      <a:lnTo>
                        <a:pt x="264" y="476"/>
                      </a:lnTo>
                      <a:lnTo>
                        <a:pt x="283" y="464"/>
                      </a:lnTo>
                      <a:lnTo>
                        <a:pt x="304" y="454"/>
                      </a:lnTo>
                      <a:lnTo>
                        <a:pt x="324" y="441"/>
                      </a:lnTo>
                      <a:lnTo>
                        <a:pt x="343" y="429"/>
                      </a:lnTo>
                      <a:lnTo>
                        <a:pt x="363" y="417"/>
                      </a:lnTo>
                      <a:lnTo>
                        <a:pt x="384" y="406"/>
                      </a:lnTo>
                      <a:lnTo>
                        <a:pt x="401" y="390"/>
                      </a:lnTo>
                      <a:lnTo>
                        <a:pt x="419" y="377"/>
                      </a:lnTo>
                      <a:lnTo>
                        <a:pt x="434" y="359"/>
                      </a:lnTo>
                      <a:lnTo>
                        <a:pt x="452" y="342"/>
                      </a:lnTo>
                      <a:lnTo>
                        <a:pt x="464" y="330"/>
                      </a:lnTo>
                      <a:lnTo>
                        <a:pt x="479" y="318"/>
                      </a:lnTo>
                      <a:lnTo>
                        <a:pt x="495" y="307"/>
                      </a:lnTo>
                      <a:lnTo>
                        <a:pt x="510" y="297"/>
                      </a:lnTo>
                      <a:lnTo>
                        <a:pt x="524" y="284"/>
                      </a:lnTo>
                      <a:lnTo>
                        <a:pt x="537" y="272"/>
                      </a:lnTo>
                      <a:lnTo>
                        <a:pt x="549" y="260"/>
                      </a:lnTo>
                      <a:lnTo>
                        <a:pt x="562" y="249"/>
                      </a:lnTo>
                      <a:lnTo>
                        <a:pt x="555" y="233"/>
                      </a:lnTo>
                      <a:lnTo>
                        <a:pt x="545" y="225"/>
                      </a:lnTo>
                      <a:lnTo>
                        <a:pt x="531" y="220"/>
                      </a:lnTo>
                      <a:lnTo>
                        <a:pt x="516" y="220"/>
                      </a:lnTo>
                      <a:lnTo>
                        <a:pt x="498" y="220"/>
                      </a:lnTo>
                      <a:lnTo>
                        <a:pt x="481" y="221"/>
                      </a:lnTo>
                      <a:lnTo>
                        <a:pt x="465" y="221"/>
                      </a:lnTo>
                      <a:lnTo>
                        <a:pt x="452" y="221"/>
                      </a:lnTo>
                      <a:lnTo>
                        <a:pt x="434" y="221"/>
                      </a:lnTo>
                      <a:lnTo>
                        <a:pt x="417" y="223"/>
                      </a:lnTo>
                      <a:lnTo>
                        <a:pt x="401" y="225"/>
                      </a:lnTo>
                      <a:lnTo>
                        <a:pt x="388" y="231"/>
                      </a:lnTo>
                      <a:lnTo>
                        <a:pt x="372" y="237"/>
                      </a:lnTo>
                      <a:lnTo>
                        <a:pt x="359" y="243"/>
                      </a:lnTo>
                      <a:lnTo>
                        <a:pt x="345" y="251"/>
                      </a:lnTo>
                      <a:lnTo>
                        <a:pt x="334" y="260"/>
                      </a:lnTo>
                      <a:lnTo>
                        <a:pt x="320" y="268"/>
                      </a:lnTo>
                      <a:lnTo>
                        <a:pt x="306" y="278"/>
                      </a:lnTo>
                      <a:lnTo>
                        <a:pt x="295" y="289"/>
                      </a:lnTo>
                      <a:lnTo>
                        <a:pt x="283" y="301"/>
                      </a:lnTo>
                      <a:lnTo>
                        <a:pt x="270" y="311"/>
                      </a:lnTo>
                      <a:lnTo>
                        <a:pt x="258" y="322"/>
                      </a:lnTo>
                      <a:lnTo>
                        <a:pt x="246" y="334"/>
                      </a:lnTo>
                      <a:lnTo>
                        <a:pt x="235" y="346"/>
                      </a:lnTo>
                      <a:lnTo>
                        <a:pt x="221" y="355"/>
                      </a:lnTo>
                      <a:lnTo>
                        <a:pt x="208" y="365"/>
                      </a:lnTo>
                      <a:lnTo>
                        <a:pt x="194" y="375"/>
                      </a:lnTo>
                      <a:lnTo>
                        <a:pt x="182" y="384"/>
                      </a:lnTo>
                      <a:lnTo>
                        <a:pt x="169" y="392"/>
                      </a:lnTo>
                      <a:lnTo>
                        <a:pt x="155" y="400"/>
                      </a:lnTo>
                      <a:lnTo>
                        <a:pt x="142" y="408"/>
                      </a:lnTo>
                      <a:lnTo>
                        <a:pt x="130" y="415"/>
                      </a:lnTo>
                      <a:lnTo>
                        <a:pt x="114" y="419"/>
                      </a:lnTo>
                      <a:lnTo>
                        <a:pt x="99" y="423"/>
                      </a:lnTo>
                      <a:lnTo>
                        <a:pt x="83" y="425"/>
                      </a:lnTo>
                      <a:lnTo>
                        <a:pt x="68" y="427"/>
                      </a:lnTo>
                      <a:lnTo>
                        <a:pt x="50" y="425"/>
                      </a:lnTo>
                      <a:lnTo>
                        <a:pt x="35" y="423"/>
                      </a:lnTo>
                      <a:lnTo>
                        <a:pt x="17" y="419"/>
                      </a:lnTo>
                      <a:lnTo>
                        <a:pt x="0" y="415"/>
                      </a:lnTo>
                      <a:lnTo>
                        <a:pt x="12" y="408"/>
                      </a:lnTo>
                      <a:lnTo>
                        <a:pt x="27" y="402"/>
                      </a:lnTo>
                      <a:lnTo>
                        <a:pt x="41" y="398"/>
                      </a:lnTo>
                      <a:lnTo>
                        <a:pt x="56" y="396"/>
                      </a:lnTo>
                      <a:lnTo>
                        <a:pt x="70" y="390"/>
                      </a:lnTo>
                      <a:lnTo>
                        <a:pt x="85" y="386"/>
                      </a:lnTo>
                      <a:lnTo>
                        <a:pt x="103" y="382"/>
                      </a:lnTo>
                      <a:lnTo>
                        <a:pt x="120" y="379"/>
                      </a:lnTo>
                      <a:lnTo>
                        <a:pt x="140" y="361"/>
                      </a:lnTo>
                      <a:lnTo>
                        <a:pt x="161" y="344"/>
                      </a:lnTo>
                      <a:lnTo>
                        <a:pt x="171" y="334"/>
                      </a:lnTo>
                      <a:lnTo>
                        <a:pt x="182" y="324"/>
                      </a:lnTo>
                      <a:lnTo>
                        <a:pt x="192" y="315"/>
                      </a:lnTo>
                      <a:lnTo>
                        <a:pt x="204" y="305"/>
                      </a:lnTo>
                      <a:lnTo>
                        <a:pt x="211" y="293"/>
                      </a:lnTo>
                      <a:lnTo>
                        <a:pt x="223" y="282"/>
                      </a:lnTo>
                      <a:lnTo>
                        <a:pt x="231" y="270"/>
                      </a:lnTo>
                      <a:lnTo>
                        <a:pt x="242" y="258"/>
                      </a:lnTo>
                      <a:lnTo>
                        <a:pt x="250" y="247"/>
                      </a:lnTo>
                      <a:lnTo>
                        <a:pt x="258" y="235"/>
                      </a:lnTo>
                      <a:lnTo>
                        <a:pt x="266" y="223"/>
                      </a:lnTo>
                      <a:lnTo>
                        <a:pt x="275" y="212"/>
                      </a:lnTo>
                      <a:lnTo>
                        <a:pt x="293" y="200"/>
                      </a:lnTo>
                      <a:lnTo>
                        <a:pt x="312" y="190"/>
                      </a:lnTo>
                      <a:lnTo>
                        <a:pt x="322" y="185"/>
                      </a:lnTo>
                      <a:lnTo>
                        <a:pt x="332" y="181"/>
                      </a:lnTo>
                      <a:lnTo>
                        <a:pt x="343" y="177"/>
                      </a:lnTo>
                      <a:lnTo>
                        <a:pt x="355" y="175"/>
                      </a:lnTo>
                      <a:lnTo>
                        <a:pt x="367" y="171"/>
                      </a:lnTo>
                      <a:lnTo>
                        <a:pt x="378" y="169"/>
                      </a:lnTo>
                      <a:lnTo>
                        <a:pt x="390" y="167"/>
                      </a:lnTo>
                      <a:lnTo>
                        <a:pt x="401" y="167"/>
                      </a:lnTo>
                      <a:lnTo>
                        <a:pt x="413" y="167"/>
                      </a:lnTo>
                      <a:lnTo>
                        <a:pt x="427" y="167"/>
                      </a:lnTo>
                      <a:lnTo>
                        <a:pt x="438" y="169"/>
                      </a:lnTo>
                      <a:lnTo>
                        <a:pt x="452" y="175"/>
                      </a:lnTo>
                      <a:lnTo>
                        <a:pt x="467" y="175"/>
                      </a:lnTo>
                      <a:lnTo>
                        <a:pt x="485" y="177"/>
                      </a:lnTo>
                      <a:lnTo>
                        <a:pt x="502" y="177"/>
                      </a:lnTo>
                      <a:lnTo>
                        <a:pt x="520" y="179"/>
                      </a:lnTo>
                      <a:lnTo>
                        <a:pt x="535" y="179"/>
                      </a:lnTo>
                      <a:lnTo>
                        <a:pt x="553" y="179"/>
                      </a:lnTo>
                      <a:lnTo>
                        <a:pt x="570" y="179"/>
                      </a:lnTo>
                      <a:lnTo>
                        <a:pt x="588" y="179"/>
                      </a:lnTo>
                      <a:lnTo>
                        <a:pt x="603" y="175"/>
                      </a:lnTo>
                      <a:lnTo>
                        <a:pt x="621" y="173"/>
                      </a:lnTo>
                      <a:lnTo>
                        <a:pt x="636" y="169"/>
                      </a:lnTo>
                      <a:lnTo>
                        <a:pt x="654" y="167"/>
                      </a:lnTo>
                      <a:lnTo>
                        <a:pt x="669" y="161"/>
                      </a:lnTo>
                      <a:lnTo>
                        <a:pt x="685" y="158"/>
                      </a:lnTo>
                      <a:lnTo>
                        <a:pt x="700" y="152"/>
                      </a:lnTo>
                      <a:lnTo>
                        <a:pt x="718" y="148"/>
                      </a:lnTo>
                      <a:lnTo>
                        <a:pt x="727" y="140"/>
                      </a:lnTo>
                      <a:lnTo>
                        <a:pt x="737" y="132"/>
                      </a:lnTo>
                      <a:lnTo>
                        <a:pt x="749" y="126"/>
                      </a:lnTo>
                      <a:lnTo>
                        <a:pt x="760" y="121"/>
                      </a:lnTo>
                      <a:lnTo>
                        <a:pt x="770" y="113"/>
                      </a:lnTo>
                      <a:lnTo>
                        <a:pt x="782" y="107"/>
                      </a:lnTo>
                      <a:lnTo>
                        <a:pt x="791" y="99"/>
                      </a:lnTo>
                      <a:lnTo>
                        <a:pt x="803" y="94"/>
                      </a:lnTo>
                      <a:lnTo>
                        <a:pt x="813" y="86"/>
                      </a:lnTo>
                      <a:lnTo>
                        <a:pt x="824" y="78"/>
                      </a:lnTo>
                      <a:lnTo>
                        <a:pt x="834" y="70"/>
                      </a:lnTo>
                      <a:lnTo>
                        <a:pt x="846" y="63"/>
                      </a:lnTo>
                      <a:lnTo>
                        <a:pt x="865" y="45"/>
                      </a:lnTo>
                      <a:lnTo>
                        <a:pt x="884" y="28"/>
                      </a:lnTo>
                      <a:lnTo>
                        <a:pt x="1022" y="47"/>
                      </a:lnTo>
                      <a:lnTo>
                        <a:pt x="1040" y="47"/>
                      </a:lnTo>
                      <a:lnTo>
                        <a:pt x="1057" y="49"/>
                      </a:lnTo>
                      <a:lnTo>
                        <a:pt x="1074" y="49"/>
                      </a:lnTo>
                      <a:lnTo>
                        <a:pt x="1092" y="51"/>
                      </a:lnTo>
                      <a:lnTo>
                        <a:pt x="1109" y="51"/>
                      </a:lnTo>
                      <a:lnTo>
                        <a:pt x="1127" y="51"/>
                      </a:lnTo>
                      <a:lnTo>
                        <a:pt x="1144" y="51"/>
                      </a:lnTo>
                      <a:lnTo>
                        <a:pt x="1164" y="53"/>
                      </a:lnTo>
                      <a:lnTo>
                        <a:pt x="1181" y="51"/>
                      </a:lnTo>
                      <a:lnTo>
                        <a:pt x="1199" y="51"/>
                      </a:lnTo>
                      <a:lnTo>
                        <a:pt x="1216" y="51"/>
                      </a:lnTo>
                      <a:lnTo>
                        <a:pt x="1233" y="51"/>
                      </a:lnTo>
                      <a:lnTo>
                        <a:pt x="1251" y="49"/>
                      </a:lnTo>
                      <a:lnTo>
                        <a:pt x="1268" y="49"/>
                      </a:lnTo>
                      <a:lnTo>
                        <a:pt x="1286" y="47"/>
                      </a:lnTo>
                      <a:lnTo>
                        <a:pt x="1305" y="47"/>
                      </a:lnTo>
                      <a:lnTo>
                        <a:pt x="1323" y="43"/>
                      </a:lnTo>
                      <a:lnTo>
                        <a:pt x="1340" y="43"/>
                      </a:lnTo>
                      <a:lnTo>
                        <a:pt x="1358" y="39"/>
                      </a:lnTo>
                      <a:lnTo>
                        <a:pt x="1375" y="39"/>
                      </a:lnTo>
                      <a:lnTo>
                        <a:pt x="1392" y="35"/>
                      </a:lnTo>
                      <a:lnTo>
                        <a:pt x="1410" y="33"/>
                      </a:lnTo>
                      <a:lnTo>
                        <a:pt x="1427" y="31"/>
                      </a:lnTo>
                      <a:lnTo>
                        <a:pt x="1445" y="30"/>
                      </a:lnTo>
                      <a:lnTo>
                        <a:pt x="1462" y="26"/>
                      </a:lnTo>
                      <a:lnTo>
                        <a:pt x="1480" y="22"/>
                      </a:lnTo>
                      <a:lnTo>
                        <a:pt x="1497" y="18"/>
                      </a:lnTo>
                      <a:lnTo>
                        <a:pt x="1515" y="16"/>
                      </a:lnTo>
                      <a:lnTo>
                        <a:pt x="1532" y="10"/>
                      </a:lnTo>
                      <a:lnTo>
                        <a:pt x="1550" y="8"/>
                      </a:lnTo>
                      <a:lnTo>
                        <a:pt x="1567" y="2"/>
                      </a:lnTo>
                      <a:lnTo>
                        <a:pt x="1584" y="0"/>
                      </a:lnTo>
                      <a:lnTo>
                        <a:pt x="1598" y="12"/>
                      </a:lnTo>
                      <a:lnTo>
                        <a:pt x="1616" y="26"/>
                      </a:lnTo>
                      <a:lnTo>
                        <a:pt x="1633" y="31"/>
                      </a:lnTo>
                      <a:lnTo>
                        <a:pt x="1650" y="39"/>
                      </a:lnTo>
                      <a:lnTo>
                        <a:pt x="1668" y="41"/>
                      </a:lnTo>
                      <a:lnTo>
                        <a:pt x="1687" y="45"/>
                      </a:lnTo>
                      <a:lnTo>
                        <a:pt x="1707" y="45"/>
                      </a:lnTo>
                      <a:lnTo>
                        <a:pt x="1728" y="47"/>
                      </a:lnTo>
                      <a:lnTo>
                        <a:pt x="1745" y="45"/>
                      </a:lnTo>
                      <a:lnTo>
                        <a:pt x="1765" y="43"/>
                      </a:lnTo>
                      <a:lnTo>
                        <a:pt x="1784" y="43"/>
                      </a:lnTo>
                      <a:lnTo>
                        <a:pt x="1804" y="47"/>
                      </a:lnTo>
                      <a:lnTo>
                        <a:pt x="1823" y="47"/>
                      </a:lnTo>
                      <a:lnTo>
                        <a:pt x="1842" y="55"/>
                      </a:lnTo>
                      <a:lnTo>
                        <a:pt x="1860" y="61"/>
                      </a:lnTo>
                      <a:lnTo>
                        <a:pt x="1879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380880" y="1219320"/>
                <a:ext cx="2667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 Rounded MT Bold"/>
                  </a:rPr>
                  <a:t>TREE OF KNOWLEDGE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 Rounded MT Bold"/>
                  </a:rPr>
                  <a:t>    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 Rounded MT Bold"/>
                  </a:rPr>
                  <a:t>OF GOOD  &amp; EVIL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 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[ Post Fall 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00400" y="2057400"/>
                <a:ext cx="2362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Fruit (sins) = Hum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              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goo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52680" y="2895840"/>
                <a:ext cx="2286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Fruit (sins) = Hum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              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v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066680" y="6248520"/>
                <a:ext cx="221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oot = Sin Natu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514600" y="2286000"/>
                <a:ext cx="129528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666880" y="3200400"/>
                <a:ext cx="13716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733920" y="1523880"/>
              <a:ext cx="5181480" cy="4909320"/>
              <a:chOff x="3733920" y="1523880"/>
              <a:chExt cx="5181480" cy="4909320"/>
            </a:xfrm>
          </p:grpSpPr>
          <p:sp>
            <p:nvSpPr>
              <p:cNvPr id="103" name=""/>
              <p:cNvSpPr/>
              <p:nvPr/>
            </p:nvSpPr>
            <p:spPr>
              <a:xfrm>
                <a:off x="6858000" y="1523880"/>
                <a:ext cx="16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 Rounded MT Bold"/>
                  </a:rPr>
                  <a:t>TREE  OF  LIF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3733920" y="2057400"/>
                <a:ext cx="5181480" cy="4375800"/>
                <a:chOff x="3733920" y="2057400"/>
                <a:chExt cx="5181480" cy="437580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6248520" y="2057400"/>
                  <a:ext cx="2666880" cy="3961800"/>
                  <a:chOff x="6248520" y="2057400"/>
                  <a:chExt cx="2666880" cy="3961800"/>
                </a:xfrm>
              </p:grpSpPr>
              <p:graphicFrame>
                <p:nvGraphicFramePr>
                  <p:cNvPr id="106" name=""/>
                  <p:cNvGraphicFramePr/>
                  <p:nvPr/>
                </p:nvGraphicFramePr>
                <p:xfrm>
                  <a:off x="6248520" y="2057400"/>
                  <a:ext cx="2666880" cy="388908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107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6248520" y="2057400"/>
                            <a:ext cx="2666880" cy="38890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08" name=""/>
                  <p:cNvSpPr/>
                  <p:nvPr/>
                </p:nvSpPr>
                <p:spPr>
                  <a:xfrm>
                    <a:off x="6681600" y="5298840"/>
                    <a:ext cx="180792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0" h="1069">
                        <a:moveTo>
                          <a:pt x="1879" y="74"/>
                        </a:moveTo>
                        <a:lnTo>
                          <a:pt x="1899" y="86"/>
                        </a:lnTo>
                        <a:lnTo>
                          <a:pt x="1920" y="97"/>
                        </a:lnTo>
                        <a:lnTo>
                          <a:pt x="1930" y="103"/>
                        </a:lnTo>
                        <a:lnTo>
                          <a:pt x="1939" y="109"/>
                        </a:lnTo>
                        <a:lnTo>
                          <a:pt x="1951" y="115"/>
                        </a:lnTo>
                        <a:lnTo>
                          <a:pt x="1963" y="121"/>
                        </a:lnTo>
                        <a:lnTo>
                          <a:pt x="1972" y="125"/>
                        </a:lnTo>
                        <a:lnTo>
                          <a:pt x="1984" y="128"/>
                        </a:lnTo>
                        <a:lnTo>
                          <a:pt x="1996" y="132"/>
                        </a:lnTo>
                        <a:lnTo>
                          <a:pt x="2007" y="138"/>
                        </a:lnTo>
                        <a:lnTo>
                          <a:pt x="2019" y="140"/>
                        </a:lnTo>
                        <a:lnTo>
                          <a:pt x="2031" y="146"/>
                        </a:lnTo>
                        <a:lnTo>
                          <a:pt x="2042" y="148"/>
                        </a:lnTo>
                        <a:lnTo>
                          <a:pt x="2054" y="154"/>
                        </a:lnTo>
                        <a:lnTo>
                          <a:pt x="2064" y="156"/>
                        </a:lnTo>
                        <a:lnTo>
                          <a:pt x="2075" y="158"/>
                        </a:lnTo>
                        <a:lnTo>
                          <a:pt x="2087" y="159"/>
                        </a:lnTo>
                        <a:lnTo>
                          <a:pt x="2098" y="163"/>
                        </a:lnTo>
                        <a:lnTo>
                          <a:pt x="2110" y="165"/>
                        </a:lnTo>
                        <a:lnTo>
                          <a:pt x="2122" y="169"/>
                        </a:lnTo>
                        <a:lnTo>
                          <a:pt x="2133" y="171"/>
                        </a:lnTo>
                        <a:lnTo>
                          <a:pt x="2145" y="175"/>
                        </a:lnTo>
                        <a:lnTo>
                          <a:pt x="2157" y="175"/>
                        </a:lnTo>
                        <a:lnTo>
                          <a:pt x="2168" y="179"/>
                        </a:lnTo>
                        <a:lnTo>
                          <a:pt x="2180" y="179"/>
                        </a:lnTo>
                        <a:lnTo>
                          <a:pt x="2192" y="183"/>
                        </a:lnTo>
                        <a:lnTo>
                          <a:pt x="2203" y="183"/>
                        </a:lnTo>
                        <a:lnTo>
                          <a:pt x="2215" y="187"/>
                        </a:lnTo>
                        <a:lnTo>
                          <a:pt x="2226" y="187"/>
                        </a:lnTo>
                        <a:lnTo>
                          <a:pt x="2240" y="190"/>
                        </a:lnTo>
                        <a:lnTo>
                          <a:pt x="2252" y="190"/>
                        </a:lnTo>
                        <a:lnTo>
                          <a:pt x="2263" y="192"/>
                        </a:lnTo>
                        <a:lnTo>
                          <a:pt x="2275" y="192"/>
                        </a:lnTo>
                        <a:lnTo>
                          <a:pt x="2287" y="194"/>
                        </a:lnTo>
                        <a:lnTo>
                          <a:pt x="2298" y="194"/>
                        </a:lnTo>
                        <a:lnTo>
                          <a:pt x="2310" y="196"/>
                        </a:lnTo>
                        <a:lnTo>
                          <a:pt x="2321" y="198"/>
                        </a:lnTo>
                        <a:lnTo>
                          <a:pt x="2333" y="200"/>
                        </a:lnTo>
                        <a:lnTo>
                          <a:pt x="2345" y="200"/>
                        </a:lnTo>
                        <a:lnTo>
                          <a:pt x="2356" y="200"/>
                        </a:lnTo>
                        <a:lnTo>
                          <a:pt x="2368" y="202"/>
                        </a:lnTo>
                        <a:lnTo>
                          <a:pt x="2382" y="204"/>
                        </a:lnTo>
                        <a:lnTo>
                          <a:pt x="2393" y="204"/>
                        </a:lnTo>
                        <a:lnTo>
                          <a:pt x="2405" y="206"/>
                        </a:lnTo>
                        <a:lnTo>
                          <a:pt x="2416" y="208"/>
                        </a:lnTo>
                        <a:lnTo>
                          <a:pt x="2430" y="210"/>
                        </a:lnTo>
                        <a:lnTo>
                          <a:pt x="2442" y="210"/>
                        </a:lnTo>
                        <a:lnTo>
                          <a:pt x="2453" y="210"/>
                        </a:lnTo>
                        <a:lnTo>
                          <a:pt x="2465" y="212"/>
                        </a:lnTo>
                        <a:lnTo>
                          <a:pt x="2477" y="214"/>
                        </a:lnTo>
                        <a:lnTo>
                          <a:pt x="2488" y="214"/>
                        </a:lnTo>
                        <a:lnTo>
                          <a:pt x="2500" y="216"/>
                        </a:lnTo>
                        <a:lnTo>
                          <a:pt x="2512" y="218"/>
                        </a:lnTo>
                        <a:lnTo>
                          <a:pt x="2523" y="221"/>
                        </a:lnTo>
                        <a:lnTo>
                          <a:pt x="2535" y="221"/>
                        </a:lnTo>
                        <a:lnTo>
                          <a:pt x="2546" y="223"/>
                        </a:lnTo>
                        <a:lnTo>
                          <a:pt x="2558" y="225"/>
                        </a:lnTo>
                        <a:lnTo>
                          <a:pt x="2570" y="227"/>
                        </a:lnTo>
                        <a:lnTo>
                          <a:pt x="2581" y="229"/>
                        </a:lnTo>
                        <a:lnTo>
                          <a:pt x="2593" y="233"/>
                        </a:lnTo>
                        <a:lnTo>
                          <a:pt x="2605" y="235"/>
                        </a:lnTo>
                        <a:lnTo>
                          <a:pt x="2616" y="239"/>
                        </a:lnTo>
                        <a:lnTo>
                          <a:pt x="2628" y="241"/>
                        </a:lnTo>
                        <a:lnTo>
                          <a:pt x="2640" y="245"/>
                        </a:lnTo>
                        <a:lnTo>
                          <a:pt x="2651" y="247"/>
                        </a:lnTo>
                        <a:lnTo>
                          <a:pt x="2663" y="253"/>
                        </a:lnTo>
                        <a:lnTo>
                          <a:pt x="2674" y="254"/>
                        </a:lnTo>
                        <a:lnTo>
                          <a:pt x="2686" y="258"/>
                        </a:lnTo>
                        <a:lnTo>
                          <a:pt x="2698" y="262"/>
                        </a:lnTo>
                        <a:lnTo>
                          <a:pt x="2711" y="268"/>
                        </a:lnTo>
                        <a:lnTo>
                          <a:pt x="2721" y="270"/>
                        </a:lnTo>
                        <a:lnTo>
                          <a:pt x="2733" y="274"/>
                        </a:lnTo>
                        <a:lnTo>
                          <a:pt x="2744" y="278"/>
                        </a:lnTo>
                        <a:lnTo>
                          <a:pt x="2756" y="284"/>
                        </a:lnTo>
                        <a:lnTo>
                          <a:pt x="2766" y="287"/>
                        </a:lnTo>
                        <a:lnTo>
                          <a:pt x="2777" y="293"/>
                        </a:lnTo>
                        <a:lnTo>
                          <a:pt x="2789" y="299"/>
                        </a:lnTo>
                        <a:lnTo>
                          <a:pt x="2800" y="305"/>
                        </a:lnTo>
                        <a:lnTo>
                          <a:pt x="2779" y="299"/>
                        </a:lnTo>
                        <a:lnTo>
                          <a:pt x="2760" y="297"/>
                        </a:lnTo>
                        <a:lnTo>
                          <a:pt x="2748" y="295"/>
                        </a:lnTo>
                        <a:lnTo>
                          <a:pt x="2736" y="295"/>
                        </a:lnTo>
                        <a:lnTo>
                          <a:pt x="2725" y="295"/>
                        </a:lnTo>
                        <a:lnTo>
                          <a:pt x="2715" y="295"/>
                        </a:lnTo>
                        <a:lnTo>
                          <a:pt x="2702" y="293"/>
                        </a:lnTo>
                        <a:lnTo>
                          <a:pt x="2690" y="293"/>
                        </a:lnTo>
                        <a:lnTo>
                          <a:pt x="2678" y="293"/>
                        </a:lnTo>
                        <a:lnTo>
                          <a:pt x="2667" y="293"/>
                        </a:lnTo>
                        <a:lnTo>
                          <a:pt x="2655" y="293"/>
                        </a:lnTo>
                        <a:lnTo>
                          <a:pt x="2643" y="293"/>
                        </a:lnTo>
                        <a:lnTo>
                          <a:pt x="2632" y="293"/>
                        </a:lnTo>
                        <a:lnTo>
                          <a:pt x="2620" y="293"/>
                        </a:lnTo>
                        <a:lnTo>
                          <a:pt x="2607" y="291"/>
                        </a:lnTo>
                        <a:lnTo>
                          <a:pt x="2595" y="291"/>
                        </a:lnTo>
                        <a:lnTo>
                          <a:pt x="2583" y="289"/>
                        </a:lnTo>
                        <a:lnTo>
                          <a:pt x="2572" y="289"/>
                        </a:lnTo>
                        <a:lnTo>
                          <a:pt x="2560" y="287"/>
                        </a:lnTo>
                        <a:lnTo>
                          <a:pt x="2548" y="285"/>
                        </a:lnTo>
                        <a:lnTo>
                          <a:pt x="2537" y="284"/>
                        </a:lnTo>
                        <a:lnTo>
                          <a:pt x="2525" y="284"/>
                        </a:lnTo>
                        <a:lnTo>
                          <a:pt x="2513" y="280"/>
                        </a:lnTo>
                        <a:lnTo>
                          <a:pt x="2502" y="278"/>
                        </a:lnTo>
                        <a:lnTo>
                          <a:pt x="2490" y="276"/>
                        </a:lnTo>
                        <a:lnTo>
                          <a:pt x="2480" y="274"/>
                        </a:lnTo>
                        <a:lnTo>
                          <a:pt x="2459" y="266"/>
                        </a:lnTo>
                        <a:lnTo>
                          <a:pt x="2442" y="258"/>
                        </a:lnTo>
                        <a:lnTo>
                          <a:pt x="2428" y="258"/>
                        </a:lnTo>
                        <a:lnTo>
                          <a:pt x="2422" y="264"/>
                        </a:lnTo>
                        <a:lnTo>
                          <a:pt x="2416" y="268"/>
                        </a:lnTo>
                        <a:lnTo>
                          <a:pt x="2413" y="276"/>
                        </a:lnTo>
                        <a:lnTo>
                          <a:pt x="2422" y="305"/>
                        </a:lnTo>
                        <a:lnTo>
                          <a:pt x="2436" y="318"/>
                        </a:lnTo>
                        <a:lnTo>
                          <a:pt x="2451" y="332"/>
                        </a:lnTo>
                        <a:lnTo>
                          <a:pt x="2469" y="346"/>
                        </a:lnTo>
                        <a:lnTo>
                          <a:pt x="2486" y="359"/>
                        </a:lnTo>
                        <a:lnTo>
                          <a:pt x="2504" y="371"/>
                        </a:lnTo>
                        <a:lnTo>
                          <a:pt x="2521" y="384"/>
                        </a:lnTo>
                        <a:lnTo>
                          <a:pt x="2539" y="396"/>
                        </a:lnTo>
                        <a:lnTo>
                          <a:pt x="2556" y="410"/>
                        </a:lnTo>
                        <a:lnTo>
                          <a:pt x="2574" y="419"/>
                        </a:lnTo>
                        <a:lnTo>
                          <a:pt x="2591" y="429"/>
                        </a:lnTo>
                        <a:lnTo>
                          <a:pt x="2608" y="439"/>
                        </a:lnTo>
                        <a:lnTo>
                          <a:pt x="2628" y="450"/>
                        </a:lnTo>
                        <a:lnTo>
                          <a:pt x="2645" y="460"/>
                        </a:lnTo>
                        <a:lnTo>
                          <a:pt x="2663" y="470"/>
                        </a:lnTo>
                        <a:lnTo>
                          <a:pt x="2680" y="479"/>
                        </a:lnTo>
                        <a:lnTo>
                          <a:pt x="2700" y="489"/>
                        </a:lnTo>
                        <a:lnTo>
                          <a:pt x="2682" y="487"/>
                        </a:lnTo>
                        <a:lnTo>
                          <a:pt x="2665" y="485"/>
                        </a:lnTo>
                        <a:lnTo>
                          <a:pt x="2647" y="481"/>
                        </a:lnTo>
                        <a:lnTo>
                          <a:pt x="2630" y="479"/>
                        </a:lnTo>
                        <a:lnTo>
                          <a:pt x="2612" y="474"/>
                        </a:lnTo>
                        <a:lnTo>
                          <a:pt x="2597" y="468"/>
                        </a:lnTo>
                        <a:lnTo>
                          <a:pt x="2581" y="462"/>
                        </a:lnTo>
                        <a:lnTo>
                          <a:pt x="2568" y="456"/>
                        </a:lnTo>
                        <a:lnTo>
                          <a:pt x="2550" y="446"/>
                        </a:lnTo>
                        <a:lnTo>
                          <a:pt x="2537" y="439"/>
                        </a:lnTo>
                        <a:lnTo>
                          <a:pt x="2521" y="429"/>
                        </a:lnTo>
                        <a:lnTo>
                          <a:pt x="2510" y="421"/>
                        </a:lnTo>
                        <a:lnTo>
                          <a:pt x="2494" y="410"/>
                        </a:lnTo>
                        <a:lnTo>
                          <a:pt x="2482" y="400"/>
                        </a:lnTo>
                        <a:lnTo>
                          <a:pt x="2471" y="388"/>
                        </a:lnTo>
                        <a:lnTo>
                          <a:pt x="2459" y="379"/>
                        </a:lnTo>
                        <a:lnTo>
                          <a:pt x="2442" y="371"/>
                        </a:lnTo>
                        <a:lnTo>
                          <a:pt x="2424" y="365"/>
                        </a:lnTo>
                        <a:lnTo>
                          <a:pt x="2407" y="359"/>
                        </a:lnTo>
                        <a:lnTo>
                          <a:pt x="2391" y="353"/>
                        </a:lnTo>
                        <a:lnTo>
                          <a:pt x="2374" y="348"/>
                        </a:lnTo>
                        <a:lnTo>
                          <a:pt x="2358" y="344"/>
                        </a:lnTo>
                        <a:lnTo>
                          <a:pt x="2341" y="340"/>
                        </a:lnTo>
                        <a:lnTo>
                          <a:pt x="2325" y="336"/>
                        </a:lnTo>
                        <a:lnTo>
                          <a:pt x="2308" y="330"/>
                        </a:lnTo>
                        <a:lnTo>
                          <a:pt x="2290" y="326"/>
                        </a:lnTo>
                        <a:lnTo>
                          <a:pt x="2273" y="320"/>
                        </a:lnTo>
                        <a:lnTo>
                          <a:pt x="2256" y="317"/>
                        </a:lnTo>
                        <a:lnTo>
                          <a:pt x="2238" y="311"/>
                        </a:lnTo>
                        <a:lnTo>
                          <a:pt x="2221" y="305"/>
                        </a:lnTo>
                        <a:lnTo>
                          <a:pt x="2205" y="299"/>
                        </a:lnTo>
                        <a:lnTo>
                          <a:pt x="2192" y="295"/>
                        </a:lnTo>
                        <a:lnTo>
                          <a:pt x="2180" y="289"/>
                        </a:lnTo>
                        <a:lnTo>
                          <a:pt x="2168" y="285"/>
                        </a:lnTo>
                        <a:lnTo>
                          <a:pt x="2157" y="280"/>
                        </a:lnTo>
                        <a:lnTo>
                          <a:pt x="2145" y="276"/>
                        </a:lnTo>
                        <a:lnTo>
                          <a:pt x="2133" y="270"/>
                        </a:lnTo>
                        <a:lnTo>
                          <a:pt x="2122" y="266"/>
                        </a:lnTo>
                        <a:lnTo>
                          <a:pt x="2110" y="260"/>
                        </a:lnTo>
                        <a:lnTo>
                          <a:pt x="2100" y="256"/>
                        </a:lnTo>
                        <a:lnTo>
                          <a:pt x="2089" y="251"/>
                        </a:lnTo>
                        <a:lnTo>
                          <a:pt x="2077" y="245"/>
                        </a:lnTo>
                        <a:lnTo>
                          <a:pt x="2065" y="239"/>
                        </a:lnTo>
                        <a:lnTo>
                          <a:pt x="2056" y="235"/>
                        </a:lnTo>
                        <a:lnTo>
                          <a:pt x="2044" y="229"/>
                        </a:lnTo>
                        <a:lnTo>
                          <a:pt x="2034" y="225"/>
                        </a:lnTo>
                        <a:lnTo>
                          <a:pt x="2023" y="220"/>
                        </a:lnTo>
                        <a:lnTo>
                          <a:pt x="2013" y="216"/>
                        </a:lnTo>
                        <a:lnTo>
                          <a:pt x="2001" y="210"/>
                        </a:lnTo>
                        <a:lnTo>
                          <a:pt x="1990" y="204"/>
                        </a:lnTo>
                        <a:lnTo>
                          <a:pt x="1978" y="198"/>
                        </a:lnTo>
                        <a:lnTo>
                          <a:pt x="1968" y="194"/>
                        </a:lnTo>
                        <a:lnTo>
                          <a:pt x="1957" y="189"/>
                        </a:lnTo>
                        <a:lnTo>
                          <a:pt x="1947" y="185"/>
                        </a:lnTo>
                        <a:lnTo>
                          <a:pt x="1936" y="179"/>
                        </a:lnTo>
                        <a:lnTo>
                          <a:pt x="1926" y="175"/>
                        </a:lnTo>
                        <a:lnTo>
                          <a:pt x="1914" y="169"/>
                        </a:lnTo>
                        <a:lnTo>
                          <a:pt x="1903" y="163"/>
                        </a:lnTo>
                        <a:lnTo>
                          <a:pt x="1893" y="159"/>
                        </a:lnTo>
                        <a:lnTo>
                          <a:pt x="1883" y="156"/>
                        </a:lnTo>
                        <a:lnTo>
                          <a:pt x="1862" y="146"/>
                        </a:lnTo>
                        <a:lnTo>
                          <a:pt x="1842" y="138"/>
                        </a:lnTo>
                        <a:lnTo>
                          <a:pt x="1831" y="138"/>
                        </a:lnTo>
                        <a:lnTo>
                          <a:pt x="1821" y="138"/>
                        </a:lnTo>
                        <a:lnTo>
                          <a:pt x="1809" y="140"/>
                        </a:lnTo>
                        <a:lnTo>
                          <a:pt x="1804" y="144"/>
                        </a:lnTo>
                        <a:lnTo>
                          <a:pt x="1790" y="152"/>
                        </a:lnTo>
                        <a:lnTo>
                          <a:pt x="1786" y="165"/>
                        </a:lnTo>
                        <a:lnTo>
                          <a:pt x="1780" y="181"/>
                        </a:lnTo>
                        <a:lnTo>
                          <a:pt x="1782" y="194"/>
                        </a:lnTo>
                        <a:lnTo>
                          <a:pt x="1786" y="206"/>
                        </a:lnTo>
                        <a:lnTo>
                          <a:pt x="1796" y="218"/>
                        </a:lnTo>
                        <a:lnTo>
                          <a:pt x="1804" y="227"/>
                        </a:lnTo>
                        <a:lnTo>
                          <a:pt x="1813" y="237"/>
                        </a:lnTo>
                        <a:lnTo>
                          <a:pt x="1823" y="247"/>
                        </a:lnTo>
                        <a:lnTo>
                          <a:pt x="1833" y="258"/>
                        </a:lnTo>
                        <a:lnTo>
                          <a:pt x="1844" y="264"/>
                        </a:lnTo>
                        <a:lnTo>
                          <a:pt x="1858" y="270"/>
                        </a:lnTo>
                        <a:lnTo>
                          <a:pt x="1870" y="276"/>
                        </a:lnTo>
                        <a:lnTo>
                          <a:pt x="1883" y="284"/>
                        </a:lnTo>
                        <a:lnTo>
                          <a:pt x="1895" y="289"/>
                        </a:lnTo>
                        <a:lnTo>
                          <a:pt x="1906" y="297"/>
                        </a:lnTo>
                        <a:lnTo>
                          <a:pt x="1918" y="303"/>
                        </a:lnTo>
                        <a:lnTo>
                          <a:pt x="1930" y="311"/>
                        </a:lnTo>
                        <a:lnTo>
                          <a:pt x="1939" y="315"/>
                        </a:lnTo>
                        <a:lnTo>
                          <a:pt x="1951" y="320"/>
                        </a:lnTo>
                        <a:lnTo>
                          <a:pt x="1963" y="326"/>
                        </a:lnTo>
                        <a:lnTo>
                          <a:pt x="1974" y="332"/>
                        </a:lnTo>
                        <a:lnTo>
                          <a:pt x="1986" y="336"/>
                        </a:lnTo>
                        <a:lnTo>
                          <a:pt x="1998" y="340"/>
                        </a:lnTo>
                        <a:lnTo>
                          <a:pt x="2011" y="344"/>
                        </a:lnTo>
                        <a:lnTo>
                          <a:pt x="2027" y="349"/>
                        </a:lnTo>
                        <a:lnTo>
                          <a:pt x="2034" y="351"/>
                        </a:lnTo>
                        <a:lnTo>
                          <a:pt x="2044" y="359"/>
                        </a:lnTo>
                        <a:lnTo>
                          <a:pt x="2054" y="365"/>
                        </a:lnTo>
                        <a:lnTo>
                          <a:pt x="2064" y="369"/>
                        </a:lnTo>
                        <a:lnTo>
                          <a:pt x="2083" y="377"/>
                        </a:lnTo>
                        <a:lnTo>
                          <a:pt x="2104" y="384"/>
                        </a:lnTo>
                        <a:lnTo>
                          <a:pt x="2114" y="388"/>
                        </a:lnTo>
                        <a:lnTo>
                          <a:pt x="2126" y="392"/>
                        </a:lnTo>
                        <a:lnTo>
                          <a:pt x="2137" y="398"/>
                        </a:lnTo>
                        <a:lnTo>
                          <a:pt x="2149" y="404"/>
                        </a:lnTo>
                        <a:lnTo>
                          <a:pt x="2159" y="408"/>
                        </a:lnTo>
                        <a:lnTo>
                          <a:pt x="2170" y="412"/>
                        </a:lnTo>
                        <a:lnTo>
                          <a:pt x="2182" y="415"/>
                        </a:lnTo>
                        <a:lnTo>
                          <a:pt x="2193" y="421"/>
                        </a:lnTo>
                        <a:lnTo>
                          <a:pt x="2203" y="427"/>
                        </a:lnTo>
                        <a:lnTo>
                          <a:pt x="2215" y="433"/>
                        </a:lnTo>
                        <a:lnTo>
                          <a:pt x="2226" y="439"/>
                        </a:lnTo>
                        <a:lnTo>
                          <a:pt x="2238" y="444"/>
                        </a:lnTo>
                        <a:lnTo>
                          <a:pt x="2257" y="456"/>
                        </a:lnTo>
                        <a:lnTo>
                          <a:pt x="2277" y="468"/>
                        </a:lnTo>
                        <a:lnTo>
                          <a:pt x="2296" y="481"/>
                        </a:lnTo>
                        <a:lnTo>
                          <a:pt x="2318" y="497"/>
                        </a:lnTo>
                        <a:lnTo>
                          <a:pt x="2335" y="512"/>
                        </a:lnTo>
                        <a:lnTo>
                          <a:pt x="2352" y="530"/>
                        </a:lnTo>
                        <a:lnTo>
                          <a:pt x="2360" y="538"/>
                        </a:lnTo>
                        <a:lnTo>
                          <a:pt x="2368" y="547"/>
                        </a:lnTo>
                        <a:lnTo>
                          <a:pt x="2376" y="559"/>
                        </a:lnTo>
                        <a:lnTo>
                          <a:pt x="2385" y="571"/>
                        </a:lnTo>
                        <a:lnTo>
                          <a:pt x="2364" y="553"/>
                        </a:lnTo>
                        <a:lnTo>
                          <a:pt x="2345" y="541"/>
                        </a:lnTo>
                        <a:lnTo>
                          <a:pt x="2323" y="530"/>
                        </a:lnTo>
                        <a:lnTo>
                          <a:pt x="2304" y="520"/>
                        </a:lnTo>
                        <a:lnTo>
                          <a:pt x="2292" y="514"/>
                        </a:lnTo>
                        <a:lnTo>
                          <a:pt x="2281" y="508"/>
                        </a:lnTo>
                        <a:lnTo>
                          <a:pt x="2269" y="505"/>
                        </a:lnTo>
                        <a:lnTo>
                          <a:pt x="2259" y="501"/>
                        </a:lnTo>
                        <a:lnTo>
                          <a:pt x="2248" y="495"/>
                        </a:lnTo>
                        <a:lnTo>
                          <a:pt x="2238" y="491"/>
                        </a:lnTo>
                        <a:lnTo>
                          <a:pt x="2226" y="487"/>
                        </a:lnTo>
                        <a:lnTo>
                          <a:pt x="2217" y="483"/>
                        </a:lnTo>
                        <a:lnTo>
                          <a:pt x="2205" y="477"/>
                        </a:lnTo>
                        <a:lnTo>
                          <a:pt x="2193" y="474"/>
                        </a:lnTo>
                        <a:lnTo>
                          <a:pt x="2182" y="468"/>
                        </a:lnTo>
                        <a:lnTo>
                          <a:pt x="2172" y="464"/>
                        </a:lnTo>
                        <a:lnTo>
                          <a:pt x="2160" y="458"/>
                        </a:lnTo>
                        <a:lnTo>
                          <a:pt x="2149" y="454"/>
                        </a:lnTo>
                        <a:lnTo>
                          <a:pt x="2137" y="448"/>
                        </a:lnTo>
                        <a:lnTo>
                          <a:pt x="2128" y="444"/>
                        </a:lnTo>
                        <a:lnTo>
                          <a:pt x="2116" y="439"/>
                        </a:lnTo>
                        <a:lnTo>
                          <a:pt x="2104" y="433"/>
                        </a:lnTo>
                        <a:lnTo>
                          <a:pt x="2095" y="427"/>
                        </a:lnTo>
                        <a:lnTo>
                          <a:pt x="2085" y="421"/>
                        </a:lnTo>
                        <a:lnTo>
                          <a:pt x="2064" y="408"/>
                        </a:lnTo>
                        <a:lnTo>
                          <a:pt x="2044" y="396"/>
                        </a:lnTo>
                        <a:lnTo>
                          <a:pt x="2031" y="396"/>
                        </a:lnTo>
                        <a:lnTo>
                          <a:pt x="2023" y="402"/>
                        </a:lnTo>
                        <a:lnTo>
                          <a:pt x="2017" y="410"/>
                        </a:lnTo>
                        <a:lnTo>
                          <a:pt x="2017" y="423"/>
                        </a:lnTo>
                        <a:lnTo>
                          <a:pt x="2021" y="439"/>
                        </a:lnTo>
                        <a:lnTo>
                          <a:pt x="2036" y="450"/>
                        </a:lnTo>
                        <a:lnTo>
                          <a:pt x="2050" y="462"/>
                        </a:lnTo>
                        <a:lnTo>
                          <a:pt x="2064" y="479"/>
                        </a:lnTo>
                        <a:lnTo>
                          <a:pt x="2083" y="491"/>
                        </a:lnTo>
                        <a:lnTo>
                          <a:pt x="2104" y="503"/>
                        </a:lnTo>
                        <a:lnTo>
                          <a:pt x="2124" y="516"/>
                        </a:lnTo>
                        <a:lnTo>
                          <a:pt x="2145" y="534"/>
                        </a:lnTo>
                        <a:lnTo>
                          <a:pt x="2164" y="549"/>
                        </a:lnTo>
                        <a:lnTo>
                          <a:pt x="2184" y="567"/>
                        </a:lnTo>
                        <a:lnTo>
                          <a:pt x="2203" y="586"/>
                        </a:lnTo>
                        <a:lnTo>
                          <a:pt x="2223" y="605"/>
                        </a:lnTo>
                        <a:lnTo>
                          <a:pt x="2236" y="623"/>
                        </a:lnTo>
                        <a:lnTo>
                          <a:pt x="2252" y="644"/>
                        </a:lnTo>
                        <a:lnTo>
                          <a:pt x="2257" y="654"/>
                        </a:lnTo>
                        <a:lnTo>
                          <a:pt x="2265" y="666"/>
                        </a:lnTo>
                        <a:lnTo>
                          <a:pt x="2271" y="677"/>
                        </a:lnTo>
                        <a:lnTo>
                          <a:pt x="2279" y="689"/>
                        </a:lnTo>
                        <a:lnTo>
                          <a:pt x="2283" y="698"/>
                        </a:lnTo>
                        <a:lnTo>
                          <a:pt x="2288" y="710"/>
                        </a:lnTo>
                        <a:lnTo>
                          <a:pt x="2292" y="722"/>
                        </a:lnTo>
                        <a:lnTo>
                          <a:pt x="2298" y="733"/>
                        </a:lnTo>
                        <a:lnTo>
                          <a:pt x="2300" y="745"/>
                        </a:lnTo>
                        <a:lnTo>
                          <a:pt x="2304" y="759"/>
                        </a:lnTo>
                        <a:lnTo>
                          <a:pt x="2308" y="770"/>
                        </a:lnTo>
                        <a:lnTo>
                          <a:pt x="2312" y="784"/>
                        </a:lnTo>
                        <a:lnTo>
                          <a:pt x="2290" y="766"/>
                        </a:lnTo>
                        <a:lnTo>
                          <a:pt x="2275" y="747"/>
                        </a:lnTo>
                        <a:lnTo>
                          <a:pt x="2265" y="735"/>
                        </a:lnTo>
                        <a:lnTo>
                          <a:pt x="2257" y="724"/>
                        </a:lnTo>
                        <a:lnTo>
                          <a:pt x="2250" y="712"/>
                        </a:lnTo>
                        <a:lnTo>
                          <a:pt x="2244" y="702"/>
                        </a:lnTo>
                        <a:lnTo>
                          <a:pt x="2236" y="689"/>
                        </a:lnTo>
                        <a:lnTo>
                          <a:pt x="2228" y="675"/>
                        </a:lnTo>
                        <a:lnTo>
                          <a:pt x="2221" y="664"/>
                        </a:lnTo>
                        <a:lnTo>
                          <a:pt x="2213" y="652"/>
                        </a:lnTo>
                        <a:lnTo>
                          <a:pt x="2205" y="640"/>
                        </a:lnTo>
                        <a:lnTo>
                          <a:pt x="2197" y="629"/>
                        </a:lnTo>
                        <a:lnTo>
                          <a:pt x="2190" y="617"/>
                        </a:lnTo>
                        <a:lnTo>
                          <a:pt x="2184" y="607"/>
                        </a:lnTo>
                        <a:lnTo>
                          <a:pt x="2170" y="594"/>
                        </a:lnTo>
                        <a:lnTo>
                          <a:pt x="2157" y="582"/>
                        </a:lnTo>
                        <a:lnTo>
                          <a:pt x="2143" y="571"/>
                        </a:lnTo>
                        <a:lnTo>
                          <a:pt x="2131" y="561"/>
                        </a:lnTo>
                        <a:lnTo>
                          <a:pt x="2118" y="549"/>
                        </a:lnTo>
                        <a:lnTo>
                          <a:pt x="2104" y="539"/>
                        </a:lnTo>
                        <a:lnTo>
                          <a:pt x="2091" y="530"/>
                        </a:lnTo>
                        <a:lnTo>
                          <a:pt x="2079" y="522"/>
                        </a:lnTo>
                        <a:lnTo>
                          <a:pt x="2064" y="512"/>
                        </a:lnTo>
                        <a:lnTo>
                          <a:pt x="2052" y="505"/>
                        </a:lnTo>
                        <a:lnTo>
                          <a:pt x="2036" y="499"/>
                        </a:lnTo>
                        <a:lnTo>
                          <a:pt x="2025" y="493"/>
                        </a:lnTo>
                        <a:lnTo>
                          <a:pt x="2009" y="487"/>
                        </a:lnTo>
                        <a:lnTo>
                          <a:pt x="1998" y="483"/>
                        </a:lnTo>
                        <a:lnTo>
                          <a:pt x="1982" y="479"/>
                        </a:lnTo>
                        <a:lnTo>
                          <a:pt x="1970" y="479"/>
                        </a:lnTo>
                        <a:lnTo>
                          <a:pt x="1957" y="470"/>
                        </a:lnTo>
                        <a:lnTo>
                          <a:pt x="1947" y="462"/>
                        </a:lnTo>
                        <a:lnTo>
                          <a:pt x="1937" y="454"/>
                        </a:lnTo>
                        <a:lnTo>
                          <a:pt x="1930" y="446"/>
                        </a:lnTo>
                        <a:lnTo>
                          <a:pt x="1914" y="427"/>
                        </a:lnTo>
                        <a:lnTo>
                          <a:pt x="1903" y="408"/>
                        </a:lnTo>
                        <a:lnTo>
                          <a:pt x="1891" y="386"/>
                        </a:lnTo>
                        <a:lnTo>
                          <a:pt x="1879" y="369"/>
                        </a:lnTo>
                        <a:lnTo>
                          <a:pt x="1866" y="349"/>
                        </a:lnTo>
                        <a:lnTo>
                          <a:pt x="1852" y="332"/>
                        </a:lnTo>
                        <a:lnTo>
                          <a:pt x="1839" y="320"/>
                        </a:lnTo>
                        <a:lnTo>
                          <a:pt x="1827" y="309"/>
                        </a:lnTo>
                        <a:lnTo>
                          <a:pt x="1815" y="297"/>
                        </a:lnTo>
                        <a:lnTo>
                          <a:pt x="1804" y="289"/>
                        </a:lnTo>
                        <a:lnTo>
                          <a:pt x="1790" y="278"/>
                        </a:lnTo>
                        <a:lnTo>
                          <a:pt x="1778" y="270"/>
                        </a:lnTo>
                        <a:lnTo>
                          <a:pt x="1767" y="260"/>
                        </a:lnTo>
                        <a:lnTo>
                          <a:pt x="1755" y="253"/>
                        </a:lnTo>
                        <a:lnTo>
                          <a:pt x="1742" y="243"/>
                        </a:lnTo>
                        <a:lnTo>
                          <a:pt x="1728" y="235"/>
                        </a:lnTo>
                        <a:lnTo>
                          <a:pt x="1714" y="225"/>
                        </a:lnTo>
                        <a:lnTo>
                          <a:pt x="1703" y="220"/>
                        </a:lnTo>
                        <a:lnTo>
                          <a:pt x="1689" y="212"/>
                        </a:lnTo>
                        <a:lnTo>
                          <a:pt x="1678" y="206"/>
                        </a:lnTo>
                        <a:lnTo>
                          <a:pt x="1664" y="200"/>
                        </a:lnTo>
                        <a:lnTo>
                          <a:pt x="1652" y="194"/>
                        </a:lnTo>
                        <a:lnTo>
                          <a:pt x="1637" y="187"/>
                        </a:lnTo>
                        <a:lnTo>
                          <a:pt x="1623" y="181"/>
                        </a:lnTo>
                        <a:lnTo>
                          <a:pt x="1610" y="175"/>
                        </a:lnTo>
                        <a:lnTo>
                          <a:pt x="1596" y="169"/>
                        </a:lnTo>
                        <a:lnTo>
                          <a:pt x="1581" y="163"/>
                        </a:lnTo>
                        <a:lnTo>
                          <a:pt x="1569" y="159"/>
                        </a:lnTo>
                        <a:lnTo>
                          <a:pt x="1553" y="156"/>
                        </a:lnTo>
                        <a:lnTo>
                          <a:pt x="1542" y="152"/>
                        </a:lnTo>
                        <a:lnTo>
                          <a:pt x="1526" y="146"/>
                        </a:lnTo>
                        <a:lnTo>
                          <a:pt x="1513" y="140"/>
                        </a:lnTo>
                        <a:lnTo>
                          <a:pt x="1497" y="136"/>
                        </a:lnTo>
                        <a:lnTo>
                          <a:pt x="1484" y="132"/>
                        </a:lnTo>
                        <a:lnTo>
                          <a:pt x="1468" y="128"/>
                        </a:lnTo>
                        <a:lnTo>
                          <a:pt x="1455" y="126"/>
                        </a:lnTo>
                        <a:lnTo>
                          <a:pt x="1441" y="123"/>
                        </a:lnTo>
                        <a:lnTo>
                          <a:pt x="1427" y="121"/>
                        </a:lnTo>
                        <a:lnTo>
                          <a:pt x="1422" y="125"/>
                        </a:lnTo>
                        <a:lnTo>
                          <a:pt x="1418" y="138"/>
                        </a:lnTo>
                        <a:lnTo>
                          <a:pt x="1422" y="154"/>
                        </a:lnTo>
                        <a:lnTo>
                          <a:pt x="1427" y="171"/>
                        </a:lnTo>
                        <a:lnTo>
                          <a:pt x="1433" y="187"/>
                        </a:lnTo>
                        <a:lnTo>
                          <a:pt x="1439" y="204"/>
                        </a:lnTo>
                        <a:lnTo>
                          <a:pt x="1445" y="220"/>
                        </a:lnTo>
                        <a:lnTo>
                          <a:pt x="1451" y="235"/>
                        </a:lnTo>
                        <a:lnTo>
                          <a:pt x="1456" y="251"/>
                        </a:lnTo>
                        <a:lnTo>
                          <a:pt x="1466" y="266"/>
                        </a:lnTo>
                        <a:lnTo>
                          <a:pt x="1472" y="280"/>
                        </a:lnTo>
                        <a:lnTo>
                          <a:pt x="1482" y="293"/>
                        </a:lnTo>
                        <a:lnTo>
                          <a:pt x="1491" y="307"/>
                        </a:lnTo>
                        <a:lnTo>
                          <a:pt x="1503" y="320"/>
                        </a:lnTo>
                        <a:lnTo>
                          <a:pt x="1515" y="332"/>
                        </a:lnTo>
                        <a:lnTo>
                          <a:pt x="1526" y="344"/>
                        </a:lnTo>
                        <a:lnTo>
                          <a:pt x="1540" y="355"/>
                        </a:lnTo>
                        <a:lnTo>
                          <a:pt x="1557" y="369"/>
                        </a:lnTo>
                        <a:lnTo>
                          <a:pt x="1573" y="375"/>
                        </a:lnTo>
                        <a:lnTo>
                          <a:pt x="1592" y="382"/>
                        </a:lnTo>
                        <a:lnTo>
                          <a:pt x="1610" y="388"/>
                        </a:lnTo>
                        <a:lnTo>
                          <a:pt x="1631" y="394"/>
                        </a:lnTo>
                        <a:lnTo>
                          <a:pt x="1648" y="400"/>
                        </a:lnTo>
                        <a:lnTo>
                          <a:pt x="1668" y="410"/>
                        </a:lnTo>
                        <a:lnTo>
                          <a:pt x="1674" y="415"/>
                        </a:lnTo>
                        <a:lnTo>
                          <a:pt x="1681" y="423"/>
                        </a:lnTo>
                        <a:lnTo>
                          <a:pt x="1687" y="431"/>
                        </a:lnTo>
                        <a:lnTo>
                          <a:pt x="1695" y="443"/>
                        </a:lnTo>
                        <a:lnTo>
                          <a:pt x="1699" y="460"/>
                        </a:lnTo>
                        <a:lnTo>
                          <a:pt x="1709" y="477"/>
                        </a:lnTo>
                        <a:lnTo>
                          <a:pt x="1718" y="491"/>
                        </a:lnTo>
                        <a:lnTo>
                          <a:pt x="1730" y="505"/>
                        </a:lnTo>
                        <a:lnTo>
                          <a:pt x="1742" y="514"/>
                        </a:lnTo>
                        <a:lnTo>
                          <a:pt x="1755" y="524"/>
                        </a:lnTo>
                        <a:lnTo>
                          <a:pt x="1771" y="534"/>
                        </a:lnTo>
                        <a:lnTo>
                          <a:pt x="1788" y="543"/>
                        </a:lnTo>
                        <a:lnTo>
                          <a:pt x="1804" y="549"/>
                        </a:lnTo>
                        <a:lnTo>
                          <a:pt x="1819" y="557"/>
                        </a:lnTo>
                        <a:lnTo>
                          <a:pt x="1837" y="563"/>
                        </a:lnTo>
                        <a:lnTo>
                          <a:pt x="1854" y="572"/>
                        </a:lnTo>
                        <a:lnTo>
                          <a:pt x="1870" y="580"/>
                        </a:lnTo>
                        <a:lnTo>
                          <a:pt x="1885" y="592"/>
                        </a:lnTo>
                        <a:lnTo>
                          <a:pt x="1901" y="602"/>
                        </a:lnTo>
                        <a:lnTo>
                          <a:pt x="1916" y="617"/>
                        </a:lnTo>
                        <a:lnTo>
                          <a:pt x="1928" y="634"/>
                        </a:lnTo>
                        <a:lnTo>
                          <a:pt x="1939" y="654"/>
                        </a:lnTo>
                        <a:lnTo>
                          <a:pt x="1953" y="673"/>
                        </a:lnTo>
                        <a:lnTo>
                          <a:pt x="1968" y="693"/>
                        </a:lnTo>
                        <a:lnTo>
                          <a:pt x="1982" y="710"/>
                        </a:lnTo>
                        <a:lnTo>
                          <a:pt x="1998" y="731"/>
                        </a:lnTo>
                        <a:lnTo>
                          <a:pt x="2013" y="751"/>
                        </a:lnTo>
                        <a:lnTo>
                          <a:pt x="2029" y="772"/>
                        </a:lnTo>
                        <a:lnTo>
                          <a:pt x="2040" y="792"/>
                        </a:lnTo>
                        <a:lnTo>
                          <a:pt x="2054" y="813"/>
                        </a:lnTo>
                        <a:lnTo>
                          <a:pt x="2058" y="823"/>
                        </a:lnTo>
                        <a:lnTo>
                          <a:pt x="2064" y="832"/>
                        </a:lnTo>
                        <a:lnTo>
                          <a:pt x="2069" y="844"/>
                        </a:lnTo>
                        <a:lnTo>
                          <a:pt x="2075" y="856"/>
                        </a:lnTo>
                        <a:lnTo>
                          <a:pt x="2079" y="865"/>
                        </a:lnTo>
                        <a:lnTo>
                          <a:pt x="2083" y="877"/>
                        </a:lnTo>
                        <a:lnTo>
                          <a:pt x="2087" y="889"/>
                        </a:lnTo>
                        <a:lnTo>
                          <a:pt x="2091" y="900"/>
                        </a:lnTo>
                        <a:lnTo>
                          <a:pt x="2093" y="912"/>
                        </a:lnTo>
                        <a:lnTo>
                          <a:pt x="2095" y="923"/>
                        </a:lnTo>
                        <a:lnTo>
                          <a:pt x="2096" y="935"/>
                        </a:lnTo>
                        <a:lnTo>
                          <a:pt x="2100" y="949"/>
                        </a:lnTo>
                        <a:lnTo>
                          <a:pt x="2087" y="935"/>
                        </a:lnTo>
                        <a:lnTo>
                          <a:pt x="2075" y="923"/>
                        </a:lnTo>
                        <a:lnTo>
                          <a:pt x="2064" y="910"/>
                        </a:lnTo>
                        <a:lnTo>
                          <a:pt x="2052" y="898"/>
                        </a:lnTo>
                        <a:lnTo>
                          <a:pt x="2040" y="885"/>
                        </a:lnTo>
                        <a:lnTo>
                          <a:pt x="2031" y="873"/>
                        </a:lnTo>
                        <a:lnTo>
                          <a:pt x="2021" y="861"/>
                        </a:lnTo>
                        <a:lnTo>
                          <a:pt x="2011" y="850"/>
                        </a:lnTo>
                        <a:lnTo>
                          <a:pt x="2000" y="836"/>
                        </a:lnTo>
                        <a:lnTo>
                          <a:pt x="1992" y="825"/>
                        </a:lnTo>
                        <a:lnTo>
                          <a:pt x="1982" y="811"/>
                        </a:lnTo>
                        <a:lnTo>
                          <a:pt x="1976" y="799"/>
                        </a:lnTo>
                        <a:lnTo>
                          <a:pt x="1968" y="786"/>
                        </a:lnTo>
                        <a:lnTo>
                          <a:pt x="1963" y="772"/>
                        </a:lnTo>
                        <a:lnTo>
                          <a:pt x="1957" y="759"/>
                        </a:lnTo>
                        <a:lnTo>
                          <a:pt x="1953" y="747"/>
                        </a:lnTo>
                        <a:lnTo>
                          <a:pt x="1937" y="747"/>
                        </a:lnTo>
                        <a:lnTo>
                          <a:pt x="1926" y="747"/>
                        </a:lnTo>
                        <a:lnTo>
                          <a:pt x="1916" y="755"/>
                        </a:lnTo>
                        <a:lnTo>
                          <a:pt x="1914" y="772"/>
                        </a:lnTo>
                        <a:lnTo>
                          <a:pt x="1914" y="792"/>
                        </a:lnTo>
                        <a:lnTo>
                          <a:pt x="1912" y="811"/>
                        </a:lnTo>
                        <a:lnTo>
                          <a:pt x="1912" y="832"/>
                        </a:lnTo>
                        <a:lnTo>
                          <a:pt x="1912" y="852"/>
                        </a:lnTo>
                        <a:lnTo>
                          <a:pt x="1914" y="873"/>
                        </a:lnTo>
                        <a:lnTo>
                          <a:pt x="1918" y="892"/>
                        </a:lnTo>
                        <a:lnTo>
                          <a:pt x="1926" y="912"/>
                        </a:lnTo>
                        <a:lnTo>
                          <a:pt x="1912" y="892"/>
                        </a:lnTo>
                        <a:lnTo>
                          <a:pt x="1904" y="875"/>
                        </a:lnTo>
                        <a:lnTo>
                          <a:pt x="1897" y="856"/>
                        </a:lnTo>
                        <a:lnTo>
                          <a:pt x="1893" y="836"/>
                        </a:lnTo>
                        <a:lnTo>
                          <a:pt x="1887" y="815"/>
                        </a:lnTo>
                        <a:lnTo>
                          <a:pt x="1883" y="795"/>
                        </a:lnTo>
                        <a:lnTo>
                          <a:pt x="1881" y="776"/>
                        </a:lnTo>
                        <a:lnTo>
                          <a:pt x="1879" y="757"/>
                        </a:lnTo>
                        <a:lnTo>
                          <a:pt x="1875" y="735"/>
                        </a:lnTo>
                        <a:lnTo>
                          <a:pt x="1872" y="716"/>
                        </a:lnTo>
                        <a:lnTo>
                          <a:pt x="1868" y="695"/>
                        </a:lnTo>
                        <a:lnTo>
                          <a:pt x="1864" y="675"/>
                        </a:lnTo>
                        <a:lnTo>
                          <a:pt x="1856" y="656"/>
                        </a:lnTo>
                        <a:lnTo>
                          <a:pt x="1846" y="638"/>
                        </a:lnTo>
                        <a:lnTo>
                          <a:pt x="1835" y="621"/>
                        </a:lnTo>
                        <a:lnTo>
                          <a:pt x="1823" y="607"/>
                        </a:lnTo>
                        <a:lnTo>
                          <a:pt x="1809" y="600"/>
                        </a:lnTo>
                        <a:lnTo>
                          <a:pt x="1798" y="592"/>
                        </a:lnTo>
                        <a:lnTo>
                          <a:pt x="1786" y="586"/>
                        </a:lnTo>
                        <a:lnTo>
                          <a:pt x="1775" y="580"/>
                        </a:lnTo>
                        <a:lnTo>
                          <a:pt x="1761" y="574"/>
                        </a:lnTo>
                        <a:lnTo>
                          <a:pt x="1749" y="569"/>
                        </a:lnTo>
                        <a:lnTo>
                          <a:pt x="1738" y="563"/>
                        </a:lnTo>
                        <a:lnTo>
                          <a:pt x="1726" y="557"/>
                        </a:lnTo>
                        <a:lnTo>
                          <a:pt x="1712" y="549"/>
                        </a:lnTo>
                        <a:lnTo>
                          <a:pt x="1701" y="543"/>
                        </a:lnTo>
                        <a:lnTo>
                          <a:pt x="1689" y="538"/>
                        </a:lnTo>
                        <a:lnTo>
                          <a:pt x="1678" y="532"/>
                        </a:lnTo>
                        <a:lnTo>
                          <a:pt x="1666" y="524"/>
                        </a:lnTo>
                        <a:lnTo>
                          <a:pt x="1654" y="518"/>
                        </a:lnTo>
                        <a:lnTo>
                          <a:pt x="1643" y="512"/>
                        </a:lnTo>
                        <a:lnTo>
                          <a:pt x="1631" y="507"/>
                        </a:lnTo>
                        <a:lnTo>
                          <a:pt x="1623" y="508"/>
                        </a:lnTo>
                        <a:lnTo>
                          <a:pt x="1617" y="516"/>
                        </a:lnTo>
                        <a:lnTo>
                          <a:pt x="1612" y="522"/>
                        </a:lnTo>
                        <a:lnTo>
                          <a:pt x="1612" y="526"/>
                        </a:lnTo>
                        <a:lnTo>
                          <a:pt x="1616" y="543"/>
                        </a:lnTo>
                        <a:lnTo>
                          <a:pt x="1623" y="561"/>
                        </a:lnTo>
                        <a:lnTo>
                          <a:pt x="1631" y="576"/>
                        </a:lnTo>
                        <a:lnTo>
                          <a:pt x="1641" y="594"/>
                        </a:lnTo>
                        <a:lnTo>
                          <a:pt x="1648" y="607"/>
                        </a:lnTo>
                        <a:lnTo>
                          <a:pt x="1660" y="623"/>
                        </a:lnTo>
                        <a:lnTo>
                          <a:pt x="1670" y="638"/>
                        </a:lnTo>
                        <a:lnTo>
                          <a:pt x="1681" y="654"/>
                        </a:lnTo>
                        <a:lnTo>
                          <a:pt x="1691" y="667"/>
                        </a:lnTo>
                        <a:lnTo>
                          <a:pt x="1701" y="683"/>
                        </a:lnTo>
                        <a:lnTo>
                          <a:pt x="1711" y="697"/>
                        </a:lnTo>
                        <a:lnTo>
                          <a:pt x="1720" y="712"/>
                        </a:lnTo>
                        <a:lnTo>
                          <a:pt x="1726" y="728"/>
                        </a:lnTo>
                        <a:lnTo>
                          <a:pt x="1732" y="745"/>
                        </a:lnTo>
                        <a:lnTo>
                          <a:pt x="1736" y="762"/>
                        </a:lnTo>
                        <a:lnTo>
                          <a:pt x="1742" y="784"/>
                        </a:lnTo>
                        <a:lnTo>
                          <a:pt x="1740" y="797"/>
                        </a:lnTo>
                        <a:lnTo>
                          <a:pt x="1740" y="813"/>
                        </a:lnTo>
                        <a:lnTo>
                          <a:pt x="1738" y="826"/>
                        </a:lnTo>
                        <a:lnTo>
                          <a:pt x="1736" y="842"/>
                        </a:lnTo>
                        <a:lnTo>
                          <a:pt x="1732" y="854"/>
                        </a:lnTo>
                        <a:lnTo>
                          <a:pt x="1732" y="869"/>
                        </a:lnTo>
                        <a:lnTo>
                          <a:pt x="1728" y="881"/>
                        </a:lnTo>
                        <a:lnTo>
                          <a:pt x="1728" y="896"/>
                        </a:lnTo>
                        <a:lnTo>
                          <a:pt x="1724" y="908"/>
                        </a:lnTo>
                        <a:lnTo>
                          <a:pt x="1722" y="921"/>
                        </a:lnTo>
                        <a:lnTo>
                          <a:pt x="1720" y="935"/>
                        </a:lnTo>
                        <a:lnTo>
                          <a:pt x="1720" y="951"/>
                        </a:lnTo>
                        <a:lnTo>
                          <a:pt x="1718" y="962"/>
                        </a:lnTo>
                        <a:lnTo>
                          <a:pt x="1718" y="976"/>
                        </a:lnTo>
                        <a:lnTo>
                          <a:pt x="1718" y="989"/>
                        </a:lnTo>
                        <a:lnTo>
                          <a:pt x="1722" y="1005"/>
                        </a:lnTo>
                        <a:lnTo>
                          <a:pt x="1716" y="991"/>
                        </a:lnTo>
                        <a:lnTo>
                          <a:pt x="1712" y="978"/>
                        </a:lnTo>
                        <a:lnTo>
                          <a:pt x="1709" y="964"/>
                        </a:lnTo>
                        <a:lnTo>
                          <a:pt x="1705" y="952"/>
                        </a:lnTo>
                        <a:lnTo>
                          <a:pt x="1701" y="937"/>
                        </a:lnTo>
                        <a:lnTo>
                          <a:pt x="1699" y="925"/>
                        </a:lnTo>
                        <a:lnTo>
                          <a:pt x="1695" y="910"/>
                        </a:lnTo>
                        <a:lnTo>
                          <a:pt x="1693" y="898"/>
                        </a:lnTo>
                        <a:lnTo>
                          <a:pt x="1689" y="883"/>
                        </a:lnTo>
                        <a:lnTo>
                          <a:pt x="1687" y="869"/>
                        </a:lnTo>
                        <a:lnTo>
                          <a:pt x="1683" y="854"/>
                        </a:lnTo>
                        <a:lnTo>
                          <a:pt x="1681" y="840"/>
                        </a:lnTo>
                        <a:lnTo>
                          <a:pt x="1678" y="825"/>
                        </a:lnTo>
                        <a:lnTo>
                          <a:pt x="1676" y="811"/>
                        </a:lnTo>
                        <a:lnTo>
                          <a:pt x="1674" y="797"/>
                        </a:lnTo>
                        <a:lnTo>
                          <a:pt x="1672" y="784"/>
                        </a:lnTo>
                        <a:lnTo>
                          <a:pt x="1666" y="768"/>
                        </a:lnTo>
                        <a:lnTo>
                          <a:pt x="1664" y="755"/>
                        </a:lnTo>
                        <a:lnTo>
                          <a:pt x="1658" y="739"/>
                        </a:lnTo>
                        <a:lnTo>
                          <a:pt x="1656" y="726"/>
                        </a:lnTo>
                        <a:lnTo>
                          <a:pt x="1650" y="710"/>
                        </a:lnTo>
                        <a:lnTo>
                          <a:pt x="1647" y="697"/>
                        </a:lnTo>
                        <a:lnTo>
                          <a:pt x="1641" y="681"/>
                        </a:lnTo>
                        <a:lnTo>
                          <a:pt x="1637" y="669"/>
                        </a:lnTo>
                        <a:lnTo>
                          <a:pt x="1629" y="656"/>
                        </a:lnTo>
                        <a:lnTo>
                          <a:pt x="1623" y="642"/>
                        </a:lnTo>
                        <a:lnTo>
                          <a:pt x="1616" y="629"/>
                        </a:lnTo>
                        <a:lnTo>
                          <a:pt x="1610" y="617"/>
                        </a:lnTo>
                        <a:lnTo>
                          <a:pt x="1600" y="603"/>
                        </a:lnTo>
                        <a:lnTo>
                          <a:pt x="1592" y="592"/>
                        </a:lnTo>
                        <a:lnTo>
                          <a:pt x="1583" y="580"/>
                        </a:lnTo>
                        <a:lnTo>
                          <a:pt x="1575" y="571"/>
                        </a:lnTo>
                        <a:lnTo>
                          <a:pt x="1563" y="559"/>
                        </a:lnTo>
                        <a:lnTo>
                          <a:pt x="1553" y="547"/>
                        </a:lnTo>
                        <a:lnTo>
                          <a:pt x="1544" y="536"/>
                        </a:lnTo>
                        <a:lnTo>
                          <a:pt x="1536" y="526"/>
                        </a:lnTo>
                        <a:lnTo>
                          <a:pt x="1526" y="514"/>
                        </a:lnTo>
                        <a:lnTo>
                          <a:pt x="1519" y="503"/>
                        </a:lnTo>
                        <a:lnTo>
                          <a:pt x="1509" y="491"/>
                        </a:lnTo>
                        <a:lnTo>
                          <a:pt x="1503" y="481"/>
                        </a:lnTo>
                        <a:lnTo>
                          <a:pt x="1495" y="468"/>
                        </a:lnTo>
                        <a:lnTo>
                          <a:pt x="1488" y="456"/>
                        </a:lnTo>
                        <a:lnTo>
                          <a:pt x="1480" y="443"/>
                        </a:lnTo>
                        <a:lnTo>
                          <a:pt x="1474" y="431"/>
                        </a:lnTo>
                        <a:lnTo>
                          <a:pt x="1466" y="417"/>
                        </a:lnTo>
                        <a:lnTo>
                          <a:pt x="1458" y="404"/>
                        </a:lnTo>
                        <a:lnTo>
                          <a:pt x="1453" y="390"/>
                        </a:lnTo>
                        <a:lnTo>
                          <a:pt x="1447" y="379"/>
                        </a:lnTo>
                        <a:lnTo>
                          <a:pt x="1443" y="371"/>
                        </a:lnTo>
                        <a:lnTo>
                          <a:pt x="1435" y="371"/>
                        </a:lnTo>
                        <a:lnTo>
                          <a:pt x="1425" y="371"/>
                        </a:lnTo>
                        <a:lnTo>
                          <a:pt x="1418" y="379"/>
                        </a:lnTo>
                        <a:lnTo>
                          <a:pt x="1410" y="394"/>
                        </a:lnTo>
                        <a:lnTo>
                          <a:pt x="1406" y="412"/>
                        </a:lnTo>
                        <a:lnTo>
                          <a:pt x="1402" y="427"/>
                        </a:lnTo>
                        <a:lnTo>
                          <a:pt x="1402" y="444"/>
                        </a:lnTo>
                        <a:lnTo>
                          <a:pt x="1402" y="460"/>
                        </a:lnTo>
                        <a:lnTo>
                          <a:pt x="1402" y="477"/>
                        </a:lnTo>
                        <a:lnTo>
                          <a:pt x="1404" y="493"/>
                        </a:lnTo>
                        <a:lnTo>
                          <a:pt x="1410" y="510"/>
                        </a:lnTo>
                        <a:lnTo>
                          <a:pt x="1412" y="524"/>
                        </a:lnTo>
                        <a:lnTo>
                          <a:pt x="1418" y="541"/>
                        </a:lnTo>
                        <a:lnTo>
                          <a:pt x="1424" y="555"/>
                        </a:lnTo>
                        <a:lnTo>
                          <a:pt x="1429" y="572"/>
                        </a:lnTo>
                        <a:lnTo>
                          <a:pt x="1435" y="588"/>
                        </a:lnTo>
                        <a:lnTo>
                          <a:pt x="1443" y="603"/>
                        </a:lnTo>
                        <a:lnTo>
                          <a:pt x="1451" y="619"/>
                        </a:lnTo>
                        <a:lnTo>
                          <a:pt x="1458" y="636"/>
                        </a:lnTo>
                        <a:lnTo>
                          <a:pt x="1464" y="650"/>
                        </a:lnTo>
                        <a:lnTo>
                          <a:pt x="1472" y="666"/>
                        </a:lnTo>
                        <a:lnTo>
                          <a:pt x="1478" y="681"/>
                        </a:lnTo>
                        <a:lnTo>
                          <a:pt x="1486" y="697"/>
                        </a:lnTo>
                        <a:lnTo>
                          <a:pt x="1491" y="712"/>
                        </a:lnTo>
                        <a:lnTo>
                          <a:pt x="1497" y="728"/>
                        </a:lnTo>
                        <a:lnTo>
                          <a:pt x="1503" y="743"/>
                        </a:lnTo>
                        <a:lnTo>
                          <a:pt x="1509" y="761"/>
                        </a:lnTo>
                        <a:lnTo>
                          <a:pt x="1513" y="776"/>
                        </a:lnTo>
                        <a:lnTo>
                          <a:pt x="1517" y="792"/>
                        </a:lnTo>
                        <a:lnTo>
                          <a:pt x="1519" y="807"/>
                        </a:lnTo>
                        <a:lnTo>
                          <a:pt x="1522" y="825"/>
                        </a:lnTo>
                        <a:lnTo>
                          <a:pt x="1522" y="842"/>
                        </a:lnTo>
                        <a:lnTo>
                          <a:pt x="1522" y="859"/>
                        </a:lnTo>
                        <a:lnTo>
                          <a:pt x="1520" y="877"/>
                        </a:lnTo>
                        <a:lnTo>
                          <a:pt x="1520" y="894"/>
                        </a:lnTo>
                        <a:lnTo>
                          <a:pt x="1519" y="914"/>
                        </a:lnTo>
                        <a:lnTo>
                          <a:pt x="1519" y="933"/>
                        </a:lnTo>
                        <a:lnTo>
                          <a:pt x="1515" y="951"/>
                        </a:lnTo>
                        <a:lnTo>
                          <a:pt x="1511" y="968"/>
                        </a:lnTo>
                        <a:lnTo>
                          <a:pt x="1519" y="982"/>
                        </a:lnTo>
                        <a:lnTo>
                          <a:pt x="1522" y="999"/>
                        </a:lnTo>
                        <a:lnTo>
                          <a:pt x="1524" y="1015"/>
                        </a:lnTo>
                        <a:lnTo>
                          <a:pt x="1528" y="1032"/>
                        </a:lnTo>
                        <a:lnTo>
                          <a:pt x="1522" y="1018"/>
                        </a:lnTo>
                        <a:lnTo>
                          <a:pt x="1520" y="1007"/>
                        </a:lnTo>
                        <a:lnTo>
                          <a:pt x="1517" y="993"/>
                        </a:lnTo>
                        <a:lnTo>
                          <a:pt x="1515" y="982"/>
                        </a:lnTo>
                        <a:lnTo>
                          <a:pt x="1511" y="968"/>
                        </a:lnTo>
                        <a:lnTo>
                          <a:pt x="1509" y="956"/>
                        </a:lnTo>
                        <a:lnTo>
                          <a:pt x="1505" y="945"/>
                        </a:lnTo>
                        <a:lnTo>
                          <a:pt x="1505" y="933"/>
                        </a:lnTo>
                        <a:lnTo>
                          <a:pt x="1501" y="921"/>
                        </a:lnTo>
                        <a:lnTo>
                          <a:pt x="1501" y="910"/>
                        </a:lnTo>
                        <a:lnTo>
                          <a:pt x="1497" y="898"/>
                        </a:lnTo>
                        <a:lnTo>
                          <a:pt x="1497" y="887"/>
                        </a:lnTo>
                        <a:lnTo>
                          <a:pt x="1493" y="875"/>
                        </a:lnTo>
                        <a:lnTo>
                          <a:pt x="1493" y="863"/>
                        </a:lnTo>
                        <a:lnTo>
                          <a:pt x="1489" y="852"/>
                        </a:lnTo>
                        <a:lnTo>
                          <a:pt x="1489" y="840"/>
                        </a:lnTo>
                        <a:lnTo>
                          <a:pt x="1486" y="828"/>
                        </a:lnTo>
                        <a:lnTo>
                          <a:pt x="1482" y="817"/>
                        </a:lnTo>
                        <a:lnTo>
                          <a:pt x="1478" y="805"/>
                        </a:lnTo>
                        <a:lnTo>
                          <a:pt x="1476" y="793"/>
                        </a:lnTo>
                        <a:lnTo>
                          <a:pt x="1472" y="782"/>
                        </a:lnTo>
                        <a:lnTo>
                          <a:pt x="1468" y="770"/>
                        </a:lnTo>
                        <a:lnTo>
                          <a:pt x="1464" y="759"/>
                        </a:lnTo>
                        <a:lnTo>
                          <a:pt x="1460" y="749"/>
                        </a:lnTo>
                        <a:lnTo>
                          <a:pt x="1455" y="737"/>
                        </a:lnTo>
                        <a:lnTo>
                          <a:pt x="1449" y="726"/>
                        </a:lnTo>
                        <a:lnTo>
                          <a:pt x="1443" y="714"/>
                        </a:lnTo>
                        <a:lnTo>
                          <a:pt x="1437" y="704"/>
                        </a:lnTo>
                        <a:lnTo>
                          <a:pt x="1424" y="683"/>
                        </a:lnTo>
                        <a:lnTo>
                          <a:pt x="1410" y="664"/>
                        </a:lnTo>
                        <a:lnTo>
                          <a:pt x="1396" y="648"/>
                        </a:lnTo>
                        <a:lnTo>
                          <a:pt x="1389" y="633"/>
                        </a:lnTo>
                        <a:lnTo>
                          <a:pt x="1381" y="617"/>
                        </a:lnTo>
                        <a:lnTo>
                          <a:pt x="1379" y="602"/>
                        </a:lnTo>
                        <a:lnTo>
                          <a:pt x="1375" y="584"/>
                        </a:lnTo>
                        <a:lnTo>
                          <a:pt x="1375" y="567"/>
                        </a:lnTo>
                        <a:lnTo>
                          <a:pt x="1375" y="549"/>
                        </a:lnTo>
                        <a:lnTo>
                          <a:pt x="1377" y="532"/>
                        </a:lnTo>
                        <a:lnTo>
                          <a:pt x="1377" y="512"/>
                        </a:lnTo>
                        <a:lnTo>
                          <a:pt x="1379" y="495"/>
                        </a:lnTo>
                        <a:lnTo>
                          <a:pt x="1381" y="477"/>
                        </a:lnTo>
                        <a:lnTo>
                          <a:pt x="1383" y="460"/>
                        </a:lnTo>
                        <a:lnTo>
                          <a:pt x="1383" y="443"/>
                        </a:lnTo>
                        <a:lnTo>
                          <a:pt x="1383" y="427"/>
                        </a:lnTo>
                        <a:lnTo>
                          <a:pt x="1381" y="410"/>
                        </a:lnTo>
                        <a:lnTo>
                          <a:pt x="1381" y="396"/>
                        </a:lnTo>
                        <a:lnTo>
                          <a:pt x="1371" y="379"/>
                        </a:lnTo>
                        <a:lnTo>
                          <a:pt x="1363" y="361"/>
                        </a:lnTo>
                        <a:lnTo>
                          <a:pt x="1354" y="344"/>
                        </a:lnTo>
                        <a:lnTo>
                          <a:pt x="1346" y="328"/>
                        </a:lnTo>
                        <a:lnTo>
                          <a:pt x="1336" y="311"/>
                        </a:lnTo>
                        <a:lnTo>
                          <a:pt x="1327" y="297"/>
                        </a:lnTo>
                        <a:lnTo>
                          <a:pt x="1317" y="280"/>
                        </a:lnTo>
                        <a:lnTo>
                          <a:pt x="1309" y="266"/>
                        </a:lnTo>
                        <a:lnTo>
                          <a:pt x="1299" y="249"/>
                        </a:lnTo>
                        <a:lnTo>
                          <a:pt x="1292" y="233"/>
                        </a:lnTo>
                        <a:lnTo>
                          <a:pt x="1284" y="216"/>
                        </a:lnTo>
                        <a:lnTo>
                          <a:pt x="1278" y="200"/>
                        </a:lnTo>
                        <a:lnTo>
                          <a:pt x="1272" y="181"/>
                        </a:lnTo>
                        <a:lnTo>
                          <a:pt x="1266" y="163"/>
                        </a:lnTo>
                        <a:lnTo>
                          <a:pt x="1263" y="146"/>
                        </a:lnTo>
                        <a:lnTo>
                          <a:pt x="1263" y="128"/>
                        </a:lnTo>
                        <a:lnTo>
                          <a:pt x="1253" y="115"/>
                        </a:lnTo>
                        <a:lnTo>
                          <a:pt x="1243" y="109"/>
                        </a:lnTo>
                        <a:lnTo>
                          <a:pt x="1232" y="109"/>
                        </a:lnTo>
                        <a:lnTo>
                          <a:pt x="1226" y="121"/>
                        </a:lnTo>
                        <a:lnTo>
                          <a:pt x="1218" y="130"/>
                        </a:lnTo>
                        <a:lnTo>
                          <a:pt x="1218" y="142"/>
                        </a:lnTo>
                        <a:lnTo>
                          <a:pt x="1218" y="154"/>
                        </a:lnTo>
                        <a:lnTo>
                          <a:pt x="1220" y="165"/>
                        </a:lnTo>
                        <a:lnTo>
                          <a:pt x="1222" y="177"/>
                        </a:lnTo>
                        <a:lnTo>
                          <a:pt x="1226" y="189"/>
                        </a:lnTo>
                        <a:lnTo>
                          <a:pt x="1226" y="200"/>
                        </a:lnTo>
                        <a:lnTo>
                          <a:pt x="1226" y="212"/>
                        </a:lnTo>
                        <a:lnTo>
                          <a:pt x="1224" y="231"/>
                        </a:lnTo>
                        <a:lnTo>
                          <a:pt x="1222" y="251"/>
                        </a:lnTo>
                        <a:lnTo>
                          <a:pt x="1218" y="270"/>
                        </a:lnTo>
                        <a:lnTo>
                          <a:pt x="1214" y="289"/>
                        </a:lnTo>
                        <a:lnTo>
                          <a:pt x="1208" y="309"/>
                        </a:lnTo>
                        <a:lnTo>
                          <a:pt x="1202" y="328"/>
                        </a:lnTo>
                        <a:lnTo>
                          <a:pt x="1197" y="348"/>
                        </a:lnTo>
                        <a:lnTo>
                          <a:pt x="1193" y="367"/>
                        </a:lnTo>
                        <a:lnTo>
                          <a:pt x="1185" y="384"/>
                        </a:lnTo>
                        <a:lnTo>
                          <a:pt x="1177" y="404"/>
                        </a:lnTo>
                        <a:lnTo>
                          <a:pt x="1171" y="421"/>
                        </a:lnTo>
                        <a:lnTo>
                          <a:pt x="1166" y="441"/>
                        </a:lnTo>
                        <a:lnTo>
                          <a:pt x="1158" y="458"/>
                        </a:lnTo>
                        <a:lnTo>
                          <a:pt x="1152" y="477"/>
                        </a:lnTo>
                        <a:lnTo>
                          <a:pt x="1146" y="497"/>
                        </a:lnTo>
                        <a:lnTo>
                          <a:pt x="1142" y="516"/>
                        </a:lnTo>
                        <a:lnTo>
                          <a:pt x="1135" y="524"/>
                        </a:lnTo>
                        <a:lnTo>
                          <a:pt x="1129" y="532"/>
                        </a:lnTo>
                        <a:lnTo>
                          <a:pt x="1123" y="539"/>
                        </a:lnTo>
                        <a:lnTo>
                          <a:pt x="1123" y="543"/>
                        </a:lnTo>
                        <a:lnTo>
                          <a:pt x="1119" y="553"/>
                        </a:lnTo>
                        <a:lnTo>
                          <a:pt x="1117" y="565"/>
                        </a:lnTo>
                        <a:lnTo>
                          <a:pt x="1115" y="574"/>
                        </a:lnTo>
                        <a:lnTo>
                          <a:pt x="1115" y="586"/>
                        </a:lnTo>
                        <a:lnTo>
                          <a:pt x="1113" y="596"/>
                        </a:lnTo>
                        <a:lnTo>
                          <a:pt x="1113" y="607"/>
                        </a:lnTo>
                        <a:lnTo>
                          <a:pt x="1113" y="617"/>
                        </a:lnTo>
                        <a:lnTo>
                          <a:pt x="1115" y="629"/>
                        </a:lnTo>
                        <a:lnTo>
                          <a:pt x="1115" y="638"/>
                        </a:lnTo>
                        <a:lnTo>
                          <a:pt x="1115" y="648"/>
                        </a:lnTo>
                        <a:lnTo>
                          <a:pt x="1117" y="660"/>
                        </a:lnTo>
                        <a:lnTo>
                          <a:pt x="1119" y="671"/>
                        </a:lnTo>
                        <a:lnTo>
                          <a:pt x="1121" y="681"/>
                        </a:lnTo>
                        <a:lnTo>
                          <a:pt x="1125" y="691"/>
                        </a:lnTo>
                        <a:lnTo>
                          <a:pt x="1127" y="702"/>
                        </a:lnTo>
                        <a:lnTo>
                          <a:pt x="1131" y="714"/>
                        </a:lnTo>
                        <a:lnTo>
                          <a:pt x="1135" y="733"/>
                        </a:lnTo>
                        <a:lnTo>
                          <a:pt x="1140" y="755"/>
                        </a:lnTo>
                        <a:lnTo>
                          <a:pt x="1146" y="774"/>
                        </a:lnTo>
                        <a:lnTo>
                          <a:pt x="1152" y="795"/>
                        </a:lnTo>
                        <a:lnTo>
                          <a:pt x="1154" y="805"/>
                        </a:lnTo>
                        <a:lnTo>
                          <a:pt x="1156" y="817"/>
                        </a:lnTo>
                        <a:lnTo>
                          <a:pt x="1158" y="826"/>
                        </a:lnTo>
                        <a:lnTo>
                          <a:pt x="1162" y="838"/>
                        </a:lnTo>
                        <a:lnTo>
                          <a:pt x="1162" y="850"/>
                        </a:lnTo>
                        <a:lnTo>
                          <a:pt x="1166" y="861"/>
                        </a:lnTo>
                        <a:lnTo>
                          <a:pt x="1166" y="873"/>
                        </a:lnTo>
                        <a:lnTo>
                          <a:pt x="1169" y="885"/>
                        </a:lnTo>
                        <a:lnTo>
                          <a:pt x="1162" y="896"/>
                        </a:lnTo>
                        <a:lnTo>
                          <a:pt x="1156" y="908"/>
                        </a:lnTo>
                        <a:lnTo>
                          <a:pt x="1148" y="920"/>
                        </a:lnTo>
                        <a:lnTo>
                          <a:pt x="1142" y="931"/>
                        </a:lnTo>
                        <a:lnTo>
                          <a:pt x="1133" y="943"/>
                        </a:lnTo>
                        <a:lnTo>
                          <a:pt x="1125" y="954"/>
                        </a:lnTo>
                        <a:lnTo>
                          <a:pt x="1117" y="966"/>
                        </a:lnTo>
                        <a:lnTo>
                          <a:pt x="1109" y="980"/>
                        </a:lnTo>
                        <a:lnTo>
                          <a:pt x="1100" y="989"/>
                        </a:lnTo>
                        <a:lnTo>
                          <a:pt x="1092" y="1001"/>
                        </a:lnTo>
                        <a:lnTo>
                          <a:pt x="1082" y="1013"/>
                        </a:lnTo>
                        <a:lnTo>
                          <a:pt x="1074" y="1024"/>
                        </a:lnTo>
                        <a:lnTo>
                          <a:pt x="1067" y="1034"/>
                        </a:lnTo>
                        <a:lnTo>
                          <a:pt x="1059" y="1046"/>
                        </a:lnTo>
                        <a:lnTo>
                          <a:pt x="1053" y="1057"/>
                        </a:lnTo>
                        <a:lnTo>
                          <a:pt x="1049" y="1069"/>
                        </a:lnTo>
                        <a:lnTo>
                          <a:pt x="1049" y="1055"/>
                        </a:lnTo>
                        <a:lnTo>
                          <a:pt x="1049" y="1044"/>
                        </a:lnTo>
                        <a:lnTo>
                          <a:pt x="1051" y="1032"/>
                        </a:lnTo>
                        <a:lnTo>
                          <a:pt x="1055" y="1020"/>
                        </a:lnTo>
                        <a:lnTo>
                          <a:pt x="1059" y="1009"/>
                        </a:lnTo>
                        <a:lnTo>
                          <a:pt x="1063" y="997"/>
                        </a:lnTo>
                        <a:lnTo>
                          <a:pt x="1067" y="985"/>
                        </a:lnTo>
                        <a:lnTo>
                          <a:pt x="1072" y="976"/>
                        </a:lnTo>
                        <a:lnTo>
                          <a:pt x="1076" y="964"/>
                        </a:lnTo>
                        <a:lnTo>
                          <a:pt x="1080" y="952"/>
                        </a:lnTo>
                        <a:lnTo>
                          <a:pt x="1084" y="941"/>
                        </a:lnTo>
                        <a:lnTo>
                          <a:pt x="1088" y="929"/>
                        </a:lnTo>
                        <a:lnTo>
                          <a:pt x="1090" y="918"/>
                        </a:lnTo>
                        <a:lnTo>
                          <a:pt x="1092" y="906"/>
                        </a:lnTo>
                        <a:lnTo>
                          <a:pt x="1094" y="894"/>
                        </a:lnTo>
                        <a:lnTo>
                          <a:pt x="1096" y="885"/>
                        </a:lnTo>
                        <a:lnTo>
                          <a:pt x="1086" y="875"/>
                        </a:lnTo>
                        <a:lnTo>
                          <a:pt x="1096" y="875"/>
                        </a:lnTo>
                        <a:lnTo>
                          <a:pt x="1096" y="856"/>
                        </a:lnTo>
                        <a:lnTo>
                          <a:pt x="1096" y="836"/>
                        </a:lnTo>
                        <a:lnTo>
                          <a:pt x="1094" y="817"/>
                        </a:lnTo>
                        <a:lnTo>
                          <a:pt x="1092" y="799"/>
                        </a:lnTo>
                        <a:lnTo>
                          <a:pt x="1086" y="780"/>
                        </a:lnTo>
                        <a:lnTo>
                          <a:pt x="1082" y="762"/>
                        </a:lnTo>
                        <a:lnTo>
                          <a:pt x="1076" y="743"/>
                        </a:lnTo>
                        <a:lnTo>
                          <a:pt x="1072" y="726"/>
                        </a:lnTo>
                        <a:lnTo>
                          <a:pt x="1065" y="706"/>
                        </a:lnTo>
                        <a:lnTo>
                          <a:pt x="1059" y="687"/>
                        </a:lnTo>
                        <a:lnTo>
                          <a:pt x="1053" y="667"/>
                        </a:lnTo>
                        <a:lnTo>
                          <a:pt x="1051" y="648"/>
                        </a:lnTo>
                        <a:lnTo>
                          <a:pt x="1045" y="629"/>
                        </a:lnTo>
                        <a:lnTo>
                          <a:pt x="1045" y="609"/>
                        </a:lnTo>
                        <a:lnTo>
                          <a:pt x="1045" y="590"/>
                        </a:lnTo>
                        <a:lnTo>
                          <a:pt x="1049" y="571"/>
                        </a:lnTo>
                        <a:lnTo>
                          <a:pt x="1036" y="563"/>
                        </a:lnTo>
                        <a:lnTo>
                          <a:pt x="1022" y="563"/>
                        </a:lnTo>
                        <a:lnTo>
                          <a:pt x="1005" y="574"/>
                        </a:lnTo>
                        <a:lnTo>
                          <a:pt x="987" y="586"/>
                        </a:lnTo>
                        <a:lnTo>
                          <a:pt x="972" y="600"/>
                        </a:lnTo>
                        <a:lnTo>
                          <a:pt x="960" y="617"/>
                        </a:lnTo>
                        <a:lnTo>
                          <a:pt x="948" y="633"/>
                        </a:lnTo>
                        <a:lnTo>
                          <a:pt x="937" y="650"/>
                        </a:lnTo>
                        <a:lnTo>
                          <a:pt x="927" y="667"/>
                        </a:lnTo>
                        <a:lnTo>
                          <a:pt x="921" y="687"/>
                        </a:lnTo>
                        <a:lnTo>
                          <a:pt x="912" y="704"/>
                        </a:lnTo>
                        <a:lnTo>
                          <a:pt x="906" y="724"/>
                        </a:lnTo>
                        <a:lnTo>
                          <a:pt x="900" y="743"/>
                        </a:lnTo>
                        <a:lnTo>
                          <a:pt x="900" y="764"/>
                        </a:lnTo>
                        <a:lnTo>
                          <a:pt x="896" y="784"/>
                        </a:lnTo>
                        <a:lnTo>
                          <a:pt x="896" y="805"/>
                        </a:lnTo>
                        <a:lnTo>
                          <a:pt x="896" y="815"/>
                        </a:lnTo>
                        <a:lnTo>
                          <a:pt x="896" y="825"/>
                        </a:lnTo>
                        <a:lnTo>
                          <a:pt x="898" y="836"/>
                        </a:lnTo>
                        <a:lnTo>
                          <a:pt x="902" y="848"/>
                        </a:lnTo>
                        <a:lnTo>
                          <a:pt x="875" y="912"/>
                        </a:lnTo>
                        <a:lnTo>
                          <a:pt x="863" y="921"/>
                        </a:lnTo>
                        <a:lnTo>
                          <a:pt x="855" y="933"/>
                        </a:lnTo>
                        <a:lnTo>
                          <a:pt x="848" y="945"/>
                        </a:lnTo>
                        <a:lnTo>
                          <a:pt x="840" y="956"/>
                        </a:lnTo>
                        <a:lnTo>
                          <a:pt x="830" y="966"/>
                        </a:lnTo>
                        <a:lnTo>
                          <a:pt x="822" y="976"/>
                        </a:lnTo>
                        <a:lnTo>
                          <a:pt x="811" y="985"/>
                        </a:lnTo>
                        <a:lnTo>
                          <a:pt x="801" y="995"/>
                        </a:lnTo>
                        <a:lnTo>
                          <a:pt x="799" y="989"/>
                        </a:lnTo>
                        <a:lnTo>
                          <a:pt x="807" y="980"/>
                        </a:lnTo>
                        <a:lnTo>
                          <a:pt x="815" y="966"/>
                        </a:lnTo>
                        <a:lnTo>
                          <a:pt x="820" y="958"/>
                        </a:lnTo>
                        <a:lnTo>
                          <a:pt x="824" y="949"/>
                        </a:lnTo>
                        <a:lnTo>
                          <a:pt x="828" y="939"/>
                        </a:lnTo>
                        <a:lnTo>
                          <a:pt x="830" y="929"/>
                        </a:lnTo>
                        <a:lnTo>
                          <a:pt x="838" y="921"/>
                        </a:lnTo>
                        <a:lnTo>
                          <a:pt x="820" y="902"/>
                        </a:lnTo>
                        <a:lnTo>
                          <a:pt x="826" y="902"/>
                        </a:lnTo>
                        <a:lnTo>
                          <a:pt x="828" y="912"/>
                        </a:lnTo>
                        <a:lnTo>
                          <a:pt x="828" y="902"/>
                        </a:lnTo>
                        <a:lnTo>
                          <a:pt x="838" y="902"/>
                        </a:lnTo>
                        <a:lnTo>
                          <a:pt x="838" y="881"/>
                        </a:lnTo>
                        <a:lnTo>
                          <a:pt x="840" y="863"/>
                        </a:lnTo>
                        <a:lnTo>
                          <a:pt x="840" y="846"/>
                        </a:lnTo>
                        <a:lnTo>
                          <a:pt x="842" y="828"/>
                        </a:lnTo>
                        <a:lnTo>
                          <a:pt x="842" y="809"/>
                        </a:lnTo>
                        <a:lnTo>
                          <a:pt x="842" y="792"/>
                        </a:lnTo>
                        <a:lnTo>
                          <a:pt x="842" y="772"/>
                        </a:lnTo>
                        <a:lnTo>
                          <a:pt x="848" y="755"/>
                        </a:lnTo>
                        <a:lnTo>
                          <a:pt x="838" y="747"/>
                        </a:lnTo>
                        <a:lnTo>
                          <a:pt x="840" y="730"/>
                        </a:lnTo>
                        <a:lnTo>
                          <a:pt x="846" y="712"/>
                        </a:lnTo>
                        <a:lnTo>
                          <a:pt x="851" y="695"/>
                        </a:lnTo>
                        <a:lnTo>
                          <a:pt x="857" y="677"/>
                        </a:lnTo>
                        <a:lnTo>
                          <a:pt x="863" y="660"/>
                        </a:lnTo>
                        <a:lnTo>
                          <a:pt x="873" y="644"/>
                        </a:lnTo>
                        <a:lnTo>
                          <a:pt x="882" y="629"/>
                        </a:lnTo>
                        <a:lnTo>
                          <a:pt x="894" y="617"/>
                        </a:lnTo>
                        <a:lnTo>
                          <a:pt x="890" y="607"/>
                        </a:lnTo>
                        <a:lnTo>
                          <a:pt x="886" y="600"/>
                        </a:lnTo>
                        <a:lnTo>
                          <a:pt x="880" y="592"/>
                        </a:lnTo>
                        <a:lnTo>
                          <a:pt x="875" y="590"/>
                        </a:lnTo>
                        <a:lnTo>
                          <a:pt x="857" y="594"/>
                        </a:lnTo>
                        <a:lnTo>
                          <a:pt x="842" y="600"/>
                        </a:lnTo>
                        <a:lnTo>
                          <a:pt x="828" y="605"/>
                        </a:lnTo>
                        <a:lnTo>
                          <a:pt x="816" y="615"/>
                        </a:lnTo>
                        <a:lnTo>
                          <a:pt x="805" y="621"/>
                        </a:lnTo>
                        <a:lnTo>
                          <a:pt x="795" y="631"/>
                        </a:lnTo>
                        <a:lnTo>
                          <a:pt x="785" y="642"/>
                        </a:lnTo>
                        <a:lnTo>
                          <a:pt x="778" y="654"/>
                        </a:lnTo>
                        <a:lnTo>
                          <a:pt x="768" y="664"/>
                        </a:lnTo>
                        <a:lnTo>
                          <a:pt x="760" y="675"/>
                        </a:lnTo>
                        <a:lnTo>
                          <a:pt x="752" y="687"/>
                        </a:lnTo>
                        <a:lnTo>
                          <a:pt x="747" y="700"/>
                        </a:lnTo>
                        <a:lnTo>
                          <a:pt x="739" y="712"/>
                        </a:lnTo>
                        <a:lnTo>
                          <a:pt x="733" y="726"/>
                        </a:lnTo>
                        <a:lnTo>
                          <a:pt x="727" y="739"/>
                        </a:lnTo>
                        <a:lnTo>
                          <a:pt x="721" y="755"/>
                        </a:lnTo>
                        <a:lnTo>
                          <a:pt x="714" y="766"/>
                        </a:lnTo>
                        <a:lnTo>
                          <a:pt x="708" y="780"/>
                        </a:lnTo>
                        <a:lnTo>
                          <a:pt x="702" y="793"/>
                        </a:lnTo>
                        <a:lnTo>
                          <a:pt x="696" y="807"/>
                        </a:lnTo>
                        <a:lnTo>
                          <a:pt x="688" y="819"/>
                        </a:lnTo>
                        <a:lnTo>
                          <a:pt x="681" y="830"/>
                        </a:lnTo>
                        <a:lnTo>
                          <a:pt x="673" y="842"/>
                        </a:lnTo>
                        <a:lnTo>
                          <a:pt x="665" y="856"/>
                        </a:lnTo>
                        <a:lnTo>
                          <a:pt x="656" y="865"/>
                        </a:lnTo>
                        <a:lnTo>
                          <a:pt x="646" y="875"/>
                        </a:lnTo>
                        <a:lnTo>
                          <a:pt x="634" y="885"/>
                        </a:lnTo>
                        <a:lnTo>
                          <a:pt x="624" y="894"/>
                        </a:lnTo>
                        <a:lnTo>
                          <a:pt x="611" y="902"/>
                        </a:lnTo>
                        <a:lnTo>
                          <a:pt x="599" y="910"/>
                        </a:lnTo>
                        <a:lnTo>
                          <a:pt x="584" y="916"/>
                        </a:lnTo>
                        <a:lnTo>
                          <a:pt x="570" y="921"/>
                        </a:lnTo>
                        <a:lnTo>
                          <a:pt x="582" y="912"/>
                        </a:lnTo>
                        <a:lnTo>
                          <a:pt x="593" y="902"/>
                        </a:lnTo>
                        <a:lnTo>
                          <a:pt x="603" y="890"/>
                        </a:lnTo>
                        <a:lnTo>
                          <a:pt x="613" y="881"/>
                        </a:lnTo>
                        <a:lnTo>
                          <a:pt x="621" y="867"/>
                        </a:lnTo>
                        <a:lnTo>
                          <a:pt x="628" y="856"/>
                        </a:lnTo>
                        <a:lnTo>
                          <a:pt x="636" y="844"/>
                        </a:lnTo>
                        <a:lnTo>
                          <a:pt x="644" y="832"/>
                        </a:lnTo>
                        <a:lnTo>
                          <a:pt x="648" y="819"/>
                        </a:lnTo>
                        <a:lnTo>
                          <a:pt x="654" y="805"/>
                        </a:lnTo>
                        <a:lnTo>
                          <a:pt x="657" y="792"/>
                        </a:lnTo>
                        <a:lnTo>
                          <a:pt x="663" y="780"/>
                        </a:lnTo>
                        <a:lnTo>
                          <a:pt x="667" y="766"/>
                        </a:lnTo>
                        <a:lnTo>
                          <a:pt x="673" y="753"/>
                        </a:lnTo>
                        <a:lnTo>
                          <a:pt x="679" y="739"/>
                        </a:lnTo>
                        <a:lnTo>
                          <a:pt x="685" y="728"/>
                        </a:lnTo>
                        <a:lnTo>
                          <a:pt x="688" y="712"/>
                        </a:lnTo>
                        <a:lnTo>
                          <a:pt x="692" y="698"/>
                        </a:lnTo>
                        <a:lnTo>
                          <a:pt x="696" y="685"/>
                        </a:lnTo>
                        <a:lnTo>
                          <a:pt x="702" y="673"/>
                        </a:lnTo>
                        <a:lnTo>
                          <a:pt x="708" y="660"/>
                        </a:lnTo>
                        <a:lnTo>
                          <a:pt x="714" y="648"/>
                        </a:lnTo>
                        <a:lnTo>
                          <a:pt x="720" y="636"/>
                        </a:lnTo>
                        <a:lnTo>
                          <a:pt x="729" y="627"/>
                        </a:lnTo>
                        <a:lnTo>
                          <a:pt x="735" y="615"/>
                        </a:lnTo>
                        <a:lnTo>
                          <a:pt x="745" y="605"/>
                        </a:lnTo>
                        <a:lnTo>
                          <a:pt x="754" y="596"/>
                        </a:lnTo>
                        <a:lnTo>
                          <a:pt x="766" y="588"/>
                        </a:lnTo>
                        <a:lnTo>
                          <a:pt x="778" y="580"/>
                        </a:lnTo>
                        <a:lnTo>
                          <a:pt x="789" y="572"/>
                        </a:lnTo>
                        <a:lnTo>
                          <a:pt x="803" y="567"/>
                        </a:lnTo>
                        <a:lnTo>
                          <a:pt x="820" y="563"/>
                        </a:lnTo>
                        <a:lnTo>
                          <a:pt x="834" y="555"/>
                        </a:lnTo>
                        <a:lnTo>
                          <a:pt x="849" y="549"/>
                        </a:lnTo>
                        <a:lnTo>
                          <a:pt x="863" y="541"/>
                        </a:lnTo>
                        <a:lnTo>
                          <a:pt x="879" y="534"/>
                        </a:lnTo>
                        <a:lnTo>
                          <a:pt x="892" y="524"/>
                        </a:lnTo>
                        <a:lnTo>
                          <a:pt x="906" y="516"/>
                        </a:lnTo>
                        <a:lnTo>
                          <a:pt x="919" y="508"/>
                        </a:lnTo>
                        <a:lnTo>
                          <a:pt x="933" y="501"/>
                        </a:lnTo>
                        <a:lnTo>
                          <a:pt x="944" y="489"/>
                        </a:lnTo>
                        <a:lnTo>
                          <a:pt x="956" y="477"/>
                        </a:lnTo>
                        <a:lnTo>
                          <a:pt x="968" y="466"/>
                        </a:lnTo>
                        <a:lnTo>
                          <a:pt x="981" y="456"/>
                        </a:lnTo>
                        <a:lnTo>
                          <a:pt x="991" y="443"/>
                        </a:lnTo>
                        <a:lnTo>
                          <a:pt x="1003" y="431"/>
                        </a:lnTo>
                        <a:lnTo>
                          <a:pt x="1012" y="417"/>
                        </a:lnTo>
                        <a:lnTo>
                          <a:pt x="1022" y="406"/>
                        </a:lnTo>
                        <a:lnTo>
                          <a:pt x="1026" y="386"/>
                        </a:lnTo>
                        <a:lnTo>
                          <a:pt x="1032" y="369"/>
                        </a:lnTo>
                        <a:lnTo>
                          <a:pt x="1036" y="349"/>
                        </a:lnTo>
                        <a:lnTo>
                          <a:pt x="1040" y="330"/>
                        </a:lnTo>
                        <a:lnTo>
                          <a:pt x="1041" y="311"/>
                        </a:lnTo>
                        <a:lnTo>
                          <a:pt x="1045" y="291"/>
                        </a:lnTo>
                        <a:lnTo>
                          <a:pt x="1047" y="272"/>
                        </a:lnTo>
                        <a:lnTo>
                          <a:pt x="1051" y="254"/>
                        </a:lnTo>
                        <a:lnTo>
                          <a:pt x="1051" y="233"/>
                        </a:lnTo>
                        <a:lnTo>
                          <a:pt x="1055" y="214"/>
                        </a:lnTo>
                        <a:lnTo>
                          <a:pt x="1057" y="194"/>
                        </a:lnTo>
                        <a:lnTo>
                          <a:pt x="1061" y="177"/>
                        </a:lnTo>
                        <a:lnTo>
                          <a:pt x="1065" y="159"/>
                        </a:lnTo>
                        <a:lnTo>
                          <a:pt x="1071" y="142"/>
                        </a:lnTo>
                        <a:lnTo>
                          <a:pt x="1076" y="125"/>
                        </a:lnTo>
                        <a:lnTo>
                          <a:pt x="1086" y="111"/>
                        </a:lnTo>
                        <a:lnTo>
                          <a:pt x="1088" y="97"/>
                        </a:lnTo>
                        <a:lnTo>
                          <a:pt x="1084" y="92"/>
                        </a:lnTo>
                        <a:lnTo>
                          <a:pt x="1080" y="88"/>
                        </a:lnTo>
                        <a:lnTo>
                          <a:pt x="1078" y="84"/>
                        </a:lnTo>
                        <a:lnTo>
                          <a:pt x="1061" y="84"/>
                        </a:lnTo>
                        <a:lnTo>
                          <a:pt x="1043" y="84"/>
                        </a:lnTo>
                        <a:lnTo>
                          <a:pt x="1028" y="86"/>
                        </a:lnTo>
                        <a:lnTo>
                          <a:pt x="1014" y="90"/>
                        </a:lnTo>
                        <a:lnTo>
                          <a:pt x="999" y="94"/>
                        </a:lnTo>
                        <a:lnTo>
                          <a:pt x="985" y="97"/>
                        </a:lnTo>
                        <a:lnTo>
                          <a:pt x="970" y="103"/>
                        </a:lnTo>
                        <a:lnTo>
                          <a:pt x="958" y="111"/>
                        </a:lnTo>
                        <a:lnTo>
                          <a:pt x="944" y="117"/>
                        </a:lnTo>
                        <a:lnTo>
                          <a:pt x="931" y="123"/>
                        </a:lnTo>
                        <a:lnTo>
                          <a:pt x="917" y="130"/>
                        </a:lnTo>
                        <a:lnTo>
                          <a:pt x="906" y="138"/>
                        </a:lnTo>
                        <a:lnTo>
                          <a:pt x="892" y="146"/>
                        </a:lnTo>
                        <a:lnTo>
                          <a:pt x="880" y="156"/>
                        </a:lnTo>
                        <a:lnTo>
                          <a:pt x="869" y="163"/>
                        </a:lnTo>
                        <a:lnTo>
                          <a:pt x="857" y="175"/>
                        </a:lnTo>
                        <a:lnTo>
                          <a:pt x="844" y="183"/>
                        </a:lnTo>
                        <a:lnTo>
                          <a:pt x="832" y="192"/>
                        </a:lnTo>
                        <a:lnTo>
                          <a:pt x="820" y="200"/>
                        </a:lnTo>
                        <a:lnTo>
                          <a:pt x="809" y="210"/>
                        </a:lnTo>
                        <a:lnTo>
                          <a:pt x="795" y="218"/>
                        </a:lnTo>
                        <a:lnTo>
                          <a:pt x="784" y="227"/>
                        </a:lnTo>
                        <a:lnTo>
                          <a:pt x="772" y="235"/>
                        </a:lnTo>
                        <a:lnTo>
                          <a:pt x="760" y="245"/>
                        </a:lnTo>
                        <a:lnTo>
                          <a:pt x="747" y="251"/>
                        </a:lnTo>
                        <a:lnTo>
                          <a:pt x="733" y="258"/>
                        </a:lnTo>
                        <a:lnTo>
                          <a:pt x="720" y="266"/>
                        </a:lnTo>
                        <a:lnTo>
                          <a:pt x="708" y="274"/>
                        </a:lnTo>
                        <a:lnTo>
                          <a:pt x="694" y="278"/>
                        </a:lnTo>
                        <a:lnTo>
                          <a:pt x="681" y="284"/>
                        </a:lnTo>
                        <a:lnTo>
                          <a:pt x="667" y="289"/>
                        </a:lnTo>
                        <a:lnTo>
                          <a:pt x="654" y="295"/>
                        </a:lnTo>
                        <a:lnTo>
                          <a:pt x="638" y="293"/>
                        </a:lnTo>
                        <a:lnTo>
                          <a:pt x="624" y="293"/>
                        </a:lnTo>
                        <a:lnTo>
                          <a:pt x="613" y="293"/>
                        </a:lnTo>
                        <a:lnTo>
                          <a:pt x="601" y="297"/>
                        </a:lnTo>
                        <a:lnTo>
                          <a:pt x="590" y="299"/>
                        </a:lnTo>
                        <a:lnTo>
                          <a:pt x="578" y="305"/>
                        </a:lnTo>
                        <a:lnTo>
                          <a:pt x="568" y="311"/>
                        </a:lnTo>
                        <a:lnTo>
                          <a:pt x="560" y="317"/>
                        </a:lnTo>
                        <a:lnTo>
                          <a:pt x="541" y="328"/>
                        </a:lnTo>
                        <a:lnTo>
                          <a:pt x="524" y="344"/>
                        </a:lnTo>
                        <a:lnTo>
                          <a:pt x="508" y="359"/>
                        </a:lnTo>
                        <a:lnTo>
                          <a:pt x="495" y="379"/>
                        </a:lnTo>
                        <a:lnTo>
                          <a:pt x="479" y="394"/>
                        </a:lnTo>
                        <a:lnTo>
                          <a:pt x="464" y="412"/>
                        </a:lnTo>
                        <a:lnTo>
                          <a:pt x="448" y="429"/>
                        </a:lnTo>
                        <a:lnTo>
                          <a:pt x="434" y="446"/>
                        </a:lnTo>
                        <a:lnTo>
                          <a:pt x="417" y="460"/>
                        </a:lnTo>
                        <a:lnTo>
                          <a:pt x="400" y="476"/>
                        </a:lnTo>
                        <a:lnTo>
                          <a:pt x="378" y="485"/>
                        </a:lnTo>
                        <a:lnTo>
                          <a:pt x="359" y="497"/>
                        </a:lnTo>
                        <a:lnTo>
                          <a:pt x="345" y="499"/>
                        </a:lnTo>
                        <a:lnTo>
                          <a:pt x="332" y="503"/>
                        </a:lnTo>
                        <a:lnTo>
                          <a:pt x="320" y="505"/>
                        </a:lnTo>
                        <a:lnTo>
                          <a:pt x="308" y="510"/>
                        </a:lnTo>
                        <a:lnTo>
                          <a:pt x="295" y="512"/>
                        </a:lnTo>
                        <a:lnTo>
                          <a:pt x="281" y="516"/>
                        </a:lnTo>
                        <a:lnTo>
                          <a:pt x="270" y="522"/>
                        </a:lnTo>
                        <a:lnTo>
                          <a:pt x="258" y="528"/>
                        </a:lnTo>
                        <a:lnTo>
                          <a:pt x="244" y="532"/>
                        </a:lnTo>
                        <a:lnTo>
                          <a:pt x="233" y="536"/>
                        </a:lnTo>
                        <a:lnTo>
                          <a:pt x="219" y="541"/>
                        </a:lnTo>
                        <a:lnTo>
                          <a:pt x="208" y="549"/>
                        </a:lnTo>
                        <a:lnTo>
                          <a:pt x="196" y="555"/>
                        </a:lnTo>
                        <a:lnTo>
                          <a:pt x="184" y="563"/>
                        </a:lnTo>
                        <a:lnTo>
                          <a:pt x="175" y="571"/>
                        </a:lnTo>
                        <a:lnTo>
                          <a:pt x="165" y="580"/>
                        </a:lnTo>
                        <a:lnTo>
                          <a:pt x="171" y="567"/>
                        </a:lnTo>
                        <a:lnTo>
                          <a:pt x="176" y="555"/>
                        </a:lnTo>
                        <a:lnTo>
                          <a:pt x="182" y="545"/>
                        </a:lnTo>
                        <a:lnTo>
                          <a:pt x="192" y="536"/>
                        </a:lnTo>
                        <a:lnTo>
                          <a:pt x="208" y="518"/>
                        </a:lnTo>
                        <a:lnTo>
                          <a:pt x="225" y="503"/>
                        </a:lnTo>
                        <a:lnTo>
                          <a:pt x="242" y="487"/>
                        </a:lnTo>
                        <a:lnTo>
                          <a:pt x="264" y="476"/>
                        </a:lnTo>
                        <a:lnTo>
                          <a:pt x="283" y="464"/>
                        </a:lnTo>
                        <a:lnTo>
                          <a:pt x="304" y="454"/>
                        </a:lnTo>
                        <a:lnTo>
                          <a:pt x="324" y="441"/>
                        </a:lnTo>
                        <a:lnTo>
                          <a:pt x="343" y="429"/>
                        </a:lnTo>
                        <a:lnTo>
                          <a:pt x="363" y="417"/>
                        </a:lnTo>
                        <a:lnTo>
                          <a:pt x="384" y="406"/>
                        </a:lnTo>
                        <a:lnTo>
                          <a:pt x="401" y="390"/>
                        </a:lnTo>
                        <a:lnTo>
                          <a:pt x="419" y="377"/>
                        </a:lnTo>
                        <a:lnTo>
                          <a:pt x="434" y="359"/>
                        </a:lnTo>
                        <a:lnTo>
                          <a:pt x="452" y="342"/>
                        </a:lnTo>
                        <a:lnTo>
                          <a:pt x="464" y="330"/>
                        </a:lnTo>
                        <a:lnTo>
                          <a:pt x="479" y="318"/>
                        </a:lnTo>
                        <a:lnTo>
                          <a:pt x="495" y="307"/>
                        </a:lnTo>
                        <a:lnTo>
                          <a:pt x="510" y="297"/>
                        </a:lnTo>
                        <a:lnTo>
                          <a:pt x="524" y="284"/>
                        </a:lnTo>
                        <a:lnTo>
                          <a:pt x="537" y="272"/>
                        </a:lnTo>
                        <a:lnTo>
                          <a:pt x="549" y="260"/>
                        </a:lnTo>
                        <a:lnTo>
                          <a:pt x="562" y="249"/>
                        </a:lnTo>
                        <a:lnTo>
                          <a:pt x="555" y="233"/>
                        </a:lnTo>
                        <a:lnTo>
                          <a:pt x="545" y="225"/>
                        </a:lnTo>
                        <a:lnTo>
                          <a:pt x="531" y="220"/>
                        </a:lnTo>
                        <a:lnTo>
                          <a:pt x="516" y="220"/>
                        </a:lnTo>
                        <a:lnTo>
                          <a:pt x="498" y="220"/>
                        </a:lnTo>
                        <a:lnTo>
                          <a:pt x="481" y="221"/>
                        </a:lnTo>
                        <a:lnTo>
                          <a:pt x="465" y="221"/>
                        </a:lnTo>
                        <a:lnTo>
                          <a:pt x="452" y="221"/>
                        </a:lnTo>
                        <a:lnTo>
                          <a:pt x="434" y="221"/>
                        </a:lnTo>
                        <a:lnTo>
                          <a:pt x="417" y="223"/>
                        </a:lnTo>
                        <a:lnTo>
                          <a:pt x="401" y="225"/>
                        </a:lnTo>
                        <a:lnTo>
                          <a:pt x="388" y="231"/>
                        </a:lnTo>
                        <a:lnTo>
                          <a:pt x="372" y="237"/>
                        </a:lnTo>
                        <a:lnTo>
                          <a:pt x="359" y="243"/>
                        </a:lnTo>
                        <a:lnTo>
                          <a:pt x="345" y="251"/>
                        </a:lnTo>
                        <a:lnTo>
                          <a:pt x="334" y="260"/>
                        </a:lnTo>
                        <a:lnTo>
                          <a:pt x="320" y="268"/>
                        </a:lnTo>
                        <a:lnTo>
                          <a:pt x="306" y="278"/>
                        </a:lnTo>
                        <a:lnTo>
                          <a:pt x="295" y="289"/>
                        </a:lnTo>
                        <a:lnTo>
                          <a:pt x="283" y="301"/>
                        </a:lnTo>
                        <a:lnTo>
                          <a:pt x="270" y="311"/>
                        </a:lnTo>
                        <a:lnTo>
                          <a:pt x="258" y="322"/>
                        </a:lnTo>
                        <a:lnTo>
                          <a:pt x="246" y="334"/>
                        </a:lnTo>
                        <a:lnTo>
                          <a:pt x="235" y="346"/>
                        </a:lnTo>
                        <a:lnTo>
                          <a:pt x="221" y="355"/>
                        </a:lnTo>
                        <a:lnTo>
                          <a:pt x="208" y="365"/>
                        </a:lnTo>
                        <a:lnTo>
                          <a:pt x="194" y="375"/>
                        </a:lnTo>
                        <a:lnTo>
                          <a:pt x="182" y="384"/>
                        </a:lnTo>
                        <a:lnTo>
                          <a:pt x="169" y="392"/>
                        </a:lnTo>
                        <a:lnTo>
                          <a:pt x="155" y="400"/>
                        </a:lnTo>
                        <a:lnTo>
                          <a:pt x="142" y="408"/>
                        </a:lnTo>
                        <a:lnTo>
                          <a:pt x="130" y="415"/>
                        </a:lnTo>
                        <a:lnTo>
                          <a:pt x="114" y="419"/>
                        </a:lnTo>
                        <a:lnTo>
                          <a:pt x="99" y="423"/>
                        </a:lnTo>
                        <a:lnTo>
                          <a:pt x="83" y="425"/>
                        </a:lnTo>
                        <a:lnTo>
                          <a:pt x="68" y="427"/>
                        </a:lnTo>
                        <a:lnTo>
                          <a:pt x="50" y="425"/>
                        </a:lnTo>
                        <a:lnTo>
                          <a:pt x="35" y="423"/>
                        </a:lnTo>
                        <a:lnTo>
                          <a:pt x="17" y="419"/>
                        </a:lnTo>
                        <a:lnTo>
                          <a:pt x="0" y="415"/>
                        </a:lnTo>
                        <a:lnTo>
                          <a:pt x="12" y="408"/>
                        </a:lnTo>
                        <a:lnTo>
                          <a:pt x="27" y="402"/>
                        </a:lnTo>
                        <a:lnTo>
                          <a:pt x="41" y="398"/>
                        </a:lnTo>
                        <a:lnTo>
                          <a:pt x="56" y="396"/>
                        </a:lnTo>
                        <a:lnTo>
                          <a:pt x="70" y="390"/>
                        </a:lnTo>
                        <a:lnTo>
                          <a:pt x="85" y="386"/>
                        </a:lnTo>
                        <a:lnTo>
                          <a:pt x="103" y="382"/>
                        </a:lnTo>
                        <a:lnTo>
                          <a:pt x="120" y="379"/>
                        </a:lnTo>
                        <a:lnTo>
                          <a:pt x="140" y="361"/>
                        </a:lnTo>
                        <a:lnTo>
                          <a:pt x="161" y="344"/>
                        </a:lnTo>
                        <a:lnTo>
                          <a:pt x="171" y="334"/>
                        </a:lnTo>
                        <a:lnTo>
                          <a:pt x="182" y="324"/>
                        </a:lnTo>
                        <a:lnTo>
                          <a:pt x="192" y="315"/>
                        </a:lnTo>
                        <a:lnTo>
                          <a:pt x="204" y="305"/>
                        </a:lnTo>
                        <a:lnTo>
                          <a:pt x="211" y="293"/>
                        </a:lnTo>
                        <a:lnTo>
                          <a:pt x="223" y="282"/>
                        </a:lnTo>
                        <a:lnTo>
                          <a:pt x="231" y="270"/>
                        </a:lnTo>
                        <a:lnTo>
                          <a:pt x="242" y="258"/>
                        </a:lnTo>
                        <a:lnTo>
                          <a:pt x="250" y="247"/>
                        </a:lnTo>
                        <a:lnTo>
                          <a:pt x="258" y="235"/>
                        </a:lnTo>
                        <a:lnTo>
                          <a:pt x="266" y="223"/>
                        </a:lnTo>
                        <a:lnTo>
                          <a:pt x="275" y="212"/>
                        </a:lnTo>
                        <a:lnTo>
                          <a:pt x="293" y="200"/>
                        </a:lnTo>
                        <a:lnTo>
                          <a:pt x="312" y="190"/>
                        </a:lnTo>
                        <a:lnTo>
                          <a:pt x="322" y="185"/>
                        </a:lnTo>
                        <a:lnTo>
                          <a:pt x="332" y="181"/>
                        </a:lnTo>
                        <a:lnTo>
                          <a:pt x="343" y="177"/>
                        </a:lnTo>
                        <a:lnTo>
                          <a:pt x="355" y="175"/>
                        </a:lnTo>
                        <a:lnTo>
                          <a:pt x="367" y="171"/>
                        </a:lnTo>
                        <a:lnTo>
                          <a:pt x="378" y="169"/>
                        </a:lnTo>
                        <a:lnTo>
                          <a:pt x="390" y="167"/>
                        </a:lnTo>
                        <a:lnTo>
                          <a:pt x="401" y="167"/>
                        </a:lnTo>
                        <a:lnTo>
                          <a:pt x="413" y="167"/>
                        </a:lnTo>
                        <a:lnTo>
                          <a:pt x="427" y="167"/>
                        </a:lnTo>
                        <a:lnTo>
                          <a:pt x="438" y="169"/>
                        </a:lnTo>
                        <a:lnTo>
                          <a:pt x="452" y="175"/>
                        </a:lnTo>
                        <a:lnTo>
                          <a:pt x="467" y="175"/>
                        </a:lnTo>
                        <a:lnTo>
                          <a:pt x="485" y="177"/>
                        </a:lnTo>
                        <a:lnTo>
                          <a:pt x="502" y="177"/>
                        </a:lnTo>
                        <a:lnTo>
                          <a:pt x="520" y="179"/>
                        </a:lnTo>
                        <a:lnTo>
                          <a:pt x="535" y="179"/>
                        </a:lnTo>
                        <a:lnTo>
                          <a:pt x="553" y="179"/>
                        </a:lnTo>
                        <a:lnTo>
                          <a:pt x="570" y="179"/>
                        </a:lnTo>
                        <a:lnTo>
                          <a:pt x="588" y="179"/>
                        </a:lnTo>
                        <a:lnTo>
                          <a:pt x="603" y="175"/>
                        </a:lnTo>
                        <a:lnTo>
                          <a:pt x="621" y="173"/>
                        </a:lnTo>
                        <a:lnTo>
                          <a:pt x="636" y="169"/>
                        </a:lnTo>
                        <a:lnTo>
                          <a:pt x="654" y="167"/>
                        </a:lnTo>
                        <a:lnTo>
                          <a:pt x="669" y="161"/>
                        </a:lnTo>
                        <a:lnTo>
                          <a:pt x="685" y="158"/>
                        </a:lnTo>
                        <a:lnTo>
                          <a:pt x="700" y="152"/>
                        </a:lnTo>
                        <a:lnTo>
                          <a:pt x="718" y="148"/>
                        </a:lnTo>
                        <a:lnTo>
                          <a:pt x="727" y="140"/>
                        </a:lnTo>
                        <a:lnTo>
                          <a:pt x="737" y="132"/>
                        </a:lnTo>
                        <a:lnTo>
                          <a:pt x="749" y="126"/>
                        </a:lnTo>
                        <a:lnTo>
                          <a:pt x="760" y="121"/>
                        </a:lnTo>
                        <a:lnTo>
                          <a:pt x="770" y="113"/>
                        </a:lnTo>
                        <a:lnTo>
                          <a:pt x="782" y="107"/>
                        </a:lnTo>
                        <a:lnTo>
                          <a:pt x="791" y="99"/>
                        </a:lnTo>
                        <a:lnTo>
                          <a:pt x="803" y="94"/>
                        </a:lnTo>
                        <a:lnTo>
                          <a:pt x="813" y="86"/>
                        </a:lnTo>
                        <a:lnTo>
                          <a:pt x="824" y="78"/>
                        </a:lnTo>
                        <a:lnTo>
                          <a:pt x="834" y="70"/>
                        </a:lnTo>
                        <a:lnTo>
                          <a:pt x="846" y="63"/>
                        </a:lnTo>
                        <a:lnTo>
                          <a:pt x="865" y="45"/>
                        </a:lnTo>
                        <a:lnTo>
                          <a:pt x="884" y="28"/>
                        </a:lnTo>
                        <a:lnTo>
                          <a:pt x="1022" y="47"/>
                        </a:lnTo>
                        <a:lnTo>
                          <a:pt x="1040" y="47"/>
                        </a:lnTo>
                        <a:lnTo>
                          <a:pt x="1057" y="49"/>
                        </a:lnTo>
                        <a:lnTo>
                          <a:pt x="1074" y="49"/>
                        </a:lnTo>
                        <a:lnTo>
                          <a:pt x="1092" y="51"/>
                        </a:lnTo>
                        <a:lnTo>
                          <a:pt x="1109" y="51"/>
                        </a:lnTo>
                        <a:lnTo>
                          <a:pt x="1127" y="51"/>
                        </a:lnTo>
                        <a:lnTo>
                          <a:pt x="1144" y="51"/>
                        </a:lnTo>
                        <a:lnTo>
                          <a:pt x="1164" y="53"/>
                        </a:lnTo>
                        <a:lnTo>
                          <a:pt x="1181" y="51"/>
                        </a:lnTo>
                        <a:lnTo>
                          <a:pt x="1199" y="51"/>
                        </a:lnTo>
                        <a:lnTo>
                          <a:pt x="1216" y="51"/>
                        </a:lnTo>
                        <a:lnTo>
                          <a:pt x="1233" y="51"/>
                        </a:lnTo>
                        <a:lnTo>
                          <a:pt x="1251" y="49"/>
                        </a:lnTo>
                        <a:lnTo>
                          <a:pt x="1268" y="49"/>
                        </a:lnTo>
                        <a:lnTo>
                          <a:pt x="1286" y="47"/>
                        </a:lnTo>
                        <a:lnTo>
                          <a:pt x="1305" y="47"/>
                        </a:lnTo>
                        <a:lnTo>
                          <a:pt x="1323" y="43"/>
                        </a:lnTo>
                        <a:lnTo>
                          <a:pt x="1340" y="43"/>
                        </a:lnTo>
                        <a:lnTo>
                          <a:pt x="1358" y="39"/>
                        </a:lnTo>
                        <a:lnTo>
                          <a:pt x="1375" y="39"/>
                        </a:lnTo>
                        <a:lnTo>
                          <a:pt x="1392" y="35"/>
                        </a:lnTo>
                        <a:lnTo>
                          <a:pt x="1410" y="33"/>
                        </a:lnTo>
                        <a:lnTo>
                          <a:pt x="1427" y="31"/>
                        </a:lnTo>
                        <a:lnTo>
                          <a:pt x="1445" y="30"/>
                        </a:lnTo>
                        <a:lnTo>
                          <a:pt x="1462" y="26"/>
                        </a:lnTo>
                        <a:lnTo>
                          <a:pt x="1480" y="22"/>
                        </a:lnTo>
                        <a:lnTo>
                          <a:pt x="1497" y="18"/>
                        </a:lnTo>
                        <a:lnTo>
                          <a:pt x="1515" y="16"/>
                        </a:lnTo>
                        <a:lnTo>
                          <a:pt x="1532" y="10"/>
                        </a:lnTo>
                        <a:lnTo>
                          <a:pt x="1550" y="8"/>
                        </a:lnTo>
                        <a:lnTo>
                          <a:pt x="1567" y="2"/>
                        </a:lnTo>
                        <a:lnTo>
                          <a:pt x="1584" y="0"/>
                        </a:lnTo>
                        <a:lnTo>
                          <a:pt x="1598" y="12"/>
                        </a:lnTo>
                        <a:lnTo>
                          <a:pt x="1616" y="26"/>
                        </a:lnTo>
                        <a:lnTo>
                          <a:pt x="1633" y="31"/>
                        </a:lnTo>
                        <a:lnTo>
                          <a:pt x="1650" y="39"/>
                        </a:lnTo>
                        <a:lnTo>
                          <a:pt x="1668" y="41"/>
                        </a:lnTo>
                        <a:lnTo>
                          <a:pt x="1687" y="45"/>
                        </a:lnTo>
                        <a:lnTo>
                          <a:pt x="1707" y="45"/>
                        </a:lnTo>
                        <a:lnTo>
                          <a:pt x="1728" y="47"/>
                        </a:lnTo>
                        <a:lnTo>
                          <a:pt x="1745" y="45"/>
                        </a:lnTo>
                        <a:lnTo>
                          <a:pt x="1765" y="43"/>
                        </a:lnTo>
                        <a:lnTo>
                          <a:pt x="1784" y="43"/>
                        </a:lnTo>
                        <a:lnTo>
                          <a:pt x="1804" y="47"/>
                        </a:lnTo>
                        <a:lnTo>
                          <a:pt x="1823" y="47"/>
                        </a:lnTo>
                        <a:lnTo>
                          <a:pt x="1842" y="55"/>
                        </a:lnTo>
                        <a:lnTo>
                          <a:pt x="1860" y="61"/>
                        </a:lnTo>
                        <a:lnTo>
                          <a:pt x="1879" y="7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6553080" y="6095880"/>
                  <a:ext cx="1524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Root = Chris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733920" y="4724280"/>
                  <a:ext cx="25905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Fruit = Fruit of the Spir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                   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(Gal 5: 22,23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4876920" y="2590200"/>
                  <a:ext cx="2057400" cy="213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4876920" y="3123720"/>
                  <a:ext cx="1752480" cy="1600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4876920" y="3504600"/>
                  <a:ext cx="1523880" cy="1219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4876920" y="3733560"/>
                  <a:ext cx="1523880" cy="99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4876920" y="3504600"/>
                  <a:ext cx="2895480" cy="1219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4876920" y="3809880"/>
                  <a:ext cx="312408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4876920" y="4038120"/>
                  <a:ext cx="335268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8" name=""/>
          <p:cNvSpPr/>
          <p:nvPr/>
        </p:nvSpPr>
        <p:spPr>
          <a:xfrm>
            <a:off x="1371600" y="5335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QUESTION :  WHICH  TREE  ARE  YOU  ABIDING  I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28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E  TWO  TRE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647712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2 JAN 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6469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11:15Z</dcterms:modified>
  <cp:revision>31</cp:revision>
  <dc:subject/>
  <dc:title>PowerPoint Presentation</dc:title>
</cp:coreProperties>
</file>